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applause.wav" ContentType="audio/x-wav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gif" ContentType="image/gif"/>
  <Override PartName="/ppt/media/image21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D8E093-0E2F-471D-BD65-FC3535EB688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E10A1C-4855-456B-BE75-DF525D43008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8C21AF-CBAE-409A-AE19-2767F45C01A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9090-025A-4478-9F22-D929DAB4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19CF-6052-4E45-8BF2-D948CA74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9225-F87A-4382-BA4F-E64ACED1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5A3F-CF55-495E-B214-4B60F5E0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53F0-60B7-4990-A898-B110A69C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0B3B-69F2-44BE-9B8E-39F2A30E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492E-6C85-4121-8B74-B5837C43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D83C-089B-4EAA-81BE-2BA34379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1516-F554-4C05-A31B-BF5BC709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0D92-26E3-4F22-9F5E-87CCA5E3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AB15-E7EB-491F-A1F1-1C972798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C6DE-CFFD-451D-B83E-A5354CDC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D87204-A6F6-44B6-A575-ABBFE547CD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3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224160" y="2540160"/>
            <a:ext cx="5037120" cy="342900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3614760" y="213840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192480" y="4028040"/>
            <a:ext cx="5068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真美</a:t>
            </a:r>
            <a:r>
              <a:rPr b="1" lang="en-US" sz="2000" spc="-1" strike="noStrike">
                <a:solidFill>
                  <a:srgbClr val="800000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与“真糟”是截然相反的两种评价。用它们来评价事物，一个是好到了极点，一个是一无是处。这两个词语是加了引号的，引号的作用之一是引用别人说话的内容。那么，这里是引用了谁说的话呢？这两个意思相反的词却用于评价同一事物，这又是怎么回事呢？让我们走进课文寻找答案吧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4"/>
          <p:cNvSpPr/>
          <p:nvPr/>
        </p:nvSpPr>
        <p:spPr>
          <a:xfrm>
            <a:off x="2224080" y="253224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竭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114880" y="2382840"/>
          <a:ext cx="2941560" cy="3040200"/>
        </p:xfrm>
        <a:graphic>
          <a:graphicData uri="http://schemas.openxmlformats.org/drawingml/2006/table">
            <a:tbl>
              <a:tblPr/>
              <a:tblGrid>
                <a:gridCol w="1471680"/>
                <a:gridCol w="146988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4" name="组合 3"/>
          <p:cNvGrpSpPr/>
          <p:nvPr/>
        </p:nvGrpSpPr>
        <p:grpSpPr>
          <a:xfrm>
            <a:off x="1400040" y="3975120"/>
            <a:ext cx="3049560" cy="1571760"/>
            <a:chOff x="1400040" y="3975120"/>
            <a:chExt cx="3049560" cy="1571760"/>
          </a:xfrm>
        </p:grpSpPr>
        <p:pic>
          <p:nvPicPr>
            <p:cNvPr id="195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304956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矩形 2"/>
            <p:cNvSpPr/>
            <p:nvPr/>
          </p:nvSpPr>
          <p:spPr>
            <a:xfrm>
              <a:off x="1410120" y="4587840"/>
              <a:ext cx="302724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小右大。“立”末横变提；右部“日”稍扁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矩形 2"/>
          <p:cNvSpPr/>
          <p:nvPr/>
        </p:nvSpPr>
        <p:spPr>
          <a:xfrm>
            <a:off x="2235240" y="1855800"/>
            <a:ext cx="164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149"/>
          <p:cNvSpPr/>
          <p:nvPr/>
        </p:nvSpPr>
        <p:spPr>
          <a:xfrm>
            <a:off x="6357960" y="4041720"/>
            <a:ext cx="942840" cy="631800"/>
          </a:xfrm>
          <a:custGeom>
            <a:avLst/>
            <a:gdLst/>
            <a:ahLst/>
            <a:rect l="l" t="t" r="r" b="b"/>
            <a:pathLst>
              <a:path w="1188" h="795">
                <a:moveTo>
                  <a:pt x="211" y="753"/>
                </a:moveTo>
                <a:lnTo>
                  <a:pt x="196" y="760"/>
                </a:lnTo>
                <a:lnTo>
                  <a:pt x="184" y="770"/>
                </a:lnTo>
                <a:lnTo>
                  <a:pt x="171" y="776"/>
                </a:lnTo>
                <a:lnTo>
                  <a:pt x="161" y="782"/>
                </a:lnTo>
                <a:lnTo>
                  <a:pt x="152" y="785"/>
                </a:lnTo>
                <a:lnTo>
                  <a:pt x="144" y="789"/>
                </a:lnTo>
                <a:lnTo>
                  <a:pt x="136" y="791"/>
                </a:lnTo>
                <a:lnTo>
                  <a:pt x="133" y="791"/>
                </a:lnTo>
                <a:lnTo>
                  <a:pt x="127" y="793"/>
                </a:lnTo>
                <a:lnTo>
                  <a:pt x="121" y="795"/>
                </a:lnTo>
                <a:lnTo>
                  <a:pt x="117" y="795"/>
                </a:lnTo>
                <a:lnTo>
                  <a:pt x="111" y="795"/>
                </a:lnTo>
                <a:lnTo>
                  <a:pt x="108" y="793"/>
                </a:lnTo>
                <a:lnTo>
                  <a:pt x="102" y="791"/>
                </a:lnTo>
                <a:lnTo>
                  <a:pt x="96" y="787"/>
                </a:lnTo>
                <a:lnTo>
                  <a:pt x="92" y="785"/>
                </a:lnTo>
                <a:lnTo>
                  <a:pt x="86" y="782"/>
                </a:lnTo>
                <a:lnTo>
                  <a:pt x="83" y="776"/>
                </a:lnTo>
                <a:lnTo>
                  <a:pt x="77" y="772"/>
                </a:lnTo>
                <a:lnTo>
                  <a:pt x="73" y="766"/>
                </a:lnTo>
                <a:lnTo>
                  <a:pt x="63" y="753"/>
                </a:lnTo>
                <a:lnTo>
                  <a:pt x="54" y="739"/>
                </a:lnTo>
                <a:lnTo>
                  <a:pt x="46" y="732"/>
                </a:lnTo>
                <a:lnTo>
                  <a:pt x="38" y="724"/>
                </a:lnTo>
                <a:lnTo>
                  <a:pt x="33" y="716"/>
                </a:lnTo>
                <a:lnTo>
                  <a:pt x="29" y="709"/>
                </a:lnTo>
                <a:lnTo>
                  <a:pt x="23" y="703"/>
                </a:lnTo>
                <a:lnTo>
                  <a:pt x="19" y="695"/>
                </a:lnTo>
                <a:lnTo>
                  <a:pt x="15" y="689"/>
                </a:lnTo>
                <a:lnTo>
                  <a:pt x="12" y="682"/>
                </a:lnTo>
                <a:lnTo>
                  <a:pt x="6" y="670"/>
                </a:lnTo>
                <a:lnTo>
                  <a:pt x="2" y="661"/>
                </a:lnTo>
                <a:lnTo>
                  <a:pt x="2" y="657"/>
                </a:lnTo>
                <a:lnTo>
                  <a:pt x="0" y="653"/>
                </a:lnTo>
                <a:lnTo>
                  <a:pt x="0" y="649"/>
                </a:lnTo>
                <a:lnTo>
                  <a:pt x="0" y="647"/>
                </a:lnTo>
                <a:lnTo>
                  <a:pt x="0" y="641"/>
                </a:lnTo>
                <a:lnTo>
                  <a:pt x="2" y="634"/>
                </a:lnTo>
                <a:lnTo>
                  <a:pt x="6" y="628"/>
                </a:lnTo>
                <a:lnTo>
                  <a:pt x="10" y="620"/>
                </a:lnTo>
                <a:lnTo>
                  <a:pt x="15" y="613"/>
                </a:lnTo>
                <a:lnTo>
                  <a:pt x="23" y="605"/>
                </a:lnTo>
                <a:lnTo>
                  <a:pt x="31" y="599"/>
                </a:lnTo>
                <a:lnTo>
                  <a:pt x="40" y="594"/>
                </a:lnTo>
                <a:lnTo>
                  <a:pt x="44" y="590"/>
                </a:lnTo>
                <a:lnTo>
                  <a:pt x="48" y="586"/>
                </a:lnTo>
                <a:lnTo>
                  <a:pt x="54" y="578"/>
                </a:lnTo>
                <a:lnTo>
                  <a:pt x="58" y="570"/>
                </a:lnTo>
                <a:lnTo>
                  <a:pt x="61" y="561"/>
                </a:lnTo>
                <a:lnTo>
                  <a:pt x="63" y="549"/>
                </a:lnTo>
                <a:lnTo>
                  <a:pt x="67" y="538"/>
                </a:lnTo>
                <a:lnTo>
                  <a:pt x="71" y="522"/>
                </a:lnTo>
                <a:lnTo>
                  <a:pt x="73" y="505"/>
                </a:lnTo>
                <a:lnTo>
                  <a:pt x="77" y="488"/>
                </a:lnTo>
                <a:lnTo>
                  <a:pt x="79" y="469"/>
                </a:lnTo>
                <a:lnTo>
                  <a:pt x="83" y="448"/>
                </a:lnTo>
                <a:lnTo>
                  <a:pt x="85" y="423"/>
                </a:lnTo>
                <a:lnTo>
                  <a:pt x="86" y="398"/>
                </a:lnTo>
                <a:lnTo>
                  <a:pt x="90" y="371"/>
                </a:lnTo>
                <a:lnTo>
                  <a:pt x="92" y="342"/>
                </a:lnTo>
                <a:lnTo>
                  <a:pt x="94" y="315"/>
                </a:lnTo>
                <a:lnTo>
                  <a:pt x="96" y="290"/>
                </a:lnTo>
                <a:lnTo>
                  <a:pt x="96" y="267"/>
                </a:lnTo>
                <a:lnTo>
                  <a:pt x="98" y="244"/>
                </a:lnTo>
                <a:lnTo>
                  <a:pt x="98" y="223"/>
                </a:lnTo>
                <a:lnTo>
                  <a:pt x="96" y="202"/>
                </a:lnTo>
                <a:lnTo>
                  <a:pt x="96" y="183"/>
                </a:lnTo>
                <a:lnTo>
                  <a:pt x="94" y="165"/>
                </a:lnTo>
                <a:lnTo>
                  <a:pt x="92" y="148"/>
                </a:lnTo>
                <a:lnTo>
                  <a:pt x="88" y="133"/>
                </a:lnTo>
                <a:lnTo>
                  <a:pt x="86" y="117"/>
                </a:lnTo>
                <a:lnTo>
                  <a:pt x="83" y="106"/>
                </a:lnTo>
                <a:lnTo>
                  <a:pt x="79" y="94"/>
                </a:lnTo>
                <a:lnTo>
                  <a:pt x="75" y="83"/>
                </a:lnTo>
                <a:lnTo>
                  <a:pt x="71" y="73"/>
                </a:lnTo>
                <a:lnTo>
                  <a:pt x="65" y="66"/>
                </a:lnTo>
                <a:lnTo>
                  <a:pt x="60" y="58"/>
                </a:lnTo>
                <a:lnTo>
                  <a:pt x="54" y="52"/>
                </a:lnTo>
                <a:lnTo>
                  <a:pt x="48" y="46"/>
                </a:lnTo>
                <a:lnTo>
                  <a:pt x="44" y="41"/>
                </a:lnTo>
                <a:lnTo>
                  <a:pt x="40" y="35"/>
                </a:lnTo>
                <a:lnTo>
                  <a:pt x="38" y="31"/>
                </a:lnTo>
                <a:lnTo>
                  <a:pt x="37" y="27"/>
                </a:lnTo>
                <a:lnTo>
                  <a:pt x="37" y="23"/>
                </a:lnTo>
                <a:lnTo>
                  <a:pt x="37" y="20"/>
                </a:lnTo>
                <a:lnTo>
                  <a:pt x="38" y="16"/>
                </a:lnTo>
                <a:lnTo>
                  <a:pt x="40" y="14"/>
                </a:lnTo>
                <a:lnTo>
                  <a:pt x="44" y="10"/>
                </a:lnTo>
                <a:lnTo>
                  <a:pt x="48" y="8"/>
                </a:lnTo>
                <a:lnTo>
                  <a:pt x="54" y="4"/>
                </a:lnTo>
                <a:lnTo>
                  <a:pt x="60" y="2"/>
                </a:lnTo>
                <a:lnTo>
                  <a:pt x="65" y="0"/>
                </a:lnTo>
                <a:lnTo>
                  <a:pt x="77" y="0"/>
                </a:lnTo>
                <a:lnTo>
                  <a:pt x="88" y="2"/>
                </a:lnTo>
                <a:lnTo>
                  <a:pt x="102" y="4"/>
                </a:lnTo>
                <a:lnTo>
                  <a:pt x="115" y="8"/>
                </a:lnTo>
                <a:lnTo>
                  <a:pt x="131" y="12"/>
                </a:lnTo>
                <a:lnTo>
                  <a:pt x="148" y="16"/>
                </a:lnTo>
                <a:lnTo>
                  <a:pt x="165" y="22"/>
                </a:lnTo>
                <a:lnTo>
                  <a:pt x="184" y="27"/>
                </a:lnTo>
                <a:lnTo>
                  <a:pt x="192" y="31"/>
                </a:lnTo>
                <a:lnTo>
                  <a:pt x="198" y="37"/>
                </a:lnTo>
                <a:lnTo>
                  <a:pt x="204" y="45"/>
                </a:lnTo>
                <a:lnTo>
                  <a:pt x="211" y="50"/>
                </a:lnTo>
                <a:lnTo>
                  <a:pt x="217" y="58"/>
                </a:lnTo>
                <a:lnTo>
                  <a:pt x="221" y="68"/>
                </a:lnTo>
                <a:lnTo>
                  <a:pt x="227" y="75"/>
                </a:lnTo>
                <a:lnTo>
                  <a:pt x="230" y="85"/>
                </a:lnTo>
                <a:lnTo>
                  <a:pt x="234" y="96"/>
                </a:lnTo>
                <a:lnTo>
                  <a:pt x="236" y="106"/>
                </a:lnTo>
                <a:lnTo>
                  <a:pt x="238" y="117"/>
                </a:lnTo>
                <a:lnTo>
                  <a:pt x="240" y="129"/>
                </a:lnTo>
                <a:lnTo>
                  <a:pt x="240" y="142"/>
                </a:lnTo>
                <a:lnTo>
                  <a:pt x="240" y="156"/>
                </a:lnTo>
                <a:lnTo>
                  <a:pt x="238" y="169"/>
                </a:lnTo>
                <a:lnTo>
                  <a:pt x="236" y="185"/>
                </a:lnTo>
                <a:lnTo>
                  <a:pt x="232" y="219"/>
                </a:lnTo>
                <a:lnTo>
                  <a:pt x="227" y="252"/>
                </a:lnTo>
                <a:lnTo>
                  <a:pt x="223" y="283"/>
                </a:lnTo>
                <a:lnTo>
                  <a:pt x="219" y="315"/>
                </a:lnTo>
                <a:lnTo>
                  <a:pt x="215" y="346"/>
                </a:lnTo>
                <a:lnTo>
                  <a:pt x="213" y="375"/>
                </a:lnTo>
                <a:lnTo>
                  <a:pt x="211" y="405"/>
                </a:lnTo>
                <a:lnTo>
                  <a:pt x="211" y="436"/>
                </a:lnTo>
                <a:lnTo>
                  <a:pt x="211" y="451"/>
                </a:lnTo>
                <a:lnTo>
                  <a:pt x="211" y="467"/>
                </a:lnTo>
                <a:lnTo>
                  <a:pt x="211" y="482"/>
                </a:lnTo>
                <a:lnTo>
                  <a:pt x="213" y="496"/>
                </a:lnTo>
                <a:lnTo>
                  <a:pt x="213" y="507"/>
                </a:lnTo>
                <a:lnTo>
                  <a:pt x="215" y="519"/>
                </a:lnTo>
                <a:lnTo>
                  <a:pt x="217" y="528"/>
                </a:lnTo>
                <a:lnTo>
                  <a:pt x="219" y="538"/>
                </a:lnTo>
                <a:lnTo>
                  <a:pt x="221" y="546"/>
                </a:lnTo>
                <a:lnTo>
                  <a:pt x="223" y="553"/>
                </a:lnTo>
                <a:lnTo>
                  <a:pt x="225" y="559"/>
                </a:lnTo>
                <a:lnTo>
                  <a:pt x="227" y="565"/>
                </a:lnTo>
                <a:lnTo>
                  <a:pt x="228" y="570"/>
                </a:lnTo>
                <a:lnTo>
                  <a:pt x="232" y="574"/>
                </a:lnTo>
                <a:lnTo>
                  <a:pt x="234" y="578"/>
                </a:lnTo>
                <a:lnTo>
                  <a:pt x="236" y="580"/>
                </a:lnTo>
                <a:lnTo>
                  <a:pt x="238" y="582"/>
                </a:lnTo>
                <a:lnTo>
                  <a:pt x="240" y="582"/>
                </a:lnTo>
                <a:lnTo>
                  <a:pt x="244" y="582"/>
                </a:lnTo>
                <a:lnTo>
                  <a:pt x="246" y="584"/>
                </a:lnTo>
                <a:lnTo>
                  <a:pt x="250" y="584"/>
                </a:lnTo>
                <a:lnTo>
                  <a:pt x="255" y="584"/>
                </a:lnTo>
                <a:lnTo>
                  <a:pt x="261" y="584"/>
                </a:lnTo>
                <a:lnTo>
                  <a:pt x="267" y="584"/>
                </a:lnTo>
                <a:lnTo>
                  <a:pt x="273" y="582"/>
                </a:lnTo>
                <a:lnTo>
                  <a:pt x="280" y="582"/>
                </a:lnTo>
                <a:lnTo>
                  <a:pt x="288" y="582"/>
                </a:lnTo>
                <a:lnTo>
                  <a:pt x="296" y="580"/>
                </a:lnTo>
                <a:lnTo>
                  <a:pt x="305" y="578"/>
                </a:lnTo>
                <a:lnTo>
                  <a:pt x="315" y="578"/>
                </a:lnTo>
                <a:lnTo>
                  <a:pt x="326" y="576"/>
                </a:lnTo>
                <a:lnTo>
                  <a:pt x="336" y="574"/>
                </a:lnTo>
                <a:lnTo>
                  <a:pt x="349" y="572"/>
                </a:lnTo>
                <a:lnTo>
                  <a:pt x="361" y="570"/>
                </a:lnTo>
                <a:lnTo>
                  <a:pt x="374" y="569"/>
                </a:lnTo>
                <a:lnTo>
                  <a:pt x="388" y="565"/>
                </a:lnTo>
                <a:lnTo>
                  <a:pt x="401" y="563"/>
                </a:lnTo>
                <a:lnTo>
                  <a:pt x="417" y="561"/>
                </a:lnTo>
                <a:lnTo>
                  <a:pt x="432" y="557"/>
                </a:lnTo>
                <a:lnTo>
                  <a:pt x="449" y="555"/>
                </a:lnTo>
                <a:lnTo>
                  <a:pt x="466" y="551"/>
                </a:lnTo>
                <a:lnTo>
                  <a:pt x="484" y="547"/>
                </a:lnTo>
                <a:lnTo>
                  <a:pt x="503" y="546"/>
                </a:lnTo>
                <a:lnTo>
                  <a:pt x="522" y="542"/>
                </a:lnTo>
                <a:lnTo>
                  <a:pt x="541" y="538"/>
                </a:lnTo>
                <a:lnTo>
                  <a:pt x="561" y="534"/>
                </a:lnTo>
                <a:lnTo>
                  <a:pt x="582" y="530"/>
                </a:lnTo>
                <a:lnTo>
                  <a:pt x="605" y="528"/>
                </a:lnTo>
                <a:lnTo>
                  <a:pt x="645" y="521"/>
                </a:lnTo>
                <a:lnTo>
                  <a:pt x="683" y="513"/>
                </a:lnTo>
                <a:lnTo>
                  <a:pt x="722" y="507"/>
                </a:lnTo>
                <a:lnTo>
                  <a:pt x="756" y="499"/>
                </a:lnTo>
                <a:lnTo>
                  <a:pt x="791" y="494"/>
                </a:lnTo>
                <a:lnTo>
                  <a:pt x="822" y="488"/>
                </a:lnTo>
                <a:lnTo>
                  <a:pt x="852" y="484"/>
                </a:lnTo>
                <a:lnTo>
                  <a:pt x="879" y="480"/>
                </a:lnTo>
                <a:lnTo>
                  <a:pt x="906" y="475"/>
                </a:lnTo>
                <a:lnTo>
                  <a:pt x="931" y="473"/>
                </a:lnTo>
                <a:lnTo>
                  <a:pt x="952" y="469"/>
                </a:lnTo>
                <a:lnTo>
                  <a:pt x="973" y="467"/>
                </a:lnTo>
                <a:lnTo>
                  <a:pt x="992" y="465"/>
                </a:lnTo>
                <a:lnTo>
                  <a:pt x="1010" y="463"/>
                </a:lnTo>
                <a:lnTo>
                  <a:pt x="1025" y="461"/>
                </a:lnTo>
                <a:lnTo>
                  <a:pt x="1038" y="461"/>
                </a:lnTo>
                <a:lnTo>
                  <a:pt x="1050" y="461"/>
                </a:lnTo>
                <a:lnTo>
                  <a:pt x="1062" y="463"/>
                </a:lnTo>
                <a:lnTo>
                  <a:pt x="1071" y="463"/>
                </a:lnTo>
                <a:lnTo>
                  <a:pt x="1083" y="465"/>
                </a:lnTo>
                <a:lnTo>
                  <a:pt x="1092" y="465"/>
                </a:lnTo>
                <a:lnTo>
                  <a:pt x="1102" y="469"/>
                </a:lnTo>
                <a:lnTo>
                  <a:pt x="1109" y="471"/>
                </a:lnTo>
                <a:lnTo>
                  <a:pt x="1119" y="473"/>
                </a:lnTo>
                <a:lnTo>
                  <a:pt x="1127" y="476"/>
                </a:lnTo>
                <a:lnTo>
                  <a:pt x="1133" y="480"/>
                </a:lnTo>
                <a:lnTo>
                  <a:pt x="1140" y="484"/>
                </a:lnTo>
                <a:lnTo>
                  <a:pt x="1146" y="490"/>
                </a:lnTo>
                <a:lnTo>
                  <a:pt x="1154" y="496"/>
                </a:lnTo>
                <a:lnTo>
                  <a:pt x="1159" y="501"/>
                </a:lnTo>
                <a:lnTo>
                  <a:pt x="1163" y="507"/>
                </a:lnTo>
                <a:lnTo>
                  <a:pt x="1169" y="515"/>
                </a:lnTo>
                <a:lnTo>
                  <a:pt x="1171" y="521"/>
                </a:lnTo>
                <a:lnTo>
                  <a:pt x="1175" y="528"/>
                </a:lnTo>
                <a:lnTo>
                  <a:pt x="1177" y="534"/>
                </a:lnTo>
                <a:lnTo>
                  <a:pt x="1179" y="540"/>
                </a:lnTo>
                <a:lnTo>
                  <a:pt x="1182" y="549"/>
                </a:lnTo>
                <a:lnTo>
                  <a:pt x="1184" y="557"/>
                </a:lnTo>
                <a:lnTo>
                  <a:pt x="1186" y="565"/>
                </a:lnTo>
                <a:lnTo>
                  <a:pt x="1188" y="570"/>
                </a:lnTo>
                <a:lnTo>
                  <a:pt x="1186" y="572"/>
                </a:lnTo>
                <a:lnTo>
                  <a:pt x="1186" y="574"/>
                </a:lnTo>
                <a:lnTo>
                  <a:pt x="1184" y="578"/>
                </a:lnTo>
                <a:lnTo>
                  <a:pt x="1182" y="580"/>
                </a:lnTo>
                <a:lnTo>
                  <a:pt x="1179" y="582"/>
                </a:lnTo>
                <a:lnTo>
                  <a:pt x="1175" y="584"/>
                </a:lnTo>
                <a:lnTo>
                  <a:pt x="1171" y="586"/>
                </a:lnTo>
                <a:lnTo>
                  <a:pt x="1165" y="588"/>
                </a:lnTo>
                <a:lnTo>
                  <a:pt x="1159" y="590"/>
                </a:lnTo>
                <a:lnTo>
                  <a:pt x="1152" y="590"/>
                </a:lnTo>
                <a:lnTo>
                  <a:pt x="1144" y="592"/>
                </a:lnTo>
                <a:lnTo>
                  <a:pt x="1136" y="592"/>
                </a:lnTo>
                <a:lnTo>
                  <a:pt x="1127" y="592"/>
                </a:lnTo>
                <a:lnTo>
                  <a:pt x="1117" y="594"/>
                </a:lnTo>
                <a:lnTo>
                  <a:pt x="1108" y="594"/>
                </a:lnTo>
                <a:lnTo>
                  <a:pt x="1098" y="594"/>
                </a:lnTo>
                <a:lnTo>
                  <a:pt x="1075" y="594"/>
                </a:lnTo>
                <a:lnTo>
                  <a:pt x="1052" y="594"/>
                </a:lnTo>
                <a:lnTo>
                  <a:pt x="1038" y="594"/>
                </a:lnTo>
                <a:lnTo>
                  <a:pt x="1023" y="594"/>
                </a:lnTo>
                <a:lnTo>
                  <a:pt x="1006" y="595"/>
                </a:lnTo>
                <a:lnTo>
                  <a:pt x="987" y="595"/>
                </a:lnTo>
                <a:lnTo>
                  <a:pt x="966" y="597"/>
                </a:lnTo>
                <a:lnTo>
                  <a:pt x="944" y="599"/>
                </a:lnTo>
                <a:lnTo>
                  <a:pt x="919" y="601"/>
                </a:lnTo>
                <a:lnTo>
                  <a:pt x="893" y="605"/>
                </a:lnTo>
                <a:lnTo>
                  <a:pt x="866" y="609"/>
                </a:lnTo>
                <a:lnTo>
                  <a:pt x="835" y="613"/>
                </a:lnTo>
                <a:lnTo>
                  <a:pt x="804" y="617"/>
                </a:lnTo>
                <a:lnTo>
                  <a:pt x="770" y="620"/>
                </a:lnTo>
                <a:lnTo>
                  <a:pt x="735" y="626"/>
                </a:lnTo>
                <a:lnTo>
                  <a:pt x="697" y="632"/>
                </a:lnTo>
                <a:lnTo>
                  <a:pt x="658" y="640"/>
                </a:lnTo>
                <a:lnTo>
                  <a:pt x="618" y="647"/>
                </a:lnTo>
                <a:lnTo>
                  <a:pt x="576" y="653"/>
                </a:lnTo>
                <a:lnTo>
                  <a:pt x="538" y="661"/>
                </a:lnTo>
                <a:lnTo>
                  <a:pt x="518" y="665"/>
                </a:lnTo>
                <a:lnTo>
                  <a:pt x="501" y="668"/>
                </a:lnTo>
                <a:lnTo>
                  <a:pt x="482" y="670"/>
                </a:lnTo>
                <a:lnTo>
                  <a:pt x="465" y="674"/>
                </a:lnTo>
                <a:lnTo>
                  <a:pt x="449" y="678"/>
                </a:lnTo>
                <a:lnTo>
                  <a:pt x="432" y="680"/>
                </a:lnTo>
                <a:lnTo>
                  <a:pt x="417" y="684"/>
                </a:lnTo>
                <a:lnTo>
                  <a:pt x="401" y="688"/>
                </a:lnTo>
                <a:lnTo>
                  <a:pt x="386" y="689"/>
                </a:lnTo>
                <a:lnTo>
                  <a:pt x="372" y="693"/>
                </a:lnTo>
                <a:lnTo>
                  <a:pt x="357" y="695"/>
                </a:lnTo>
                <a:lnTo>
                  <a:pt x="346" y="699"/>
                </a:lnTo>
                <a:lnTo>
                  <a:pt x="332" y="703"/>
                </a:lnTo>
                <a:lnTo>
                  <a:pt x="321" y="705"/>
                </a:lnTo>
                <a:lnTo>
                  <a:pt x="309" y="709"/>
                </a:lnTo>
                <a:lnTo>
                  <a:pt x="298" y="711"/>
                </a:lnTo>
                <a:lnTo>
                  <a:pt x="286" y="714"/>
                </a:lnTo>
                <a:lnTo>
                  <a:pt x="276" y="718"/>
                </a:lnTo>
                <a:lnTo>
                  <a:pt x="267" y="720"/>
                </a:lnTo>
                <a:lnTo>
                  <a:pt x="259" y="724"/>
                </a:lnTo>
                <a:lnTo>
                  <a:pt x="252" y="728"/>
                </a:lnTo>
                <a:lnTo>
                  <a:pt x="244" y="730"/>
                </a:lnTo>
                <a:lnTo>
                  <a:pt x="236" y="734"/>
                </a:lnTo>
                <a:lnTo>
                  <a:pt x="230" y="737"/>
                </a:lnTo>
                <a:lnTo>
                  <a:pt x="225" y="741"/>
                </a:lnTo>
                <a:lnTo>
                  <a:pt x="219" y="745"/>
                </a:lnTo>
                <a:lnTo>
                  <a:pt x="215" y="749"/>
                </a:lnTo>
                <a:lnTo>
                  <a:pt x="211" y="75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150"/>
          <p:cNvSpPr/>
          <p:nvPr/>
        </p:nvSpPr>
        <p:spPr>
          <a:xfrm>
            <a:off x="6921360" y="4064040"/>
            <a:ext cx="333360" cy="196920"/>
          </a:xfrm>
          <a:custGeom>
            <a:avLst/>
            <a:gdLst/>
            <a:ahLst/>
            <a:rect l="l" t="t" r="r" b="b"/>
            <a:pathLst>
              <a:path w="421" h="250">
                <a:moveTo>
                  <a:pt x="421" y="171"/>
                </a:moveTo>
                <a:lnTo>
                  <a:pt x="419" y="181"/>
                </a:lnTo>
                <a:lnTo>
                  <a:pt x="419" y="188"/>
                </a:lnTo>
                <a:lnTo>
                  <a:pt x="419" y="198"/>
                </a:lnTo>
                <a:lnTo>
                  <a:pt x="417" y="206"/>
                </a:lnTo>
                <a:lnTo>
                  <a:pt x="415" y="213"/>
                </a:lnTo>
                <a:lnTo>
                  <a:pt x="413" y="219"/>
                </a:lnTo>
                <a:lnTo>
                  <a:pt x="411" y="225"/>
                </a:lnTo>
                <a:lnTo>
                  <a:pt x="407" y="231"/>
                </a:lnTo>
                <a:lnTo>
                  <a:pt x="405" y="234"/>
                </a:lnTo>
                <a:lnTo>
                  <a:pt x="401" y="238"/>
                </a:lnTo>
                <a:lnTo>
                  <a:pt x="396" y="242"/>
                </a:lnTo>
                <a:lnTo>
                  <a:pt x="392" y="244"/>
                </a:lnTo>
                <a:lnTo>
                  <a:pt x="386" y="248"/>
                </a:lnTo>
                <a:lnTo>
                  <a:pt x="380" y="248"/>
                </a:lnTo>
                <a:lnTo>
                  <a:pt x="375" y="250"/>
                </a:lnTo>
                <a:lnTo>
                  <a:pt x="367" y="250"/>
                </a:lnTo>
                <a:lnTo>
                  <a:pt x="359" y="250"/>
                </a:lnTo>
                <a:lnTo>
                  <a:pt x="348" y="246"/>
                </a:lnTo>
                <a:lnTo>
                  <a:pt x="342" y="244"/>
                </a:lnTo>
                <a:lnTo>
                  <a:pt x="336" y="242"/>
                </a:lnTo>
                <a:lnTo>
                  <a:pt x="328" y="238"/>
                </a:lnTo>
                <a:lnTo>
                  <a:pt x="323" y="234"/>
                </a:lnTo>
                <a:lnTo>
                  <a:pt x="315" y="231"/>
                </a:lnTo>
                <a:lnTo>
                  <a:pt x="305" y="227"/>
                </a:lnTo>
                <a:lnTo>
                  <a:pt x="298" y="221"/>
                </a:lnTo>
                <a:lnTo>
                  <a:pt x="288" y="217"/>
                </a:lnTo>
                <a:lnTo>
                  <a:pt x="279" y="209"/>
                </a:lnTo>
                <a:lnTo>
                  <a:pt x="269" y="204"/>
                </a:lnTo>
                <a:lnTo>
                  <a:pt x="257" y="196"/>
                </a:lnTo>
                <a:lnTo>
                  <a:pt x="246" y="190"/>
                </a:lnTo>
                <a:lnTo>
                  <a:pt x="234" y="181"/>
                </a:lnTo>
                <a:lnTo>
                  <a:pt x="223" y="173"/>
                </a:lnTo>
                <a:lnTo>
                  <a:pt x="209" y="163"/>
                </a:lnTo>
                <a:lnTo>
                  <a:pt x="196" y="154"/>
                </a:lnTo>
                <a:lnTo>
                  <a:pt x="183" y="144"/>
                </a:lnTo>
                <a:lnTo>
                  <a:pt x="169" y="135"/>
                </a:lnTo>
                <a:lnTo>
                  <a:pt x="154" y="123"/>
                </a:lnTo>
                <a:lnTo>
                  <a:pt x="138" y="112"/>
                </a:lnTo>
                <a:lnTo>
                  <a:pt x="123" y="100"/>
                </a:lnTo>
                <a:lnTo>
                  <a:pt x="108" y="87"/>
                </a:lnTo>
                <a:lnTo>
                  <a:pt x="90" y="73"/>
                </a:lnTo>
                <a:lnTo>
                  <a:pt x="73" y="60"/>
                </a:lnTo>
                <a:lnTo>
                  <a:pt x="56" y="46"/>
                </a:lnTo>
                <a:lnTo>
                  <a:pt x="37" y="31"/>
                </a:lnTo>
                <a:lnTo>
                  <a:pt x="19" y="16"/>
                </a:lnTo>
                <a:lnTo>
                  <a:pt x="0" y="0"/>
                </a:lnTo>
                <a:lnTo>
                  <a:pt x="23" y="0"/>
                </a:lnTo>
                <a:lnTo>
                  <a:pt x="48" y="0"/>
                </a:lnTo>
                <a:lnTo>
                  <a:pt x="71" y="0"/>
                </a:lnTo>
                <a:lnTo>
                  <a:pt x="92" y="2"/>
                </a:lnTo>
                <a:lnTo>
                  <a:pt x="115" y="2"/>
                </a:lnTo>
                <a:lnTo>
                  <a:pt x="137" y="4"/>
                </a:lnTo>
                <a:lnTo>
                  <a:pt x="158" y="6"/>
                </a:lnTo>
                <a:lnTo>
                  <a:pt x="177" y="10"/>
                </a:lnTo>
                <a:lnTo>
                  <a:pt x="196" y="12"/>
                </a:lnTo>
                <a:lnTo>
                  <a:pt x="215" y="14"/>
                </a:lnTo>
                <a:lnTo>
                  <a:pt x="233" y="18"/>
                </a:lnTo>
                <a:lnTo>
                  <a:pt x="250" y="21"/>
                </a:lnTo>
                <a:lnTo>
                  <a:pt x="267" y="25"/>
                </a:lnTo>
                <a:lnTo>
                  <a:pt x="284" y="29"/>
                </a:lnTo>
                <a:lnTo>
                  <a:pt x="300" y="33"/>
                </a:lnTo>
                <a:lnTo>
                  <a:pt x="315" y="39"/>
                </a:lnTo>
                <a:lnTo>
                  <a:pt x="327" y="46"/>
                </a:lnTo>
                <a:lnTo>
                  <a:pt x="338" y="54"/>
                </a:lnTo>
                <a:lnTo>
                  <a:pt x="348" y="62"/>
                </a:lnTo>
                <a:lnTo>
                  <a:pt x="359" y="69"/>
                </a:lnTo>
                <a:lnTo>
                  <a:pt x="369" y="77"/>
                </a:lnTo>
                <a:lnTo>
                  <a:pt x="376" y="85"/>
                </a:lnTo>
                <a:lnTo>
                  <a:pt x="384" y="92"/>
                </a:lnTo>
                <a:lnTo>
                  <a:pt x="392" y="100"/>
                </a:lnTo>
                <a:lnTo>
                  <a:pt x="398" y="108"/>
                </a:lnTo>
                <a:lnTo>
                  <a:pt x="403" y="115"/>
                </a:lnTo>
                <a:lnTo>
                  <a:pt x="409" y="125"/>
                </a:lnTo>
                <a:lnTo>
                  <a:pt x="413" y="133"/>
                </a:lnTo>
                <a:lnTo>
                  <a:pt x="415" y="142"/>
                </a:lnTo>
                <a:lnTo>
                  <a:pt x="419" y="152"/>
                </a:lnTo>
                <a:lnTo>
                  <a:pt x="419" y="162"/>
                </a:lnTo>
                <a:lnTo>
                  <a:pt x="421" y="1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151"/>
          <p:cNvSpPr/>
          <p:nvPr/>
        </p:nvSpPr>
        <p:spPr>
          <a:xfrm>
            <a:off x="6594480" y="3838680"/>
            <a:ext cx="441360" cy="550800"/>
          </a:xfrm>
          <a:custGeom>
            <a:avLst/>
            <a:gdLst/>
            <a:ahLst/>
            <a:rect l="l" t="t" r="r" b="b"/>
            <a:pathLst>
              <a:path w="554" h="695">
                <a:moveTo>
                  <a:pt x="3" y="693"/>
                </a:moveTo>
                <a:lnTo>
                  <a:pt x="0" y="689"/>
                </a:lnTo>
                <a:lnTo>
                  <a:pt x="0" y="687"/>
                </a:lnTo>
                <a:lnTo>
                  <a:pt x="0" y="684"/>
                </a:lnTo>
                <a:lnTo>
                  <a:pt x="0" y="680"/>
                </a:lnTo>
                <a:lnTo>
                  <a:pt x="1" y="676"/>
                </a:lnTo>
                <a:lnTo>
                  <a:pt x="3" y="670"/>
                </a:lnTo>
                <a:lnTo>
                  <a:pt x="7" y="664"/>
                </a:lnTo>
                <a:lnTo>
                  <a:pt x="11" y="659"/>
                </a:lnTo>
                <a:lnTo>
                  <a:pt x="15" y="653"/>
                </a:lnTo>
                <a:lnTo>
                  <a:pt x="21" y="645"/>
                </a:lnTo>
                <a:lnTo>
                  <a:pt x="26" y="637"/>
                </a:lnTo>
                <a:lnTo>
                  <a:pt x="34" y="630"/>
                </a:lnTo>
                <a:lnTo>
                  <a:pt x="42" y="620"/>
                </a:lnTo>
                <a:lnTo>
                  <a:pt x="49" y="611"/>
                </a:lnTo>
                <a:lnTo>
                  <a:pt x="59" y="599"/>
                </a:lnTo>
                <a:lnTo>
                  <a:pt x="69" y="588"/>
                </a:lnTo>
                <a:lnTo>
                  <a:pt x="84" y="566"/>
                </a:lnTo>
                <a:lnTo>
                  <a:pt x="99" y="547"/>
                </a:lnTo>
                <a:lnTo>
                  <a:pt x="117" y="526"/>
                </a:lnTo>
                <a:lnTo>
                  <a:pt x="136" y="505"/>
                </a:lnTo>
                <a:lnTo>
                  <a:pt x="155" y="484"/>
                </a:lnTo>
                <a:lnTo>
                  <a:pt x="174" y="463"/>
                </a:lnTo>
                <a:lnTo>
                  <a:pt x="193" y="440"/>
                </a:lnTo>
                <a:lnTo>
                  <a:pt x="213" y="415"/>
                </a:lnTo>
                <a:lnTo>
                  <a:pt x="241" y="365"/>
                </a:lnTo>
                <a:lnTo>
                  <a:pt x="272" y="317"/>
                </a:lnTo>
                <a:lnTo>
                  <a:pt x="301" y="267"/>
                </a:lnTo>
                <a:lnTo>
                  <a:pt x="332" y="217"/>
                </a:lnTo>
                <a:lnTo>
                  <a:pt x="339" y="192"/>
                </a:lnTo>
                <a:lnTo>
                  <a:pt x="347" y="171"/>
                </a:lnTo>
                <a:lnTo>
                  <a:pt x="355" y="150"/>
                </a:lnTo>
                <a:lnTo>
                  <a:pt x="358" y="129"/>
                </a:lnTo>
                <a:lnTo>
                  <a:pt x="360" y="121"/>
                </a:lnTo>
                <a:lnTo>
                  <a:pt x="360" y="112"/>
                </a:lnTo>
                <a:lnTo>
                  <a:pt x="362" y="104"/>
                </a:lnTo>
                <a:lnTo>
                  <a:pt x="362" y="96"/>
                </a:lnTo>
                <a:lnTo>
                  <a:pt x="362" y="90"/>
                </a:lnTo>
                <a:lnTo>
                  <a:pt x="360" y="83"/>
                </a:lnTo>
                <a:lnTo>
                  <a:pt x="358" y="77"/>
                </a:lnTo>
                <a:lnTo>
                  <a:pt x="357" y="73"/>
                </a:lnTo>
                <a:lnTo>
                  <a:pt x="353" y="62"/>
                </a:lnTo>
                <a:lnTo>
                  <a:pt x="349" y="52"/>
                </a:lnTo>
                <a:lnTo>
                  <a:pt x="347" y="42"/>
                </a:lnTo>
                <a:lnTo>
                  <a:pt x="347" y="35"/>
                </a:lnTo>
                <a:lnTo>
                  <a:pt x="347" y="25"/>
                </a:lnTo>
                <a:lnTo>
                  <a:pt x="349" y="17"/>
                </a:lnTo>
                <a:lnTo>
                  <a:pt x="353" y="12"/>
                </a:lnTo>
                <a:lnTo>
                  <a:pt x="357" y="6"/>
                </a:lnTo>
                <a:lnTo>
                  <a:pt x="360" y="4"/>
                </a:lnTo>
                <a:lnTo>
                  <a:pt x="362" y="2"/>
                </a:lnTo>
                <a:lnTo>
                  <a:pt x="368" y="2"/>
                </a:lnTo>
                <a:lnTo>
                  <a:pt x="372" y="0"/>
                </a:lnTo>
                <a:lnTo>
                  <a:pt x="378" y="2"/>
                </a:lnTo>
                <a:lnTo>
                  <a:pt x="383" y="2"/>
                </a:lnTo>
                <a:lnTo>
                  <a:pt x="389" y="4"/>
                </a:lnTo>
                <a:lnTo>
                  <a:pt x="397" y="6"/>
                </a:lnTo>
                <a:lnTo>
                  <a:pt x="404" y="8"/>
                </a:lnTo>
                <a:lnTo>
                  <a:pt x="412" y="12"/>
                </a:lnTo>
                <a:lnTo>
                  <a:pt x="422" y="16"/>
                </a:lnTo>
                <a:lnTo>
                  <a:pt x="431" y="21"/>
                </a:lnTo>
                <a:lnTo>
                  <a:pt x="441" y="25"/>
                </a:lnTo>
                <a:lnTo>
                  <a:pt x="452" y="33"/>
                </a:lnTo>
                <a:lnTo>
                  <a:pt x="464" y="39"/>
                </a:lnTo>
                <a:lnTo>
                  <a:pt x="476" y="46"/>
                </a:lnTo>
                <a:lnTo>
                  <a:pt x="485" y="54"/>
                </a:lnTo>
                <a:lnTo>
                  <a:pt x="493" y="62"/>
                </a:lnTo>
                <a:lnTo>
                  <a:pt x="502" y="67"/>
                </a:lnTo>
                <a:lnTo>
                  <a:pt x="510" y="75"/>
                </a:lnTo>
                <a:lnTo>
                  <a:pt x="516" y="83"/>
                </a:lnTo>
                <a:lnTo>
                  <a:pt x="524" y="90"/>
                </a:lnTo>
                <a:lnTo>
                  <a:pt x="529" y="96"/>
                </a:lnTo>
                <a:lnTo>
                  <a:pt x="533" y="104"/>
                </a:lnTo>
                <a:lnTo>
                  <a:pt x="539" y="110"/>
                </a:lnTo>
                <a:lnTo>
                  <a:pt x="543" y="117"/>
                </a:lnTo>
                <a:lnTo>
                  <a:pt x="547" y="123"/>
                </a:lnTo>
                <a:lnTo>
                  <a:pt x="548" y="129"/>
                </a:lnTo>
                <a:lnTo>
                  <a:pt x="550" y="135"/>
                </a:lnTo>
                <a:lnTo>
                  <a:pt x="552" y="140"/>
                </a:lnTo>
                <a:lnTo>
                  <a:pt x="554" y="146"/>
                </a:lnTo>
                <a:lnTo>
                  <a:pt x="554" y="152"/>
                </a:lnTo>
                <a:lnTo>
                  <a:pt x="550" y="158"/>
                </a:lnTo>
                <a:lnTo>
                  <a:pt x="548" y="163"/>
                </a:lnTo>
                <a:lnTo>
                  <a:pt x="545" y="169"/>
                </a:lnTo>
                <a:lnTo>
                  <a:pt x="541" y="175"/>
                </a:lnTo>
                <a:lnTo>
                  <a:pt x="537" y="183"/>
                </a:lnTo>
                <a:lnTo>
                  <a:pt x="533" y="192"/>
                </a:lnTo>
                <a:lnTo>
                  <a:pt x="527" y="200"/>
                </a:lnTo>
                <a:lnTo>
                  <a:pt x="522" y="209"/>
                </a:lnTo>
                <a:lnTo>
                  <a:pt x="516" y="219"/>
                </a:lnTo>
                <a:lnTo>
                  <a:pt x="510" y="229"/>
                </a:lnTo>
                <a:lnTo>
                  <a:pt x="504" y="238"/>
                </a:lnTo>
                <a:lnTo>
                  <a:pt x="497" y="250"/>
                </a:lnTo>
                <a:lnTo>
                  <a:pt x="489" y="261"/>
                </a:lnTo>
                <a:lnTo>
                  <a:pt x="481" y="273"/>
                </a:lnTo>
                <a:lnTo>
                  <a:pt x="472" y="284"/>
                </a:lnTo>
                <a:lnTo>
                  <a:pt x="462" y="296"/>
                </a:lnTo>
                <a:lnTo>
                  <a:pt x="452" y="311"/>
                </a:lnTo>
                <a:lnTo>
                  <a:pt x="441" y="327"/>
                </a:lnTo>
                <a:lnTo>
                  <a:pt x="429" y="342"/>
                </a:lnTo>
                <a:lnTo>
                  <a:pt x="418" y="357"/>
                </a:lnTo>
                <a:lnTo>
                  <a:pt x="404" y="374"/>
                </a:lnTo>
                <a:lnTo>
                  <a:pt x="391" y="390"/>
                </a:lnTo>
                <a:lnTo>
                  <a:pt x="378" y="407"/>
                </a:lnTo>
                <a:lnTo>
                  <a:pt x="362" y="422"/>
                </a:lnTo>
                <a:lnTo>
                  <a:pt x="347" y="440"/>
                </a:lnTo>
                <a:lnTo>
                  <a:pt x="330" y="457"/>
                </a:lnTo>
                <a:lnTo>
                  <a:pt x="312" y="474"/>
                </a:lnTo>
                <a:lnTo>
                  <a:pt x="293" y="492"/>
                </a:lnTo>
                <a:lnTo>
                  <a:pt x="274" y="509"/>
                </a:lnTo>
                <a:lnTo>
                  <a:pt x="255" y="526"/>
                </a:lnTo>
                <a:lnTo>
                  <a:pt x="234" y="543"/>
                </a:lnTo>
                <a:lnTo>
                  <a:pt x="213" y="561"/>
                </a:lnTo>
                <a:lnTo>
                  <a:pt x="191" y="578"/>
                </a:lnTo>
                <a:lnTo>
                  <a:pt x="170" y="593"/>
                </a:lnTo>
                <a:lnTo>
                  <a:pt x="151" y="609"/>
                </a:lnTo>
                <a:lnTo>
                  <a:pt x="132" y="622"/>
                </a:lnTo>
                <a:lnTo>
                  <a:pt x="115" y="636"/>
                </a:lnTo>
                <a:lnTo>
                  <a:pt x="97" y="647"/>
                </a:lnTo>
                <a:lnTo>
                  <a:pt x="82" y="657"/>
                </a:lnTo>
                <a:lnTo>
                  <a:pt x="69" y="666"/>
                </a:lnTo>
                <a:lnTo>
                  <a:pt x="55" y="674"/>
                </a:lnTo>
                <a:lnTo>
                  <a:pt x="44" y="682"/>
                </a:lnTo>
                <a:lnTo>
                  <a:pt x="34" y="685"/>
                </a:lnTo>
                <a:lnTo>
                  <a:pt x="24" y="691"/>
                </a:lnTo>
                <a:lnTo>
                  <a:pt x="17" y="693"/>
                </a:lnTo>
                <a:lnTo>
                  <a:pt x="11" y="695"/>
                </a:lnTo>
                <a:lnTo>
                  <a:pt x="5" y="693"/>
                </a:lnTo>
                <a:lnTo>
                  <a:pt x="3" y="69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152"/>
          <p:cNvSpPr/>
          <p:nvPr/>
        </p:nvSpPr>
        <p:spPr>
          <a:xfrm>
            <a:off x="6638760" y="3633840"/>
            <a:ext cx="1033560" cy="1455840"/>
          </a:xfrm>
          <a:custGeom>
            <a:avLst/>
            <a:gdLst/>
            <a:ahLst/>
            <a:rect l="l" t="t" r="r" b="b"/>
            <a:pathLst>
              <a:path w="1302" h="1833">
                <a:moveTo>
                  <a:pt x="1300" y="211"/>
                </a:moveTo>
                <a:lnTo>
                  <a:pt x="1300" y="215"/>
                </a:lnTo>
                <a:lnTo>
                  <a:pt x="1298" y="223"/>
                </a:lnTo>
                <a:lnTo>
                  <a:pt x="1296" y="228"/>
                </a:lnTo>
                <a:lnTo>
                  <a:pt x="1292" y="236"/>
                </a:lnTo>
                <a:lnTo>
                  <a:pt x="1288" y="244"/>
                </a:lnTo>
                <a:lnTo>
                  <a:pt x="1284" y="251"/>
                </a:lnTo>
                <a:lnTo>
                  <a:pt x="1278" y="257"/>
                </a:lnTo>
                <a:lnTo>
                  <a:pt x="1275" y="263"/>
                </a:lnTo>
                <a:lnTo>
                  <a:pt x="1271" y="265"/>
                </a:lnTo>
                <a:lnTo>
                  <a:pt x="1269" y="267"/>
                </a:lnTo>
                <a:lnTo>
                  <a:pt x="1267" y="271"/>
                </a:lnTo>
                <a:lnTo>
                  <a:pt x="1265" y="274"/>
                </a:lnTo>
                <a:lnTo>
                  <a:pt x="1263" y="280"/>
                </a:lnTo>
                <a:lnTo>
                  <a:pt x="1259" y="286"/>
                </a:lnTo>
                <a:lnTo>
                  <a:pt x="1257" y="292"/>
                </a:lnTo>
                <a:lnTo>
                  <a:pt x="1255" y="299"/>
                </a:lnTo>
                <a:lnTo>
                  <a:pt x="1254" y="309"/>
                </a:lnTo>
                <a:lnTo>
                  <a:pt x="1252" y="317"/>
                </a:lnTo>
                <a:lnTo>
                  <a:pt x="1250" y="326"/>
                </a:lnTo>
                <a:lnTo>
                  <a:pt x="1250" y="338"/>
                </a:lnTo>
                <a:lnTo>
                  <a:pt x="1248" y="349"/>
                </a:lnTo>
                <a:lnTo>
                  <a:pt x="1246" y="361"/>
                </a:lnTo>
                <a:lnTo>
                  <a:pt x="1244" y="374"/>
                </a:lnTo>
                <a:lnTo>
                  <a:pt x="1242" y="388"/>
                </a:lnTo>
                <a:lnTo>
                  <a:pt x="1240" y="403"/>
                </a:lnTo>
                <a:lnTo>
                  <a:pt x="1240" y="418"/>
                </a:lnTo>
                <a:lnTo>
                  <a:pt x="1238" y="434"/>
                </a:lnTo>
                <a:lnTo>
                  <a:pt x="1236" y="451"/>
                </a:lnTo>
                <a:lnTo>
                  <a:pt x="1234" y="468"/>
                </a:lnTo>
                <a:lnTo>
                  <a:pt x="1234" y="488"/>
                </a:lnTo>
                <a:lnTo>
                  <a:pt x="1232" y="507"/>
                </a:lnTo>
                <a:lnTo>
                  <a:pt x="1231" y="526"/>
                </a:lnTo>
                <a:lnTo>
                  <a:pt x="1231" y="547"/>
                </a:lnTo>
                <a:lnTo>
                  <a:pt x="1229" y="568"/>
                </a:lnTo>
                <a:lnTo>
                  <a:pt x="1227" y="591"/>
                </a:lnTo>
                <a:lnTo>
                  <a:pt x="1227" y="614"/>
                </a:lnTo>
                <a:lnTo>
                  <a:pt x="1225" y="637"/>
                </a:lnTo>
                <a:lnTo>
                  <a:pt x="1223" y="660"/>
                </a:lnTo>
                <a:lnTo>
                  <a:pt x="1223" y="685"/>
                </a:lnTo>
                <a:lnTo>
                  <a:pt x="1221" y="712"/>
                </a:lnTo>
                <a:lnTo>
                  <a:pt x="1219" y="766"/>
                </a:lnTo>
                <a:lnTo>
                  <a:pt x="1215" y="818"/>
                </a:lnTo>
                <a:lnTo>
                  <a:pt x="1213" y="868"/>
                </a:lnTo>
                <a:lnTo>
                  <a:pt x="1209" y="917"/>
                </a:lnTo>
                <a:lnTo>
                  <a:pt x="1206" y="964"/>
                </a:lnTo>
                <a:lnTo>
                  <a:pt x="1202" y="1010"/>
                </a:lnTo>
                <a:lnTo>
                  <a:pt x="1198" y="1054"/>
                </a:lnTo>
                <a:lnTo>
                  <a:pt x="1192" y="1096"/>
                </a:lnTo>
                <a:lnTo>
                  <a:pt x="1188" y="1136"/>
                </a:lnTo>
                <a:lnTo>
                  <a:pt x="1184" y="1175"/>
                </a:lnTo>
                <a:lnTo>
                  <a:pt x="1179" y="1213"/>
                </a:lnTo>
                <a:lnTo>
                  <a:pt x="1175" y="1248"/>
                </a:lnTo>
                <a:lnTo>
                  <a:pt x="1169" y="1280"/>
                </a:lnTo>
                <a:lnTo>
                  <a:pt x="1165" y="1313"/>
                </a:lnTo>
                <a:lnTo>
                  <a:pt x="1159" y="1344"/>
                </a:lnTo>
                <a:lnTo>
                  <a:pt x="1156" y="1370"/>
                </a:lnTo>
                <a:lnTo>
                  <a:pt x="1150" y="1397"/>
                </a:lnTo>
                <a:lnTo>
                  <a:pt x="1144" y="1424"/>
                </a:lnTo>
                <a:lnTo>
                  <a:pt x="1138" y="1449"/>
                </a:lnTo>
                <a:lnTo>
                  <a:pt x="1133" y="1474"/>
                </a:lnTo>
                <a:lnTo>
                  <a:pt x="1127" y="1499"/>
                </a:lnTo>
                <a:lnTo>
                  <a:pt x="1119" y="1522"/>
                </a:lnTo>
                <a:lnTo>
                  <a:pt x="1112" y="1545"/>
                </a:lnTo>
                <a:lnTo>
                  <a:pt x="1104" y="1566"/>
                </a:lnTo>
                <a:lnTo>
                  <a:pt x="1096" y="1589"/>
                </a:lnTo>
                <a:lnTo>
                  <a:pt x="1087" y="1608"/>
                </a:lnTo>
                <a:lnTo>
                  <a:pt x="1079" y="1628"/>
                </a:lnTo>
                <a:lnTo>
                  <a:pt x="1069" y="1647"/>
                </a:lnTo>
                <a:lnTo>
                  <a:pt x="1058" y="1666"/>
                </a:lnTo>
                <a:lnTo>
                  <a:pt x="1048" y="1683"/>
                </a:lnTo>
                <a:lnTo>
                  <a:pt x="1037" y="1699"/>
                </a:lnTo>
                <a:lnTo>
                  <a:pt x="1025" y="1714"/>
                </a:lnTo>
                <a:lnTo>
                  <a:pt x="1012" y="1729"/>
                </a:lnTo>
                <a:lnTo>
                  <a:pt x="1000" y="1743"/>
                </a:lnTo>
                <a:lnTo>
                  <a:pt x="991" y="1754"/>
                </a:lnTo>
                <a:lnTo>
                  <a:pt x="981" y="1766"/>
                </a:lnTo>
                <a:lnTo>
                  <a:pt x="969" y="1777"/>
                </a:lnTo>
                <a:lnTo>
                  <a:pt x="962" y="1787"/>
                </a:lnTo>
                <a:lnTo>
                  <a:pt x="952" y="1797"/>
                </a:lnTo>
                <a:lnTo>
                  <a:pt x="945" y="1804"/>
                </a:lnTo>
                <a:lnTo>
                  <a:pt x="937" y="1810"/>
                </a:lnTo>
                <a:lnTo>
                  <a:pt x="929" y="1816"/>
                </a:lnTo>
                <a:lnTo>
                  <a:pt x="921" y="1822"/>
                </a:lnTo>
                <a:lnTo>
                  <a:pt x="916" y="1825"/>
                </a:lnTo>
                <a:lnTo>
                  <a:pt x="910" y="1829"/>
                </a:lnTo>
                <a:lnTo>
                  <a:pt x="904" y="1831"/>
                </a:lnTo>
                <a:lnTo>
                  <a:pt x="898" y="1833"/>
                </a:lnTo>
                <a:lnTo>
                  <a:pt x="893" y="1833"/>
                </a:lnTo>
                <a:lnTo>
                  <a:pt x="889" y="1833"/>
                </a:lnTo>
                <a:lnTo>
                  <a:pt x="883" y="1831"/>
                </a:lnTo>
                <a:lnTo>
                  <a:pt x="879" y="1831"/>
                </a:lnTo>
                <a:lnTo>
                  <a:pt x="875" y="1827"/>
                </a:lnTo>
                <a:lnTo>
                  <a:pt x="872" y="1825"/>
                </a:lnTo>
                <a:lnTo>
                  <a:pt x="868" y="1822"/>
                </a:lnTo>
                <a:lnTo>
                  <a:pt x="864" y="1818"/>
                </a:lnTo>
                <a:lnTo>
                  <a:pt x="862" y="1814"/>
                </a:lnTo>
                <a:lnTo>
                  <a:pt x="858" y="1808"/>
                </a:lnTo>
                <a:lnTo>
                  <a:pt x="856" y="1802"/>
                </a:lnTo>
                <a:lnTo>
                  <a:pt x="852" y="1797"/>
                </a:lnTo>
                <a:lnTo>
                  <a:pt x="850" y="1789"/>
                </a:lnTo>
                <a:lnTo>
                  <a:pt x="849" y="1781"/>
                </a:lnTo>
                <a:lnTo>
                  <a:pt x="845" y="1772"/>
                </a:lnTo>
                <a:lnTo>
                  <a:pt x="843" y="1764"/>
                </a:lnTo>
                <a:lnTo>
                  <a:pt x="841" y="1754"/>
                </a:lnTo>
                <a:lnTo>
                  <a:pt x="837" y="1745"/>
                </a:lnTo>
                <a:lnTo>
                  <a:pt x="835" y="1733"/>
                </a:lnTo>
                <a:lnTo>
                  <a:pt x="829" y="1724"/>
                </a:lnTo>
                <a:lnTo>
                  <a:pt x="826" y="1714"/>
                </a:lnTo>
                <a:lnTo>
                  <a:pt x="820" y="1704"/>
                </a:lnTo>
                <a:lnTo>
                  <a:pt x="814" y="1695"/>
                </a:lnTo>
                <a:lnTo>
                  <a:pt x="806" y="1683"/>
                </a:lnTo>
                <a:lnTo>
                  <a:pt x="797" y="1674"/>
                </a:lnTo>
                <a:lnTo>
                  <a:pt x="789" y="1662"/>
                </a:lnTo>
                <a:lnTo>
                  <a:pt x="778" y="1653"/>
                </a:lnTo>
                <a:lnTo>
                  <a:pt x="768" y="1641"/>
                </a:lnTo>
                <a:lnTo>
                  <a:pt x="754" y="1630"/>
                </a:lnTo>
                <a:lnTo>
                  <a:pt x="743" y="1618"/>
                </a:lnTo>
                <a:lnTo>
                  <a:pt x="728" y="1607"/>
                </a:lnTo>
                <a:lnTo>
                  <a:pt x="712" y="1595"/>
                </a:lnTo>
                <a:lnTo>
                  <a:pt x="697" y="1582"/>
                </a:lnTo>
                <a:lnTo>
                  <a:pt x="680" y="1570"/>
                </a:lnTo>
                <a:lnTo>
                  <a:pt x="664" y="1559"/>
                </a:lnTo>
                <a:lnTo>
                  <a:pt x="649" y="1547"/>
                </a:lnTo>
                <a:lnTo>
                  <a:pt x="637" y="1537"/>
                </a:lnTo>
                <a:lnTo>
                  <a:pt x="624" y="1528"/>
                </a:lnTo>
                <a:lnTo>
                  <a:pt x="614" y="1518"/>
                </a:lnTo>
                <a:lnTo>
                  <a:pt x="605" y="1509"/>
                </a:lnTo>
                <a:lnTo>
                  <a:pt x="595" y="1501"/>
                </a:lnTo>
                <a:lnTo>
                  <a:pt x="588" y="1493"/>
                </a:lnTo>
                <a:lnTo>
                  <a:pt x="582" y="1486"/>
                </a:lnTo>
                <a:lnTo>
                  <a:pt x="576" y="1480"/>
                </a:lnTo>
                <a:lnTo>
                  <a:pt x="572" y="1472"/>
                </a:lnTo>
                <a:lnTo>
                  <a:pt x="568" y="1466"/>
                </a:lnTo>
                <a:lnTo>
                  <a:pt x="566" y="1461"/>
                </a:lnTo>
                <a:lnTo>
                  <a:pt x="564" y="1455"/>
                </a:lnTo>
                <a:lnTo>
                  <a:pt x="564" y="1451"/>
                </a:lnTo>
                <a:lnTo>
                  <a:pt x="563" y="1447"/>
                </a:lnTo>
                <a:lnTo>
                  <a:pt x="563" y="1445"/>
                </a:lnTo>
                <a:lnTo>
                  <a:pt x="564" y="1443"/>
                </a:lnTo>
                <a:lnTo>
                  <a:pt x="568" y="1443"/>
                </a:lnTo>
                <a:lnTo>
                  <a:pt x="574" y="1441"/>
                </a:lnTo>
                <a:lnTo>
                  <a:pt x="582" y="1441"/>
                </a:lnTo>
                <a:lnTo>
                  <a:pt x="589" y="1440"/>
                </a:lnTo>
                <a:lnTo>
                  <a:pt x="601" y="1440"/>
                </a:lnTo>
                <a:lnTo>
                  <a:pt x="612" y="1440"/>
                </a:lnTo>
                <a:lnTo>
                  <a:pt x="626" y="1441"/>
                </a:lnTo>
                <a:lnTo>
                  <a:pt x="641" y="1441"/>
                </a:lnTo>
                <a:lnTo>
                  <a:pt x="657" y="1443"/>
                </a:lnTo>
                <a:lnTo>
                  <a:pt x="674" y="1443"/>
                </a:lnTo>
                <a:lnTo>
                  <a:pt x="693" y="1445"/>
                </a:lnTo>
                <a:lnTo>
                  <a:pt x="714" y="1447"/>
                </a:lnTo>
                <a:lnTo>
                  <a:pt x="735" y="1451"/>
                </a:lnTo>
                <a:lnTo>
                  <a:pt x="756" y="1455"/>
                </a:lnTo>
                <a:lnTo>
                  <a:pt x="778" y="1459"/>
                </a:lnTo>
                <a:lnTo>
                  <a:pt x="797" y="1461"/>
                </a:lnTo>
                <a:lnTo>
                  <a:pt x="814" y="1463"/>
                </a:lnTo>
                <a:lnTo>
                  <a:pt x="831" y="1465"/>
                </a:lnTo>
                <a:lnTo>
                  <a:pt x="847" y="1465"/>
                </a:lnTo>
                <a:lnTo>
                  <a:pt x="862" y="1463"/>
                </a:lnTo>
                <a:lnTo>
                  <a:pt x="875" y="1461"/>
                </a:lnTo>
                <a:lnTo>
                  <a:pt x="887" y="1457"/>
                </a:lnTo>
                <a:lnTo>
                  <a:pt x="898" y="1453"/>
                </a:lnTo>
                <a:lnTo>
                  <a:pt x="910" y="1449"/>
                </a:lnTo>
                <a:lnTo>
                  <a:pt x="918" y="1443"/>
                </a:lnTo>
                <a:lnTo>
                  <a:pt x="927" y="1436"/>
                </a:lnTo>
                <a:lnTo>
                  <a:pt x="933" y="1428"/>
                </a:lnTo>
                <a:lnTo>
                  <a:pt x="941" y="1420"/>
                </a:lnTo>
                <a:lnTo>
                  <a:pt x="946" y="1411"/>
                </a:lnTo>
                <a:lnTo>
                  <a:pt x="950" y="1399"/>
                </a:lnTo>
                <a:lnTo>
                  <a:pt x="956" y="1388"/>
                </a:lnTo>
                <a:lnTo>
                  <a:pt x="960" y="1374"/>
                </a:lnTo>
                <a:lnTo>
                  <a:pt x="966" y="1359"/>
                </a:lnTo>
                <a:lnTo>
                  <a:pt x="969" y="1342"/>
                </a:lnTo>
                <a:lnTo>
                  <a:pt x="975" y="1322"/>
                </a:lnTo>
                <a:lnTo>
                  <a:pt x="979" y="1303"/>
                </a:lnTo>
                <a:lnTo>
                  <a:pt x="985" y="1280"/>
                </a:lnTo>
                <a:lnTo>
                  <a:pt x="991" y="1257"/>
                </a:lnTo>
                <a:lnTo>
                  <a:pt x="994" y="1232"/>
                </a:lnTo>
                <a:lnTo>
                  <a:pt x="1000" y="1203"/>
                </a:lnTo>
                <a:lnTo>
                  <a:pt x="1004" y="1175"/>
                </a:lnTo>
                <a:lnTo>
                  <a:pt x="1010" y="1144"/>
                </a:lnTo>
                <a:lnTo>
                  <a:pt x="1014" y="1111"/>
                </a:lnTo>
                <a:lnTo>
                  <a:pt x="1019" y="1077"/>
                </a:lnTo>
                <a:lnTo>
                  <a:pt x="1025" y="1042"/>
                </a:lnTo>
                <a:lnTo>
                  <a:pt x="1027" y="1004"/>
                </a:lnTo>
                <a:lnTo>
                  <a:pt x="1029" y="969"/>
                </a:lnTo>
                <a:lnTo>
                  <a:pt x="1031" y="933"/>
                </a:lnTo>
                <a:lnTo>
                  <a:pt x="1035" y="898"/>
                </a:lnTo>
                <a:lnTo>
                  <a:pt x="1039" y="829"/>
                </a:lnTo>
                <a:lnTo>
                  <a:pt x="1042" y="760"/>
                </a:lnTo>
                <a:lnTo>
                  <a:pt x="1046" y="695"/>
                </a:lnTo>
                <a:lnTo>
                  <a:pt x="1048" y="630"/>
                </a:lnTo>
                <a:lnTo>
                  <a:pt x="1050" y="564"/>
                </a:lnTo>
                <a:lnTo>
                  <a:pt x="1050" y="501"/>
                </a:lnTo>
                <a:lnTo>
                  <a:pt x="1050" y="472"/>
                </a:lnTo>
                <a:lnTo>
                  <a:pt x="1050" y="443"/>
                </a:lnTo>
                <a:lnTo>
                  <a:pt x="1050" y="418"/>
                </a:lnTo>
                <a:lnTo>
                  <a:pt x="1048" y="393"/>
                </a:lnTo>
                <a:lnTo>
                  <a:pt x="1046" y="372"/>
                </a:lnTo>
                <a:lnTo>
                  <a:pt x="1046" y="349"/>
                </a:lnTo>
                <a:lnTo>
                  <a:pt x="1044" y="330"/>
                </a:lnTo>
                <a:lnTo>
                  <a:pt x="1042" y="313"/>
                </a:lnTo>
                <a:lnTo>
                  <a:pt x="1040" y="296"/>
                </a:lnTo>
                <a:lnTo>
                  <a:pt x="1039" y="280"/>
                </a:lnTo>
                <a:lnTo>
                  <a:pt x="1037" y="267"/>
                </a:lnTo>
                <a:lnTo>
                  <a:pt x="1035" y="255"/>
                </a:lnTo>
                <a:lnTo>
                  <a:pt x="1031" y="246"/>
                </a:lnTo>
                <a:lnTo>
                  <a:pt x="1029" y="236"/>
                </a:lnTo>
                <a:lnTo>
                  <a:pt x="1027" y="230"/>
                </a:lnTo>
                <a:lnTo>
                  <a:pt x="1025" y="225"/>
                </a:lnTo>
                <a:lnTo>
                  <a:pt x="1021" y="219"/>
                </a:lnTo>
                <a:lnTo>
                  <a:pt x="1017" y="215"/>
                </a:lnTo>
                <a:lnTo>
                  <a:pt x="1014" y="209"/>
                </a:lnTo>
                <a:lnTo>
                  <a:pt x="1010" y="205"/>
                </a:lnTo>
                <a:lnTo>
                  <a:pt x="1004" y="203"/>
                </a:lnTo>
                <a:lnTo>
                  <a:pt x="998" y="200"/>
                </a:lnTo>
                <a:lnTo>
                  <a:pt x="993" y="196"/>
                </a:lnTo>
                <a:lnTo>
                  <a:pt x="985" y="194"/>
                </a:lnTo>
                <a:lnTo>
                  <a:pt x="977" y="192"/>
                </a:lnTo>
                <a:lnTo>
                  <a:pt x="969" y="190"/>
                </a:lnTo>
                <a:lnTo>
                  <a:pt x="960" y="188"/>
                </a:lnTo>
                <a:lnTo>
                  <a:pt x="950" y="186"/>
                </a:lnTo>
                <a:lnTo>
                  <a:pt x="941" y="186"/>
                </a:lnTo>
                <a:lnTo>
                  <a:pt x="929" y="184"/>
                </a:lnTo>
                <a:lnTo>
                  <a:pt x="918" y="184"/>
                </a:lnTo>
                <a:lnTo>
                  <a:pt x="906" y="184"/>
                </a:lnTo>
                <a:lnTo>
                  <a:pt x="893" y="184"/>
                </a:lnTo>
                <a:lnTo>
                  <a:pt x="877" y="184"/>
                </a:lnTo>
                <a:lnTo>
                  <a:pt x="860" y="184"/>
                </a:lnTo>
                <a:lnTo>
                  <a:pt x="843" y="186"/>
                </a:lnTo>
                <a:lnTo>
                  <a:pt x="822" y="188"/>
                </a:lnTo>
                <a:lnTo>
                  <a:pt x="799" y="190"/>
                </a:lnTo>
                <a:lnTo>
                  <a:pt x="776" y="192"/>
                </a:lnTo>
                <a:lnTo>
                  <a:pt x="751" y="194"/>
                </a:lnTo>
                <a:lnTo>
                  <a:pt x="722" y="196"/>
                </a:lnTo>
                <a:lnTo>
                  <a:pt x="693" y="200"/>
                </a:lnTo>
                <a:lnTo>
                  <a:pt x="662" y="203"/>
                </a:lnTo>
                <a:lnTo>
                  <a:pt x="632" y="205"/>
                </a:lnTo>
                <a:lnTo>
                  <a:pt x="597" y="209"/>
                </a:lnTo>
                <a:lnTo>
                  <a:pt x="561" y="215"/>
                </a:lnTo>
                <a:lnTo>
                  <a:pt x="524" y="219"/>
                </a:lnTo>
                <a:lnTo>
                  <a:pt x="486" y="225"/>
                </a:lnTo>
                <a:lnTo>
                  <a:pt x="467" y="226"/>
                </a:lnTo>
                <a:lnTo>
                  <a:pt x="447" y="228"/>
                </a:lnTo>
                <a:lnTo>
                  <a:pt x="428" y="230"/>
                </a:lnTo>
                <a:lnTo>
                  <a:pt x="411" y="232"/>
                </a:lnTo>
                <a:lnTo>
                  <a:pt x="394" y="236"/>
                </a:lnTo>
                <a:lnTo>
                  <a:pt x="378" y="238"/>
                </a:lnTo>
                <a:lnTo>
                  <a:pt x="361" y="240"/>
                </a:lnTo>
                <a:lnTo>
                  <a:pt x="346" y="242"/>
                </a:lnTo>
                <a:lnTo>
                  <a:pt x="330" y="244"/>
                </a:lnTo>
                <a:lnTo>
                  <a:pt x="317" y="244"/>
                </a:lnTo>
                <a:lnTo>
                  <a:pt x="302" y="246"/>
                </a:lnTo>
                <a:lnTo>
                  <a:pt x="288" y="248"/>
                </a:lnTo>
                <a:lnTo>
                  <a:pt x="277" y="250"/>
                </a:lnTo>
                <a:lnTo>
                  <a:pt x="263" y="251"/>
                </a:lnTo>
                <a:lnTo>
                  <a:pt x="252" y="251"/>
                </a:lnTo>
                <a:lnTo>
                  <a:pt x="242" y="253"/>
                </a:lnTo>
                <a:lnTo>
                  <a:pt x="230" y="255"/>
                </a:lnTo>
                <a:lnTo>
                  <a:pt x="221" y="255"/>
                </a:lnTo>
                <a:lnTo>
                  <a:pt x="211" y="257"/>
                </a:lnTo>
                <a:lnTo>
                  <a:pt x="204" y="257"/>
                </a:lnTo>
                <a:lnTo>
                  <a:pt x="194" y="259"/>
                </a:lnTo>
                <a:lnTo>
                  <a:pt x="186" y="259"/>
                </a:lnTo>
                <a:lnTo>
                  <a:pt x="181" y="259"/>
                </a:lnTo>
                <a:lnTo>
                  <a:pt x="173" y="261"/>
                </a:lnTo>
                <a:lnTo>
                  <a:pt x="167" y="261"/>
                </a:lnTo>
                <a:lnTo>
                  <a:pt x="163" y="261"/>
                </a:lnTo>
                <a:lnTo>
                  <a:pt x="158" y="263"/>
                </a:lnTo>
                <a:lnTo>
                  <a:pt x="154" y="263"/>
                </a:lnTo>
                <a:lnTo>
                  <a:pt x="150" y="263"/>
                </a:lnTo>
                <a:lnTo>
                  <a:pt x="148" y="263"/>
                </a:lnTo>
                <a:lnTo>
                  <a:pt x="146" y="263"/>
                </a:lnTo>
                <a:lnTo>
                  <a:pt x="144" y="263"/>
                </a:lnTo>
                <a:lnTo>
                  <a:pt x="142" y="263"/>
                </a:lnTo>
                <a:lnTo>
                  <a:pt x="138" y="261"/>
                </a:lnTo>
                <a:lnTo>
                  <a:pt x="133" y="261"/>
                </a:lnTo>
                <a:lnTo>
                  <a:pt x="127" y="259"/>
                </a:lnTo>
                <a:lnTo>
                  <a:pt x="121" y="255"/>
                </a:lnTo>
                <a:lnTo>
                  <a:pt x="113" y="251"/>
                </a:lnTo>
                <a:lnTo>
                  <a:pt x="106" y="248"/>
                </a:lnTo>
                <a:lnTo>
                  <a:pt x="96" y="244"/>
                </a:lnTo>
                <a:lnTo>
                  <a:pt x="87" y="238"/>
                </a:lnTo>
                <a:lnTo>
                  <a:pt x="77" y="232"/>
                </a:lnTo>
                <a:lnTo>
                  <a:pt x="65" y="226"/>
                </a:lnTo>
                <a:lnTo>
                  <a:pt x="54" y="219"/>
                </a:lnTo>
                <a:lnTo>
                  <a:pt x="40" y="211"/>
                </a:lnTo>
                <a:lnTo>
                  <a:pt x="27" y="203"/>
                </a:lnTo>
                <a:lnTo>
                  <a:pt x="14" y="194"/>
                </a:lnTo>
                <a:lnTo>
                  <a:pt x="0" y="184"/>
                </a:lnTo>
                <a:lnTo>
                  <a:pt x="33" y="180"/>
                </a:lnTo>
                <a:lnTo>
                  <a:pt x="65" y="179"/>
                </a:lnTo>
                <a:lnTo>
                  <a:pt x="98" y="175"/>
                </a:lnTo>
                <a:lnTo>
                  <a:pt x="133" y="171"/>
                </a:lnTo>
                <a:lnTo>
                  <a:pt x="167" y="167"/>
                </a:lnTo>
                <a:lnTo>
                  <a:pt x="204" y="163"/>
                </a:lnTo>
                <a:lnTo>
                  <a:pt x="238" y="159"/>
                </a:lnTo>
                <a:lnTo>
                  <a:pt x="277" y="154"/>
                </a:lnTo>
                <a:lnTo>
                  <a:pt x="313" y="150"/>
                </a:lnTo>
                <a:lnTo>
                  <a:pt x="351" y="144"/>
                </a:lnTo>
                <a:lnTo>
                  <a:pt x="390" y="138"/>
                </a:lnTo>
                <a:lnTo>
                  <a:pt x="428" y="132"/>
                </a:lnTo>
                <a:lnTo>
                  <a:pt x="469" y="127"/>
                </a:lnTo>
                <a:lnTo>
                  <a:pt x="509" y="119"/>
                </a:lnTo>
                <a:lnTo>
                  <a:pt x="549" y="111"/>
                </a:lnTo>
                <a:lnTo>
                  <a:pt x="591" y="106"/>
                </a:lnTo>
                <a:lnTo>
                  <a:pt x="612" y="102"/>
                </a:lnTo>
                <a:lnTo>
                  <a:pt x="632" y="98"/>
                </a:lnTo>
                <a:lnTo>
                  <a:pt x="651" y="94"/>
                </a:lnTo>
                <a:lnTo>
                  <a:pt x="670" y="90"/>
                </a:lnTo>
                <a:lnTo>
                  <a:pt x="687" y="86"/>
                </a:lnTo>
                <a:lnTo>
                  <a:pt x="705" y="84"/>
                </a:lnTo>
                <a:lnTo>
                  <a:pt x="722" y="81"/>
                </a:lnTo>
                <a:lnTo>
                  <a:pt x="739" y="77"/>
                </a:lnTo>
                <a:lnTo>
                  <a:pt x="754" y="75"/>
                </a:lnTo>
                <a:lnTo>
                  <a:pt x="770" y="71"/>
                </a:lnTo>
                <a:lnTo>
                  <a:pt x="785" y="69"/>
                </a:lnTo>
                <a:lnTo>
                  <a:pt x="799" y="65"/>
                </a:lnTo>
                <a:lnTo>
                  <a:pt x="812" y="63"/>
                </a:lnTo>
                <a:lnTo>
                  <a:pt x="826" y="60"/>
                </a:lnTo>
                <a:lnTo>
                  <a:pt x="839" y="58"/>
                </a:lnTo>
                <a:lnTo>
                  <a:pt x="850" y="56"/>
                </a:lnTo>
                <a:lnTo>
                  <a:pt x="862" y="52"/>
                </a:lnTo>
                <a:lnTo>
                  <a:pt x="872" y="50"/>
                </a:lnTo>
                <a:lnTo>
                  <a:pt x="883" y="48"/>
                </a:lnTo>
                <a:lnTo>
                  <a:pt x="893" y="46"/>
                </a:lnTo>
                <a:lnTo>
                  <a:pt x="902" y="44"/>
                </a:lnTo>
                <a:lnTo>
                  <a:pt x="910" y="42"/>
                </a:lnTo>
                <a:lnTo>
                  <a:pt x="920" y="40"/>
                </a:lnTo>
                <a:lnTo>
                  <a:pt x="927" y="38"/>
                </a:lnTo>
                <a:lnTo>
                  <a:pt x="935" y="36"/>
                </a:lnTo>
                <a:lnTo>
                  <a:pt x="941" y="35"/>
                </a:lnTo>
                <a:lnTo>
                  <a:pt x="946" y="33"/>
                </a:lnTo>
                <a:lnTo>
                  <a:pt x="952" y="31"/>
                </a:lnTo>
                <a:lnTo>
                  <a:pt x="958" y="29"/>
                </a:lnTo>
                <a:lnTo>
                  <a:pt x="964" y="29"/>
                </a:lnTo>
                <a:lnTo>
                  <a:pt x="971" y="25"/>
                </a:lnTo>
                <a:lnTo>
                  <a:pt x="991" y="15"/>
                </a:lnTo>
                <a:lnTo>
                  <a:pt x="1000" y="12"/>
                </a:lnTo>
                <a:lnTo>
                  <a:pt x="1012" y="8"/>
                </a:lnTo>
                <a:lnTo>
                  <a:pt x="1021" y="4"/>
                </a:lnTo>
                <a:lnTo>
                  <a:pt x="1031" y="2"/>
                </a:lnTo>
                <a:lnTo>
                  <a:pt x="1040" y="0"/>
                </a:lnTo>
                <a:lnTo>
                  <a:pt x="1050" y="0"/>
                </a:lnTo>
                <a:lnTo>
                  <a:pt x="1054" y="2"/>
                </a:lnTo>
                <a:lnTo>
                  <a:pt x="1058" y="4"/>
                </a:lnTo>
                <a:lnTo>
                  <a:pt x="1062" y="8"/>
                </a:lnTo>
                <a:lnTo>
                  <a:pt x="1067" y="12"/>
                </a:lnTo>
                <a:lnTo>
                  <a:pt x="1073" y="15"/>
                </a:lnTo>
                <a:lnTo>
                  <a:pt x="1081" y="19"/>
                </a:lnTo>
                <a:lnTo>
                  <a:pt x="1088" y="25"/>
                </a:lnTo>
                <a:lnTo>
                  <a:pt x="1098" y="31"/>
                </a:lnTo>
                <a:lnTo>
                  <a:pt x="1108" y="36"/>
                </a:lnTo>
                <a:lnTo>
                  <a:pt x="1117" y="42"/>
                </a:lnTo>
                <a:lnTo>
                  <a:pt x="1129" y="50"/>
                </a:lnTo>
                <a:lnTo>
                  <a:pt x="1140" y="56"/>
                </a:lnTo>
                <a:lnTo>
                  <a:pt x="1154" y="65"/>
                </a:lnTo>
                <a:lnTo>
                  <a:pt x="1167" y="73"/>
                </a:lnTo>
                <a:lnTo>
                  <a:pt x="1181" y="83"/>
                </a:lnTo>
                <a:lnTo>
                  <a:pt x="1196" y="92"/>
                </a:lnTo>
                <a:lnTo>
                  <a:pt x="1209" y="102"/>
                </a:lnTo>
                <a:lnTo>
                  <a:pt x="1223" y="111"/>
                </a:lnTo>
                <a:lnTo>
                  <a:pt x="1234" y="121"/>
                </a:lnTo>
                <a:lnTo>
                  <a:pt x="1246" y="129"/>
                </a:lnTo>
                <a:lnTo>
                  <a:pt x="1257" y="138"/>
                </a:lnTo>
                <a:lnTo>
                  <a:pt x="1265" y="146"/>
                </a:lnTo>
                <a:lnTo>
                  <a:pt x="1275" y="154"/>
                </a:lnTo>
                <a:lnTo>
                  <a:pt x="1282" y="161"/>
                </a:lnTo>
                <a:lnTo>
                  <a:pt x="1288" y="169"/>
                </a:lnTo>
                <a:lnTo>
                  <a:pt x="1294" y="175"/>
                </a:lnTo>
                <a:lnTo>
                  <a:pt x="1298" y="182"/>
                </a:lnTo>
                <a:lnTo>
                  <a:pt x="1300" y="188"/>
                </a:lnTo>
                <a:lnTo>
                  <a:pt x="1302" y="194"/>
                </a:lnTo>
                <a:lnTo>
                  <a:pt x="1302" y="200"/>
                </a:lnTo>
                <a:lnTo>
                  <a:pt x="1302" y="205"/>
                </a:lnTo>
                <a:lnTo>
                  <a:pt x="1300" y="2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153"/>
          <p:cNvSpPr/>
          <p:nvPr/>
        </p:nvSpPr>
        <p:spPr>
          <a:xfrm>
            <a:off x="6407280" y="3476520"/>
            <a:ext cx="460080" cy="484200"/>
          </a:xfrm>
          <a:custGeom>
            <a:avLst/>
            <a:gdLst/>
            <a:ahLst/>
            <a:rect l="l" t="t" r="r" b="b"/>
            <a:pathLst>
              <a:path w="580" h="611">
                <a:moveTo>
                  <a:pt x="398" y="0"/>
                </a:moveTo>
                <a:lnTo>
                  <a:pt x="419" y="16"/>
                </a:lnTo>
                <a:lnTo>
                  <a:pt x="438" y="33"/>
                </a:lnTo>
                <a:lnTo>
                  <a:pt x="457" y="48"/>
                </a:lnTo>
                <a:lnTo>
                  <a:pt x="475" y="64"/>
                </a:lnTo>
                <a:lnTo>
                  <a:pt x="492" y="77"/>
                </a:lnTo>
                <a:lnTo>
                  <a:pt x="507" y="91"/>
                </a:lnTo>
                <a:lnTo>
                  <a:pt x="521" y="104"/>
                </a:lnTo>
                <a:lnTo>
                  <a:pt x="532" y="115"/>
                </a:lnTo>
                <a:lnTo>
                  <a:pt x="544" y="125"/>
                </a:lnTo>
                <a:lnTo>
                  <a:pt x="553" y="135"/>
                </a:lnTo>
                <a:lnTo>
                  <a:pt x="561" y="144"/>
                </a:lnTo>
                <a:lnTo>
                  <a:pt x="569" y="152"/>
                </a:lnTo>
                <a:lnTo>
                  <a:pt x="574" y="158"/>
                </a:lnTo>
                <a:lnTo>
                  <a:pt x="578" y="163"/>
                </a:lnTo>
                <a:lnTo>
                  <a:pt x="580" y="167"/>
                </a:lnTo>
                <a:lnTo>
                  <a:pt x="580" y="171"/>
                </a:lnTo>
                <a:lnTo>
                  <a:pt x="580" y="177"/>
                </a:lnTo>
                <a:lnTo>
                  <a:pt x="578" y="183"/>
                </a:lnTo>
                <a:lnTo>
                  <a:pt x="574" y="190"/>
                </a:lnTo>
                <a:lnTo>
                  <a:pt x="570" y="198"/>
                </a:lnTo>
                <a:lnTo>
                  <a:pt x="565" y="208"/>
                </a:lnTo>
                <a:lnTo>
                  <a:pt x="559" y="217"/>
                </a:lnTo>
                <a:lnTo>
                  <a:pt x="551" y="227"/>
                </a:lnTo>
                <a:lnTo>
                  <a:pt x="542" y="236"/>
                </a:lnTo>
                <a:lnTo>
                  <a:pt x="536" y="242"/>
                </a:lnTo>
                <a:lnTo>
                  <a:pt x="530" y="248"/>
                </a:lnTo>
                <a:lnTo>
                  <a:pt x="524" y="254"/>
                </a:lnTo>
                <a:lnTo>
                  <a:pt x="517" y="261"/>
                </a:lnTo>
                <a:lnTo>
                  <a:pt x="509" y="269"/>
                </a:lnTo>
                <a:lnTo>
                  <a:pt x="501" y="277"/>
                </a:lnTo>
                <a:lnTo>
                  <a:pt x="492" y="284"/>
                </a:lnTo>
                <a:lnTo>
                  <a:pt x="482" y="294"/>
                </a:lnTo>
                <a:lnTo>
                  <a:pt x="473" y="304"/>
                </a:lnTo>
                <a:lnTo>
                  <a:pt x="461" y="313"/>
                </a:lnTo>
                <a:lnTo>
                  <a:pt x="450" y="325"/>
                </a:lnTo>
                <a:lnTo>
                  <a:pt x="438" y="334"/>
                </a:lnTo>
                <a:lnTo>
                  <a:pt x="425" y="346"/>
                </a:lnTo>
                <a:lnTo>
                  <a:pt x="411" y="357"/>
                </a:lnTo>
                <a:lnTo>
                  <a:pt x="398" y="369"/>
                </a:lnTo>
                <a:lnTo>
                  <a:pt x="384" y="382"/>
                </a:lnTo>
                <a:lnTo>
                  <a:pt x="354" y="407"/>
                </a:lnTo>
                <a:lnTo>
                  <a:pt x="325" y="430"/>
                </a:lnTo>
                <a:lnTo>
                  <a:pt x="296" y="455"/>
                </a:lnTo>
                <a:lnTo>
                  <a:pt x="265" y="478"/>
                </a:lnTo>
                <a:lnTo>
                  <a:pt x="237" y="499"/>
                </a:lnTo>
                <a:lnTo>
                  <a:pt x="206" y="519"/>
                </a:lnTo>
                <a:lnTo>
                  <a:pt x="192" y="528"/>
                </a:lnTo>
                <a:lnTo>
                  <a:pt x="177" y="538"/>
                </a:lnTo>
                <a:lnTo>
                  <a:pt x="162" y="545"/>
                </a:lnTo>
                <a:lnTo>
                  <a:pt x="148" y="553"/>
                </a:lnTo>
                <a:lnTo>
                  <a:pt x="131" y="563"/>
                </a:lnTo>
                <a:lnTo>
                  <a:pt x="116" y="572"/>
                </a:lnTo>
                <a:lnTo>
                  <a:pt x="100" y="580"/>
                </a:lnTo>
                <a:lnTo>
                  <a:pt x="89" y="586"/>
                </a:lnTo>
                <a:lnTo>
                  <a:pt x="75" y="591"/>
                </a:lnTo>
                <a:lnTo>
                  <a:pt x="66" y="597"/>
                </a:lnTo>
                <a:lnTo>
                  <a:pt x="54" y="601"/>
                </a:lnTo>
                <a:lnTo>
                  <a:pt x="46" y="605"/>
                </a:lnTo>
                <a:lnTo>
                  <a:pt x="37" y="607"/>
                </a:lnTo>
                <a:lnTo>
                  <a:pt x="29" y="609"/>
                </a:lnTo>
                <a:lnTo>
                  <a:pt x="23" y="611"/>
                </a:lnTo>
                <a:lnTo>
                  <a:pt x="18" y="611"/>
                </a:lnTo>
                <a:lnTo>
                  <a:pt x="14" y="611"/>
                </a:lnTo>
                <a:lnTo>
                  <a:pt x="8" y="611"/>
                </a:lnTo>
                <a:lnTo>
                  <a:pt x="6" y="609"/>
                </a:lnTo>
                <a:lnTo>
                  <a:pt x="2" y="607"/>
                </a:lnTo>
                <a:lnTo>
                  <a:pt x="0" y="603"/>
                </a:lnTo>
                <a:lnTo>
                  <a:pt x="0" y="601"/>
                </a:lnTo>
                <a:lnTo>
                  <a:pt x="0" y="595"/>
                </a:lnTo>
                <a:lnTo>
                  <a:pt x="2" y="591"/>
                </a:lnTo>
                <a:lnTo>
                  <a:pt x="6" y="586"/>
                </a:lnTo>
                <a:lnTo>
                  <a:pt x="10" y="580"/>
                </a:lnTo>
                <a:lnTo>
                  <a:pt x="16" y="572"/>
                </a:lnTo>
                <a:lnTo>
                  <a:pt x="23" y="565"/>
                </a:lnTo>
                <a:lnTo>
                  <a:pt x="31" y="557"/>
                </a:lnTo>
                <a:lnTo>
                  <a:pt x="41" y="547"/>
                </a:lnTo>
                <a:lnTo>
                  <a:pt x="50" y="538"/>
                </a:lnTo>
                <a:lnTo>
                  <a:pt x="62" y="526"/>
                </a:lnTo>
                <a:lnTo>
                  <a:pt x="75" y="515"/>
                </a:lnTo>
                <a:lnTo>
                  <a:pt x="89" y="503"/>
                </a:lnTo>
                <a:lnTo>
                  <a:pt x="104" y="490"/>
                </a:lnTo>
                <a:lnTo>
                  <a:pt x="121" y="474"/>
                </a:lnTo>
                <a:lnTo>
                  <a:pt x="150" y="444"/>
                </a:lnTo>
                <a:lnTo>
                  <a:pt x="177" y="415"/>
                </a:lnTo>
                <a:lnTo>
                  <a:pt x="204" y="386"/>
                </a:lnTo>
                <a:lnTo>
                  <a:pt x="229" y="357"/>
                </a:lnTo>
                <a:lnTo>
                  <a:pt x="254" y="329"/>
                </a:lnTo>
                <a:lnTo>
                  <a:pt x="277" y="302"/>
                </a:lnTo>
                <a:lnTo>
                  <a:pt x="298" y="275"/>
                </a:lnTo>
                <a:lnTo>
                  <a:pt x="319" y="250"/>
                </a:lnTo>
                <a:lnTo>
                  <a:pt x="327" y="236"/>
                </a:lnTo>
                <a:lnTo>
                  <a:pt x="336" y="223"/>
                </a:lnTo>
                <a:lnTo>
                  <a:pt x="344" y="210"/>
                </a:lnTo>
                <a:lnTo>
                  <a:pt x="352" y="196"/>
                </a:lnTo>
                <a:lnTo>
                  <a:pt x="359" y="181"/>
                </a:lnTo>
                <a:lnTo>
                  <a:pt x="365" y="165"/>
                </a:lnTo>
                <a:lnTo>
                  <a:pt x="371" y="150"/>
                </a:lnTo>
                <a:lnTo>
                  <a:pt x="377" y="135"/>
                </a:lnTo>
                <a:lnTo>
                  <a:pt x="382" y="117"/>
                </a:lnTo>
                <a:lnTo>
                  <a:pt x="386" y="102"/>
                </a:lnTo>
                <a:lnTo>
                  <a:pt x="388" y="85"/>
                </a:lnTo>
                <a:lnTo>
                  <a:pt x="392" y="67"/>
                </a:lnTo>
                <a:lnTo>
                  <a:pt x="394" y="50"/>
                </a:lnTo>
                <a:lnTo>
                  <a:pt x="396" y="33"/>
                </a:lnTo>
                <a:lnTo>
                  <a:pt x="396" y="18"/>
                </a:lnTo>
                <a:lnTo>
                  <a:pt x="398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154"/>
          <p:cNvSpPr/>
          <p:nvPr/>
        </p:nvSpPr>
        <p:spPr>
          <a:xfrm>
            <a:off x="6723000" y="3382920"/>
            <a:ext cx="531720" cy="123840"/>
          </a:xfrm>
          <a:custGeom>
            <a:avLst/>
            <a:gdLst/>
            <a:ahLst/>
            <a:rect l="l" t="t" r="r" b="b"/>
            <a:pathLst>
              <a:path w="670" h="158">
                <a:moveTo>
                  <a:pt x="670" y="92"/>
                </a:moveTo>
                <a:lnTo>
                  <a:pt x="633" y="92"/>
                </a:lnTo>
                <a:lnTo>
                  <a:pt x="597" y="94"/>
                </a:lnTo>
                <a:lnTo>
                  <a:pt x="560" y="96"/>
                </a:lnTo>
                <a:lnTo>
                  <a:pt x="520" y="100"/>
                </a:lnTo>
                <a:lnTo>
                  <a:pt x="482" y="104"/>
                </a:lnTo>
                <a:lnTo>
                  <a:pt x="439" y="108"/>
                </a:lnTo>
                <a:lnTo>
                  <a:pt x="397" y="114"/>
                </a:lnTo>
                <a:lnTo>
                  <a:pt x="353" y="119"/>
                </a:lnTo>
                <a:lnTo>
                  <a:pt x="309" y="127"/>
                </a:lnTo>
                <a:lnTo>
                  <a:pt x="265" y="137"/>
                </a:lnTo>
                <a:lnTo>
                  <a:pt x="220" y="142"/>
                </a:lnTo>
                <a:lnTo>
                  <a:pt x="176" y="148"/>
                </a:lnTo>
                <a:lnTo>
                  <a:pt x="132" y="152"/>
                </a:lnTo>
                <a:lnTo>
                  <a:pt x="88" y="156"/>
                </a:lnTo>
                <a:lnTo>
                  <a:pt x="44" y="158"/>
                </a:lnTo>
                <a:lnTo>
                  <a:pt x="0" y="158"/>
                </a:lnTo>
                <a:lnTo>
                  <a:pt x="0" y="66"/>
                </a:lnTo>
                <a:lnTo>
                  <a:pt x="34" y="66"/>
                </a:lnTo>
                <a:lnTo>
                  <a:pt x="71" y="64"/>
                </a:lnTo>
                <a:lnTo>
                  <a:pt x="107" y="60"/>
                </a:lnTo>
                <a:lnTo>
                  <a:pt x="144" y="56"/>
                </a:lnTo>
                <a:lnTo>
                  <a:pt x="180" y="50"/>
                </a:lnTo>
                <a:lnTo>
                  <a:pt x="217" y="44"/>
                </a:lnTo>
                <a:lnTo>
                  <a:pt x="253" y="35"/>
                </a:lnTo>
                <a:lnTo>
                  <a:pt x="288" y="27"/>
                </a:lnTo>
                <a:lnTo>
                  <a:pt x="305" y="23"/>
                </a:lnTo>
                <a:lnTo>
                  <a:pt x="324" y="21"/>
                </a:lnTo>
                <a:lnTo>
                  <a:pt x="343" y="19"/>
                </a:lnTo>
                <a:lnTo>
                  <a:pt x="363" y="16"/>
                </a:lnTo>
                <a:lnTo>
                  <a:pt x="382" y="14"/>
                </a:lnTo>
                <a:lnTo>
                  <a:pt x="403" y="12"/>
                </a:lnTo>
                <a:lnTo>
                  <a:pt x="426" y="10"/>
                </a:lnTo>
                <a:lnTo>
                  <a:pt x="449" y="8"/>
                </a:lnTo>
                <a:lnTo>
                  <a:pt x="472" y="6"/>
                </a:lnTo>
                <a:lnTo>
                  <a:pt x="497" y="4"/>
                </a:lnTo>
                <a:lnTo>
                  <a:pt x="524" y="2"/>
                </a:lnTo>
                <a:lnTo>
                  <a:pt x="551" y="2"/>
                </a:lnTo>
                <a:lnTo>
                  <a:pt x="577" y="0"/>
                </a:lnTo>
                <a:lnTo>
                  <a:pt x="606" y="0"/>
                </a:lnTo>
                <a:lnTo>
                  <a:pt x="637" y="0"/>
                </a:lnTo>
                <a:lnTo>
                  <a:pt x="670" y="0"/>
                </a:lnTo>
                <a:lnTo>
                  <a:pt x="670" y="46"/>
                </a:lnTo>
                <a:lnTo>
                  <a:pt x="670" y="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155"/>
          <p:cNvSpPr/>
          <p:nvPr/>
        </p:nvSpPr>
        <p:spPr>
          <a:xfrm>
            <a:off x="6473880" y="2914560"/>
            <a:ext cx="311040" cy="623880"/>
          </a:xfrm>
          <a:custGeom>
            <a:avLst/>
            <a:gdLst/>
            <a:ahLst/>
            <a:rect l="l" t="t" r="r" b="b"/>
            <a:pathLst>
              <a:path w="391" h="787">
                <a:moveTo>
                  <a:pt x="221" y="35"/>
                </a:moveTo>
                <a:lnTo>
                  <a:pt x="263" y="223"/>
                </a:lnTo>
                <a:lnTo>
                  <a:pt x="305" y="411"/>
                </a:lnTo>
                <a:lnTo>
                  <a:pt x="347" y="599"/>
                </a:lnTo>
                <a:lnTo>
                  <a:pt x="391" y="787"/>
                </a:lnTo>
                <a:lnTo>
                  <a:pt x="374" y="785"/>
                </a:lnTo>
                <a:lnTo>
                  <a:pt x="359" y="783"/>
                </a:lnTo>
                <a:lnTo>
                  <a:pt x="343" y="781"/>
                </a:lnTo>
                <a:lnTo>
                  <a:pt x="330" y="777"/>
                </a:lnTo>
                <a:lnTo>
                  <a:pt x="317" y="772"/>
                </a:lnTo>
                <a:lnTo>
                  <a:pt x="303" y="766"/>
                </a:lnTo>
                <a:lnTo>
                  <a:pt x="294" y="758"/>
                </a:lnTo>
                <a:lnTo>
                  <a:pt x="282" y="749"/>
                </a:lnTo>
                <a:lnTo>
                  <a:pt x="272" y="739"/>
                </a:lnTo>
                <a:lnTo>
                  <a:pt x="265" y="727"/>
                </a:lnTo>
                <a:lnTo>
                  <a:pt x="257" y="716"/>
                </a:lnTo>
                <a:lnTo>
                  <a:pt x="249" y="703"/>
                </a:lnTo>
                <a:lnTo>
                  <a:pt x="246" y="689"/>
                </a:lnTo>
                <a:lnTo>
                  <a:pt x="240" y="674"/>
                </a:lnTo>
                <a:lnTo>
                  <a:pt x="236" y="658"/>
                </a:lnTo>
                <a:lnTo>
                  <a:pt x="234" y="641"/>
                </a:lnTo>
                <a:lnTo>
                  <a:pt x="223" y="607"/>
                </a:lnTo>
                <a:lnTo>
                  <a:pt x="213" y="572"/>
                </a:lnTo>
                <a:lnTo>
                  <a:pt x="203" y="536"/>
                </a:lnTo>
                <a:lnTo>
                  <a:pt x="192" y="499"/>
                </a:lnTo>
                <a:lnTo>
                  <a:pt x="180" y="463"/>
                </a:lnTo>
                <a:lnTo>
                  <a:pt x="169" y="422"/>
                </a:lnTo>
                <a:lnTo>
                  <a:pt x="161" y="403"/>
                </a:lnTo>
                <a:lnTo>
                  <a:pt x="155" y="382"/>
                </a:lnTo>
                <a:lnTo>
                  <a:pt x="148" y="359"/>
                </a:lnTo>
                <a:lnTo>
                  <a:pt x="142" y="338"/>
                </a:lnTo>
                <a:lnTo>
                  <a:pt x="134" y="319"/>
                </a:lnTo>
                <a:lnTo>
                  <a:pt x="127" y="299"/>
                </a:lnTo>
                <a:lnTo>
                  <a:pt x="121" y="282"/>
                </a:lnTo>
                <a:lnTo>
                  <a:pt x="113" y="263"/>
                </a:lnTo>
                <a:lnTo>
                  <a:pt x="107" y="248"/>
                </a:lnTo>
                <a:lnTo>
                  <a:pt x="102" y="230"/>
                </a:lnTo>
                <a:lnTo>
                  <a:pt x="96" y="215"/>
                </a:lnTo>
                <a:lnTo>
                  <a:pt x="88" y="202"/>
                </a:lnTo>
                <a:lnTo>
                  <a:pt x="82" y="188"/>
                </a:lnTo>
                <a:lnTo>
                  <a:pt x="77" y="175"/>
                </a:lnTo>
                <a:lnTo>
                  <a:pt x="71" y="161"/>
                </a:lnTo>
                <a:lnTo>
                  <a:pt x="63" y="152"/>
                </a:lnTo>
                <a:lnTo>
                  <a:pt x="57" y="140"/>
                </a:lnTo>
                <a:lnTo>
                  <a:pt x="50" y="131"/>
                </a:lnTo>
                <a:lnTo>
                  <a:pt x="44" y="121"/>
                </a:lnTo>
                <a:lnTo>
                  <a:pt x="36" y="113"/>
                </a:lnTo>
                <a:lnTo>
                  <a:pt x="29" y="106"/>
                </a:lnTo>
                <a:lnTo>
                  <a:pt x="23" y="100"/>
                </a:lnTo>
                <a:lnTo>
                  <a:pt x="17" y="92"/>
                </a:lnTo>
                <a:lnTo>
                  <a:pt x="11" y="84"/>
                </a:lnTo>
                <a:lnTo>
                  <a:pt x="8" y="77"/>
                </a:lnTo>
                <a:lnTo>
                  <a:pt x="4" y="69"/>
                </a:lnTo>
                <a:lnTo>
                  <a:pt x="2" y="63"/>
                </a:lnTo>
                <a:lnTo>
                  <a:pt x="0" y="56"/>
                </a:lnTo>
                <a:lnTo>
                  <a:pt x="0" y="50"/>
                </a:lnTo>
                <a:lnTo>
                  <a:pt x="0" y="42"/>
                </a:lnTo>
                <a:lnTo>
                  <a:pt x="0" y="37"/>
                </a:lnTo>
                <a:lnTo>
                  <a:pt x="4" y="31"/>
                </a:lnTo>
                <a:lnTo>
                  <a:pt x="6" y="25"/>
                </a:lnTo>
                <a:lnTo>
                  <a:pt x="11" y="19"/>
                </a:lnTo>
                <a:lnTo>
                  <a:pt x="15" y="13"/>
                </a:lnTo>
                <a:lnTo>
                  <a:pt x="23" y="8"/>
                </a:lnTo>
                <a:lnTo>
                  <a:pt x="29" y="6"/>
                </a:lnTo>
                <a:lnTo>
                  <a:pt x="34" y="4"/>
                </a:lnTo>
                <a:lnTo>
                  <a:pt x="42" y="2"/>
                </a:lnTo>
                <a:lnTo>
                  <a:pt x="50" y="2"/>
                </a:lnTo>
                <a:lnTo>
                  <a:pt x="59" y="0"/>
                </a:lnTo>
                <a:lnTo>
                  <a:pt x="69" y="0"/>
                </a:lnTo>
                <a:lnTo>
                  <a:pt x="80" y="0"/>
                </a:lnTo>
                <a:lnTo>
                  <a:pt x="92" y="2"/>
                </a:lnTo>
                <a:lnTo>
                  <a:pt x="105" y="2"/>
                </a:lnTo>
                <a:lnTo>
                  <a:pt x="119" y="6"/>
                </a:lnTo>
                <a:lnTo>
                  <a:pt x="132" y="8"/>
                </a:lnTo>
                <a:lnTo>
                  <a:pt x="148" y="12"/>
                </a:lnTo>
                <a:lnTo>
                  <a:pt x="165" y="15"/>
                </a:lnTo>
                <a:lnTo>
                  <a:pt x="182" y="21"/>
                </a:lnTo>
                <a:lnTo>
                  <a:pt x="201" y="27"/>
                </a:lnTo>
                <a:lnTo>
                  <a:pt x="221" y="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156"/>
          <p:cNvSpPr/>
          <p:nvPr/>
        </p:nvSpPr>
        <p:spPr>
          <a:xfrm>
            <a:off x="6638760" y="3110040"/>
            <a:ext cx="441360" cy="150840"/>
          </a:xfrm>
          <a:custGeom>
            <a:avLst/>
            <a:gdLst/>
            <a:ahLst/>
            <a:rect l="l" t="t" r="r" b="b"/>
            <a:pathLst>
              <a:path w="557" h="190">
                <a:moveTo>
                  <a:pt x="551" y="53"/>
                </a:moveTo>
                <a:lnTo>
                  <a:pt x="553" y="55"/>
                </a:lnTo>
                <a:lnTo>
                  <a:pt x="555" y="57"/>
                </a:lnTo>
                <a:lnTo>
                  <a:pt x="557" y="59"/>
                </a:lnTo>
                <a:lnTo>
                  <a:pt x="557" y="63"/>
                </a:lnTo>
                <a:lnTo>
                  <a:pt x="557" y="65"/>
                </a:lnTo>
                <a:lnTo>
                  <a:pt x="555" y="67"/>
                </a:lnTo>
                <a:lnTo>
                  <a:pt x="553" y="71"/>
                </a:lnTo>
                <a:lnTo>
                  <a:pt x="551" y="73"/>
                </a:lnTo>
                <a:lnTo>
                  <a:pt x="549" y="75"/>
                </a:lnTo>
                <a:lnTo>
                  <a:pt x="545" y="78"/>
                </a:lnTo>
                <a:lnTo>
                  <a:pt x="541" y="80"/>
                </a:lnTo>
                <a:lnTo>
                  <a:pt x="536" y="82"/>
                </a:lnTo>
                <a:lnTo>
                  <a:pt x="532" y="86"/>
                </a:lnTo>
                <a:lnTo>
                  <a:pt x="526" y="88"/>
                </a:lnTo>
                <a:lnTo>
                  <a:pt x="518" y="90"/>
                </a:lnTo>
                <a:lnTo>
                  <a:pt x="513" y="94"/>
                </a:lnTo>
                <a:lnTo>
                  <a:pt x="505" y="96"/>
                </a:lnTo>
                <a:lnTo>
                  <a:pt x="495" y="100"/>
                </a:lnTo>
                <a:lnTo>
                  <a:pt x="488" y="101"/>
                </a:lnTo>
                <a:lnTo>
                  <a:pt x="478" y="105"/>
                </a:lnTo>
                <a:lnTo>
                  <a:pt x="467" y="107"/>
                </a:lnTo>
                <a:lnTo>
                  <a:pt x="457" y="111"/>
                </a:lnTo>
                <a:lnTo>
                  <a:pt x="445" y="113"/>
                </a:lnTo>
                <a:lnTo>
                  <a:pt x="434" y="117"/>
                </a:lnTo>
                <a:lnTo>
                  <a:pt x="421" y="121"/>
                </a:lnTo>
                <a:lnTo>
                  <a:pt x="407" y="123"/>
                </a:lnTo>
                <a:lnTo>
                  <a:pt x="394" y="126"/>
                </a:lnTo>
                <a:lnTo>
                  <a:pt x="378" y="130"/>
                </a:lnTo>
                <a:lnTo>
                  <a:pt x="365" y="134"/>
                </a:lnTo>
                <a:lnTo>
                  <a:pt x="348" y="138"/>
                </a:lnTo>
                <a:lnTo>
                  <a:pt x="332" y="142"/>
                </a:lnTo>
                <a:lnTo>
                  <a:pt x="315" y="146"/>
                </a:lnTo>
                <a:lnTo>
                  <a:pt x="298" y="148"/>
                </a:lnTo>
                <a:lnTo>
                  <a:pt x="282" y="151"/>
                </a:lnTo>
                <a:lnTo>
                  <a:pt x="265" y="155"/>
                </a:lnTo>
                <a:lnTo>
                  <a:pt x="250" y="159"/>
                </a:lnTo>
                <a:lnTo>
                  <a:pt x="236" y="161"/>
                </a:lnTo>
                <a:lnTo>
                  <a:pt x="221" y="165"/>
                </a:lnTo>
                <a:lnTo>
                  <a:pt x="207" y="167"/>
                </a:lnTo>
                <a:lnTo>
                  <a:pt x="194" y="171"/>
                </a:lnTo>
                <a:lnTo>
                  <a:pt x="181" y="172"/>
                </a:lnTo>
                <a:lnTo>
                  <a:pt x="169" y="174"/>
                </a:lnTo>
                <a:lnTo>
                  <a:pt x="158" y="176"/>
                </a:lnTo>
                <a:lnTo>
                  <a:pt x="146" y="178"/>
                </a:lnTo>
                <a:lnTo>
                  <a:pt x="136" y="180"/>
                </a:lnTo>
                <a:lnTo>
                  <a:pt x="125" y="182"/>
                </a:lnTo>
                <a:lnTo>
                  <a:pt x="115" y="184"/>
                </a:lnTo>
                <a:lnTo>
                  <a:pt x="106" y="184"/>
                </a:lnTo>
                <a:lnTo>
                  <a:pt x="98" y="186"/>
                </a:lnTo>
                <a:lnTo>
                  <a:pt x="90" y="186"/>
                </a:lnTo>
                <a:lnTo>
                  <a:pt x="83" y="188"/>
                </a:lnTo>
                <a:lnTo>
                  <a:pt x="75" y="188"/>
                </a:lnTo>
                <a:lnTo>
                  <a:pt x="67" y="188"/>
                </a:lnTo>
                <a:lnTo>
                  <a:pt x="62" y="190"/>
                </a:lnTo>
                <a:lnTo>
                  <a:pt x="56" y="190"/>
                </a:lnTo>
                <a:lnTo>
                  <a:pt x="50" y="190"/>
                </a:lnTo>
                <a:lnTo>
                  <a:pt x="46" y="190"/>
                </a:lnTo>
                <a:lnTo>
                  <a:pt x="42" y="190"/>
                </a:lnTo>
                <a:lnTo>
                  <a:pt x="35" y="188"/>
                </a:lnTo>
                <a:lnTo>
                  <a:pt x="29" y="186"/>
                </a:lnTo>
                <a:lnTo>
                  <a:pt x="27" y="184"/>
                </a:lnTo>
                <a:lnTo>
                  <a:pt x="21" y="178"/>
                </a:lnTo>
                <a:lnTo>
                  <a:pt x="17" y="172"/>
                </a:lnTo>
                <a:lnTo>
                  <a:pt x="12" y="165"/>
                </a:lnTo>
                <a:lnTo>
                  <a:pt x="8" y="155"/>
                </a:lnTo>
                <a:lnTo>
                  <a:pt x="4" y="144"/>
                </a:lnTo>
                <a:lnTo>
                  <a:pt x="2" y="132"/>
                </a:lnTo>
                <a:lnTo>
                  <a:pt x="0" y="119"/>
                </a:lnTo>
                <a:lnTo>
                  <a:pt x="0" y="105"/>
                </a:lnTo>
                <a:lnTo>
                  <a:pt x="25" y="100"/>
                </a:lnTo>
                <a:lnTo>
                  <a:pt x="50" y="94"/>
                </a:lnTo>
                <a:lnTo>
                  <a:pt x="75" y="88"/>
                </a:lnTo>
                <a:lnTo>
                  <a:pt x="98" y="82"/>
                </a:lnTo>
                <a:lnTo>
                  <a:pt x="121" y="76"/>
                </a:lnTo>
                <a:lnTo>
                  <a:pt x="142" y="71"/>
                </a:lnTo>
                <a:lnTo>
                  <a:pt x="163" y="65"/>
                </a:lnTo>
                <a:lnTo>
                  <a:pt x="184" y="61"/>
                </a:lnTo>
                <a:lnTo>
                  <a:pt x="204" y="55"/>
                </a:lnTo>
                <a:lnTo>
                  <a:pt x="223" y="52"/>
                </a:lnTo>
                <a:lnTo>
                  <a:pt x="242" y="46"/>
                </a:lnTo>
                <a:lnTo>
                  <a:pt x="259" y="42"/>
                </a:lnTo>
                <a:lnTo>
                  <a:pt x="277" y="38"/>
                </a:lnTo>
                <a:lnTo>
                  <a:pt x="294" y="34"/>
                </a:lnTo>
                <a:lnTo>
                  <a:pt x="309" y="30"/>
                </a:lnTo>
                <a:lnTo>
                  <a:pt x="325" y="27"/>
                </a:lnTo>
                <a:lnTo>
                  <a:pt x="340" y="25"/>
                </a:lnTo>
                <a:lnTo>
                  <a:pt x="353" y="21"/>
                </a:lnTo>
                <a:lnTo>
                  <a:pt x="365" y="19"/>
                </a:lnTo>
                <a:lnTo>
                  <a:pt x="378" y="15"/>
                </a:lnTo>
                <a:lnTo>
                  <a:pt x="390" y="13"/>
                </a:lnTo>
                <a:lnTo>
                  <a:pt x="401" y="11"/>
                </a:lnTo>
                <a:lnTo>
                  <a:pt x="411" y="9"/>
                </a:lnTo>
                <a:lnTo>
                  <a:pt x="421" y="7"/>
                </a:lnTo>
                <a:lnTo>
                  <a:pt x="430" y="5"/>
                </a:lnTo>
                <a:lnTo>
                  <a:pt x="438" y="4"/>
                </a:lnTo>
                <a:lnTo>
                  <a:pt x="445" y="2"/>
                </a:lnTo>
                <a:lnTo>
                  <a:pt x="451" y="2"/>
                </a:lnTo>
                <a:lnTo>
                  <a:pt x="459" y="2"/>
                </a:lnTo>
                <a:lnTo>
                  <a:pt x="463" y="0"/>
                </a:lnTo>
                <a:lnTo>
                  <a:pt x="469" y="0"/>
                </a:lnTo>
                <a:lnTo>
                  <a:pt x="472" y="0"/>
                </a:lnTo>
                <a:lnTo>
                  <a:pt x="486" y="0"/>
                </a:lnTo>
                <a:lnTo>
                  <a:pt x="499" y="2"/>
                </a:lnTo>
                <a:lnTo>
                  <a:pt x="511" y="5"/>
                </a:lnTo>
                <a:lnTo>
                  <a:pt x="522" y="11"/>
                </a:lnTo>
                <a:lnTo>
                  <a:pt x="526" y="15"/>
                </a:lnTo>
                <a:lnTo>
                  <a:pt x="532" y="19"/>
                </a:lnTo>
                <a:lnTo>
                  <a:pt x="536" y="23"/>
                </a:lnTo>
                <a:lnTo>
                  <a:pt x="540" y="27"/>
                </a:lnTo>
                <a:lnTo>
                  <a:pt x="543" y="32"/>
                </a:lnTo>
                <a:lnTo>
                  <a:pt x="545" y="38"/>
                </a:lnTo>
                <a:lnTo>
                  <a:pt x="549" y="46"/>
                </a:lnTo>
                <a:lnTo>
                  <a:pt x="551" y="5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157"/>
          <p:cNvSpPr/>
          <p:nvPr/>
        </p:nvSpPr>
        <p:spPr>
          <a:xfrm>
            <a:off x="6554880" y="2806560"/>
            <a:ext cx="969840" cy="700200"/>
          </a:xfrm>
          <a:custGeom>
            <a:avLst/>
            <a:gdLst/>
            <a:ahLst/>
            <a:rect l="l" t="t" r="r" b="b"/>
            <a:pathLst>
              <a:path w="1220" h="883">
                <a:moveTo>
                  <a:pt x="971" y="593"/>
                </a:moveTo>
                <a:lnTo>
                  <a:pt x="965" y="612"/>
                </a:lnTo>
                <a:lnTo>
                  <a:pt x="959" y="629"/>
                </a:lnTo>
                <a:lnTo>
                  <a:pt x="954" y="647"/>
                </a:lnTo>
                <a:lnTo>
                  <a:pt x="948" y="662"/>
                </a:lnTo>
                <a:lnTo>
                  <a:pt x="942" y="677"/>
                </a:lnTo>
                <a:lnTo>
                  <a:pt x="936" y="693"/>
                </a:lnTo>
                <a:lnTo>
                  <a:pt x="931" y="708"/>
                </a:lnTo>
                <a:lnTo>
                  <a:pt x="925" y="721"/>
                </a:lnTo>
                <a:lnTo>
                  <a:pt x="919" y="735"/>
                </a:lnTo>
                <a:lnTo>
                  <a:pt x="913" y="748"/>
                </a:lnTo>
                <a:lnTo>
                  <a:pt x="907" y="760"/>
                </a:lnTo>
                <a:lnTo>
                  <a:pt x="904" y="771"/>
                </a:lnTo>
                <a:lnTo>
                  <a:pt x="898" y="783"/>
                </a:lnTo>
                <a:lnTo>
                  <a:pt x="892" y="792"/>
                </a:lnTo>
                <a:lnTo>
                  <a:pt x="886" y="802"/>
                </a:lnTo>
                <a:lnTo>
                  <a:pt x="883" y="812"/>
                </a:lnTo>
                <a:lnTo>
                  <a:pt x="877" y="821"/>
                </a:lnTo>
                <a:lnTo>
                  <a:pt x="871" y="829"/>
                </a:lnTo>
                <a:lnTo>
                  <a:pt x="865" y="837"/>
                </a:lnTo>
                <a:lnTo>
                  <a:pt x="861" y="842"/>
                </a:lnTo>
                <a:lnTo>
                  <a:pt x="856" y="850"/>
                </a:lnTo>
                <a:lnTo>
                  <a:pt x="850" y="856"/>
                </a:lnTo>
                <a:lnTo>
                  <a:pt x="846" y="862"/>
                </a:lnTo>
                <a:lnTo>
                  <a:pt x="840" y="865"/>
                </a:lnTo>
                <a:lnTo>
                  <a:pt x="836" y="869"/>
                </a:lnTo>
                <a:lnTo>
                  <a:pt x="831" y="873"/>
                </a:lnTo>
                <a:lnTo>
                  <a:pt x="825" y="875"/>
                </a:lnTo>
                <a:lnTo>
                  <a:pt x="821" y="879"/>
                </a:lnTo>
                <a:lnTo>
                  <a:pt x="815" y="881"/>
                </a:lnTo>
                <a:lnTo>
                  <a:pt x="812" y="881"/>
                </a:lnTo>
                <a:lnTo>
                  <a:pt x="806" y="883"/>
                </a:lnTo>
                <a:lnTo>
                  <a:pt x="802" y="883"/>
                </a:lnTo>
                <a:lnTo>
                  <a:pt x="802" y="869"/>
                </a:lnTo>
                <a:lnTo>
                  <a:pt x="802" y="856"/>
                </a:lnTo>
                <a:lnTo>
                  <a:pt x="802" y="839"/>
                </a:lnTo>
                <a:lnTo>
                  <a:pt x="804" y="821"/>
                </a:lnTo>
                <a:lnTo>
                  <a:pt x="806" y="802"/>
                </a:lnTo>
                <a:lnTo>
                  <a:pt x="808" y="781"/>
                </a:lnTo>
                <a:lnTo>
                  <a:pt x="810" y="758"/>
                </a:lnTo>
                <a:lnTo>
                  <a:pt x="813" y="735"/>
                </a:lnTo>
                <a:lnTo>
                  <a:pt x="815" y="710"/>
                </a:lnTo>
                <a:lnTo>
                  <a:pt x="819" y="681"/>
                </a:lnTo>
                <a:lnTo>
                  <a:pt x="825" y="654"/>
                </a:lnTo>
                <a:lnTo>
                  <a:pt x="829" y="624"/>
                </a:lnTo>
                <a:lnTo>
                  <a:pt x="835" y="591"/>
                </a:lnTo>
                <a:lnTo>
                  <a:pt x="840" y="558"/>
                </a:lnTo>
                <a:lnTo>
                  <a:pt x="846" y="524"/>
                </a:lnTo>
                <a:lnTo>
                  <a:pt x="854" y="487"/>
                </a:lnTo>
                <a:lnTo>
                  <a:pt x="859" y="453"/>
                </a:lnTo>
                <a:lnTo>
                  <a:pt x="867" y="422"/>
                </a:lnTo>
                <a:lnTo>
                  <a:pt x="869" y="407"/>
                </a:lnTo>
                <a:lnTo>
                  <a:pt x="873" y="391"/>
                </a:lnTo>
                <a:lnTo>
                  <a:pt x="875" y="378"/>
                </a:lnTo>
                <a:lnTo>
                  <a:pt x="877" y="364"/>
                </a:lnTo>
                <a:lnTo>
                  <a:pt x="881" y="351"/>
                </a:lnTo>
                <a:lnTo>
                  <a:pt x="883" y="338"/>
                </a:lnTo>
                <a:lnTo>
                  <a:pt x="884" y="326"/>
                </a:lnTo>
                <a:lnTo>
                  <a:pt x="886" y="313"/>
                </a:lnTo>
                <a:lnTo>
                  <a:pt x="888" y="301"/>
                </a:lnTo>
                <a:lnTo>
                  <a:pt x="890" y="292"/>
                </a:lnTo>
                <a:lnTo>
                  <a:pt x="890" y="280"/>
                </a:lnTo>
                <a:lnTo>
                  <a:pt x="892" y="270"/>
                </a:lnTo>
                <a:lnTo>
                  <a:pt x="894" y="261"/>
                </a:lnTo>
                <a:lnTo>
                  <a:pt x="894" y="253"/>
                </a:lnTo>
                <a:lnTo>
                  <a:pt x="896" y="245"/>
                </a:lnTo>
                <a:lnTo>
                  <a:pt x="896" y="236"/>
                </a:lnTo>
                <a:lnTo>
                  <a:pt x="896" y="230"/>
                </a:lnTo>
                <a:lnTo>
                  <a:pt x="898" y="222"/>
                </a:lnTo>
                <a:lnTo>
                  <a:pt x="898" y="217"/>
                </a:lnTo>
                <a:lnTo>
                  <a:pt x="898" y="211"/>
                </a:lnTo>
                <a:lnTo>
                  <a:pt x="898" y="205"/>
                </a:lnTo>
                <a:lnTo>
                  <a:pt x="898" y="201"/>
                </a:lnTo>
                <a:lnTo>
                  <a:pt x="896" y="197"/>
                </a:lnTo>
                <a:lnTo>
                  <a:pt x="896" y="194"/>
                </a:lnTo>
                <a:lnTo>
                  <a:pt x="896" y="190"/>
                </a:lnTo>
                <a:lnTo>
                  <a:pt x="894" y="188"/>
                </a:lnTo>
                <a:lnTo>
                  <a:pt x="894" y="186"/>
                </a:lnTo>
                <a:lnTo>
                  <a:pt x="892" y="184"/>
                </a:lnTo>
                <a:lnTo>
                  <a:pt x="886" y="178"/>
                </a:lnTo>
                <a:lnTo>
                  <a:pt x="881" y="174"/>
                </a:lnTo>
                <a:lnTo>
                  <a:pt x="875" y="173"/>
                </a:lnTo>
                <a:lnTo>
                  <a:pt x="871" y="169"/>
                </a:lnTo>
                <a:lnTo>
                  <a:pt x="865" y="167"/>
                </a:lnTo>
                <a:lnTo>
                  <a:pt x="859" y="165"/>
                </a:lnTo>
                <a:lnTo>
                  <a:pt x="854" y="163"/>
                </a:lnTo>
                <a:lnTo>
                  <a:pt x="846" y="163"/>
                </a:lnTo>
                <a:lnTo>
                  <a:pt x="838" y="161"/>
                </a:lnTo>
                <a:lnTo>
                  <a:pt x="831" y="159"/>
                </a:lnTo>
                <a:lnTo>
                  <a:pt x="821" y="159"/>
                </a:lnTo>
                <a:lnTo>
                  <a:pt x="810" y="157"/>
                </a:lnTo>
                <a:lnTo>
                  <a:pt x="800" y="157"/>
                </a:lnTo>
                <a:lnTo>
                  <a:pt x="788" y="157"/>
                </a:lnTo>
                <a:lnTo>
                  <a:pt x="775" y="157"/>
                </a:lnTo>
                <a:lnTo>
                  <a:pt x="762" y="157"/>
                </a:lnTo>
                <a:lnTo>
                  <a:pt x="746" y="159"/>
                </a:lnTo>
                <a:lnTo>
                  <a:pt x="731" y="159"/>
                </a:lnTo>
                <a:lnTo>
                  <a:pt x="714" y="161"/>
                </a:lnTo>
                <a:lnTo>
                  <a:pt x="696" y="163"/>
                </a:lnTo>
                <a:lnTo>
                  <a:pt x="677" y="165"/>
                </a:lnTo>
                <a:lnTo>
                  <a:pt x="658" y="169"/>
                </a:lnTo>
                <a:lnTo>
                  <a:pt x="637" y="173"/>
                </a:lnTo>
                <a:lnTo>
                  <a:pt x="616" y="176"/>
                </a:lnTo>
                <a:lnTo>
                  <a:pt x="593" y="180"/>
                </a:lnTo>
                <a:lnTo>
                  <a:pt x="568" y="184"/>
                </a:lnTo>
                <a:lnTo>
                  <a:pt x="543" y="190"/>
                </a:lnTo>
                <a:lnTo>
                  <a:pt x="516" y="196"/>
                </a:lnTo>
                <a:lnTo>
                  <a:pt x="489" y="203"/>
                </a:lnTo>
                <a:lnTo>
                  <a:pt x="460" y="211"/>
                </a:lnTo>
                <a:lnTo>
                  <a:pt x="428" y="217"/>
                </a:lnTo>
                <a:lnTo>
                  <a:pt x="397" y="224"/>
                </a:lnTo>
                <a:lnTo>
                  <a:pt x="366" y="230"/>
                </a:lnTo>
                <a:lnTo>
                  <a:pt x="335" y="236"/>
                </a:lnTo>
                <a:lnTo>
                  <a:pt x="307" y="240"/>
                </a:lnTo>
                <a:lnTo>
                  <a:pt x="278" y="244"/>
                </a:lnTo>
                <a:lnTo>
                  <a:pt x="249" y="247"/>
                </a:lnTo>
                <a:lnTo>
                  <a:pt x="220" y="251"/>
                </a:lnTo>
                <a:lnTo>
                  <a:pt x="163" y="257"/>
                </a:lnTo>
                <a:lnTo>
                  <a:pt x="109" y="261"/>
                </a:lnTo>
                <a:lnTo>
                  <a:pt x="53" y="263"/>
                </a:lnTo>
                <a:lnTo>
                  <a:pt x="0" y="263"/>
                </a:lnTo>
                <a:lnTo>
                  <a:pt x="0" y="171"/>
                </a:lnTo>
                <a:lnTo>
                  <a:pt x="17" y="171"/>
                </a:lnTo>
                <a:lnTo>
                  <a:pt x="38" y="169"/>
                </a:lnTo>
                <a:lnTo>
                  <a:pt x="59" y="169"/>
                </a:lnTo>
                <a:lnTo>
                  <a:pt x="80" y="167"/>
                </a:lnTo>
                <a:lnTo>
                  <a:pt x="105" y="163"/>
                </a:lnTo>
                <a:lnTo>
                  <a:pt x="130" y="161"/>
                </a:lnTo>
                <a:lnTo>
                  <a:pt x="157" y="157"/>
                </a:lnTo>
                <a:lnTo>
                  <a:pt x="186" y="153"/>
                </a:lnTo>
                <a:lnTo>
                  <a:pt x="215" y="148"/>
                </a:lnTo>
                <a:lnTo>
                  <a:pt x="245" y="144"/>
                </a:lnTo>
                <a:lnTo>
                  <a:pt x="278" y="138"/>
                </a:lnTo>
                <a:lnTo>
                  <a:pt x="312" y="132"/>
                </a:lnTo>
                <a:lnTo>
                  <a:pt x="347" y="126"/>
                </a:lnTo>
                <a:lnTo>
                  <a:pt x="383" y="119"/>
                </a:lnTo>
                <a:lnTo>
                  <a:pt x="420" y="111"/>
                </a:lnTo>
                <a:lnTo>
                  <a:pt x="460" y="105"/>
                </a:lnTo>
                <a:lnTo>
                  <a:pt x="479" y="101"/>
                </a:lnTo>
                <a:lnTo>
                  <a:pt x="497" y="98"/>
                </a:lnTo>
                <a:lnTo>
                  <a:pt x="516" y="94"/>
                </a:lnTo>
                <a:lnTo>
                  <a:pt x="533" y="90"/>
                </a:lnTo>
                <a:lnTo>
                  <a:pt x="550" y="86"/>
                </a:lnTo>
                <a:lnTo>
                  <a:pt x="568" y="84"/>
                </a:lnTo>
                <a:lnTo>
                  <a:pt x="583" y="80"/>
                </a:lnTo>
                <a:lnTo>
                  <a:pt x="600" y="77"/>
                </a:lnTo>
                <a:lnTo>
                  <a:pt x="616" y="75"/>
                </a:lnTo>
                <a:lnTo>
                  <a:pt x="629" y="71"/>
                </a:lnTo>
                <a:lnTo>
                  <a:pt x="643" y="69"/>
                </a:lnTo>
                <a:lnTo>
                  <a:pt x="656" y="65"/>
                </a:lnTo>
                <a:lnTo>
                  <a:pt x="669" y="63"/>
                </a:lnTo>
                <a:lnTo>
                  <a:pt x="683" y="59"/>
                </a:lnTo>
                <a:lnTo>
                  <a:pt x="694" y="57"/>
                </a:lnTo>
                <a:lnTo>
                  <a:pt x="706" y="55"/>
                </a:lnTo>
                <a:lnTo>
                  <a:pt x="716" y="52"/>
                </a:lnTo>
                <a:lnTo>
                  <a:pt x="727" y="50"/>
                </a:lnTo>
                <a:lnTo>
                  <a:pt x="737" y="48"/>
                </a:lnTo>
                <a:lnTo>
                  <a:pt x="746" y="46"/>
                </a:lnTo>
                <a:lnTo>
                  <a:pt x="754" y="44"/>
                </a:lnTo>
                <a:lnTo>
                  <a:pt x="762" y="42"/>
                </a:lnTo>
                <a:lnTo>
                  <a:pt x="769" y="40"/>
                </a:lnTo>
                <a:lnTo>
                  <a:pt x="777" y="38"/>
                </a:lnTo>
                <a:lnTo>
                  <a:pt x="783" y="36"/>
                </a:lnTo>
                <a:lnTo>
                  <a:pt x="788" y="34"/>
                </a:lnTo>
                <a:lnTo>
                  <a:pt x="794" y="32"/>
                </a:lnTo>
                <a:lnTo>
                  <a:pt x="800" y="30"/>
                </a:lnTo>
                <a:lnTo>
                  <a:pt x="804" y="29"/>
                </a:lnTo>
                <a:lnTo>
                  <a:pt x="808" y="29"/>
                </a:lnTo>
                <a:lnTo>
                  <a:pt x="812" y="27"/>
                </a:lnTo>
                <a:lnTo>
                  <a:pt x="813" y="25"/>
                </a:lnTo>
                <a:lnTo>
                  <a:pt x="819" y="21"/>
                </a:lnTo>
                <a:lnTo>
                  <a:pt x="827" y="15"/>
                </a:lnTo>
                <a:lnTo>
                  <a:pt x="833" y="11"/>
                </a:lnTo>
                <a:lnTo>
                  <a:pt x="842" y="7"/>
                </a:lnTo>
                <a:lnTo>
                  <a:pt x="850" y="4"/>
                </a:lnTo>
                <a:lnTo>
                  <a:pt x="859" y="2"/>
                </a:lnTo>
                <a:lnTo>
                  <a:pt x="869" y="0"/>
                </a:lnTo>
                <a:lnTo>
                  <a:pt x="881" y="0"/>
                </a:lnTo>
                <a:lnTo>
                  <a:pt x="883" y="0"/>
                </a:lnTo>
                <a:lnTo>
                  <a:pt x="886" y="0"/>
                </a:lnTo>
                <a:lnTo>
                  <a:pt x="892" y="2"/>
                </a:lnTo>
                <a:lnTo>
                  <a:pt x="900" y="4"/>
                </a:lnTo>
                <a:lnTo>
                  <a:pt x="907" y="7"/>
                </a:lnTo>
                <a:lnTo>
                  <a:pt x="915" y="11"/>
                </a:lnTo>
                <a:lnTo>
                  <a:pt x="927" y="15"/>
                </a:lnTo>
                <a:lnTo>
                  <a:pt x="936" y="21"/>
                </a:lnTo>
                <a:lnTo>
                  <a:pt x="950" y="27"/>
                </a:lnTo>
                <a:lnTo>
                  <a:pt x="963" y="32"/>
                </a:lnTo>
                <a:lnTo>
                  <a:pt x="977" y="40"/>
                </a:lnTo>
                <a:lnTo>
                  <a:pt x="992" y="48"/>
                </a:lnTo>
                <a:lnTo>
                  <a:pt x="1009" y="57"/>
                </a:lnTo>
                <a:lnTo>
                  <a:pt x="1026" y="69"/>
                </a:lnTo>
                <a:lnTo>
                  <a:pt x="1044" y="78"/>
                </a:lnTo>
                <a:lnTo>
                  <a:pt x="1063" y="92"/>
                </a:lnTo>
                <a:lnTo>
                  <a:pt x="1082" y="103"/>
                </a:lnTo>
                <a:lnTo>
                  <a:pt x="1099" y="115"/>
                </a:lnTo>
                <a:lnTo>
                  <a:pt x="1117" y="126"/>
                </a:lnTo>
                <a:lnTo>
                  <a:pt x="1132" y="138"/>
                </a:lnTo>
                <a:lnTo>
                  <a:pt x="1145" y="149"/>
                </a:lnTo>
                <a:lnTo>
                  <a:pt x="1159" y="159"/>
                </a:lnTo>
                <a:lnTo>
                  <a:pt x="1170" y="169"/>
                </a:lnTo>
                <a:lnTo>
                  <a:pt x="1182" y="178"/>
                </a:lnTo>
                <a:lnTo>
                  <a:pt x="1192" y="186"/>
                </a:lnTo>
                <a:lnTo>
                  <a:pt x="1199" y="194"/>
                </a:lnTo>
                <a:lnTo>
                  <a:pt x="1205" y="199"/>
                </a:lnTo>
                <a:lnTo>
                  <a:pt x="1211" y="207"/>
                </a:lnTo>
                <a:lnTo>
                  <a:pt x="1215" y="213"/>
                </a:lnTo>
                <a:lnTo>
                  <a:pt x="1218" y="217"/>
                </a:lnTo>
                <a:lnTo>
                  <a:pt x="1220" y="220"/>
                </a:lnTo>
                <a:lnTo>
                  <a:pt x="1220" y="224"/>
                </a:lnTo>
                <a:lnTo>
                  <a:pt x="1220" y="228"/>
                </a:lnTo>
                <a:lnTo>
                  <a:pt x="1220" y="232"/>
                </a:lnTo>
                <a:lnTo>
                  <a:pt x="1218" y="238"/>
                </a:lnTo>
                <a:lnTo>
                  <a:pt x="1217" y="242"/>
                </a:lnTo>
                <a:lnTo>
                  <a:pt x="1215" y="245"/>
                </a:lnTo>
                <a:lnTo>
                  <a:pt x="1211" y="247"/>
                </a:lnTo>
                <a:lnTo>
                  <a:pt x="1207" y="251"/>
                </a:lnTo>
                <a:lnTo>
                  <a:pt x="1203" y="255"/>
                </a:lnTo>
                <a:lnTo>
                  <a:pt x="1193" y="261"/>
                </a:lnTo>
                <a:lnTo>
                  <a:pt x="1182" y="267"/>
                </a:lnTo>
                <a:lnTo>
                  <a:pt x="1170" y="270"/>
                </a:lnTo>
                <a:lnTo>
                  <a:pt x="1155" y="276"/>
                </a:lnTo>
                <a:lnTo>
                  <a:pt x="1151" y="278"/>
                </a:lnTo>
                <a:lnTo>
                  <a:pt x="1145" y="280"/>
                </a:lnTo>
                <a:lnTo>
                  <a:pt x="1140" y="282"/>
                </a:lnTo>
                <a:lnTo>
                  <a:pt x="1136" y="286"/>
                </a:lnTo>
                <a:lnTo>
                  <a:pt x="1130" y="290"/>
                </a:lnTo>
                <a:lnTo>
                  <a:pt x="1124" y="293"/>
                </a:lnTo>
                <a:lnTo>
                  <a:pt x="1119" y="297"/>
                </a:lnTo>
                <a:lnTo>
                  <a:pt x="1113" y="303"/>
                </a:lnTo>
                <a:lnTo>
                  <a:pt x="1109" y="309"/>
                </a:lnTo>
                <a:lnTo>
                  <a:pt x="1103" y="316"/>
                </a:lnTo>
                <a:lnTo>
                  <a:pt x="1098" y="322"/>
                </a:lnTo>
                <a:lnTo>
                  <a:pt x="1092" y="330"/>
                </a:lnTo>
                <a:lnTo>
                  <a:pt x="1086" y="338"/>
                </a:lnTo>
                <a:lnTo>
                  <a:pt x="1080" y="347"/>
                </a:lnTo>
                <a:lnTo>
                  <a:pt x="1074" y="355"/>
                </a:lnTo>
                <a:lnTo>
                  <a:pt x="1069" y="364"/>
                </a:lnTo>
                <a:lnTo>
                  <a:pt x="1063" y="376"/>
                </a:lnTo>
                <a:lnTo>
                  <a:pt x="1055" y="386"/>
                </a:lnTo>
                <a:lnTo>
                  <a:pt x="1050" y="397"/>
                </a:lnTo>
                <a:lnTo>
                  <a:pt x="1044" y="409"/>
                </a:lnTo>
                <a:lnTo>
                  <a:pt x="1038" y="422"/>
                </a:lnTo>
                <a:lnTo>
                  <a:pt x="1032" y="434"/>
                </a:lnTo>
                <a:lnTo>
                  <a:pt x="1026" y="447"/>
                </a:lnTo>
                <a:lnTo>
                  <a:pt x="1021" y="462"/>
                </a:lnTo>
                <a:lnTo>
                  <a:pt x="1013" y="476"/>
                </a:lnTo>
                <a:lnTo>
                  <a:pt x="1007" y="491"/>
                </a:lnTo>
                <a:lnTo>
                  <a:pt x="1002" y="506"/>
                </a:lnTo>
                <a:lnTo>
                  <a:pt x="996" y="524"/>
                </a:lnTo>
                <a:lnTo>
                  <a:pt x="990" y="539"/>
                </a:lnTo>
                <a:lnTo>
                  <a:pt x="984" y="556"/>
                </a:lnTo>
                <a:lnTo>
                  <a:pt x="977" y="574"/>
                </a:lnTo>
                <a:lnTo>
                  <a:pt x="971" y="59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158"/>
          <p:cNvSpPr/>
          <p:nvPr/>
        </p:nvSpPr>
        <p:spPr>
          <a:xfrm>
            <a:off x="5407200" y="4233960"/>
            <a:ext cx="950760" cy="414360"/>
          </a:xfrm>
          <a:custGeom>
            <a:avLst/>
            <a:gdLst/>
            <a:ahLst/>
            <a:rect l="l" t="t" r="r" b="b"/>
            <a:pathLst>
              <a:path w="1198" h="522">
                <a:moveTo>
                  <a:pt x="739" y="286"/>
                </a:moveTo>
                <a:lnTo>
                  <a:pt x="711" y="300"/>
                </a:lnTo>
                <a:lnTo>
                  <a:pt x="684" y="315"/>
                </a:lnTo>
                <a:lnTo>
                  <a:pt x="657" y="328"/>
                </a:lnTo>
                <a:lnTo>
                  <a:pt x="632" y="342"/>
                </a:lnTo>
                <a:lnTo>
                  <a:pt x="607" y="355"/>
                </a:lnTo>
                <a:lnTo>
                  <a:pt x="584" y="367"/>
                </a:lnTo>
                <a:lnTo>
                  <a:pt x="559" y="378"/>
                </a:lnTo>
                <a:lnTo>
                  <a:pt x="538" y="390"/>
                </a:lnTo>
                <a:lnTo>
                  <a:pt x="515" y="401"/>
                </a:lnTo>
                <a:lnTo>
                  <a:pt x="494" y="411"/>
                </a:lnTo>
                <a:lnTo>
                  <a:pt x="474" y="423"/>
                </a:lnTo>
                <a:lnTo>
                  <a:pt x="455" y="430"/>
                </a:lnTo>
                <a:lnTo>
                  <a:pt x="436" y="440"/>
                </a:lnTo>
                <a:lnTo>
                  <a:pt x="419" y="449"/>
                </a:lnTo>
                <a:lnTo>
                  <a:pt x="402" y="457"/>
                </a:lnTo>
                <a:lnTo>
                  <a:pt x="384" y="465"/>
                </a:lnTo>
                <a:lnTo>
                  <a:pt x="369" y="472"/>
                </a:lnTo>
                <a:lnTo>
                  <a:pt x="354" y="478"/>
                </a:lnTo>
                <a:lnTo>
                  <a:pt x="340" y="484"/>
                </a:lnTo>
                <a:lnTo>
                  <a:pt x="327" y="490"/>
                </a:lnTo>
                <a:lnTo>
                  <a:pt x="313" y="495"/>
                </a:lnTo>
                <a:lnTo>
                  <a:pt x="302" y="499"/>
                </a:lnTo>
                <a:lnTo>
                  <a:pt x="290" y="505"/>
                </a:lnTo>
                <a:lnTo>
                  <a:pt x="281" y="509"/>
                </a:lnTo>
                <a:lnTo>
                  <a:pt x="271" y="511"/>
                </a:lnTo>
                <a:lnTo>
                  <a:pt x="263" y="515"/>
                </a:lnTo>
                <a:lnTo>
                  <a:pt x="254" y="517"/>
                </a:lnTo>
                <a:lnTo>
                  <a:pt x="248" y="518"/>
                </a:lnTo>
                <a:lnTo>
                  <a:pt x="240" y="520"/>
                </a:lnTo>
                <a:lnTo>
                  <a:pt x="235" y="522"/>
                </a:lnTo>
                <a:lnTo>
                  <a:pt x="231" y="522"/>
                </a:lnTo>
                <a:lnTo>
                  <a:pt x="227" y="522"/>
                </a:lnTo>
                <a:lnTo>
                  <a:pt x="219" y="522"/>
                </a:lnTo>
                <a:lnTo>
                  <a:pt x="211" y="522"/>
                </a:lnTo>
                <a:lnTo>
                  <a:pt x="204" y="520"/>
                </a:lnTo>
                <a:lnTo>
                  <a:pt x="196" y="518"/>
                </a:lnTo>
                <a:lnTo>
                  <a:pt x="188" y="515"/>
                </a:lnTo>
                <a:lnTo>
                  <a:pt x="181" y="513"/>
                </a:lnTo>
                <a:lnTo>
                  <a:pt x="173" y="507"/>
                </a:lnTo>
                <a:lnTo>
                  <a:pt x="164" y="503"/>
                </a:lnTo>
                <a:lnTo>
                  <a:pt x="156" y="497"/>
                </a:lnTo>
                <a:lnTo>
                  <a:pt x="146" y="492"/>
                </a:lnTo>
                <a:lnTo>
                  <a:pt x="137" y="486"/>
                </a:lnTo>
                <a:lnTo>
                  <a:pt x="127" y="478"/>
                </a:lnTo>
                <a:lnTo>
                  <a:pt x="116" y="471"/>
                </a:lnTo>
                <a:lnTo>
                  <a:pt x="106" y="463"/>
                </a:lnTo>
                <a:lnTo>
                  <a:pt x="94" y="453"/>
                </a:lnTo>
                <a:lnTo>
                  <a:pt x="83" y="444"/>
                </a:lnTo>
                <a:lnTo>
                  <a:pt x="69" y="434"/>
                </a:lnTo>
                <a:lnTo>
                  <a:pt x="60" y="424"/>
                </a:lnTo>
                <a:lnTo>
                  <a:pt x="50" y="415"/>
                </a:lnTo>
                <a:lnTo>
                  <a:pt x="41" y="405"/>
                </a:lnTo>
                <a:lnTo>
                  <a:pt x="33" y="398"/>
                </a:lnTo>
                <a:lnTo>
                  <a:pt x="25" y="390"/>
                </a:lnTo>
                <a:lnTo>
                  <a:pt x="20" y="380"/>
                </a:lnTo>
                <a:lnTo>
                  <a:pt x="14" y="373"/>
                </a:lnTo>
                <a:lnTo>
                  <a:pt x="8" y="365"/>
                </a:lnTo>
                <a:lnTo>
                  <a:pt x="6" y="357"/>
                </a:lnTo>
                <a:lnTo>
                  <a:pt x="2" y="350"/>
                </a:lnTo>
                <a:lnTo>
                  <a:pt x="0" y="342"/>
                </a:lnTo>
                <a:lnTo>
                  <a:pt x="0" y="334"/>
                </a:lnTo>
                <a:lnTo>
                  <a:pt x="0" y="327"/>
                </a:lnTo>
                <a:lnTo>
                  <a:pt x="0" y="319"/>
                </a:lnTo>
                <a:lnTo>
                  <a:pt x="4" y="311"/>
                </a:lnTo>
                <a:lnTo>
                  <a:pt x="4" y="307"/>
                </a:lnTo>
                <a:lnTo>
                  <a:pt x="4" y="302"/>
                </a:lnTo>
                <a:lnTo>
                  <a:pt x="6" y="298"/>
                </a:lnTo>
                <a:lnTo>
                  <a:pt x="8" y="294"/>
                </a:lnTo>
                <a:lnTo>
                  <a:pt x="12" y="292"/>
                </a:lnTo>
                <a:lnTo>
                  <a:pt x="16" y="288"/>
                </a:lnTo>
                <a:lnTo>
                  <a:pt x="20" y="286"/>
                </a:lnTo>
                <a:lnTo>
                  <a:pt x="25" y="284"/>
                </a:lnTo>
                <a:lnTo>
                  <a:pt x="31" y="282"/>
                </a:lnTo>
                <a:lnTo>
                  <a:pt x="37" y="280"/>
                </a:lnTo>
                <a:lnTo>
                  <a:pt x="45" y="280"/>
                </a:lnTo>
                <a:lnTo>
                  <a:pt x="52" y="280"/>
                </a:lnTo>
                <a:lnTo>
                  <a:pt x="62" y="280"/>
                </a:lnTo>
                <a:lnTo>
                  <a:pt x="71" y="282"/>
                </a:lnTo>
                <a:lnTo>
                  <a:pt x="83" y="282"/>
                </a:lnTo>
                <a:lnTo>
                  <a:pt x="94" y="286"/>
                </a:lnTo>
                <a:lnTo>
                  <a:pt x="114" y="290"/>
                </a:lnTo>
                <a:lnTo>
                  <a:pt x="133" y="296"/>
                </a:lnTo>
                <a:lnTo>
                  <a:pt x="150" y="300"/>
                </a:lnTo>
                <a:lnTo>
                  <a:pt x="165" y="302"/>
                </a:lnTo>
                <a:lnTo>
                  <a:pt x="181" y="304"/>
                </a:lnTo>
                <a:lnTo>
                  <a:pt x="196" y="304"/>
                </a:lnTo>
                <a:lnTo>
                  <a:pt x="204" y="304"/>
                </a:lnTo>
                <a:lnTo>
                  <a:pt x="211" y="304"/>
                </a:lnTo>
                <a:lnTo>
                  <a:pt x="219" y="302"/>
                </a:lnTo>
                <a:lnTo>
                  <a:pt x="227" y="300"/>
                </a:lnTo>
                <a:lnTo>
                  <a:pt x="229" y="298"/>
                </a:lnTo>
                <a:lnTo>
                  <a:pt x="233" y="298"/>
                </a:lnTo>
                <a:lnTo>
                  <a:pt x="238" y="298"/>
                </a:lnTo>
                <a:lnTo>
                  <a:pt x="242" y="296"/>
                </a:lnTo>
                <a:lnTo>
                  <a:pt x="250" y="296"/>
                </a:lnTo>
                <a:lnTo>
                  <a:pt x="256" y="294"/>
                </a:lnTo>
                <a:lnTo>
                  <a:pt x="265" y="292"/>
                </a:lnTo>
                <a:lnTo>
                  <a:pt x="273" y="288"/>
                </a:lnTo>
                <a:lnTo>
                  <a:pt x="283" y="286"/>
                </a:lnTo>
                <a:lnTo>
                  <a:pt x="294" y="282"/>
                </a:lnTo>
                <a:lnTo>
                  <a:pt x="304" y="280"/>
                </a:lnTo>
                <a:lnTo>
                  <a:pt x="317" y="277"/>
                </a:lnTo>
                <a:lnTo>
                  <a:pt x="329" y="273"/>
                </a:lnTo>
                <a:lnTo>
                  <a:pt x="344" y="267"/>
                </a:lnTo>
                <a:lnTo>
                  <a:pt x="357" y="263"/>
                </a:lnTo>
                <a:lnTo>
                  <a:pt x="373" y="257"/>
                </a:lnTo>
                <a:lnTo>
                  <a:pt x="388" y="254"/>
                </a:lnTo>
                <a:lnTo>
                  <a:pt x="405" y="248"/>
                </a:lnTo>
                <a:lnTo>
                  <a:pt x="423" y="240"/>
                </a:lnTo>
                <a:lnTo>
                  <a:pt x="442" y="234"/>
                </a:lnTo>
                <a:lnTo>
                  <a:pt x="461" y="227"/>
                </a:lnTo>
                <a:lnTo>
                  <a:pt x="482" y="221"/>
                </a:lnTo>
                <a:lnTo>
                  <a:pt x="503" y="213"/>
                </a:lnTo>
                <a:lnTo>
                  <a:pt x="524" y="206"/>
                </a:lnTo>
                <a:lnTo>
                  <a:pt x="547" y="196"/>
                </a:lnTo>
                <a:lnTo>
                  <a:pt x="570" y="188"/>
                </a:lnTo>
                <a:lnTo>
                  <a:pt x="593" y="179"/>
                </a:lnTo>
                <a:lnTo>
                  <a:pt x="618" y="169"/>
                </a:lnTo>
                <a:lnTo>
                  <a:pt x="643" y="160"/>
                </a:lnTo>
                <a:lnTo>
                  <a:pt x="670" y="148"/>
                </a:lnTo>
                <a:lnTo>
                  <a:pt x="697" y="138"/>
                </a:lnTo>
                <a:lnTo>
                  <a:pt x="726" y="127"/>
                </a:lnTo>
                <a:lnTo>
                  <a:pt x="753" y="117"/>
                </a:lnTo>
                <a:lnTo>
                  <a:pt x="780" y="108"/>
                </a:lnTo>
                <a:lnTo>
                  <a:pt x="807" y="98"/>
                </a:lnTo>
                <a:lnTo>
                  <a:pt x="831" y="90"/>
                </a:lnTo>
                <a:lnTo>
                  <a:pt x="856" y="81"/>
                </a:lnTo>
                <a:lnTo>
                  <a:pt x="879" y="73"/>
                </a:lnTo>
                <a:lnTo>
                  <a:pt x="902" y="66"/>
                </a:lnTo>
                <a:lnTo>
                  <a:pt x="926" y="60"/>
                </a:lnTo>
                <a:lnTo>
                  <a:pt x="947" y="52"/>
                </a:lnTo>
                <a:lnTo>
                  <a:pt x="966" y="46"/>
                </a:lnTo>
                <a:lnTo>
                  <a:pt x="985" y="41"/>
                </a:lnTo>
                <a:lnTo>
                  <a:pt x="1004" y="35"/>
                </a:lnTo>
                <a:lnTo>
                  <a:pt x="1021" y="31"/>
                </a:lnTo>
                <a:lnTo>
                  <a:pt x="1039" y="25"/>
                </a:lnTo>
                <a:lnTo>
                  <a:pt x="1054" y="21"/>
                </a:lnTo>
                <a:lnTo>
                  <a:pt x="1069" y="18"/>
                </a:lnTo>
                <a:lnTo>
                  <a:pt x="1085" y="14"/>
                </a:lnTo>
                <a:lnTo>
                  <a:pt x="1098" y="12"/>
                </a:lnTo>
                <a:lnTo>
                  <a:pt x="1110" y="8"/>
                </a:lnTo>
                <a:lnTo>
                  <a:pt x="1123" y="6"/>
                </a:lnTo>
                <a:lnTo>
                  <a:pt x="1133" y="4"/>
                </a:lnTo>
                <a:lnTo>
                  <a:pt x="1144" y="2"/>
                </a:lnTo>
                <a:lnTo>
                  <a:pt x="1152" y="2"/>
                </a:lnTo>
                <a:lnTo>
                  <a:pt x="1162" y="0"/>
                </a:lnTo>
                <a:lnTo>
                  <a:pt x="1169" y="0"/>
                </a:lnTo>
                <a:lnTo>
                  <a:pt x="1175" y="0"/>
                </a:lnTo>
                <a:lnTo>
                  <a:pt x="1181" y="0"/>
                </a:lnTo>
                <a:lnTo>
                  <a:pt x="1187" y="2"/>
                </a:lnTo>
                <a:lnTo>
                  <a:pt x="1190" y="2"/>
                </a:lnTo>
                <a:lnTo>
                  <a:pt x="1194" y="4"/>
                </a:lnTo>
                <a:lnTo>
                  <a:pt x="1196" y="6"/>
                </a:lnTo>
                <a:lnTo>
                  <a:pt x="1198" y="8"/>
                </a:lnTo>
                <a:lnTo>
                  <a:pt x="1198" y="12"/>
                </a:lnTo>
                <a:lnTo>
                  <a:pt x="1196" y="14"/>
                </a:lnTo>
                <a:lnTo>
                  <a:pt x="1194" y="18"/>
                </a:lnTo>
                <a:lnTo>
                  <a:pt x="1190" y="21"/>
                </a:lnTo>
                <a:lnTo>
                  <a:pt x="1187" y="25"/>
                </a:lnTo>
                <a:lnTo>
                  <a:pt x="1181" y="31"/>
                </a:lnTo>
                <a:lnTo>
                  <a:pt x="1175" y="35"/>
                </a:lnTo>
                <a:lnTo>
                  <a:pt x="1169" y="41"/>
                </a:lnTo>
                <a:lnTo>
                  <a:pt x="1162" y="46"/>
                </a:lnTo>
                <a:lnTo>
                  <a:pt x="1152" y="52"/>
                </a:lnTo>
                <a:lnTo>
                  <a:pt x="1142" y="58"/>
                </a:lnTo>
                <a:lnTo>
                  <a:pt x="1133" y="66"/>
                </a:lnTo>
                <a:lnTo>
                  <a:pt x="1121" y="73"/>
                </a:lnTo>
                <a:lnTo>
                  <a:pt x="1108" y="81"/>
                </a:lnTo>
                <a:lnTo>
                  <a:pt x="1094" y="89"/>
                </a:lnTo>
                <a:lnTo>
                  <a:pt x="1081" y="96"/>
                </a:lnTo>
                <a:lnTo>
                  <a:pt x="1066" y="106"/>
                </a:lnTo>
                <a:lnTo>
                  <a:pt x="1050" y="115"/>
                </a:lnTo>
                <a:lnTo>
                  <a:pt x="1033" y="125"/>
                </a:lnTo>
                <a:lnTo>
                  <a:pt x="1016" y="135"/>
                </a:lnTo>
                <a:lnTo>
                  <a:pt x="998" y="144"/>
                </a:lnTo>
                <a:lnTo>
                  <a:pt x="979" y="156"/>
                </a:lnTo>
                <a:lnTo>
                  <a:pt x="958" y="167"/>
                </a:lnTo>
                <a:lnTo>
                  <a:pt x="937" y="179"/>
                </a:lnTo>
                <a:lnTo>
                  <a:pt x="916" y="190"/>
                </a:lnTo>
                <a:lnTo>
                  <a:pt x="893" y="202"/>
                </a:lnTo>
                <a:lnTo>
                  <a:pt x="870" y="215"/>
                </a:lnTo>
                <a:lnTo>
                  <a:pt x="845" y="229"/>
                </a:lnTo>
                <a:lnTo>
                  <a:pt x="820" y="242"/>
                </a:lnTo>
                <a:lnTo>
                  <a:pt x="793" y="256"/>
                </a:lnTo>
                <a:lnTo>
                  <a:pt x="766" y="271"/>
                </a:lnTo>
                <a:lnTo>
                  <a:pt x="739" y="28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159"/>
          <p:cNvSpPr/>
          <p:nvPr/>
        </p:nvSpPr>
        <p:spPr>
          <a:xfrm>
            <a:off x="5961240" y="3649680"/>
            <a:ext cx="322200" cy="717480"/>
          </a:xfrm>
          <a:custGeom>
            <a:avLst/>
            <a:gdLst/>
            <a:ahLst/>
            <a:rect l="l" t="t" r="r" b="b"/>
            <a:pathLst>
              <a:path w="407" h="904">
                <a:moveTo>
                  <a:pt x="394" y="231"/>
                </a:moveTo>
                <a:lnTo>
                  <a:pt x="392" y="236"/>
                </a:lnTo>
                <a:lnTo>
                  <a:pt x="390" y="242"/>
                </a:lnTo>
                <a:lnTo>
                  <a:pt x="388" y="250"/>
                </a:lnTo>
                <a:lnTo>
                  <a:pt x="384" y="259"/>
                </a:lnTo>
                <a:lnTo>
                  <a:pt x="382" y="269"/>
                </a:lnTo>
                <a:lnTo>
                  <a:pt x="376" y="279"/>
                </a:lnTo>
                <a:lnTo>
                  <a:pt x="372" y="290"/>
                </a:lnTo>
                <a:lnTo>
                  <a:pt x="367" y="303"/>
                </a:lnTo>
                <a:lnTo>
                  <a:pt x="361" y="317"/>
                </a:lnTo>
                <a:lnTo>
                  <a:pt x="355" y="330"/>
                </a:lnTo>
                <a:lnTo>
                  <a:pt x="347" y="346"/>
                </a:lnTo>
                <a:lnTo>
                  <a:pt x="340" y="363"/>
                </a:lnTo>
                <a:lnTo>
                  <a:pt x="332" y="380"/>
                </a:lnTo>
                <a:lnTo>
                  <a:pt x="324" y="398"/>
                </a:lnTo>
                <a:lnTo>
                  <a:pt x="315" y="419"/>
                </a:lnTo>
                <a:lnTo>
                  <a:pt x="305" y="438"/>
                </a:lnTo>
                <a:lnTo>
                  <a:pt x="296" y="459"/>
                </a:lnTo>
                <a:lnTo>
                  <a:pt x="286" y="482"/>
                </a:lnTo>
                <a:lnTo>
                  <a:pt x="275" y="505"/>
                </a:lnTo>
                <a:lnTo>
                  <a:pt x="263" y="530"/>
                </a:lnTo>
                <a:lnTo>
                  <a:pt x="251" y="555"/>
                </a:lnTo>
                <a:lnTo>
                  <a:pt x="240" y="582"/>
                </a:lnTo>
                <a:lnTo>
                  <a:pt x="227" y="611"/>
                </a:lnTo>
                <a:lnTo>
                  <a:pt x="213" y="639"/>
                </a:lnTo>
                <a:lnTo>
                  <a:pt x="200" y="668"/>
                </a:lnTo>
                <a:lnTo>
                  <a:pt x="186" y="699"/>
                </a:lnTo>
                <a:lnTo>
                  <a:pt x="171" y="730"/>
                </a:lnTo>
                <a:lnTo>
                  <a:pt x="157" y="762"/>
                </a:lnTo>
                <a:lnTo>
                  <a:pt x="142" y="797"/>
                </a:lnTo>
                <a:lnTo>
                  <a:pt x="125" y="831"/>
                </a:lnTo>
                <a:lnTo>
                  <a:pt x="109" y="868"/>
                </a:lnTo>
                <a:lnTo>
                  <a:pt x="92" y="904"/>
                </a:lnTo>
                <a:lnTo>
                  <a:pt x="0" y="904"/>
                </a:lnTo>
                <a:lnTo>
                  <a:pt x="13" y="858"/>
                </a:lnTo>
                <a:lnTo>
                  <a:pt x="29" y="812"/>
                </a:lnTo>
                <a:lnTo>
                  <a:pt x="40" y="768"/>
                </a:lnTo>
                <a:lnTo>
                  <a:pt x="54" y="726"/>
                </a:lnTo>
                <a:lnTo>
                  <a:pt x="65" y="684"/>
                </a:lnTo>
                <a:lnTo>
                  <a:pt x="79" y="643"/>
                </a:lnTo>
                <a:lnTo>
                  <a:pt x="88" y="605"/>
                </a:lnTo>
                <a:lnTo>
                  <a:pt x="100" y="566"/>
                </a:lnTo>
                <a:lnTo>
                  <a:pt x="109" y="530"/>
                </a:lnTo>
                <a:lnTo>
                  <a:pt x="121" y="495"/>
                </a:lnTo>
                <a:lnTo>
                  <a:pt x="131" y="461"/>
                </a:lnTo>
                <a:lnTo>
                  <a:pt x="138" y="428"/>
                </a:lnTo>
                <a:lnTo>
                  <a:pt x="148" y="398"/>
                </a:lnTo>
                <a:lnTo>
                  <a:pt x="155" y="367"/>
                </a:lnTo>
                <a:lnTo>
                  <a:pt x="163" y="338"/>
                </a:lnTo>
                <a:lnTo>
                  <a:pt x="171" y="311"/>
                </a:lnTo>
                <a:lnTo>
                  <a:pt x="179" y="286"/>
                </a:lnTo>
                <a:lnTo>
                  <a:pt x="184" y="263"/>
                </a:lnTo>
                <a:lnTo>
                  <a:pt x="188" y="242"/>
                </a:lnTo>
                <a:lnTo>
                  <a:pt x="194" y="221"/>
                </a:lnTo>
                <a:lnTo>
                  <a:pt x="196" y="202"/>
                </a:lnTo>
                <a:lnTo>
                  <a:pt x="200" y="184"/>
                </a:lnTo>
                <a:lnTo>
                  <a:pt x="202" y="167"/>
                </a:lnTo>
                <a:lnTo>
                  <a:pt x="202" y="152"/>
                </a:lnTo>
                <a:lnTo>
                  <a:pt x="202" y="138"/>
                </a:lnTo>
                <a:lnTo>
                  <a:pt x="202" y="125"/>
                </a:lnTo>
                <a:lnTo>
                  <a:pt x="200" y="113"/>
                </a:lnTo>
                <a:lnTo>
                  <a:pt x="198" y="102"/>
                </a:lnTo>
                <a:lnTo>
                  <a:pt x="196" y="92"/>
                </a:lnTo>
                <a:lnTo>
                  <a:pt x="192" y="85"/>
                </a:lnTo>
                <a:lnTo>
                  <a:pt x="188" y="79"/>
                </a:lnTo>
                <a:lnTo>
                  <a:pt x="184" y="73"/>
                </a:lnTo>
                <a:lnTo>
                  <a:pt x="177" y="69"/>
                </a:lnTo>
                <a:lnTo>
                  <a:pt x="171" y="67"/>
                </a:lnTo>
                <a:lnTo>
                  <a:pt x="165" y="64"/>
                </a:lnTo>
                <a:lnTo>
                  <a:pt x="161" y="62"/>
                </a:lnTo>
                <a:lnTo>
                  <a:pt x="157" y="58"/>
                </a:lnTo>
                <a:lnTo>
                  <a:pt x="155" y="54"/>
                </a:lnTo>
                <a:lnTo>
                  <a:pt x="154" y="50"/>
                </a:lnTo>
                <a:lnTo>
                  <a:pt x="154" y="46"/>
                </a:lnTo>
                <a:lnTo>
                  <a:pt x="154" y="42"/>
                </a:lnTo>
                <a:lnTo>
                  <a:pt x="154" y="39"/>
                </a:lnTo>
                <a:lnTo>
                  <a:pt x="154" y="35"/>
                </a:lnTo>
                <a:lnTo>
                  <a:pt x="155" y="33"/>
                </a:lnTo>
                <a:lnTo>
                  <a:pt x="159" y="29"/>
                </a:lnTo>
                <a:lnTo>
                  <a:pt x="163" y="25"/>
                </a:lnTo>
                <a:lnTo>
                  <a:pt x="167" y="23"/>
                </a:lnTo>
                <a:lnTo>
                  <a:pt x="171" y="19"/>
                </a:lnTo>
                <a:lnTo>
                  <a:pt x="177" y="16"/>
                </a:lnTo>
                <a:lnTo>
                  <a:pt x="182" y="10"/>
                </a:lnTo>
                <a:lnTo>
                  <a:pt x="192" y="6"/>
                </a:lnTo>
                <a:lnTo>
                  <a:pt x="200" y="4"/>
                </a:lnTo>
                <a:lnTo>
                  <a:pt x="211" y="2"/>
                </a:lnTo>
                <a:lnTo>
                  <a:pt x="223" y="0"/>
                </a:lnTo>
                <a:lnTo>
                  <a:pt x="228" y="2"/>
                </a:lnTo>
                <a:lnTo>
                  <a:pt x="236" y="2"/>
                </a:lnTo>
                <a:lnTo>
                  <a:pt x="242" y="4"/>
                </a:lnTo>
                <a:lnTo>
                  <a:pt x="250" y="6"/>
                </a:lnTo>
                <a:lnTo>
                  <a:pt x="265" y="12"/>
                </a:lnTo>
                <a:lnTo>
                  <a:pt x="278" y="19"/>
                </a:lnTo>
                <a:lnTo>
                  <a:pt x="294" y="27"/>
                </a:lnTo>
                <a:lnTo>
                  <a:pt x="309" y="37"/>
                </a:lnTo>
                <a:lnTo>
                  <a:pt x="324" y="46"/>
                </a:lnTo>
                <a:lnTo>
                  <a:pt x="338" y="58"/>
                </a:lnTo>
                <a:lnTo>
                  <a:pt x="353" y="71"/>
                </a:lnTo>
                <a:lnTo>
                  <a:pt x="369" y="87"/>
                </a:lnTo>
                <a:lnTo>
                  <a:pt x="374" y="92"/>
                </a:lnTo>
                <a:lnTo>
                  <a:pt x="382" y="100"/>
                </a:lnTo>
                <a:lnTo>
                  <a:pt x="388" y="108"/>
                </a:lnTo>
                <a:lnTo>
                  <a:pt x="392" y="115"/>
                </a:lnTo>
                <a:lnTo>
                  <a:pt x="397" y="123"/>
                </a:lnTo>
                <a:lnTo>
                  <a:pt x="401" y="133"/>
                </a:lnTo>
                <a:lnTo>
                  <a:pt x="403" y="140"/>
                </a:lnTo>
                <a:lnTo>
                  <a:pt x="405" y="148"/>
                </a:lnTo>
                <a:lnTo>
                  <a:pt x="407" y="158"/>
                </a:lnTo>
                <a:lnTo>
                  <a:pt x="407" y="167"/>
                </a:lnTo>
                <a:lnTo>
                  <a:pt x="407" y="177"/>
                </a:lnTo>
                <a:lnTo>
                  <a:pt x="407" y="186"/>
                </a:lnTo>
                <a:lnTo>
                  <a:pt x="405" y="196"/>
                </a:lnTo>
                <a:lnTo>
                  <a:pt x="401" y="207"/>
                </a:lnTo>
                <a:lnTo>
                  <a:pt x="399" y="219"/>
                </a:lnTo>
                <a:lnTo>
                  <a:pt x="394" y="23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160"/>
          <p:cNvSpPr/>
          <p:nvPr/>
        </p:nvSpPr>
        <p:spPr>
          <a:xfrm>
            <a:off x="5643720" y="3841920"/>
            <a:ext cx="230040" cy="326880"/>
          </a:xfrm>
          <a:custGeom>
            <a:avLst/>
            <a:gdLst/>
            <a:ahLst/>
            <a:rect l="l" t="t" r="r" b="b"/>
            <a:pathLst>
              <a:path w="290" h="411">
                <a:moveTo>
                  <a:pt x="111" y="303"/>
                </a:moveTo>
                <a:lnTo>
                  <a:pt x="96" y="274"/>
                </a:lnTo>
                <a:lnTo>
                  <a:pt x="80" y="248"/>
                </a:lnTo>
                <a:lnTo>
                  <a:pt x="67" y="221"/>
                </a:lnTo>
                <a:lnTo>
                  <a:pt x="54" y="196"/>
                </a:lnTo>
                <a:lnTo>
                  <a:pt x="48" y="184"/>
                </a:lnTo>
                <a:lnTo>
                  <a:pt x="42" y="175"/>
                </a:lnTo>
                <a:lnTo>
                  <a:pt x="38" y="163"/>
                </a:lnTo>
                <a:lnTo>
                  <a:pt x="32" y="154"/>
                </a:lnTo>
                <a:lnTo>
                  <a:pt x="29" y="144"/>
                </a:lnTo>
                <a:lnTo>
                  <a:pt x="25" y="134"/>
                </a:lnTo>
                <a:lnTo>
                  <a:pt x="21" y="127"/>
                </a:lnTo>
                <a:lnTo>
                  <a:pt x="19" y="119"/>
                </a:lnTo>
                <a:lnTo>
                  <a:pt x="13" y="104"/>
                </a:lnTo>
                <a:lnTo>
                  <a:pt x="9" y="90"/>
                </a:lnTo>
                <a:lnTo>
                  <a:pt x="6" y="75"/>
                </a:lnTo>
                <a:lnTo>
                  <a:pt x="2" y="63"/>
                </a:lnTo>
                <a:lnTo>
                  <a:pt x="0" y="52"/>
                </a:lnTo>
                <a:lnTo>
                  <a:pt x="0" y="40"/>
                </a:lnTo>
                <a:lnTo>
                  <a:pt x="0" y="36"/>
                </a:lnTo>
                <a:lnTo>
                  <a:pt x="2" y="33"/>
                </a:lnTo>
                <a:lnTo>
                  <a:pt x="4" y="29"/>
                </a:lnTo>
                <a:lnTo>
                  <a:pt x="6" y="27"/>
                </a:lnTo>
                <a:lnTo>
                  <a:pt x="6" y="21"/>
                </a:lnTo>
                <a:lnTo>
                  <a:pt x="7" y="17"/>
                </a:lnTo>
                <a:lnTo>
                  <a:pt x="11" y="11"/>
                </a:lnTo>
                <a:lnTo>
                  <a:pt x="17" y="8"/>
                </a:lnTo>
                <a:lnTo>
                  <a:pt x="21" y="6"/>
                </a:lnTo>
                <a:lnTo>
                  <a:pt x="25" y="6"/>
                </a:lnTo>
                <a:lnTo>
                  <a:pt x="29" y="4"/>
                </a:lnTo>
                <a:lnTo>
                  <a:pt x="32" y="2"/>
                </a:lnTo>
                <a:lnTo>
                  <a:pt x="38" y="2"/>
                </a:lnTo>
                <a:lnTo>
                  <a:pt x="44" y="0"/>
                </a:lnTo>
                <a:lnTo>
                  <a:pt x="52" y="0"/>
                </a:lnTo>
                <a:lnTo>
                  <a:pt x="57" y="0"/>
                </a:lnTo>
                <a:lnTo>
                  <a:pt x="69" y="0"/>
                </a:lnTo>
                <a:lnTo>
                  <a:pt x="80" y="2"/>
                </a:lnTo>
                <a:lnTo>
                  <a:pt x="92" y="6"/>
                </a:lnTo>
                <a:lnTo>
                  <a:pt x="107" y="11"/>
                </a:lnTo>
                <a:lnTo>
                  <a:pt x="115" y="15"/>
                </a:lnTo>
                <a:lnTo>
                  <a:pt x="123" y="19"/>
                </a:lnTo>
                <a:lnTo>
                  <a:pt x="130" y="23"/>
                </a:lnTo>
                <a:lnTo>
                  <a:pt x="140" y="27"/>
                </a:lnTo>
                <a:lnTo>
                  <a:pt x="148" y="33"/>
                </a:lnTo>
                <a:lnTo>
                  <a:pt x="157" y="38"/>
                </a:lnTo>
                <a:lnTo>
                  <a:pt x="167" y="46"/>
                </a:lnTo>
                <a:lnTo>
                  <a:pt x="176" y="54"/>
                </a:lnTo>
                <a:lnTo>
                  <a:pt x="205" y="82"/>
                </a:lnTo>
                <a:lnTo>
                  <a:pt x="219" y="98"/>
                </a:lnTo>
                <a:lnTo>
                  <a:pt x="234" y="113"/>
                </a:lnTo>
                <a:lnTo>
                  <a:pt x="247" y="127"/>
                </a:lnTo>
                <a:lnTo>
                  <a:pt x="259" y="142"/>
                </a:lnTo>
                <a:lnTo>
                  <a:pt x="270" y="157"/>
                </a:lnTo>
                <a:lnTo>
                  <a:pt x="282" y="173"/>
                </a:lnTo>
                <a:lnTo>
                  <a:pt x="286" y="192"/>
                </a:lnTo>
                <a:lnTo>
                  <a:pt x="288" y="211"/>
                </a:lnTo>
                <a:lnTo>
                  <a:pt x="290" y="230"/>
                </a:lnTo>
                <a:lnTo>
                  <a:pt x="290" y="251"/>
                </a:lnTo>
                <a:lnTo>
                  <a:pt x="288" y="261"/>
                </a:lnTo>
                <a:lnTo>
                  <a:pt x="288" y="271"/>
                </a:lnTo>
                <a:lnTo>
                  <a:pt x="286" y="280"/>
                </a:lnTo>
                <a:lnTo>
                  <a:pt x="282" y="290"/>
                </a:lnTo>
                <a:lnTo>
                  <a:pt x="280" y="299"/>
                </a:lnTo>
                <a:lnTo>
                  <a:pt x="276" y="311"/>
                </a:lnTo>
                <a:lnTo>
                  <a:pt x="272" y="321"/>
                </a:lnTo>
                <a:lnTo>
                  <a:pt x="269" y="330"/>
                </a:lnTo>
                <a:lnTo>
                  <a:pt x="263" y="340"/>
                </a:lnTo>
                <a:lnTo>
                  <a:pt x="259" y="349"/>
                </a:lnTo>
                <a:lnTo>
                  <a:pt x="253" y="357"/>
                </a:lnTo>
                <a:lnTo>
                  <a:pt x="249" y="365"/>
                </a:lnTo>
                <a:lnTo>
                  <a:pt x="244" y="372"/>
                </a:lnTo>
                <a:lnTo>
                  <a:pt x="240" y="378"/>
                </a:lnTo>
                <a:lnTo>
                  <a:pt x="234" y="384"/>
                </a:lnTo>
                <a:lnTo>
                  <a:pt x="230" y="390"/>
                </a:lnTo>
                <a:lnTo>
                  <a:pt x="226" y="393"/>
                </a:lnTo>
                <a:lnTo>
                  <a:pt x="222" y="397"/>
                </a:lnTo>
                <a:lnTo>
                  <a:pt x="219" y="401"/>
                </a:lnTo>
                <a:lnTo>
                  <a:pt x="215" y="403"/>
                </a:lnTo>
                <a:lnTo>
                  <a:pt x="211" y="407"/>
                </a:lnTo>
                <a:lnTo>
                  <a:pt x="207" y="407"/>
                </a:lnTo>
                <a:lnTo>
                  <a:pt x="205" y="409"/>
                </a:lnTo>
                <a:lnTo>
                  <a:pt x="203" y="409"/>
                </a:lnTo>
                <a:lnTo>
                  <a:pt x="199" y="411"/>
                </a:lnTo>
                <a:lnTo>
                  <a:pt x="196" y="411"/>
                </a:lnTo>
                <a:lnTo>
                  <a:pt x="192" y="411"/>
                </a:lnTo>
                <a:lnTo>
                  <a:pt x="188" y="409"/>
                </a:lnTo>
                <a:lnTo>
                  <a:pt x="182" y="407"/>
                </a:lnTo>
                <a:lnTo>
                  <a:pt x="178" y="403"/>
                </a:lnTo>
                <a:lnTo>
                  <a:pt x="173" y="397"/>
                </a:lnTo>
                <a:lnTo>
                  <a:pt x="167" y="392"/>
                </a:lnTo>
                <a:lnTo>
                  <a:pt x="159" y="384"/>
                </a:lnTo>
                <a:lnTo>
                  <a:pt x="153" y="376"/>
                </a:lnTo>
                <a:lnTo>
                  <a:pt x="146" y="367"/>
                </a:lnTo>
                <a:lnTo>
                  <a:pt x="140" y="355"/>
                </a:lnTo>
                <a:lnTo>
                  <a:pt x="132" y="344"/>
                </a:lnTo>
                <a:lnTo>
                  <a:pt x="125" y="332"/>
                </a:lnTo>
                <a:lnTo>
                  <a:pt x="117" y="319"/>
                </a:lnTo>
                <a:lnTo>
                  <a:pt x="111" y="30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161"/>
          <p:cNvSpPr/>
          <p:nvPr/>
        </p:nvSpPr>
        <p:spPr>
          <a:xfrm>
            <a:off x="5533920" y="3424320"/>
            <a:ext cx="833400" cy="228600"/>
          </a:xfrm>
          <a:custGeom>
            <a:avLst/>
            <a:gdLst/>
            <a:ahLst/>
            <a:rect l="l" t="t" r="r" b="b"/>
            <a:pathLst>
              <a:path w="1050" h="290">
                <a:moveTo>
                  <a:pt x="577" y="67"/>
                </a:moveTo>
                <a:lnTo>
                  <a:pt x="602" y="60"/>
                </a:lnTo>
                <a:lnTo>
                  <a:pt x="629" y="52"/>
                </a:lnTo>
                <a:lnTo>
                  <a:pt x="654" y="46"/>
                </a:lnTo>
                <a:lnTo>
                  <a:pt x="679" y="39"/>
                </a:lnTo>
                <a:lnTo>
                  <a:pt x="704" y="33"/>
                </a:lnTo>
                <a:lnTo>
                  <a:pt x="727" y="27"/>
                </a:lnTo>
                <a:lnTo>
                  <a:pt x="750" y="23"/>
                </a:lnTo>
                <a:lnTo>
                  <a:pt x="773" y="17"/>
                </a:lnTo>
                <a:lnTo>
                  <a:pt x="796" y="14"/>
                </a:lnTo>
                <a:lnTo>
                  <a:pt x="817" y="10"/>
                </a:lnTo>
                <a:lnTo>
                  <a:pt x="836" y="8"/>
                </a:lnTo>
                <a:lnTo>
                  <a:pt x="858" y="4"/>
                </a:lnTo>
                <a:lnTo>
                  <a:pt x="877" y="2"/>
                </a:lnTo>
                <a:lnTo>
                  <a:pt x="896" y="2"/>
                </a:lnTo>
                <a:lnTo>
                  <a:pt x="913" y="0"/>
                </a:lnTo>
                <a:lnTo>
                  <a:pt x="931" y="0"/>
                </a:lnTo>
                <a:lnTo>
                  <a:pt x="946" y="0"/>
                </a:lnTo>
                <a:lnTo>
                  <a:pt x="959" y="0"/>
                </a:lnTo>
                <a:lnTo>
                  <a:pt x="971" y="2"/>
                </a:lnTo>
                <a:lnTo>
                  <a:pt x="982" y="2"/>
                </a:lnTo>
                <a:lnTo>
                  <a:pt x="994" y="4"/>
                </a:lnTo>
                <a:lnTo>
                  <a:pt x="1003" y="6"/>
                </a:lnTo>
                <a:lnTo>
                  <a:pt x="1013" y="10"/>
                </a:lnTo>
                <a:lnTo>
                  <a:pt x="1021" y="12"/>
                </a:lnTo>
                <a:lnTo>
                  <a:pt x="1026" y="15"/>
                </a:lnTo>
                <a:lnTo>
                  <a:pt x="1032" y="19"/>
                </a:lnTo>
                <a:lnTo>
                  <a:pt x="1038" y="23"/>
                </a:lnTo>
                <a:lnTo>
                  <a:pt x="1042" y="29"/>
                </a:lnTo>
                <a:lnTo>
                  <a:pt x="1046" y="33"/>
                </a:lnTo>
                <a:lnTo>
                  <a:pt x="1048" y="39"/>
                </a:lnTo>
                <a:lnTo>
                  <a:pt x="1050" y="46"/>
                </a:lnTo>
                <a:lnTo>
                  <a:pt x="1050" y="54"/>
                </a:lnTo>
                <a:lnTo>
                  <a:pt x="1050" y="60"/>
                </a:lnTo>
                <a:lnTo>
                  <a:pt x="1048" y="67"/>
                </a:lnTo>
                <a:lnTo>
                  <a:pt x="1048" y="73"/>
                </a:lnTo>
                <a:lnTo>
                  <a:pt x="1046" y="79"/>
                </a:lnTo>
                <a:lnTo>
                  <a:pt x="1042" y="83"/>
                </a:lnTo>
                <a:lnTo>
                  <a:pt x="1040" y="88"/>
                </a:lnTo>
                <a:lnTo>
                  <a:pt x="1036" y="92"/>
                </a:lnTo>
                <a:lnTo>
                  <a:pt x="1032" y="96"/>
                </a:lnTo>
                <a:lnTo>
                  <a:pt x="1023" y="102"/>
                </a:lnTo>
                <a:lnTo>
                  <a:pt x="1011" y="110"/>
                </a:lnTo>
                <a:lnTo>
                  <a:pt x="998" y="113"/>
                </a:lnTo>
                <a:lnTo>
                  <a:pt x="984" y="119"/>
                </a:lnTo>
                <a:lnTo>
                  <a:pt x="973" y="121"/>
                </a:lnTo>
                <a:lnTo>
                  <a:pt x="961" y="125"/>
                </a:lnTo>
                <a:lnTo>
                  <a:pt x="946" y="129"/>
                </a:lnTo>
                <a:lnTo>
                  <a:pt x="929" y="134"/>
                </a:lnTo>
                <a:lnTo>
                  <a:pt x="911" y="138"/>
                </a:lnTo>
                <a:lnTo>
                  <a:pt x="892" y="144"/>
                </a:lnTo>
                <a:lnTo>
                  <a:pt x="869" y="150"/>
                </a:lnTo>
                <a:lnTo>
                  <a:pt x="846" y="156"/>
                </a:lnTo>
                <a:lnTo>
                  <a:pt x="819" y="161"/>
                </a:lnTo>
                <a:lnTo>
                  <a:pt x="792" y="167"/>
                </a:lnTo>
                <a:lnTo>
                  <a:pt x="764" y="175"/>
                </a:lnTo>
                <a:lnTo>
                  <a:pt x="733" y="182"/>
                </a:lnTo>
                <a:lnTo>
                  <a:pt x="700" y="188"/>
                </a:lnTo>
                <a:lnTo>
                  <a:pt x="666" y="196"/>
                </a:lnTo>
                <a:lnTo>
                  <a:pt x="629" y="204"/>
                </a:lnTo>
                <a:lnTo>
                  <a:pt x="591" y="211"/>
                </a:lnTo>
                <a:lnTo>
                  <a:pt x="570" y="217"/>
                </a:lnTo>
                <a:lnTo>
                  <a:pt x="549" y="221"/>
                </a:lnTo>
                <a:lnTo>
                  <a:pt x="529" y="227"/>
                </a:lnTo>
                <a:lnTo>
                  <a:pt x="510" y="230"/>
                </a:lnTo>
                <a:lnTo>
                  <a:pt x="493" y="234"/>
                </a:lnTo>
                <a:lnTo>
                  <a:pt x="476" y="238"/>
                </a:lnTo>
                <a:lnTo>
                  <a:pt x="458" y="242"/>
                </a:lnTo>
                <a:lnTo>
                  <a:pt x="441" y="246"/>
                </a:lnTo>
                <a:lnTo>
                  <a:pt x="426" y="250"/>
                </a:lnTo>
                <a:lnTo>
                  <a:pt x="410" y="253"/>
                </a:lnTo>
                <a:lnTo>
                  <a:pt x="395" y="257"/>
                </a:lnTo>
                <a:lnTo>
                  <a:pt x="382" y="259"/>
                </a:lnTo>
                <a:lnTo>
                  <a:pt x="368" y="263"/>
                </a:lnTo>
                <a:lnTo>
                  <a:pt x="355" y="265"/>
                </a:lnTo>
                <a:lnTo>
                  <a:pt x="343" y="269"/>
                </a:lnTo>
                <a:lnTo>
                  <a:pt x="330" y="271"/>
                </a:lnTo>
                <a:lnTo>
                  <a:pt x="318" y="273"/>
                </a:lnTo>
                <a:lnTo>
                  <a:pt x="309" y="277"/>
                </a:lnTo>
                <a:lnTo>
                  <a:pt x="297" y="278"/>
                </a:lnTo>
                <a:lnTo>
                  <a:pt x="287" y="280"/>
                </a:lnTo>
                <a:lnTo>
                  <a:pt x="278" y="282"/>
                </a:lnTo>
                <a:lnTo>
                  <a:pt x="270" y="282"/>
                </a:lnTo>
                <a:lnTo>
                  <a:pt x="261" y="284"/>
                </a:lnTo>
                <a:lnTo>
                  <a:pt x="253" y="286"/>
                </a:lnTo>
                <a:lnTo>
                  <a:pt x="247" y="286"/>
                </a:lnTo>
                <a:lnTo>
                  <a:pt x="240" y="288"/>
                </a:lnTo>
                <a:lnTo>
                  <a:pt x="234" y="288"/>
                </a:lnTo>
                <a:lnTo>
                  <a:pt x="228" y="290"/>
                </a:lnTo>
                <a:lnTo>
                  <a:pt x="222" y="290"/>
                </a:lnTo>
                <a:lnTo>
                  <a:pt x="216" y="290"/>
                </a:lnTo>
                <a:lnTo>
                  <a:pt x="209" y="290"/>
                </a:lnTo>
                <a:lnTo>
                  <a:pt x="193" y="290"/>
                </a:lnTo>
                <a:lnTo>
                  <a:pt x="180" y="288"/>
                </a:lnTo>
                <a:lnTo>
                  <a:pt x="165" y="286"/>
                </a:lnTo>
                <a:lnTo>
                  <a:pt x="149" y="282"/>
                </a:lnTo>
                <a:lnTo>
                  <a:pt x="136" y="278"/>
                </a:lnTo>
                <a:lnTo>
                  <a:pt x="121" y="275"/>
                </a:lnTo>
                <a:lnTo>
                  <a:pt x="92" y="265"/>
                </a:lnTo>
                <a:lnTo>
                  <a:pt x="82" y="261"/>
                </a:lnTo>
                <a:lnTo>
                  <a:pt x="73" y="259"/>
                </a:lnTo>
                <a:lnTo>
                  <a:pt x="63" y="255"/>
                </a:lnTo>
                <a:lnTo>
                  <a:pt x="55" y="252"/>
                </a:lnTo>
                <a:lnTo>
                  <a:pt x="49" y="248"/>
                </a:lnTo>
                <a:lnTo>
                  <a:pt x="42" y="244"/>
                </a:lnTo>
                <a:lnTo>
                  <a:pt x="36" y="240"/>
                </a:lnTo>
                <a:lnTo>
                  <a:pt x="30" y="236"/>
                </a:lnTo>
                <a:lnTo>
                  <a:pt x="19" y="227"/>
                </a:lnTo>
                <a:lnTo>
                  <a:pt x="11" y="217"/>
                </a:lnTo>
                <a:lnTo>
                  <a:pt x="3" y="207"/>
                </a:lnTo>
                <a:lnTo>
                  <a:pt x="0" y="198"/>
                </a:lnTo>
                <a:lnTo>
                  <a:pt x="46" y="190"/>
                </a:lnTo>
                <a:lnTo>
                  <a:pt x="90" y="182"/>
                </a:lnTo>
                <a:lnTo>
                  <a:pt x="132" y="175"/>
                </a:lnTo>
                <a:lnTo>
                  <a:pt x="174" y="167"/>
                </a:lnTo>
                <a:lnTo>
                  <a:pt x="215" y="158"/>
                </a:lnTo>
                <a:lnTo>
                  <a:pt x="253" y="150"/>
                </a:lnTo>
                <a:lnTo>
                  <a:pt x="291" y="140"/>
                </a:lnTo>
                <a:lnTo>
                  <a:pt x="328" y="133"/>
                </a:lnTo>
                <a:lnTo>
                  <a:pt x="362" y="123"/>
                </a:lnTo>
                <a:lnTo>
                  <a:pt x="397" y="115"/>
                </a:lnTo>
                <a:lnTo>
                  <a:pt x="430" y="108"/>
                </a:lnTo>
                <a:lnTo>
                  <a:pt x="460" y="98"/>
                </a:lnTo>
                <a:lnTo>
                  <a:pt x="491" y="90"/>
                </a:lnTo>
                <a:lnTo>
                  <a:pt x="520" y="83"/>
                </a:lnTo>
                <a:lnTo>
                  <a:pt x="549" y="75"/>
                </a:lnTo>
                <a:lnTo>
                  <a:pt x="577" y="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reeform 162"/>
          <p:cNvSpPr/>
          <p:nvPr/>
        </p:nvSpPr>
        <p:spPr>
          <a:xfrm>
            <a:off x="5835600" y="2973240"/>
            <a:ext cx="328680" cy="282600"/>
          </a:xfrm>
          <a:custGeom>
            <a:avLst/>
            <a:gdLst/>
            <a:ahLst/>
            <a:rect l="l" t="t" r="r" b="b"/>
            <a:pathLst>
              <a:path w="412" h="355">
                <a:moveTo>
                  <a:pt x="0" y="38"/>
                </a:moveTo>
                <a:lnTo>
                  <a:pt x="0" y="34"/>
                </a:lnTo>
                <a:lnTo>
                  <a:pt x="2" y="29"/>
                </a:lnTo>
                <a:lnTo>
                  <a:pt x="2" y="25"/>
                </a:lnTo>
                <a:lnTo>
                  <a:pt x="5" y="21"/>
                </a:lnTo>
                <a:lnTo>
                  <a:pt x="7" y="17"/>
                </a:lnTo>
                <a:lnTo>
                  <a:pt x="11" y="15"/>
                </a:lnTo>
                <a:lnTo>
                  <a:pt x="15" y="11"/>
                </a:lnTo>
                <a:lnTo>
                  <a:pt x="19" y="9"/>
                </a:lnTo>
                <a:lnTo>
                  <a:pt x="25" y="8"/>
                </a:lnTo>
                <a:lnTo>
                  <a:pt x="30" y="4"/>
                </a:lnTo>
                <a:lnTo>
                  <a:pt x="36" y="4"/>
                </a:lnTo>
                <a:lnTo>
                  <a:pt x="44" y="2"/>
                </a:lnTo>
                <a:lnTo>
                  <a:pt x="51" y="0"/>
                </a:lnTo>
                <a:lnTo>
                  <a:pt x="59" y="0"/>
                </a:lnTo>
                <a:lnTo>
                  <a:pt x="69" y="0"/>
                </a:lnTo>
                <a:lnTo>
                  <a:pt x="78" y="0"/>
                </a:lnTo>
                <a:lnTo>
                  <a:pt x="94" y="0"/>
                </a:lnTo>
                <a:lnTo>
                  <a:pt x="111" y="0"/>
                </a:lnTo>
                <a:lnTo>
                  <a:pt x="128" y="0"/>
                </a:lnTo>
                <a:lnTo>
                  <a:pt x="147" y="0"/>
                </a:lnTo>
                <a:lnTo>
                  <a:pt x="169" y="2"/>
                </a:lnTo>
                <a:lnTo>
                  <a:pt x="190" y="4"/>
                </a:lnTo>
                <a:lnTo>
                  <a:pt x="213" y="8"/>
                </a:lnTo>
                <a:lnTo>
                  <a:pt x="236" y="13"/>
                </a:lnTo>
                <a:lnTo>
                  <a:pt x="255" y="17"/>
                </a:lnTo>
                <a:lnTo>
                  <a:pt x="272" y="25"/>
                </a:lnTo>
                <a:lnTo>
                  <a:pt x="289" y="33"/>
                </a:lnTo>
                <a:lnTo>
                  <a:pt x="307" y="42"/>
                </a:lnTo>
                <a:lnTo>
                  <a:pt x="322" y="52"/>
                </a:lnTo>
                <a:lnTo>
                  <a:pt x="337" y="63"/>
                </a:lnTo>
                <a:lnTo>
                  <a:pt x="353" y="77"/>
                </a:lnTo>
                <a:lnTo>
                  <a:pt x="368" y="92"/>
                </a:lnTo>
                <a:lnTo>
                  <a:pt x="374" y="100"/>
                </a:lnTo>
                <a:lnTo>
                  <a:pt x="380" y="107"/>
                </a:lnTo>
                <a:lnTo>
                  <a:pt x="387" y="115"/>
                </a:lnTo>
                <a:lnTo>
                  <a:pt x="391" y="125"/>
                </a:lnTo>
                <a:lnTo>
                  <a:pt x="397" y="132"/>
                </a:lnTo>
                <a:lnTo>
                  <a:pt x="401" y="142"/>
                </a:lnTo>
                <a:lnTo>
                  <a:pt x="403" y="152"/>
                </a:lnTo>
                <a:lnTo>
                  <a:pt x="407" y="161"/>
                </a:lnTo>
                <a:lnTo>
                  <a:pt x="408" y="171"/>
                </a:lnTo>
                <a:lnTo>
                  <a:pt x="410" y="180"/>
                </a:lnTo>
                <a:lnTo>
                  <a:pt x="410" y="192"/>
                </a:lnTo>
                <a:lnTo>
                  <a:pt x="412" y="203"/>
                </a:lnTo>
                <a:lnTo>
                  <a:pt x="410" y="215"/>
                </a:lnTo>
                <a:lnTo>
                  <a:pt x="410" y="226"/>
                </a:lnTo>
                <a:lnTo>
                  <a:pt x="408" y="238"/>
                </a:lnTo>
                <a:lnTo>
                  <a:pt x="407" y="249"/>
                </a:lnTo>
                <a:lnTo>
                  <a:pt x="405" y="263"/>
                </a:lnTo>
                <a:lnTo>
                  <a:pt x="401" y="272"/>
                </a:lnTo>
                <a:lnTo>
                  <a:pt x="397" y="284"/>
                </a:lnTo>
                <a:lnTo>
                  <a:pt x="395" y="294"/>
                </a:lnTo>
                <a:lnTo>
                  <a:pt x="391" y="303"/>
                </a:lnTo>
                <a:lnTo>
                  <a:pt x="385" y="313"/>
                </a:lnTo>
                <a:lnTo>
                  <a:pt x="382" y="320"/>
                </a:lnTo>
                <a:lnTo>
                  <a:pt x="378" y="328"/>
                </a:lnTo>
                <a:lnTo>
                  <a:pt x="372" y="334"/>
                </a:lnTo>
                <a:lnTo>
                  <a:pt x="366" y="340"/>
                </a:lnTo>
                <a:lnTo>
                  <a:pt x="360" y="343"/>
                </a:lnTo>
                <a:lnTo>
                  <a:pt x="355" y="347"/>
                </a:lnTo>
                <a:lnTo>
                  <a:pt x="349" y="351"/>
                </a:lnTo>
                <a:lnTo>
                  <a:pt x="341" y="353"/>
                </a:lnTo>
                <a:lnTo>
                  <a:pt x="336" y="355"/>
                </a:lnTo>
                <a:lnTo>
                  <a:pt x="328" y="355"/>
                </a:lnTo>
                <a:lnTo>
                  <a:pt x="320" y="355"/>
                </a:lnTo>
                <a:lnTo>
                  <a:pt x="312" y="353"/>
                </a:lnTo>
                <a:lnTo>
                  <a:pt x="305" y="349"/>
                </a:lnTo>
                <a:lnTo>
                  <a:pt x="295" y="345"/>
                </a:lnTo>
                <a:lnTo>
                  <a:pt x="286" y="342"/>
                </a:lnTo>
                <a:lnTo>
                  <a:pt x="276" y="334"/>
                </a:lnTo>
                <a:lnTo>
                  <a:pt x="266" y="326"/>
                </a:lnTo>
                <a:lnTo>
                  <a:pt x="255" y="319"/>
                </a:lnTo>
                <a:lnTo>
                  <a:pt x="243" y="309"/>
                </a:lnTo>
                <a:lnTo>
                  <a:pt x="232" y="297"/>
                </a:lnTo>
                <a:lnTo>
                  <a:pt x="218" y="286"/>
                </a:lnTo>
                <a:lnTo>
                  <a:pt x="205" y="272"/>
                </a:lnTo>
                <a:lnTo>
                  <a:pt x="192" y="259"/>
                </a:lnTo>
                <a:lnTo>
                  <a:pt x="176" y="244"/>
                </a:lnTo>
                <a:lnTo>
                  <a:pt x="161" y="226"/>
                </a:lnTo>
                <a:lnTo>
                  <a:pt x="144" y="211"/>
                </a:lnTo>
                <a:lnTo>
                  <a:pt x="128" y="194"/>
                </a:lnTo>
                <a:lnTo>
                  <a:pt x="111" y="176"/>
                </a:lnTo>
                <a:lnTo>
                  <a:pt x="98" y="161"/>
                </a:lnTo>
                <a:lnTo>
                  <a:pt x="82" y="146"/>
                </a:lnTo>
                <a:lnTo>
                  <a:pt x="71" y="132"/>
                </a:lnTo>
                <a:lnTo>
                  <a:pt x="59" y="119"/>
                </a:lnTo>
                <a:lnTo>
                  <a:pt x="48" y="105"/>
                </a:lnTo>
                <a:lnTo>
                  <a:pt x="38" y="94"/>
                </a:lnTo>
                <a:lnTo>
                  <a:pt x="28" y="84"/>
                </a:lnTo>
                <a:lnTo>
                  <a:pt x="21" y="75"/>
                </a:lnTo>
                <a:lnTo>
                  <a:pt x="15" y="65"/>
                </a:lnTo>
                <a:lnTo>
                  <a:pt x="9" y="57"/>
                </a:lnTo>
                <a:lnTo>
                  <a:pt x="5" y="52"/>
                </a:lnTo>
                <a:lnTo>
                  <a:pt x="2" y="46"/>
                </a:lnTo>
                <a:lnTo>
                  <a:pt x="0" y="42"/>
                </a:lnTo>
                <a:lnTo>
                  <a:pt x="0" y="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任意多边形 8"/>
          <p:cNvSpPr/>
          <p:nvPr/>
        </p:nvSpPr>
        <p:spPr>
          <a:xfrm>
            <a:off x="1706400" y="2568600"/>
            <a:ext cx="6337440" cy="1117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坞  鼎  骚  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3"/>
          <p:cNvSpPr/>
          <p:nvPr/>
        </p:nvSpPr>
        <p:spPr>
          <a:xfrm>
            <a:off x="1628280" y="2270160"/>
            <a:ext cx="8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w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2728800" y="230976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dǐ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16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9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662880" y="4784760"/>
            <a:ext cx="1752480" cy="1477800"/>
          </a:xfrm>
          <a:prstGeom prst="rect">
            <a:avLst/>
          </a:prstGeom>
          <a:ln w="0">
            <a:noFill/>
          </a:ln>
        </p:spPr>
      </p:pic>
      <p:sp>
        <p:nvSpPr>
          <p:cNvPr id="220" name="矩形 10"/>
          <p:cNvSpPr/>
          <p:nvPr/>
        </p:nvSpPr>
        <p:spPr>
          <a:xfrm>
            <a:off x="4088520" y="23097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sā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11"/>
          <p:cNvSpPr/>
          <p:nvPr/>
        </p:nvSpPr>
        <p:spPr>
          <a:xfrm>
            <a:off x="5417280" y="232884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b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2006640" y="3301920"/>
            <a:ext cx="57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取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             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扰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              糟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2"/>
          <p:cNvSpPr/>
          <p:nvPr/>
        </p:nvSpPr>
        <p:spPr>
          <a:xfrm>
            <a:off x="2011320" y="2717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4"/>
          <p:cNvSpPr/>
          <p:nvPr/>
        </p:nvSpPr>
        <p:spPr>
          <a:xfrm>
            <a:off x="3872880" y="2717640"/>
            <a:ext cx="109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sā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5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26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9" name="矩形 9"/>
          <p:cNvSpPr/>
          <p:nvPr/>
        </p:nvSpPr>
        <p:spPr>
          <a:xfrm>
            <a:off x="5924520" y="271296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ā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1573200" y="2822400"/>
            <a:ext cx="5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组合 4"/>
          <p:cNvGrpSpPr/>
          <p:nvPr/>
        </p:nvGrpSpPr>
        <p:grpSpPr>
          <a:xfrm>
            <a:off x="2019240" y="2454120"/>
            <a:ext cx="2757600" cy="1191240"/>
            <a:chOff x="2019240" y="2454120"/>
            <a:chExt cx="2757600" cy="1191240"/>
          </a:xfrm>
        </p:grpSpPr>
        <p:sp>
          <p:nvSpPr>
            <p:cNvPr id="232" name="左大括号 2"/>
            <p:cNvSpPr/>
            <p:nvPr/>
          </p:nvSpPr>
          <p:spPr>
            <a:xfrm>
              <a:off x="2019240" y="2633400"/>
              <a:ext cx="218880" cy="9306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30600"/>
                <a:gd name="textAreaBottom" fmla="*/ 925200 h 93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TextBox 3"/>
            <p:cNvSpPr/>
            <p:nvPr/>
          </p:nvSpPr>
          <p:spPr>
            <a:xfrm>
              <a:off x="2169720" y="2454120"/>
              <a:ext cx="2607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mán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（埋怨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mái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（埋伏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TextBox 13"/>
          <p:cNvSpPr/>
          <p:nvPr/>
        </p:nvSpPr>
        <p:spPr>
          <a:xfrm>
            <a:off x="4541760" y="3122640"/>
            <a:ext cx="5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36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TextBox 13"/>
          <p:cNvSpPr/>
          <p:nvPr/>
        </p:nvSpPr>
        <p:spPr>
          <a:xfrm>
            <a:off x="1576440" y="4648320"/>
            <a:ext cx="5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组合 18"/>
          <p:cNvGrpSpPr/>
          <p:nvPr/>
        </p:nvGrpSpPr>
        <p:grpSpPr>
          <a:xfrm>
            <a:off x="2038320" y="3941640"/>
            <a:ext cx="2757600" cy="1739880"/>
            <a:chOff x="2038320" y="3941640"/>
            <a:chExt cx="2757600" cy="1739880"/>
          </a:xfrm>
        </p:grpSpPr>
        <p:sp>
          <p:nvSpPr>
            <p:cNvPr id="241" name="左大括号 19"/>
            <p:cNvSpPr/>
            <p:nvPr/>
          </p:nvSpPr>
          <p:spPr>
            <a:xfrm>
              <a:off x="2038320" y="4186080"/>
              <a:ext cx="199800" cy="1392480"/>
            </a:xfrm>
            <a:custGeom>
              <a:avLst/>
              <a:gdLst>
                <a:gd name="textAreaLeft" fmla="*/ 127800 w 199800"/>
                <a:gd name="textAreaRight" fmla="*/ 200160 w 199800"/>
                <a:gd name="textAreaTop" fmla="*/ 5040 h 1392480"/>
                <a:gd name="textAreaBottom" fmla="*/ 1387440 h 139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0"/>
                    <a:pt x="10800" y="259"/>
                  </a:cubicBezTo>
                  <a:lnTo>
                    <a:pt x="10800" y="10541"/>
                  </a:lnTo>
                  <a:cubicBezTo>
                    <a:pt x="10800" y="10671"/>
                    <a:pt x="5400" y="10800"/>
                    <a:pt x="0" y="10800"/>
                  </a:cubicBezTo>
                  <a:cubicBezTo>
                    <a:pt x="5400" y="10800"/>
                    <a:pt x="10800" y="10930"/>
                    <a:pt x="10800" y="11059"/>
                  </a:cubicBezTo>
                  <a:lnTo>
                    <a:pt x="10800" y="21341"/>
                  </a:lnTo>
                  <a:cubicBezTo>
                    <a:pt x="10800" y="21471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TextBox 20"/>
            <p:cNvSpPr/>
            <p:nvPr/>
          </p:nvSpPr>
          <p:spPr>
            <a:xfrm>
              <a:off x="2188800" y="3941640"/>
              <a:ext cx="26071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qiǎng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（勉强）</a:t>
              </a:r>
              <a:r>
                <a:rPr b="1" lang="en-US" sz="2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qiáng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（强壮）</a:t>
              </a:r>
              <a:r>
                <a:rPr b="1" lang="en-US" sz="2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jiàng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（倔强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组合 1"/>
          <p:cNvGrpSpPr/>
          <p:nvPr/>
        </p:nvGrpSpPr>
        <p:grpSpPr>
          <a:xfrm>
            <a:off x="5033880" y="2432160"/>
            <a:ext cx="2749680" cy="1739880"/>
            <a:chOff x="5033880" y="2432160"/>
            <a:chExt cx="2749680" cy="1739880"/>
          </a:xfrm>
        </p:grpSpPr>
        <p:sp>
          <p:nvSpPr>
            <p:cNvPr id="244" name="TextBox 15"/>
            <p:cNvSpPr/>
            <p:nvPr/>
          </p:nvSpPr>
          <p:spPr>
            <a:xfrm>
              <a:off x="5176440" y="2432160"/>
              <a:ext cx="26071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yè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（哽咽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yān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（咽喉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yàn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（咽气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左大括号 21"/>
            <p:cNvSpPr/>
            <p:nvPr/>
          </p:nvSpPr>
          <p:spPr>
            <a:xfrm>
              <a:off x="5033880" y="2643120"/>
              <a:ext cx="199800" cy="1392120"/>
            </a:xfrm>
            <a:custGeom>
              <a:avLst/>
              <a:gdLst>
                <a:gd name="textAreaLeft" fmla="*/ 127800 w 199800"/>
                <a:gd name="textAreaRight" fmla="*/ 200160 w 199800"/>
                <a:gd name="textAreaTop" fmla="*/ 5040 h 1392120"/>
                <a:gd name="textAreaBottom" fmla="*/ 1387080 h 139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0"/>
                    <a:pt x="10800" y="259"/>
                  </a:cubicBezTo>
                  <a:lnTo>
                    <a:pt x="10800" y="10541"/>
                  </a:lnTo>
                  <a:cubicBezTo>
                    <a:pt x="10800" y="10671"/>
                    <a:pt x="5400" y="10800"/>
                    <a:pt x="0" y="10800"/>
                  </a:cubicBezTo>
                  <a:cubicBezTo>
                    <a:pt x="5400" y="10800"/>
                    <a:pt x="10800" y="10930"/>
                    <a:pt x="10800" y="11059"/>
                  </a:cubicBezTo>
                  <a:lnTo>
                    <a:pt x="10800" y="21341"/>
                  </a:lnTo>
                  <a:cubicBezTo>
                    <a:pt x="10800" y="21471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1"/>
          <p:cNvSpPr/>
          <p:nvPr/>
        </p:nvSpPr>
        <p:spPr>
          <a:xfrm>
            <a:off x="392040" y="2108160"/>
            <a:ext cx="745668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跋涉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面红耳赤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赞不绝口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大名鼎鼎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7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48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1" name="矩形 1"/>
          <p:cNvSpPr/>
          <p:nvPr/>
        </p:nvSpPr>
        <p:spPr>
          <a:xfrm>
            <a:off x="1251000" y="2114640"/>
            <a:ext cx="774216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爬山蹚水，形容旅途艰苦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造句：经过五天五夜的</a:t>
            </a:r>
            <a:r>
              <a:rPr b="1" lang="zh-CN" sz="2100" spc="-1" strike="noStrike" u="sng">
                <a:solidFill>
                  <a:srgbClr val="000000"/>
                </a:solidFill>
                <a:uFillTx/>
                <a:latin typeface="宋体"/>
              </a:rPr>
              <a:t>跋涉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，队员们终于达到了目的地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形容因急躁、害羞等脸上发红的样子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造句：丽丽和吉米不知道为什么事情吵得</a:t>
            </a:r>
            <a:r>
              <a:rPr b="1" lang="zh-CN" sz="2100" spc="-1" strike="noStrike" u="sng">
                <a:solidFill>
                  <a:srgbClr val="000000"/>
                </a:solidFill>
                <a:uFillTx/>
                <a:latin typeface="宋体"/>
              </a:rPr>
              <a:t>面红耳赤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的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赞美的话说个不停，形容对人或事物十分赞赏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造句：小强是个小发明家，大家对他的发明总是</a:t>
            </a:r>
            <a:r>
              <a:rPr b="1" lang="zh-CN" sz="2100" spc="-1" strike="noStrike" u="sng">
                <a:solidFill>
                  <a:srgbClr val="000000"/>
                </a:solidFill>
                <a:uFillTx/>
                <a:latin typeface="宋体"/>
              </a:rPr>
              <a:t>赞不绝口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形容名气很大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造句：莫扎特是世界上</a:t>
            </a:r>
            <a:r>
              <a:rPr b="1" lang="zh-CN" sz="2100" spc="-1" strike="noStrike" u="sng">
                <a:solidFill>
                  <a:srgbClr val="000000"/>
                </a:solidFill>
                <a:uFillTx/>
                <a:latin typeface="宋体"/>
              </a:rPr>
              <a:t>大名鼎鼎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的音乐家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矩形 1"/>
          <p:cNvSpPr/>
          <p:nvPr/>
        </p:nvSpPr>
        <p:spPr>
          <a:xfrm>
            <a:off x="644400" y="1808280"/>
            <a:ext cx="7456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直截了当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形形色色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相辅相成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竭尽全力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54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矩形 1"/>
          <p:cNvSpPr/>
          <p:nvPr/>
        </p:nvSpPr>
        <p:spPr>
          <a:xfrm>
            <a:off x="1959120" y="1830240"/>
            <a:ext cx="668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（言语、行动等）简单爽快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造句：他说话办事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直截了当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从不拖泥带水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形容事物种类繁多，各式各样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造句：电子商务平台上售有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形形色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商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指互相配合，互相促进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造句：学习和复习，是掌握、巩固知识的重要方面，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相辅相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缺一不可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用尽全部力量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造句：今年市区运动会，我们一定要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竭尽全力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争取拿到第一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1"/>
          <p:cNvSpPr/>
          <p:nvPr/>
        </p:nvSpPr>
        <p:spPr>
          <a:xfrm>
            <a:off x="3868560" y="1982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固执 顽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2"/>
          <p:cNvSpPr/>
          <p:nvPr/>
        </p:nvSpPr>
        <p:spPr>
          <a:xfrm>
            <a:off x="2082960" y="2522520"/>
            <a:ext cx="652464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都有“坚持某种信念不肯改变”的意思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固执”侧重于坚持自己原有的东西，语意较轻。“顽固”侧重于不愿接受外界的新鲜事物，语意较重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莎莎生性</a:t>
            </a:r>
            <a:r>
              <a:rPr b="1" lang="zh-CN" sz="2300" spc="-1" strike="noStrike">
                <a:solidFill>
                  <a:srgbClr val="ff33cc"/>
                </a:solidFill>
                <a:latin typeface="宋体"/>
              </a:rPr>
              <a:t>固执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又小气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那些</a:t>
            </a:r>
            <a:r>
              <a:rPr b="1" lang="zh-CN" sz="2300" spc="-1" strike="noStrike">
                <a:solidFill>
                  <a:srgbClr val="ff33cc"/>
                </a:solidFill>
                <a:latin typeface="宋体"/>
              </a:rPr>
              <a:t>顽固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守旧的人必将成为历史前进的绊脚石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0" name="组合 1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61" name="圆角矩形 1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组合 4"/>
          <p:cNvGrpSpPr/>
          <p:nvPr/>
        </p:nvGrpSpPr>
        <p:grpSpPr>
          <a:xfrm>
            <a:off x="601560" y="2587680"/>
            <a:ext cx="1670040" cy="459720"/>
            <a:chOff x="601560" y="2587680"/>
            <a:chExt cx="1670040" cy="459720"/>
          </a:xfrm>
        </p:grpSpPr>
        <p:pic>
          <p:nvPicPr>
            <p:cNvPr id="265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601560" y="264204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Box 3"/>
            <p:cNvSpPr/>
            <p:nvPr/>
          </p:nvSpPr>
          <p:spPr>
            <a:xfrm>
              <a:off x="944640" y="258768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组合 20"/>
          <p:cNvGrpSpPr/>
          <p:nvPr/>
        </p:nvGrpSpPr>
        <p:grpSpPr>
          <a:xfrm>
            <a:off x="601560" y="3218040"/>
            <a:ext cx="1670040" cy="459720"/>
            <a:chOff x="601560" y="3218040"/>
            <a:chExt cx="1670040" cy="459720"/>
          </a:xfrm>
        </p:grpSpPr>
        <p:pic>
          <p:nvPicPr>
            <p:cNvPr id="268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601560" y="327240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Box 22"/>
            <p:cNvSpPr/>
            <p:nvPr/>
          </p:nvSpPr>
          <p:spPr>
            <a:xfrm>
              <a:off x="944640" y="321804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组合 23"/>
          <p:cNvGrpSpPr/>
          <p:nvPr/>
        </p:nvGrpSpPr>
        <p:grpSpPr>
          <a:xfrm>
            <a:off x="601560" y="4859280"/>
            <a:ext cx="1670040" cy="459720"/>
            <a:chOff x="601560" y="4859280"/>
            <a:chExt cx="1670040" cy="459720"/>
          </a:xfrm>
        </p:grpSpPr>
        <p:pic>
          <p:nvPicPr>
            <p:cNvPr id="271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601560" y="491364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Box 25"/>
            <p:cNvSpPr/>
            <p:nvPr/>
          </p:nvSpPr>
          <p:spPr>
            <a:xfrm>
              <a:off x="944640" y="485928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矩形 1"/>
          <p:cNvSpPr/>
          <p:nvPr/>
        </p:nvSpPr>
        <p:spPr>
          <a:xfrm>
            <a:off x="682560" y="1704960"/>
            <a:ext cx="7799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-12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）评价相反，“我”很悲伤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爸爸妈妈对“我”的诗做出了截然不同的评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爸爸评价态度不变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经过了好长时间，“我”才敢再让爸爸看“我”的作品，爸爸依然客观地评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三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5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6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父母爱助“我”成功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“真美”和“真糟”的评价给“我”的深远影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5"/>
          <p:cNvSpPr/>
          <p:nvPr/>
        </p:nvSpPr>
        <p:spPr>
          <a:xfrm>
            <a:off x="803160" y="1282680"/>
            <a:ext cx="73123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爸爸妈妈为巴德的“第一首诗”争论不休，他们争论些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"/>
          <p:cNvSpPr/>
          <p:nvPr/>
        </p:nvSpPr>
        <p:spPr>
          <a:xfrm>
            <a:off x="835200" y="2571840"/>
            <a:ext cx="759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8560" indent="-89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558ed5"/>
                </a:solidFill>
                <a:latin typeface="楷体"/>
                <a:ea typeface="楷体"/>
              </a:rPr>
              <a:t>妈妈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巴德仅仅是一个八岁的孩子。他能 写出一首诗就是一件很难得的事情，应该得到表扬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8560" indent="-89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558ed5"/>
                </a:solidFill>
                <a:latin typeface="楷体"/>
                <a:ea typeface="楷体"/>
              </a:rPr>
              <a:t>爸爸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可是他的诗的确写得很糟糕，这你 看不出来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8560" indent="-89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558ed5"/>
                </a:solidFill>
                <a:latin typeface="楷体"/>
                <a:ea typeface="楷体"/>
              </a:rPr>
              <a:t>妈妈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巴德的诗确实不是很有文采，但是 他才八岁呀！能写诗已经很不容易了，他需要鼓励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得到了鼓励和认可他才会有信心继 续写下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3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8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3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1"/>
          <p:cNvSpPr/>
          <p:nvPr/>
        </p:nvSpPr>
        <p:spPr>
          <a:xfrm>
            <a:off x="930240" y="1698480"/>
            <a:ext cx="716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8560" indent="-89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558ed5"/>
                </a:solidFill>
                <a:latin typeface="楷体"/>
                <a:ea typeface="楷体"/>
              </a:rPr>
              <a:t>爸爸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你说得不对，不切实际的鼓励会让 孩子骄傲、自满，不能认清自己，我作为父亲必须让他对自己有一个正确的认识，必须实事求是地告诉他自己的诗究竟写的怎样，这样他才能认清自己，我相信巴德不会因为我的批评就不再写诗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"/>
          <p:cNvPicPr/>
          <p:nvPr/>
        </p:nvPicPr>
        <p:blipFill>
          <a:blip r:embed="rId1"/>
          <a:srcRect l="3070" t="3433" r="1996" b="3480"/>
          <a:stretch/>
        </p:blipFill>
        <p:spPr>
          <a:xfrm>
            <a:off x="2684520" y="2235240"/>
            <a:ext cx="3975120" cy="3279600"/>
          </a:xfrm>
          <a:prstGeom prst="rect">
            <a:avLst/>
          </a:prstGeom>
          <a:ln w="0">
            <a:noFill/>
          </a:ln>
        </p:spPr>
      </p:pic>
      <p:sp>
        <p:nvSpPr>
          <p:cNvPr id="5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62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组合 13336"/>
          <p:cNvGrpSpPr/>
          <p:nvPr/>
        </p:nvGrpSpPr>
        <p:grpSpPr>
          <a:xfrm>
            <a:off x="3021120" y="3279600"/>
            <a:ext cx="3186000" cy="1151280"/>
            <a:chOff x="3021120" y="3279600"/>
            <a:chExt cx="3186000" cy="1151280"/>
          </a:xfrm>
        </p:grpSpPr>
        <p:sp>
          <p:nvSpPr>
            <p:cNvPr id="70" name="矩形 13324"/>
            <p:cNvSpPr/>
            <p:nvPr/>
          </p:nvSpPr>
          <p:spPr>
            <a:xfrm>
              <a:off x="3243960" y="3279600"/>
              <a:ext cx="2729520" cy="1103760"/>
            </a:xfrm>
            <a:prstGeom prst="rect">
              <a:avLst/>
            </a:prstGeom>
            <a:solidFill>
              <a:srgbClr val="95b3d7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25440" y="3364920"/>
              <a:ext cx="911160" cy="97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矩形 47" descr=""/>
            <p:cNvPicPr/>
            <p:nvPr/>
          </p:nvPicPr>
          <p:blipFill>
            <a:blip r:embed="rId9"/>
            <a:stretch/>
          </p:blipFill>
          <p:spPr>
            <a:xfrm>
              <a:off x="3021120" y="3320280"/>
              <a:ext cx="3186000" cy="111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组合 13338"/>
          <p:cNvGrpSpPr/>
          <p:nvPr/>
        </p:nvGrpSpPr>
        <p:grpSpPr>
          <a:xfrm>
            <a:off x="1027080" y="905040"/>
            <a:ext cx="7250040" cy="1180800"/>
            <a:chOff x="1027080" y="905040"/>
            <a:chExt cx="7250040" cy="1180800"/>
          </a:xfrm>
        </p:grpSpPr>
        <p:sp>
          <p:nvSpPr>
            <p:cNvPr id="74" name="Text Box 2"/>
            <p:cNvSpPr/>
            <p:nvPr/>
          </p:nvSpPr>
          <p:spPr>
            <a:xfrm>
              <a:off x="1812600" y="1011240"/>
              <a:ext cx="6464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“</a:t>
              </a: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真美”与“真糟”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" name="组合 13337"/>
            <p:cNvGrpSpPr/>
            <p:nvPr/>
          </p:nvGrpSpPr>
          <p:grpSpPr>
            <a:xfrm>
              <a:off x="1027080" y="905040"/>
              <a:ext cx="1180800" cy="1180800"/>
              <a:chOff x="1027080" y="905040"/>
              <a:chExt cx="1180800" cy="1180800"/>
            </a:xfrm>
          </p:grpSpPr>
          <p:sp>
            <p:nvSpPr>
              <p:cNvPr id="76" name="AutoShape 11"/>
              <p:cNvSpPr/>
              <p:nvPr/>
            </p:nvSpPr>
            <p:spPr>
              <a:xfrm>
                <a:off x="102708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文本框 13"/>
              <p:cNvSpPr/>
              <p:nvPr/>
            </p:nvSpPr>
            <p:spPr>
              <a:xfrm>
                <a:off x="124992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7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278" name="矩形 11"/>
          <p:cNvSpPr/>
          <p:nvPr/>
        </p:nvSpPr>
        <p:spPr>
          <a:xfrm>
            <a:off x="860400" y="2246400"/>
            <a:ext cx="7755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初读课文，说一说课文的主要内容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11"/>
          <p:cNvSpPr/>
          <p:nvPr/>
        </p:nvSpPr>
        <p:spPr>
          <a:xfrm>
            <a:off x="1017720" y="2909880"/>
            <a:ext cx="7380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课文首先写父母对“我”的第一首诗不同的评价；接着写了这两种评价对“我”创作之路的影响；最后写出了“我”对父母不同评价的理解；“真美”和“真糟”这两种看来截然不同的评价蕴含着共同点，那就是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aphicFrame>
        <p:nvGraphicFramePr>
          <p:cNvPr id="281" name=""/>
          <p:cNvGraphicFramePr/>
          <p:nvPr/>
        </p:nvGraphicFramePr>
        <p:xfrm>
          <a:off x="4357800" y="3154320"/>
          <a:ext cx="143964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4357800" y="4281480"/>
          <a:ext cx="143964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1623960" y="3154320"/>
          <a:ext cx="144000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1623960" y="4281480"/>
          <a:ext cx="144000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矩形 17"/>
          <p:cNvSpPr/>
          <p:nvPr/>
        </p:nvSpPr>
        <p:spPr>
          <a:xfrm>
            <a:off x="971640" y="2087640"/>
            <a:ext cx="756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看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zh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ié         zāo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āo     li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sh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h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hòu        ji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ìn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à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ué          má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yuà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21"/>
          <p:cNvSpPr/>
          <p:nvPr/>
        </p:nvSpPr>
        <p:spPr>
          <a:xfrm>
            <a:off x="1841040" y="31971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直 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矩形 22"/>
          <p:cNvSpPr/>
          <p:nvPr/>
        </p:nvSpPr>
        <p:spPr>
          <a:xfrm>
            <a:off x="1841040" y="4324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出 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23"/>
          <p:cNvSpPr/>
          <p:nvPr/>
        </p:nvSpPr>
        <p:spPr>
          <a:xfrm>
            <a:off x="4573440" y="3203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糟 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24"/>
          <p:cNvSpPr/>
          <p:nvPr/>
        </p:nvSpPr>
        <p:spPr>
          <a:xfrm>
            <a:off x="4582800" y="4308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竭 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291360" y="3117960"/>
          <a:ext cx="143964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矩形 26"/>
          <p:cNvSpPr/>
          <p:nvPr/>
        </p:nvSpPr>
        <p:spPr>
          <a:xfrm>
            <a:off x="6516360" y="3144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流 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351320" y="5364000"/>
          <a:ext cx="1440000" cy="7336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1617840" y="5364000"/>
          <a:ext cx="1439640" cy="7336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矩形 29"/>
          <p:cNvSpPr/>
          <p:nvPr/>
        </p:nvSpPr>
        <p:spPr>
          <a:xfrm>
            <a:off x="1835640" y="5407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判 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矩形 30"/>
          <p:cNvSpPr/>
          <p:nvPr/>
        </p:nvSpPr>
        <p:spPr>
          <a:xfrm>
            <a:off x="4577040" y="5391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埋 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矩形 3"/>
          <p:cNvSpPr/>
          <p:nvPr/>
        </p:nvSpPr>
        <p:spPr>
          <a:xfrm>
            <a:off x="1073160" y="1700280"/>
            <a:ext cx="727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补充成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面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相辅相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   　争论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赞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形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4"/>
          <p:cNvSpPr/>
          <p:nvPr/>
        </p:nvSpPr>
        <p:spPr>
          <a:xfrm>
            <a:off x="2143080" y="2403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5"/>
          <p:cNvSpPr/>
          <p:nvPr/>
        </p:nvSpPr>
        <p:spPr>
          <a:xfrm>
            <a:off x="3067200" y="240336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6"/>
          <p:cNvSpPr/>
          <p:nvPr/>
        </p:nvSpPr>
        <p:spPr>
          <a:xfrm>
            <a:off x="5391000" y="2403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7"/>
          <p:cNvSpPr/>
          <p:nvPr/>
        </p:nvSpPr>
        <p:spPr>
          <a:xfrm>
            <a:off x="6651360" y="2403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10"/>
          <p:cNvSpPr/>
          <p:nvPr/>
        </p:nvSpPr>
        <p:spPr>
          <a:xfrm>
            <a:off x="2174760" y="2927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11"/>
          <p:cNvSpPr/>
          <p:nvPr/>
        </p:nvSpPr>
        <p:spPr>
          <a:xfrm>
            <a:off x="3132000" y="2927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12"/>
          <p:cNvSpPr/>
          <p:nvPr/>
        </p:nvSpPr>
        <p:spPr>
          <a:xfrm>
            <a:off x="5429160" y="2927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13"/>
          <p:cNvSpPr/>
          <p:nvPr/>
        </p:nvSpPr>
        <p:spPr>
          <a:xfrm>
            <a:off x="6651360" y="2927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 14"/>
          <p:cNvSpPr/>
          <p:nvPr/>
        </p:nvSpPr>
        <p:spPr>
          <a:xfrm>
            <a:off x="2510640" y="3478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21"/>
          <p:cNvSpPr/>
          <p:nvPr/>
        </p:nvSpPr>
        <p:spPr>
          <a:xfrm>
            <a:off x="6034680" y="3478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 25"/>
          <p:cNvSpPr/>
          <p:nvPr/>
        </p:nvSpPr>
        <p:spPr>
          <a:xfrm>
            <a:off x="2182680" y="4024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26"/>
          <p:cNvSpPr/>
          <p:nvPr/>
        </p:nvSpPr>
        <p:spPr>
          <a:xfrm>
            <a:off x="3132000" y="4024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矩形 27"/>
          <p:cNvSpPr/>
          <p:nvPr/>
        </p:nvSpPr>
        <p:spPr>
          <a:xfrm>
            <a:off x="5690160" y="4024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矩形 28"/>
          <p:cNvSpPr/>
          <p:nvPr/>
        </p:nvSpPr>
        <p:spPr>
          <a:xfrm>
            <a:off x="6651360" y="4024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矩形 29"/>
          <p:cNvSpPr/>
          <p:nvPr/>
        </p:nvSpPr>
        <p:spPr>
          <a:xfrm>
            <a:off x="1585800" y="4576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矩形 30"/>
          <p:cNvSpPr/>
          <p:nvPr/>
        </p:nvSpPr>
        <p:spPr>
          <a:xfrm>
            <a:off x="2510640" y="4589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矩形 2"/>
          <p:cNvSpPr/>
          <p:nvPr/>
        </p:nvSpPr>
        <p:spPr>
          <a:xfrm>
            <a:off x="830160" y="1839960"/>
            <a:ext cx="741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按要求转换句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爸爸对我说：“我晚上要七点钟才能回来。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改为转述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道世上的劣诗还不多吗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改为陈述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4"/>
          <p:cNvSpPr/>
          <p:nvPr/>
        </p:nvSpPr>
        <p:spPr>
          <a:xfrm>
            <a:off x="1379520" y="4559400"/>
            <a:ext cx="52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世上的劣诗很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矩形 5"/>
          <p:cNvSpPr/>
          <p:nvPr/>
        </p:nvSpPr>
        <p:spPr>
          <a:xfrm>
            <a:off x="1389240" y="3608280"/>
            <a:ext cx="54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爸爸对我说，他晚上要七点钟才能回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6"/>
          <p:cNvSpPr/>
          <p:nvPr/>
        </p:nvSpPr>
        <p:spPr>
          <a:xfrm>
            <a:off x="822240" y="2774880"/>
            <a:ext cx="766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认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；会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；理解“面红而赤、大名鼎鼎、呜咽、勇往直前、相辅相成、跋涉”等词语；会用“赞不绝口”“直截了当”和“竭尽全力”说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感情地朗读课文，注意爸爸与妈妈语气的不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示 4" descr=""/>
          <p:cNvPicPr/>
          <p:nvPr/>
        </p:nvPicPr>
        <p:blipFill>
          <a:blip r:embed="rId1"/>
          <a:stretch/>
        </p:blipFill>
        <p:spPr>
          <a:xfrm>
            <a:off x="957240" y="1311120"/>
            <a:ext cx="309096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4"/>
          <p:cNvSpPr/>
          <p:nvPr/>
        </p:nvSpPr>
        <p:spPr>
          <a:xfrm>
            <a:off x="22240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3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84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5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矩形 3"/>
          <p:cNvSpPr/>
          <p:nvPr/>
        </p:nvSpPr>
        <p:spPr>
          <a:xfrm>
            <a:off x="2070000" y="1868400"/>
            <a:ext cx="174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ā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184"/>
          <p:cNvSpPr/>
          <p:nvPr/>
        </p:nvSpPr>
        <p:spPr>
          <a:xfrm>
            <a:off x="6707160" y="4481640"/>
            <a:ext cx="501840" cy="128520"/>
          </a:xfrm>
          <a:custGeom>
            <a:avLst/>
            <a:gdLst/>
            <a:ahLst/>
            <a:rect l="l" t="t" r="r" b="b"/>
            <a:pathLst>
              <a:path w="631" h="163">
                <a:moveTo>
                  <a:pt x="291" y="36"/>
                </a:moveTo>
                <a:lnTo>
                  <a:pt x="310" y="32"/>
                </a:lnTo>
                <a:lnTo>
                  <a:pt x="328" y="28"/>
                </a:lnTo>
                <a:lnTo>
                  <a:pt x="345" y="23"/>
                </a:lnTo>
                <a:lnTo>
                  <a:pt x="360" y="19"/>
                </a:lnTo>
                <a:lnTo>
                  <a:pt x="376" y="17"/>
                </a:lnTo>
                <a:lnTo>
                  <a:pt x="391" y="13"/>
                </a:lnTo>
                <a:lnTo>
                  <a:pt x="405" y="11"/>
                </a:lnTo>
                <a:lnTo>
                  <a:pt x="418" y="7"/>
                </a:lnTo>
                <a:lnTo>
                  <a:pt x="429" y="5"/>
                </a:lnTo>
                <a:lnTo>
                  <a:pt x="441" y="3"/>
                </a:lnTo>
                <a:lnTo>
                  <a:pt x="453" y="2"/>
                </a:lnTo>
                <a:lnTo>
                  <a:pt x="462" y="2"/>
                </a:lnTo>
                <a:lnTo>
                  <a:pt x="472" y="0"/>
                </a:lnTo>
                <a:lnTo>
                  <a:pt x="479" y="0"/>
                </a:lnTo>
                <a:lnTo>
                  <a:pt x="489" y="0"/>
                </a:lnTo>
                <a:lnTo>
                  <a:pt x="497" y="0"/>
                </a:lnTo>
                <a:lnTo>
                  <a:pt x="510" y="0"/>
                </a:lnTo>
                <a:lnTo>
                  <a:pt x="522" y="0"/>
                </a:lnTo>
                <a:lnTo>
                  <a:pt x="535" y="0"/>
                </a:lnTo>
                <a:lnTo>
                  <a:pt x="547" y="0"/>
                </a:lnTo>
                <a:lnTo>
                  <a:pt x="558" y="2"/>
                </a:lnTo>
                <a:lnTo>
                  <a:pt x="572" y="3"/>
                </a:lnTo>
                <a:lnTo>
                  <a:pt x="583" y="7"/>
                </a:lnTo>
                <a:lnTo>
                  <a:pt x="598" y="11"/>
                </a:lnTo>
                <a:lnTo>
                  <a:pt x="604" y="13"/>
                </a:lnTo>
                <a:lnTo>
                  <a:pt x="610" y="17"/>
                </a:lnTo>
                <a:lnTo>
                  <a:pt x="616" y="19"/>
                </a:lnTo>
                <a:lnTo>
                  <a:pt x="619" y="23"/>
                </a:lnTo>
                <a:lnTo>
                  <a:pt x="623" y="27"/>
                </a:lnTo>
                <a:lnTo>
                  <a:pt x="625" y="30"/>
                </a:lnTo>
                <a:lnTo>
                  <a:pt x="627" y="32"/>
                </a:lnTo>
                <a:lnTo>
                  <a:pt x="629" y="36"/>
                </a:lnTo>
                <a:lnTo>
                  <a:pt x="629" y="40"/>
                </a:lnTo>
                <a:lnTo>
                  <a:pt x="631" y="44"/>
                </a:lnTo>
                <a:lnTo>
                  <a:pt x="631" y="48"/>
                </a:lnTo>
                <a:lnTo>
                  <a:pt x="629" y="50"/>
                </a:lnTo>
                <a:lnTo>
                  <a:pt x="627" y="55"/>
                </a:lnTo>
                <a:lnTo>
                  <a:pt x="623" y="61"/>
                </a:lnTo>
                <a:lnTo>
                  <a:pt x="618" y="67"/>
                </a:lnTo>
                <a:lnTo>
                  <a:pt x="610" y="71"/>
                </a:lnTo>
                <a:lnTo>
                  <a:pt x="602" y="76"/>
                </a:lnTo>
                <a:lnTo>
                  <a:pt x="593" y="80"/>
                </a:lnTo>
                <a:lnTo>
                  <a:pt x="581" y="84"/>
                </a:lnTo>
                <a:lnTo>
                  <a:pt x="568" y="90"/>
                </a:lnTo>
                <a:lnTo>
                  <a:pt x="552" y="94"/>
                </a:lnTo>
                <a:lnTo>
                  <a:pt x="537" y="98"/>
                </a:lnTo>
                <a:lnTo>
                  <a:pt x="520" y="101"/>
                </a:lnTo>
                <a:lnTo>
                  <a:pt x="500" y="105"/>
                </a:lnTo>
                <a:lnTo>
                  <a:pt x="479" y="109"/>
                </a:lnTo>
                <a:lnTo>
                  <a:pt x="458" y="113"/>
                </a:lnTo>
                <a:lnTo>
                  <a:pt x="435" y="117"/>
                </a:lnTo>
                <a:lnTo>
                  <a:pt x="410" y="119"/>
                </a:lnTo>
                <a:lnTo>
                  <a:pt x="383" y="123"/>
                </a:lnTo>
                <a:lnTo>
                  <a:pt x="357" y="124"/>
                </a:lnTo>
                <a:lnTo>
                  <a:pt x="326" y="128"/>
                </a:lnTo>
                <a:lnTo>
                  <a:pt x="297" y="134"/>
                </a:lnTo>
                <a:lnTo>
                  <a:pt x="270" y="138"/>
                </a:lnTo>
                <a:lnTo>
                  <a:pt x="245" y="142"/>
                </a:lnTo>
                <a:lnTo>
                  <a:pt x="222" y="144"/>
                </a:lnTo>
                <a:lnTo>
                  <a:pt x="201" y="147"/>
                </a:lnTo>
                <a:lnTo>
                  <a:pt x="182" y="149"/>
                </a:lnTo>
                <a:lnTo>
                  <a:pt x="165" y="153"/>
                </a:lnTo>
                <a:lnTo>
                  <a:pt x="149" y="155"/>
                </a:lnTo>
                <a:lnTo>
                  <a:pt x="136" y="157"/>
                </a:lnTo>
                <a:lnTo>
                  <a:pt x="122" y="159"/>
                </a:lnTo>
                <a:lnTo>
                  <a:pt x="113" y="159"/>
                </a:lnTo>
                <a:lnTo>
                  <a:pt x="103" y="161"/>
                </a:lnTo>
                <a:lnTo>
                  <a:pt x="97" y="161"/>
                </a:lnTo>
                <a:lnTo>
                  <a:pt x="92" y="161"/>
                </a:lnTo>
                <a:lnTo>
                  <a:pt x="88" y="163"/>
                </a:lnTo>
                <a:lnTo>
                  <a:pt x="84" y="161"/>
                </a:lnTo>
                <a:lnTo>
                  <a:pt x="78" y="161"/>
                </a:lnTo>
                <a:lnTo>
                  <a:pt x="74" y="159"/>
                </a:lnTo>
                <a:lnTo>
                  <a:pt x="69" y="155"/>
                </a:lnTo>
                <a:lnTo>
                  <a:pt x="65" y="151"/>
                </a:lnTo>
                <a:lnTo>
                  <a:pt x="59" y="147"/>
                </a:lnTo>
                <a:lnTo>
                  <a:pt x="53" y="142"/>
                </a:lnTo>
                <a:lnTo>
                  <a:pt x="48" y="136"/>
                </a:lnTo>
                <a:lnTo>
                  <a:pt x="44" y="128"/>
                </a:lnTo>
                <a:lnTo>
                  <a:pt x="38" y="121"/>
                </a:lnTo>
                <a:lnTo>
                  <a:pt x="32" y="113"/>
                </a:lnTo>
                <a:lnTo>
                  <a:pt x="26" y="103"/>
                </a:lnTo>
                <a:lnTo>
                  <a:pt x="19" y="94"/>
                </a:lnTo>
                <a:lnTo>
                  <a:pt x="13" y="84"/>
                </a:lnTo>
                <a:lnTo>
                  <a:pt x="5" y="73"/>
                </a:lnTo>
                <a:lnTo>
                  <a:pt x="0" y="61"/>
                </a:lnTo>
                <a:lnTo>
                  <a:pt x="34" y="61"/>
                </a:lnTo>
                <a:lnTo>
                  <a:pt x="69" y="59"/>
                </a:lnTo>
                <a:lnTo>
                  <a:pt x="103" y="57"/>
                </a:lnTo>
                <a:lnTo>
                  <a:pt x="142" y="53"/>
                </a:lnTo>
                <a:lnTo>
                  <a:pt x="178" y="50"/>
                </a:lnTo>
                <a:lnTo>
                  <a:pt x="216" y="46"/>
                </a:lnTo>
                <a:lnTo>
                  <a:pt x="291" y="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185"/>
          <p:cNvSpPr/>
          <p:nvPr/>
        </p:nvSpPr>
        <p:spPr>
          <a:xfrm>
            <a:off x="6716880" y="4780080"/>
            <a:ext cx="566640" cy="109440"/>
          </a:xfrm>
          <a:custGeom>
            <a:avLst/>
            <a:gdLst/>
            <a:ahLst/>
            <a:rect l="l" t="t" r="r" b="b"/>
            <a:pathLst>
              <a:path w="712" h="138">
                <a:moveTo>
                  <a:pt x="0" y="38"/>
                </a:moveTo>
                <a:lnTo>
                  <a:pt x="33" y="36"/>
                </a:lnTo>
                <a:lnTo>
                  <a:pt x="65" y="34"/>
                </a:lnTo>
                <a:lnTo>
                  <a:pt x="98" y="33"/>
                </a:lnTo>
                <a:lnTo>
                  <a:pt x="129" y="29"/>
                </a:lnTo>
                <a:lnTo>
                  <a:pt x="159" y="25"/>
                </a:lnTo>
                <a:lnTo>
                  <a:pt x="188" y="21"/>
                </a:lnTo>
                <a:lnTo>
                  <a:pt x="203" y="19"/>
                </a:lnTo>
                <a:lnTo>
                  <a:pt x="215" y="17"/>
                </a:lnTo>
                <a:lnTo>
                  <a:pt x="228" y="15"/>
                </a:lnTo>
                <a:lnTo>
                  <a:pt x="242" y="13"/>
                </a:lnTo>
                <a:lnTo>
                  <a:pt x="253" y="9"/>
                </a:lnTo>
                <a:lnTo>
                  <a:pt x="267" y="8"/>
                </a:lnTo>
                <a:lnTo>
                  <a:pt x="278" y="6"/>
                </a:lnTo>
                <a:lnTo>
                  <a:pt x="294" y="6"/>
                </a:lnTo>
                <a:lnTo>
                  <a:pt x="322" y="2"/>
                </a:lnTo>
                <a:lnTo>
                  <a:pt x="351" y="2"/>
                </a:lnTo>
                <a:lnTo>
                  <a:pt x="384" y="0"/>
                </a:lnTo>
                <a:lnTo>
                  <a:pt x="416" y="0"/>
                </a:lnTo>
                <a:lnTo>
                  <a:pt x="449" y="0"/>
                </a:lnTo>
                <a:lnTo>
                  <a:pt x="484" y="0"/>
                </a:lnTo>
                <a:lnTo>
                  <a:pt x="499" y="0"/>
                </a:lnTo>
                <a:lnTo>
                  <a:pt x="516" y="2"/>
                </a:lnTo>
                <a:lnTo>
                  <a:pt x="532" y="4"/>
                </a:lnTo>
                <a:lnTo>
                  <a:pt x="547" y="6"/>
                </a:lnTo>
                <a:lnTo>
                  <a:pt x="562" y="9"/>
                </a:lnTo>
                <a:lnTo>
                  <a:pt x="578" y="15"/>
                </a:lnTo>
                <a:lnTo>
                  <a:pt x="593" y="19"/>
                </a:lnTo>
                <a:lnTo>
                  <a:pt x="606" y="27"/>
                </a:lnTo>
                <a:lnTo>
                  <a:pt x="622" y="33"/>
                </a:lnTo>
                <a:lnTo>
                  <a:pt x="635" y="40"/>
                </a:lnTo>
                <a:lnTo>
                  <a:pt x="649" y="48"/>
                </a:lnTo>
                <a:lnTo>
                  <a:pt x="662" y="57"/>
                </a:lnTo>
                <a:lnTo>
                  <a:pt x="676" y="67"/>
                </a:lnTo>
                <a:lnTo>
                  <a:pt x="687" y="79"/>
                </a:lnTo>
                <a:lnTo>
                  <a:pt x="701" y="88"/>
                </a:lnTo>
                <a:lnTo>
                  <a:pt x="712" y="100"/>
                </a:lnTo>
                <a:lnTo>
                  <a:pt x="678" y="100"/>
                </a:lnTo>
                <a:lnTo>
                  <a:pt x="641" y="102"/>
                </a:lnTo>
                <a:lnTo>
                  <a:pt x="605" y="102"/>
                </a:lnTo>
                <a:lnTo>
                  <a:pt x="566" y="102"/>
                </a:lnTo>
                <a:lnTo>
                  <a:pt x="526" y="104"/>
                </a:lnTo>
                <a:lnTo>
                  <a:pt x="486" y="105"/>
                </a:lnTo>
                <a:lnTo>
                  <a:pt x="443" y="107"/>
                </a:lnTo>
                <a:lnTo>
                  <a:pt x="399" y="109"/>
                </a:lnTo>
                <a:lnTo>
                  <a:pt x="353" y="111"/>
                </a:lnTo>
                <a:lnTo>
                  <a:pt x="307" y="115"/>
                </a:lnTo>
                <a:lnTo>
                  <a:pt x="259" y="117"/>
                </a:lnTo>
                <a:lnTo>
                  <a:pt x="209" y="121"/>
                </a:lnTo>
                <a:lnTo>
                  <a:pt x="157" y="125"/>
                </a:lnTo>
                <a:lnTo>
                  <a:pt x="106" y="128"/>
                </a:lnTo>
                <a:lnTo>
                  <a:pt x="54" y="132"/>
                </a:lnTo>
                <a:lnTo>
                  <a:pt x="0" y="138"/>
                </a:lnTo>
                <a:lnTo>
                  <a:pt x="0" y="88"/>
                </a:lnTo>
                <a:lnTo>
                  <a:pt x="0" y="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186"/>
          <p:cNvSpPr/>
          <p:nvPr/>
        </p:nvSpPr>
        <p:spPr>
          <a:xfrm>
            <a:off x="6686640" y="4191120"/>
            <a:ext cx="807840" cy="907920"/>
          </a:xfrm>
          <a:custGeom>
            <a:avLst/>
            <a:gdLst/>
            <a:ahLst/>
            <a:rect l="l" t="t" r="r" b="b"/>
            <a:pathLst>
              <a:path w="1017" h="1142">
                <a:moveTo>
                  <a:pt x="904" y="1017"/>
                </a:moveTo>
                <a:lnTo>
                  <a:pt x="896" y="1033"/>
                </a:lnTo>
                <a:lnTo>
                  <a:pt x="888" y="1048"/>
                </a:lnTo>
                <a:lnTo>
                  <a:pt x="883" y="1061"/>
                </a:lnTo>
                <a:lnTo>
                  <a:pt x="877" y="1073"/>
                </a:lnTo>
                <a:lnTo>
                  <a:pt x="871" y="1084"/>
                </a:lnTo>
                <a:lnTo>
                  <a:pt x="865" y="1096"/>
                </a:lnTo>
                <a:lnTo>
                  <a:pt x="859" y="1106"/>
                </a:lnTo>
                <a:lnTo>
                  <a:pt x="854" y="1113"/>
                </a:lnTo>
                <a:lnTo>
                  <a:pt x="848" y="1119"/>
                </a:lnTo>
                <a:lnTo>
                  <a:pt x="842" y="1127"/>
                </a:lnTo>
                <a:lnTo>
                  <a:pt x="838" y="1131"/>
                </a:lnTo>
                <a:lnTo>
                  <a:pt x="833" y="1136"/>
                </a:lnTo>
                <a:lnTo>
                  <a:pt x="829" y="1138"/>
                </a:lnTo>
                <a:lnTo>
                  <a:pt x="823" y="1140"/>
                </a:lnTo>
                <a:lnTo>
                  <a:pt x="819" y="1142"/>
                </a:lnTo>
                <a:lnTo>
                  <a:pt x="813" y="1142"/>
                </a:lnTo>
                <a:lnTo>
                  <a:pt x="806" y="1142"/>
                </a:lnTo>
                <a:lnTo>
                  <a:pt x="800" y="1142"/>
                </a:lnTo>
                <a:lnTo>
                  <a:pt x="794" y="1140"/>
                </a:lnTo>
                <a:lnTo>
                  <a:pt x="790" y="1138"/>
                </a:lnTo>
                <a:lnTo>
                  <a:pt x="785" y="1134"/>
                </a:lnTo>
                <a:lnTo>
                  <a:pt x="781" y="1132"/>
                </a:lnTo>
                <a:lnTo>
                  <a:pt x="777" y="1129"/>
                </a:lnTo>
                <a:lnTo>
                  <a:pt x="775" y="1123"/>
                </a:lnTo>
                <a:lnTo>
                  <a:pt x="773" y="1119"/>
                </a:lnTo>
                <a:lnTo>
                  <a:pt x="771" y="1113"/>
                </a:lnTo>
                <a:lnTo>
                  <a:pt x="771" y="1107"/>
                </a:lnTo>
                <a:lnTo>
                  <a:pt x="771" y="1100"/>
                </a:lnTo>
                <a:lnTo>
                  <a:pt x="771" y="1092"/>
                </a:lnTo>
                <a:lnTo>
                  <a:pt x="771" y="1084"/>
                </a:lnTo>
                <a:lnTo>
                  <a:pt x="773" y="1077"/>
                </a:lnTo>
                <a:lnTo>
                  <a:pt x="775" y="1067"/>
                </a:lnTo>
                <a:lnTo>
                  <a:pt x="775" y="1058"/>
                </a:lnTo>
                <a:lnTo>
                  <a:pt x="773" y="1046"/>
                </a:lnTo>
                <a:lnTo>
                  <a:pt x="769" y="1035"/>
                </a:lnTo>
                <a:lnTo>
                  <a:pt x="765" y="1021"/>
                </a:lnTo>
                <a:lnTo>
                  <a:pt x="760" y="1006"/>
                </a:lnTo>
                <a:lnTo>
                  <a:pt x="752" y="990"/>
                </a:lnTo>
                <a:lnTo>
                  <a:pt x="744" y="973"/>
                </a:lnTo>
                <a:lnTo>
                  <a:pt x="735" y="954"/>
                </a:lnTo>
                <a:lnTo>
                  <a:pt x="723" y="935"/>
                </a:lnTo>
                <a:lnTo>
                  <a:pt x="712" y="914"/>
                </a:lnTo>
                <a:lnTo>
                  <a:pt x="698" y="893"/>
                </a:lnTo>
                <a:lnTo>
                  <a:pt x="683" y="869"/>
                </a:lnTo>
                <a:lnTo>
                  <a:pt x="668" y="846"/>
                </a:lnTo>
                <a:lnTo>
                  <a:pt x="648" y="820"/>
                </a:lnTo>
                <a:lnTo>
                  <a:pt x="629" y="795"/>
                </a:lnTo>
                <a:lnTo>
                  <a:pt x="610" y="766"/>
                </a:lnTo>
                <a:lnTo>
                  <a:pt x="627" y="770"/>
                </a:lnTo>
                <a:lnTo>
                  <a:pt x="644" y="775"/>
                </a:lnTo>
                <a:lnTo>
                  <a:pt x="662" y="779"/>
                </a:lnTo>
                <a:lnTo>
                  <a:pt x="677" y="783"/>
                </a:lnTo>
                <a:lnTo>
                  <a:pt x="691" y="785"/>
                </a:lnTo>
                <a:lnTo>
                  <a:pt x="704" y="789"/>
                </a:lnTo>
                <a:lnTo>
                  <a:pt x="716" y="791"/>
                </a:lnTo>
                <a:lnTo>
                  <a:pt x="725" y="795"/>
                </a:lnTo>
                <a:lnTo>
                  <a:pt x="735" y="797"/>
                </a:lnTo>
                <a:lnTo>
                  <a:pt x="744" y="798"/>
                </a:lnTo>
                <a:lnTo>
                  <a:pt x="752" y="800"/>
                </a:lnTo>
                <a:lnTo>
                  <a:pt x="758" y="800"/>
                </a:lnTo>
                <a:lnTo>
                  <a:pt x="763" y="802"/>
                </a:lnTo>
                <a:lnTo>
                  <a:pt x="769" y="802"/>
                </a:lnTo>
                <a:lnTo>
                  <a:pt x="773" y="802"/>
                </a:lnTo>
                <a:lnTo>
                  <a:pt x="775" y="804"/>
                </a:lnTo>
                <a:lnTo>
                  <a:pt x="777" y="802"/>
                </a:lnTo>
                <a:lnTo>
                  <a:pt x="779" y="802"/>
                </a:lnTo>
                <a:lnTo>
                  <a:pt x="781" y="800"/>
                </a:lnTo>
                <a:lnTo>
                  <a:pt x="783" y="798"/>
                </a:lnTo>
                <a:lnTo>
                  <a:pt x="785" y="797"/>
                </a:lnTo>
                <a:lnTo>
                  <a:pt x="785" y="793"/>
                </a:lnTo>
                <a:lnTo>
                  <a:pt x="787" y="787"/>
                </a:lnTo>
                <a:lnTo>
                  <a:pt x="788" y="783"/>
                </a:lnTo>
                <a:lnTo>
                  <a:pt x="788" y="777"/>
                </a:lnTo>
                <a:lnTo>
                  <a:pt x="790" y="772"/>
                </a:lnTo>
                <a:lnTo>
                  <a:pt x="792" y="764"/>
                </a:lnTo>
                <a:lnTo>
                  <a:pt x="792" y="756"/>
                </a:lnTo>
                <a:lnTo>
                  <a:pt x="794" y="747"/>
                </a:lnTo>
                <a:lnTo>
                  <a:pt x="796" y="737"/>
                </a:lnTo>
                <a:lnTo>
                  <a:pt x="798" y="727"/>
                </a:lnTo>
                <a:lnTo>
                  <a:pt x="800" y="716"/>
                </a:lnTo>
                <a:lnTo>
                  <a:pt x="802" y="706"/>
                </a:lnTo>
                <a:lnTo>
                  <a:pt x="804" y="695"/>
                </a:lnTo>
                <a:lnTo>
                  <a:pt x="806" y="681"/>
                </a:lnTo>
                <a:lnTo>
                  <a:pt x="808" y="668"/>
                </a:lnTo>
                <a:lnTo>
                  <a:pt x="810" y="655"/>
                </a:lnTo>
                <a:lnTo>
                  <a:pt x="810" y="639"/>
                </a:lnTo>
                <a:lnTo>
                  <a:pt x="811" y="622"/>
                </a:lnTo>
                <a:lnTo>
                  <a:pt x="811" y="605"/>
                </a:lnTo>
                <a:lnTo>
                  <a:pt x="811" y="585"/>
                </a:lnTo>
                <a:lnTo>
                  <a:pt x="813" y="566"/>
                </a:lnTo>
                <a:lnTo>
                  <a:pt x="813" y="545"/>
                </a:lnTo>
                <a:lnTo>
                  <a:pt x="813" y="522"/>
                </a:lnTo>
                <a:lnTo>
                  <a:pt x="813" y="501"/>
                </a:lnTo>
                <a:lnTo>
                  <a:pt x="813" y="476"/>
                </a:lnTo>
                <a:lnTo>
                  <a:pt x="813" y="453"/>
                </a:lnTo>
                <a:lnTo>
                  <a:pt x="813" y="426"/>
                </a:lnTo>
                <a:lnTo>
                  <a:pt x="811" y="401"/>
                </a:lnTo>
                <a:lnTo>
                  <a:pt x="810" y="378"/>
                </a:lnTo>
                <a:lnTo>
                  <a:pt x="806" y="355"/>
                </a:lnTo>
                <a:lnTo>
                  <a:pt x="804" y="332"/>
                </a:lnTo>
                <a:lnTo>
                  <a:pt x="802" y="313"/>
                </a:lnTo>
                <a:lnTo>
                  <a:pt x="800" y="294"/>
                </a:lnTo>
                <a:lnTo>
                  <a:pt x="796" y="274"/>
                </a:lnTo>
                <a:lnTo>
                  <a:pt x="794" y="259"/>
                </a:lnTo>
                <a:lnTo>
                  <a:pt x="792" y="244"/>
                </a:lnTo>
                <a:lnTo>
                  <a:pt x="788" y="230"/>
                </a:lnTo>
                <a:lnTo>
                  <a:pt x="787" y="217"/>
                </a:lnTo>
                <a:lnTo>
                  <a:pt x="785" y="205"/>
                </a:lnTo>
                <a:lnTo>
                  <a:pt x="783" y="196"/>
                </a:lnTo>
                <a:lnTo>
                  <a:pt x="779" y="188"/>
                </a:lnTo>
                <a:lnTo>
                  <a:pt x="777" y="180"/>
                </a:lnTo>
                <a:lnTo>
                  <a:pt x="775" y="175"/>
                </a:lnTo>
                <a:lnTo>
                  <a:pt x="771" y="173"/>
                </a:lnTo>
                <a:lnTo>
                  <a:pt x="767" y="171"/>
                </a:lnTo>
                <a:lnTo>
                  <a:pt x="762" y="169"/>
                </a:lnTo>
                <a:lnTo>
                  <a:pt x="756" y="169"/>
                </a:lnTo>
                <a:lnTo>
                  <a:pt x="746" y="167"/>
                </a:lnTo>
                <a:lnTo>
                  <a:pt x="737" y="167"/>
                </a:lnTo>
                <a:lnTo>
                  <a:pt x="725" y="165"/>
                </a:lnTo>
                <a:lnTo>
                  <a:pt x="714" y="165"/>
                </a:lnTo>
                <a:lnTo>
                  <a:pt x="698" y="165"/>
                </a:lnTo>
                <a:lnTo>
                  <a:pt x="685" y="165"/>
                </a:lnTo>
                <a:lnTo>
                  <a:pt x="668" y="167"/>
                </a:lnTo>
                <a:lnTo>
                  <a:pt x="648" y="167"/>
                </a:lnTo>
                <a:lnTo>
                  <a:pt x="629" y="169"/>
                </a:lnTo>
                <a:lnTo>
                  <a:pt x="610" y="169"/>
                </a:lnTo>
                <a:lnTo>
                  <a:pt x="587" y="171"/>
                </a:lnTo>
                <a:lnTo>
                  <a:pt x="564" y="173"/>
                </a:lnTo>
                <a:lnTo>
                  <a:pt x="539" y="175"/>
                </a:lnTo>
                <a:lnTo>
                  <a:pt x="512" y="178"/>
                </a:lnTo>
                <a:lnTo>
                  <a:pt x="485" y="180"/>
                </a:lnTo>
                <a:lnTo>
                  <a:pt x="456" y="184"/>
                </a:lnTo>
                <a:lnTo>
                  <a:pt x="426" y="186"/>
                </a:lnTo>
                <a:lnTo>
                  <a:pt x="393" y="190"/>
                </a:lnTo>
                <a:lnTo>
                  <a:pt x="360" y="194"/>
                </a:lnTo>
                <a:lnTo>
                  <a:pt x="326" y="198"/>
                </a:lnTo>
                <a:lnTo>
                  <a:pt x="289" y="202"/>
                </a:lnTo>
                <a:lnTo>
                  <a:pt x="253" y="207"/>
                </a:lnTo>
                <a:lnTo>
                  <a:pt x="215" y="211"/>
                </a:lnTo>
                <a:lnTo>
                  <a:pt x="174" y="217"/>
                </a:lnTo>
                <a:lnTo>
                  <a:pt x="132" y="221"/>
                </a:lnTo>
                <a:lnTo>
                  <a:pt x="90" y="226"/>
                </a:lnTo>
                <a:lnTo>
                  <a:pt x="44" y="232"/>
                </a:lnTo>
                <a:lnTo>
                  <a:pt x="0" y="238"/>
                </a:lnTo>
                <a:lnTo>
                  <a:pt x="0" y="188"/>
                </a:lnTo>
                <a:lnTo>
                  <a:pt x="0" y="138"/>
                </a:lnTo>
                <a:lnTo>
                  <a:pt x="21" y="138"/>
                </a:lnTo>
                <a:lnTo>
                  <a:pt x="44" y="136"/>
                </a:lnTo>
                <a:lnTo>
                  <a:pt x="67" y="136"/>
                </a:lnTo>
                <a:lnTo>
                  <a:pt x="90" y="134"/>
                </a:lnTo>
                <a:lnTo>
                  <a:pt x="115" y="134"/>
                </a:lnTo>
                <a:lnTo>
                  <a:pt x="140" y="132"/>
                </a:lnTo>
                <a:lnTo>
                  <a:pt x="167" y="130"/>
                </a:lnTo>
                <a:lnTo>
                  <a:pt x="193" y="127"/>
                </a:lnTo>
                <a:lnTo>
                  <a:pt x="220" y="125"/>
                </a:lnTo>
                <a:lnTo>
                  <a:pt x="249" y="121"/>
                </a:lnTo>
                <a:lnTo>
                  <a:pt x="280" y="115"/>
                </a:lnTo>
                <a:lnTo>
                  <a:pt x="311" y="111"/>
                </a:lnTo>
                <a:lnTo>
                  <a:pt x="343" y="106"/>
                </a:lnTo>
                <a:lnTo>
                  <a:pt x="376" y="100"/>
                </a:lnTo>
                <a:lnTo>
                  <a:pt x="408" y="94"/>
                </a:lnTo>
                <a:lnTo>
                  <a:pt x="445" y="88"/>
                </a:lnTo>
                <a:lnTo>
                  <a:pt x="478" y="82"/>
                </a:lnTo>
                <a:lnTo>
                  <a:pt x="508" y="79"/>
                </a:lnTo>
                <a:lnTo>
                  <a:pt x="537" y="73"/>
                </a:lnTo>
                <a:lnTo>
                  <a:pt x="564" y="69"/>
                </a:lnTo>
                <a:lnTo>
                  <a:pt x="589" y="63"/>
                </a:lnTo>
                <a:lnTo>
                  <a:pt x="612" y="59"/>
                </a:lnTo>
                <a:lnTo>
                  <a:pt x="633" y="56"/>
                </a:lnTo>
                <a:lnTo>
                  <a:pt x="643" y="54"/>
                </a:lnTo>
                <a:lnTo>
                  <a:pt x="652" y="52"/>
                </a:lnTo>
                <a:lnTo>
                  <a:pt x="662" y="50"/>
                </a:lnTo>
                <a:lnTo>
                  <a:pt x="669" y="48"/>
                </a:lnTo>
                <a:lnTo>
                  <a:pt x="679" y="46"/>
                </a:lnTo>
                <a:lnTo>
                  <a:pt x="687" y="44"/>
                </a:lnTo>
                <a:lnTo>
                  <a:pt x="692" y="42"/>
                </a:lnTo>
                <a:lnTo>
                  <a:pt x="700" y="40"/>
                </a:lnTo>
                <a:lnTo>
                  <a:pt x="706" y="38"/>
                </a:lnTo>
                <a:lnTo>
                  <a:pt x="712" y="36"/>
                </a:lnTo>
                <a:lnTo>
                  <a:pt x="716" y="35"/>
                </a:lnTo>
                <a:lnTo>
                  <a:pt x="721" y="33"/>
                </a:lnTo>
                <a:lnTo>
                  <a:pt x="725" y="31"/>
                </a:lnTo>
                <a:lnTo>
                  <a:pt x="729" y="31"/>
                </a:lnTo>
                <a:lnTo>
                  <a:pt x="731" y="29"/>
                </a:lnTo>
                <a:lnTo>
                  <a:pt x="733" y="27"/>
                </a:lnTo>
                <a:lnTo>
                  <a:pt x="737" y="25"/>
                </a:lnTo>
                <a:lnTo>
                  <a:pt x="746" y="15"/>
                </a:lnTo>
                <a:lnTo>
                  <a:pt x="752" y="11"/>
                </a:lnTo>
                <a:lnTo>
                  <a:pt x="758" y="8"/>
                </a:lnTo>
                <a:lnTo>
                  <a:pt x="763" y="4"/>
                </a:lnTo>
                <a:lnTo>
                  <a:pt x="771" y="2"/>
                </a:lnTo>
                <a:lnTo>
                  <a:pt x="779" y="0"/>
                </a:lnTo>
                <a:lnTo>
                  <a:pt x="788" y="0"/>
                </a:lnTo>
                <a:lnTo>
                  <a:pt x="790" y="0"/>
                </a:lnTo>
                <a:lnTo>
                  <a:pt x="794" y="0"/>
                </a:lnTo>
                <a:lnTo>
                  <a:pt x="798" y="0"/>
                </a:lnTo>
                <a:lnTo>
                  <a:pt x="802" y="2"/>
                </a:lnTo>
                <a:lnTo>
                  <a:pt x="811" y="4"/>
                </a:lnTo>
                <a:lnTo>
                  <a:pt x="823" y="8"/>
                </a:lnTo>
                <a:lnTo>
                  <a:pt x="835" y="11"/>
                </a:lnTo>
                <a:lnTo>
                  <a:pt x="848" y="15"/>
                </a:lnTo>
                <a:lnTo>
                  <a:pt x="863" y="19"/>
                </a:lnTo>
                <a:lnTo>
                  <a:pt x="877" y="25"/>
                </a:lnTo>
                <a:lnTo>
                  <a:pt x="906" y="44"/>
                </a:lnTo>
                <a:lnTo>
                  <a:pt x="919" y="54"/>
                </a:lnTo>
                <a:lnTo>
                  <a:pt x="932" y="61"/>
                </a:lnTo>
                <a:lnTo>
                  <a:pt x="946" y="71"/>
                </a:lnTo>
                <a:lnTo>
                  <a:pt x="957" y="81"/>
                </a:lnTo>
                <a:lnTo>
                  <a:pt x="969" y="90"/>
                </a:lnTo>
                <a:lnTo>
                  <a:pt x="978" y="100"/>
                </a:lnTo>
                <a:lnTo>
                  <a:pt x="988" y="109"/>
                </a:lnTo>
                <a:lnTo>
                  <a:pt x="996" y="119"/>
                </a:lnTo>
                <a:lnTo>
                  <a:pt x="1002" y="127"/>
                </a:lnTo>
                <a:lnTo>
                  <a:pt x="1007" y="136"/>
                </a:lnTo>
                <a:lnTo>
                  <a:pt x="1011" y="144"/>
                </a:lnTo>
                <a:lnTo>
                  <a:pt x="1015" y="152"/>
                </a:lnTo>
                <a:lnTo>
                  <a:pt x="1017" y="157"/>
                </a:lnTo>
                <a:lnTo>
                  <a:pt x="1017" y="163"/>
                </a:lnTo>
                <a:lnTo>
                  <a:pt x="1017" y="173"/>
                </a:lnTo>
                <a:lnTo>
                  <a:pt x="1015" y="182"/>
                </a:lnTo>
                <a:lnTo>
                  <a:pt x="1013" y="190"/>
                </a:lnTo>
                <a:lnTo>
                  <a:pt x="1009" y="200"/>
                </a:lnTo>
                <a:lnTo>
                  <a:pt x="1005" y="207"/>
                </a:lnTo>
                <a:lnTo>
                  <a:pt x="1002" y="215"/>
                </a:lnTo>
                <a:lnTo>
                  <a:pt x="996" y="221"/>
                </a:lnTo>
                <a:lnTo>
                  <a:pt x="992" y="226"/>
                </a:lnTo>
                <a:lnTo>
                  <a:pt x="990" y="228"/>
                </a:lnTo>
                <a:lnTo>
                  <a:pt x="986" y="232"/>
                </a:lnTo>
                <a:lnTo>
                  <a:pt x="984" y="236"/>
                </a:lnTo>
                <a:lnTo>
                  <a:pt x="982" y="240"/>
                </a:lnTo>
                <a:lnTo>
                  <a:pt x="980" y="246"/>
                </a:lnTo>
                <a:lnTo>
                  <a:pt x="978" y="251"/>
                </a:lnTo>
                <a:lnTo>
                  <a:pt x="977" y="257"/>
                </a:lnTo>
                <a:lnTo>
                  <a:pt x="975" y="263"/>
                </a:lnTo>
                <a:lnTo>
                  <a:pt x="973" y="271"/>
                </a:lnTo>
                <a:lnTo>
                  <a:pt x="971" y="278"/>
                </a:lnTo>
                <a:lnTo>
                  <a:pt x="969" y="288"/>
                </a:lnTo>
                <a:lnTo>
                  <a:pt x="969" y="296"/>
                </a:lnTo>
                <a:lnTo>
                  <a:pt x="967" y="305"/>
                </a:lnTo>
                <a:lnTo>
                  <a:pt x="967" y="317"/>
                </a:lnTo>
                <a:lnTo>
                  <a:pt x="967" y="328"/>
                </a:lnTo>
                <a:lnTo>
                  <a:pt x="967" y="340"/>
                </a:lnTo>
                <a:lnTo>
                  <a:pt x="967" y="351"/>
                </a:lnTo>
                <a:lnTo>
                  <a:pt x="967" y="365"/>
                </a:lnTo>
                <a:lnTo>
                  <a:pt x="967" y="378"/>
                </a:lnTo>
                <a:lnTo>
                  <a:pt x="967" y="393"/>
                </a:lnTo>
                <a:lnTo>
                  <a:pt x="967" y="409"/>
                </a:lnTo>
                <a:lnTo>
                  <a:pt x="967" y="426"/>
                </a:lnTo>
                <a:lnTo>
                  <a:pt x="967" y="443"/>
                </a:lnTo>
                <a:lnTo>
                  <a:pt x="967" y="463"/>
                </a:lnTo>
                <a:lnTo>
                  <a:pt x="967" y="482"/>
                </a:lnTo>
                <a:lnTo>
                  <a:pt x="967" y="503"/>
                </a:lnTo>
                <a:lnTo>
                  <a:pt x="967" y="526"/>
                </a:lnTo>
                <a:lnTo>
                  <a:pt x="967" y="549"/>
                </a:lnTo>
                <a:lnTo>
                  <a:pt x="967" y="574"/>
                </a:lnTo>
                <a:lnTo>
                  <a:pt x="967" y="599"/>
                </a:lnTo>
                <a:lnTo>
                  <a:pt x="967" y="626"/>
                </a:lnTo>
                <a:lnTo>
                  <a:pt x="967" y="653"/>
                </a:lnTo>
                <a:lnTo>
                  <a:pt x="965" y="683"/>
                </a:lnTo>
                <a:lnTo>
                  <a:pt x="965" y="712"/>
                </a:lnTo>
                <a:lnTo>
                  <a:pt x="963" y="739"/>
                </a:lnTo>
                <a:lnTo>
                  <a:pt x="961" y="766"/>
                </a:lnTo>
                <a:lnTo>
                  <a:pt x="959" y="791"/>
                </a:lnTo>
                <a:lnTo>
                  <a:pt x="955" y="816"/>
                </a:lnTo>
                <a:lnTo>
                  <a:pt x="952" y="841"/>
                </a:lnTo>
                <a:lnTo>
                  <a:pt x="948" y="864"/>
                </a:lnTo>
                <a:lnTo>
                  <a:pt x="944" y="885"/>
                </a:lnTo>
                <a:lnTo>
                  <a:pt x="940" y="906"/>
                </a:lnTo>
                <a:lnTo>
                  <a:pt x="934" y="925"/>
                </a:lnTo>
                <a:lnTo>
                  <a:pt x="929" y="946"/>
                </a:lnTo>
                <a:lnTo>
                  <a:pt x="923" y="964"/>
                </a:lnTo>
                <a:lnTo>
                  <a:pt x="917" y="983"/>
                </a:lnTo>
                <a:lnTo>
                  <a:pt x="909" y="1000"/>
                </a:lnTo>
                <a:lnTo>
                  <a:pt x="904" y="10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187"/>
          <p:cNvSpPr/>
          <p:nvPr/>
        </p:nvSpPr>
        <p:spPr>
          <a:xfrm>
            <a:off x="6618240" y="4276800"/>
            <a:ext cx="149400" cy="711000"/>
          </a:xfrm>
          <a:custGeom>
            <a:avLst/>
            <a:gdLst/>
            <a:ahLst/>
            <a:rect l="l" t="t" r="r" b="b"/>
            <a:pathLst>
              <a:path w="188" h="897">
                <a:moveTo>
                  <a:pt x="10" y="81"/>
                </a:moveTo>
                <a:lnTo>
                  <a:pt x="6" y="68"/>
                </a:lnTo>
                <a:lnTo>
                  <a:pt x="2" y="54"/>
                </a:lnTo>
                <a:lnTo>
                  <a:pt x="0" y="45"/>
                </a:lnTo>
                <a:lnTo>
                  <a:pt x="0" y="33"/>
                </a:lnTo>
                <a:lnTo>
                  <a:pt x="0" y="25"/>
                </a:lnTo>
                <a:lnTo>
                  <a:pt x="2" y="18"/>
                </a:lnTo>
                <a:lnTo>
                  <a:pt x="6" y="12"/>
                </a:lnTo>
                <a:lnTo>
                  <a:pt x="10" y="6"/>
                </a:lnTo>
                <a:lnTo>
                  <a:pt x="12" y="4"/>
                </a:lnTo>
                <a:lnTo>
                  <a:pt x="16" y="2"/>
                </a:lnTo>
                <a:lnTo>
                  <a:pt x="21" y="0"/>
                </a:lnTo>
                <a:lnTo>
                  <a:pt x="27" y="0"/>
                </a:lnTo>
                <a:lnTo>
                  <a:pt x="33" y="0"/>
                </a:lnTo>
                <a:lnTo>
                  <a:pt x="41" y="0"/>
                </a:lnTo>
                <a:lnTo>
                  <a:pt x="50" y="2"/>
                </a:lnTo>
                <a:lnTo>
                  <a:pt x="60" y="4"/>
                </a:lnTo>
                <a:lnTo>
                  <a:pt x="71" y="6"/>
                </a:lnTo>
                <a:lnTo>
                  <a:pt x="85" y="8"/>
                </a:lnTo>
                <a:lnTo>
                  <a:pt x="98" y="10"/>
                </a:lnTo>
                <a:lnTo>
                  <a:pt x="113" y="14"/>
                </a:lnTo>
                <a:lnTo>
                  <a:pt x="129" y="18"/>
                </a:lnTo>
                <a:lnTo>
                  <a:pt x="148" y="22"/>
                </a:lnTo>
                <a:lnTo>
                  <a:pt x="167" y="25"/>
                </a:lnTo>
                <a:lnTo>
                  <a:pt x="188" y="31"/>
                </a:lnTo>
                <a:lnTo>
                  <a:pt x="188" y="85"/>
                </a:lnTo>
                <a:lnTo>
                  <a:pt x="186" y="135"/>
                </a:lnTo>
                <a:lnTo>
                  <a:pt x="186" y="185"/>
                </a:lnTo>
                <a:lnTo>
                  <a:pt x="186" y="235"/>
                </a:lnTo>
                <a:lnTo>
                  <a:pt x="186" y="281"/>
                </a:lnTo>
                <a:lnTo>
                  <a:pt x="186" y="325"/>
                </a:lnTo>
                <a:lnTo>
                  <a:pt x="186" y="369"/>
                </a:lnTo>
                <a:lnTo>
                  <a:pt x="184" y="409"/>
                </a:lnTo>
                <a:lnTo>
                  <a:pt x="184" y="450"/>
                </a:lnTo>
                <a:lnTo>
                  <a:pt x="183" y="488"/>
                </a:lnTo>
                <a:lnTo>
                  <a:pt x="183" y="524"/>
                </a:lnTo>
                <a:lnTo>
                  <a:pt x="181" y="559"/>
                </a:lnTo>
                <a:lnTo>
                  <a:pt x="181" y="592"/>
                </a:lnTo>
                <a:lnTo>
                  <a:pt x="179" y="622"/>
                </a:lnTo>
                <a:lnTo>
                  <a:pt x="179" y="653"/>
                </a:lnTo>
                <a:lnTo>
                  <a:pt x="177" y="680"/>
                </a:lnTo>
                <a:lnTo>
                  <a:pt x="175" y="707"/>
                </a:lnTo>
                <a:lnTo>
                  <a:pt x="173" y="732"/>
                </a:lnTo>
                <a:lnTo>
                  <a:pt x="171" y="755"/>
                </a:lnTo>
                <a:lnTo>
                  <a:pt x="169" y="776"/>
                </a:lnTo>
                <a:lnTo>
                  <a:pt x="167" y="795"/>
                </a:lnTo>
                <a:lnTo>
                  <a:pt x="165" y="812"/>
                </a:lnTo>
                <a:lnTo>
                  <a:pt x="163" y="830"/>
                </a:lnTo>
                <a:lnTo>
                  <a:pt x="161" y="843"/>
                </a:lnTo>
                <a:lnTo>
                  <a:pt x="158" y="857"/>
                </a:lnTo>
                <a:lnTo>
                  <a:pt x="156" y="866"/>
                </a:lnTo>
                <a:lnTo>
                  <a:pt x="152" y="876"/>
                </a:lnTo>
                <a:lnTo>
                  <a:pt x="150" y="883"/>
                </a:lnTo>
                <a:lnTo>
                  <a:pt x="146" y="889"/>
                </a:lnTo>
                <a:lnTo>
                  <a:pt x="144" y="895"/>
                </a:lnTo>
                <a:lnTo>
                  <a:pt x="140" y="897"/>
                </a:lnTo>
                <a:lnTo>
                  <a:pt x="136" y="897"/>
                </a:lnTo>
                <a:lnTo>
                  <a:pt x="129" y="897"/>
                </a:lnTo>
                <a:lnTo>
                  <a:pt x="123" y="895"/>
                </a:lnTo>
                <a:lnTo>
                  <a:pt x="117" y="893"/>
                </a:lnTo>
                <a:lnTo>
                  <a:pt x="112" y="891"/>
                </a:lnTo>
                <a:lnTo>
                  <a:pt x="106" y="887"/>
                </a:lnTo>
                <a:lnTo>
                  <a:pt x="100" y="881"/>
                </a:lnTo>
                <a:lnTo>
                  <a:pt x="94" y="878"/>
                </a:lnTo>
                <a:lnTo>
                  <a:pt x="90" y="870"/>
                </a:lnTo>
                <a:lnTo>
                  <a:pt x="87" y="864"/>
                </a:lnTo>
                <a:lnTo>
                  <a:pt x="83" y="857"/>
                </a:lnTo>
                <a:lnTo>
                  <a:pt x="81" y="849"/>
                </a:lnTo>
                <a:lnTo>
                  <a:pt x="77" y="839"/>
                </a:lnTo>
                <a:lnTo>
                  <a:pt x="75" y="830"/>
                </a:lnTo>
                <a:lnTo>
                  <a:pt x="75" y="820"/>
                </a:lnTo>
                <a:lnTo>
                  <a:pt x="73" y="809"/>
                </a:lnTo>
                <a:lnTo>
                  <a:pt x="73" y="797"/>
                </a:lnTo>
                <a:lnTo>
                  <a:pt x="73" y="784"/>
                </a:lnTo>
                <a:lnTo>
                  <a:pt x="73" y="770"/>
                </a:lnTo>
                <a:lnTo>
                  <a:pt x="73" y="755"/>
                </a:lnTo>
                <a:lnTo>
                  <a:pt x="73" y="736"/>
                </a:lnTo>
                <a:lnTo>
                  <a:pt x="73" y="716"/>
                </a:lnTo>
                <a:lnTo>
                  <a:pt x="73" y="695"/>
                </a:lnTo>
                <a:lnTo>
                  <a:pt x="71" y="674"/>
                </a:lnTo>
                <a:lnTo>
                  <a:pt x="71" y="649"/>
                </a:lnTo>
                <a:lnTo>
                  <a:pt x="71" y="624"/>
                </a:lnTo>
                <a:lnTo>
                  <a:pt x="69" y="597"/>
                </a:lnTo>
                <a:lnTo>
                  <a:pt x="69" y="569"/>
                </a:lnTo>
                <a:lnTo>
                  <a:pt x="67" y="540"/>
                </a:lnTo>
                <a:lnTo>
                  <a:pt x="65" y="507"/>
                </a:lnTo>
                <a:lnTo>
                  <a:pt x="64" y="476"/>
                </a:lnTo>
                <a:lnTo>
                  <a:pt x="62" y="442"/>
                </a:lnTo>
                <a:lnTo>
                  <a:pt x="60" y="407"/>
                </a:lnTo>
                <a:lnTo>
                  <a:pt x="60" y="390"/>
                </a:lnTo>
                <a:lnTo>
                  <a:pt x="58" y="373"/>
                </a:lnTo>
                <a:lnTo>
                  <a:pt x="56" y="357"/>
                </a:lnTo>
                <a:lnTo>
                  <a:pt x="56" y="340"/>
                </a:lnTo>
                <a:lnTo>
                  <a:pt x="54" y="325"/>
                </a:lnTo>
                <a:lnTo>
                  <a:pt x="54" y="311"/>
                </a:lnTo>
                <a:lnTo>
                  <a:pt x="52" y="296"/>
                </a:lnTo>
                <a:lnTo>
                  <a:pt x="50" y="283"/>
                </a:lnTo>
                <a:lnTo>
                  <a:pt x="50" y="269"/>
                </a:lnTo>
                <a:lnTo>
                  <a:pt x="48" y="256"/>
                </a:lnTo>
                <a:lnTo>
                  <a:pt x="44" y="231"/>
                </a:lnTo>
                <a:lnTo>
                  <a:pt x="42" y="208"/>
                </a:lnTo>
                <a:lnTo>
                  <a:pt x="39" y="189"/>
                </a:lnTo>
                <a:lnTo>
                  <a:pt x="37" y="169"/>
                </a:lnTo>
                <a:lnTo>
                  <a:pt x="33" y="152"/>
                </a:lnTo>
                <a:lnTo>
                  <a:pt x="29" y="135"/>
                </a:lnTo>
                <a:lnTo>
                  <a:pt x="25" y="121"/>
                </a:lnTo>
                <a:lnTo>
                  <a:pt x="21" y="110"/>
                </a:lnTo>
                <a:lnTo>
                  <a:pt x="17" y="98"/>
                </a:lnTo>
                <a:lnTo>
                  <a:pt x="14" y="89"/>
                </a:lnTo>
                <a:lnTo>
                  <a:pt x="10" y="8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188"/>
          <p:cNvSpPr/>
          <p:nvPr/>
        </p:nvSpPr>
        <p:spPr>
          <a:xfrm>
            <a:off x="7091280" y="2819520"/>
            <a:ext cx="211320" cy="1212840"/>
          </a:xfrm>
          <a:custGeom>
            <a:avLst/>
            <a:gdLst/>
            <a:ahLst/>
            <a:rect l="l" t="t" r="r" b="b"/>
            <a:pathLst>
              <a:path w="267" h="1527">
                <a:moveTo>
                  <a:pt x="242" y="195"/>
                </a:moveTo>
                <a:lnTo>
                  <a:pt x="240" y="201"/>
                </a:lnTo>
                <a:lnTo>
                  <a:pt x="238" y="207"/>
                </a:lnTo>
                <a:lnTo>
                  <a:pt x="236" y="213"/>
                </a:lnTo>
                <a:lnTo>
                  <a:pt x="234" y="220"/>
                </a:lnTo>
                <a:lnTo>
                  <a:pt x="232" y="228"/>
                </a:lnTo>
                <a:lnTo>
                  <a:pt x="232" y="236"/>
                </a:lnTo>
                <a:lnTo>
                  <a:pt x="231" y="245"/>
                </a:lnTo>
                <a:lnTo>
                  <a:pt x="231" y="255"/>
                </a:lnTo>
                <a:lnTo>
                  <a:pt x="231" y="264"/>
                </a:lnTo>
                <a:lnTo>
                  <a:pt x="231" y="276"/>
                </a:lnTo>
                <a:lnTo>
                  <a:pt x="229" y="287"/>
                </a:lnTo>
                <a:lnTo>
                  <a:pt x="229" y="301"/>
                </a:lnTo>
                <a:lnTo>
                  <a:pt x="229" y="314"/>
                </a:lnTo>
                <a:lnTo>
                  <a:pt x="229" y="328"/>
                </a:lnTo>
                <a:lnTo>
                  <a:pt x="229" y="343"/>
                </a:lnTo>
                <a:lnTo>
                  <a:pt x="229" y="360"/>
                </a:lnTo>
                <a:lnTo>
                  <a:pt x="225" y="393"/>
                </a:lnTo>
                <a:lnTo>
                  <a:pt x="221" y="426"/>
                </a:lnTo>
                <a:lnTo>
                  <a:pt x="219" y="460"/>
                </a:lnTo>
                <a:lnTo>
                  <a:pt x="217" y="495"/>
                </a:lnTo>
                <a:lnTo>
                  <a:pt x="213" y="531"/>
                </a:lnTo>
                <a:lnTo>
                  <a:pt x="211" y="568"/>
                </a:lnTo>
                <a:lnTo>
                  <a:pt x="209" y="587"/>
                </a:lnTo>
                <a:lnTo>
                  <a:pt x="208" y="606"/>
                </a:lnTo>
                <a:lnTo>
                  <a:pt x="206" y="627"/>
                </a:lnTo>
                <a:lnTo>
                  <a:pt x="204" y="648"/>
                </a:lnTo>
                <a:lnTo>
                  <a:pt x="202" y="660"/>
                </a:lnTo>
                <a:lnTo>
                  <a:pt x="202" y="671"/>
                </a:lnTo>
                <a:lnTo>
                  <a:pt x="200" y="685"/>
                </a:lnTo>
                <a:lnTo>
                  <a:pt x="198" y="700"/>
                </a:lnTo>
                <a:lnTo>
                  <a:pt x="196" y="715"/>
                </a:lnTo>
                <a:lnTo>
                  <a:pt x="194" y="731"/>
                </a:lnTo>
                <a:lnTo>
                  <a:pt x="192" y="750"/>
                </a:lnTo>
                <a:lnTo>
                  <a:pt x="190" y="767"/>
                </a:lnTo>
                <a:lnTo>
                  <a:pt x="188" y="788"/>
                </a:lnTo>
                <a:lnTo>
                  <a:pt x="184" y="808"/>
                </a:lnTo>
                <a:lnTo>
                  <a:pt x="183" y="831"/>
                </a:lnTo>
                <a:lnTo>
                  <a:pt x="181" y="854"/>
                </a:lnTo>
                <a:lnTo>
                  <a:pt x="177" y="877"/>
                </a:lnTo>
                <a:lnTo>
                  <a:pt x="175" y="902"/>
                </a:lnTo>
                <a:lnTo>
                  <a:pt x="171" y="929"/>
                </a:lnTo>
                <a:lnTo>
                  <a:pt x="169" y="955"/>
                </a:lnTo>
                <a:lnTo>
                  <a:pt x="165" y="984"/>
                </a:lnTo>
                <a:lnTo>
                  <a:pt x="161" y="1013"/>
                </a:lnTo>
                <a:lnTo>
                  <a:pt x="160" y="1044"/>
                </a:lnTo>
                <a:lnTo>
                  <a:pt x="156" y="1074"/>
                </a:lnTo>
                <a:lnTo>
                  <a:pt x="152" y="1107"/>
                </a:lnTo>
                <a:lnTo>
                  <a:pt x="150" y="1140"/>
                </a:lnTo>
                <a:lnTo>
                  <a:pt x="146" y="1174"/>
                </a:lnTo>
                <a:lnTo>
                  <a:pt x="142" y="1211"/>
                </a:lnTo>
                <a:lnTo>
                  <a:pt x="138" y="1245"/>
                </a:lnTo>
                <a:lnTo>
                  <a:pt x="135" y="1284"/>
                </a:lnTo>
                <a:lnTo>
                  <a:pt x="133" y="1322"/>
                </a:lnTo>
                <a:lnTo>
                  <a:pt x="129" y="1360"/>
                </a:lnTo>
                <a:lnTo>
                  <a:pt x="125" y="1401"/>
                </a:lnTo>
                <a:lnTo>
                  <a:pt x="121" y="1443"/>
                </a:lnTo>
                <a:lnTo>
                  <a:pt x="117" y="1485"/>
                </a:lnTo>
                <a:lnTo>
                  <a:pt x="115" y="1527"/>
                </a:lnTo>
                <a:lnTo>
                  <a:pt x="58" y="1527"/>
                </a:lnTo>
                <a:lnTo>
                  <a:pt x="0" y="1527"/>
                </a:lnTo>
                <a:lnTo>
                  <a:pt x="4" y="1478"/>
                </a:lnTo>
                <a:lnTo>
                  <a:pt x="6" y="1428"/>
                </a:lnTo>
                <a:lnTo>
                  <a:pt x="10" y="1380"/>
                </a:lnTo>
                <a:lnTo>
                  <a:pt x="14" y="1334"/>
                </a:lnTo>
                <a:lnTo>
                  <a:pt x="16" y="1287"/>
                </a:lnTo>
                <a:lnTo>
                  <a:pt x="19" y="1241"/>
                </a:lnTo>
                <a:lnTo>
                  <a:pt x="23" y="1197"/>
                </a:lnTo>
                <a:lnTo>
                  <a:pt x="25" y="1155"/>
                </a:lnTo>
                <a:lnTo>
                  <a:pt x="29" y="1113"/>
                </a:lnTo>
                <a:lnTo>
                  <a:pt x="31" y="1073"/>
                </a:lnTo>
                <a:lnTo>
                  <a:pt x="35" y="1032"/>
                </a:lnTo>
                <a:lnTo>
                  <a:pt x="37" y="992"/>
                </a:lnTo>
                <a:lnTo>
                  <a:pt x="41" y="953"/>
                </a:lnTo>
                <a:lnTo>
                  <a:pt x="42" y="917"/>
                </a:lnTo>
                <a:lnTo>
                  <a:pt x="44" y="881"/>
                </a:lnTo>
                <a:lnTo>
                  <a:pt x="48" y="846"/>
                </a:lnTo>
                <a:lnTo>
                  <a:pt x="50" y="811"/>
                </a:lnTo>
                <a:lnTo>
                  <a:pt x="52" y="779"/>
                </a:lnTo>
                <a:lnTo>
                  <a:pt x="54" y="746"/>
                </a:lnTo>
                <a:lnTo>
                  <a:pt x="56" y="714"/>
                </a:lnTo>
                <a:lnTo>
                  <a:pt x="58" y="685"/>
                </a:lnTo>
                <a:lnTo>
                  <a:pt x="60" y="654"/>
                </a:lnTo>
                <a:lnTo>
                  <a:pt x="62" y="625"/>
                </a:lnTo>
                <a:lnTo>
                  <a:pt x="64" y="598"/>
                </a:lnTo>
                <a:lnTo>
                  <a:pt x="65" y="572"/>
                </a:lnTo>
                <a:lnTo>
                  <a:pt x="67" y="545"/>
                </a:lnTo>
                <a:lnTo>
                  <a:pt x="69" y="520"/>
                </a:lnTo>
                <a:lnTo>
                  <a:pt x="71" y="497"/>
                </a:lnTo>
                <a:lnTo>
                  <a:pt x="73" y="474"/>
                </a:lnTo>
                <a:lnTo>
                  <a:pt x="73" y="451"/>
                </a:lnTo>
                <a:lnTo>
                  <a:pt x="75" y="429"/>
                </a:lnTo>
                <a:lnTo>
                  <a:pt x="77" y="410"/>
                </a:lnTo>
                <a:lnTo>
                  <a:pt x="77" y="389"/>
                </a:lnTo>
                <a:lnTo>
                  <a:pt x="75" y="370"/>
                </a:lnTo>
                <a:lnTo>
                  <a:pt x="75" y="353"/>
                </a:lnTo>
                <a:lnTo>
                  <a:pt x="75" y="334"/>
                </a:lnTo>
                <a:lnTo>
                  <a:pt x="75" y="316"/>
                </a:lnTo>
                <a:lnTo>
                  <a:pt x="75" y="299"/>
                </a:lnTo>
                <a:lnTo>
                  <a:pt x="75" y="284"/>
                </a:lnTo>
                <a:lnTo>
                  <a:pt x="73" y="268"/>
                </a:lnTo>
                <a:lnTo>
                  <a:pt x="73" y="253"/>
                </a:lnTo>
                <a:lnTo>
                  <a:pt x="73" y="238"/>
                </a:lnTo>
                <a:lnTo>
                  <a:pt x="71" y="224"/>
                </a:lnTo>
                <a:lnTo>
                  <a:pt x="71" y="211"/>
                </a:lnTo>
                <a:lnTo>
                  <a:pt x="69" y="197"/>
                </a:lnTo>
                <a:lnTo>
                  <a:pt x="69" y="186"/>
                </a:lnTo>
                <a:lnTo>
                  <a:pt x="67" y="174"/>
                </a:lnTo>
                <a:lnTo>
                  <a:pt x="67" y="163"/>
                </a:lnTo>
                <a:lnTo>
                  <a:pt x="65" y="153"/>
                </a:lnTo>
                <a:lnTo>
                  <a:pt x="64" y="142"/>
                </a:lnTo>
                <a:lnTo>
                  <a:pt x="62" y="132"/>
                </a:lnTo>
                <a:lnTo>
                  <a:pt x="62" y="124"/>
                </a:lnTo>
                <a:lnTo>
                  <a:pt x="60" y="115"/>
                </a:lnTo>
                <a:lnTo>
                  <a:pt x="58" y="107"/>
                </a:lnTo>
                <a:lnTo>
                  <a:pt x="56" y="99"/>
                </a:lnTo>
                <a:lnTo>
                  <a:pt x="54" y="94"/>
                </a:lnTo>
                <a:lnTo>
                  <a:pt x="52" y="88"/>
                </a:lnTo>
                <a:lnTo>
                  <a:pt x="50" y="82"/>
                </a:lnTo>
                <a:lnTo>
                  <a:pt x="48" y="76"/>
                </a:lnTo>
                <a:lnTo>
                  <a:pt x="46" y="71"/>
                </a:lnTo>
                <a:lnTo>
                  <a:pt x="44" y="67"/>
                </a:lnTo>
                <a:lnTo>
                  <a:pt x="42" y="63"/>
                </a:lnTo>
                <a:lnTo>
                  <a:pt x="41" y="61"/>
                </a:lnTo>
                <a:lnTo>
                  <a:pt x="39" y="57"/>
                </a:lnTo>
                <a:lnTo>
                  <a:pt x="33" y="55"/>
                </a:lnTo>
                <a:lnTo>
                  <a:pt x="29" y="53"/>
                </a:lnTo>
                <a:lnTo>
                  <a:pt x="27" y="49"/>
                </a:lnTo>
                <a:lnTo>
                  <a:pt x="23" y="46"/>
                </a:lnTo>
                <a:lnTo>
                  <a:pt x="21" y="44"/>
                </a:lnTo>
                <a:lnTo>
                  <a:pt x="19" y="40"/>
                </a:lnTo>
                <a:lnTo>
                  <a:pt x="19" y="36"/>
                </a:lnTo>
                <a:lnTo>
                  <a:pt x="19" y="32"/>
                </a:lnTo>
                <a:lnTo>
                  <a:pt x="19" y="28"/>
                </a:lnTo>
                <a:lnTo>
                  <a:pt x="19" y="26"/>
                </a:lnTo>
                <a:lnTo>
                  <a:pt x="21" y="23"/>
                </a:lnTo>
                <a:lnTo>
                  <a:pt x="23" y="19"/>
                </a:lnTo>
                <a:lnTo>
                  <a:pt x="27" y="17"/>
                </a:lnTo>
                <a:lnTo>
                  <a:pt x="29" y="13"/>
                </a:lnTo>
                <a:lnTo>
                  <a:pt x="33" y="11"/>
                </a:lnTo>
                <a:lnTo>
                  <a:pt x="39" y="7"/>
                </a:lnTo>
                <a:lnTo>
                  <a:pt x="41" y="5"/>
                </a:lnTo>
                <a:lnTo>
                  <a:pt x="44" y="3"/>
                </a:lnTo>
                <a:lnTo>
                  <a:pt x="48" y="1"/>
                </a:lnTo>
                <a:lnTo>
                  <a:pt x="54" y="1"/>
                </a:lnTo>
                <a:lnTo>
                  <a:pt x="60" y="0"/>
                </a:lnTo>
                <a:lnTo>
                  <a:pt x="67" y="0"/>
                </a:lnTo>
                <a:lnTo>
                  <a:pt x="75" y="0"/>
                </a:lnTo>
                <a:lnTo>
                  <a:pt x="83" y="1"/>
                </a:lnTo>
                <a:lnTo>
                  <a:pt x="90" y="1"/>
                </a:lnTo>
                <a:lnTo>
                  <a:pt x="100" y="5"/>
                </a:lnTo>
                <a:lnTo>
                  <a:pt x="110" y="7"/>
                </a:lnTo>
                <a:lnTo>
                  <a:pt x="121" y="11"/>
                </a:lnTo>
                <a:lnTo>
                  <a:pt x="131" y="15"/>
                </a:lnTo>
                <a:lnTo>
                  <a:pt x="142" y="21"/>
                </a:lnTo>
                <a:lnTo>
                  <a:pt x="154" y="26"/>
                </a:lnTo>
                <a:lnTo>
                  <a:pt x="165" y="32"/>
                </a:lnTo>
                <a:lnTo>
                  <a:pt x="177" y="40"/>
                </a:lnTo>
                <a:lnTo>
                  <a:pt x="188" y="46"/>
                </a:lnTo>
                <a:lnTo>
                  <a:pt x="198" y="53"/>
                </a:lnTo>
                <a:lnTo>
                  <a:pt x="208" y="59"/>
                </a:lnTo>
                <a:lnTo>
                  <a:pt x="217" y="65"/>
                </a:lnTo>
                <a:lnTo>
                  <a:pt x="225" y="71"/>
                </a:lnTo>
                <a:lnTo>
                  <a:pt x="232" y="76"/>
                </a:lnTo>
                <a:lnTo>
                  <a:pt x="240" y="82"/>
                </a:lnTo>
                <a:lnTo>
                  <a:pt x="246" y="86"/>
                </a:lnTo>
                <a:lnTo>
                  <a:pt x="252" y="92"/>
                </a:lnTo>
                <a:lnTo>
                  <a:pt x="255" y="97"/>
                </a:lnTo>
                <a:lnTo>
                  <a:pt x="259" y="101"/>
                </a:lnTo>
                <a:lnTo>
                  <a:pt x="263" y="107"/>
                </a:lnTo>
                <a:lnTo>
                  <a:pt x="265" y="111"/>
                </a:lnTo>
                <a:lnTo>
                  <a:pt x="267" y="117"/>
                </a:lnTo>
                <a:lnTo>
                  <a:pt x="267" y="120"/>
                </a:lnTo>
                <a:lnTo>
                  <a:pt x="267" y="130"/>
                </a:lnTo>
                <a:lnTo>
                  <a:pt x="265" y="140"/>
                </a:lnTo>
                <a:lnTo>
                  <a:pt x="263" y="149"/>
                </a:lnTo>
                <a:lnTo>
                  <a:pt x="259" y="159"/>
                </a:lnTo>
                <a:lnTo>
                  <a:pt x="255" y="168"/>
                </a:lnTo>
                <a:lnTo>
                  <a:pt x="252" y="178"/>
                </a:lnTo>
                <a:lnTo>
                  <a:pt x="242" y="19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189"/>
          <p:cNvSpPr/>
          <p:nvPr/>
        </p:nvSpPr>
        <p:spPr>
          <a:xfrm>
            <a:off x="6700680" y="3044880"/>
            <a:ext cx="228600" cy="1017360"/>
          </a:xfrm>
          <a:custGeom>
            <a:avLst/>
            <a:gdLst/>
            <a:ahLst/>
            <a:rect l="l" t="t" r="r" b="b"/>
            <a:pathLst>
              <a:path w="288" h="1282">
                <a:moveTo>
                  <a:pt x="21" y="76"/>
                </a:moveTo>
                <a:lnTo>
                  <a:pt x="15" y="73"/>
                </a:lnTo>
                <a:lnTo>
                  <a:pt x="11" y="71"/>
                </a:lnTo>
                <a:lnTo>
                  <a:pt x="8" y="67"/>
                </a:lnTo>
                <a:lnTo>
                  <a:pt x="6" y="63"/>
                </a:lnTo>
                <a:lnTo>
                  <a:pt x="4" y="61"/>
                </a:lnTo>
                <a:lnTo>
                  <a:pt x="2" y="57"/>
                </a:lnTo>
                <a:lnTo>
                  <a:pt x="0" y="53"/>
                </a:lnTo>
                <a:lnTo>
                  <a:pt x="0" y="50"/>
                </a:lnTo>
                <a:lnTo>
                  <a:pt x="0" y="44"/>
                </a:lnTo>
                <a:lnTo>
                  <a:pt x="0" y="36"/>
                </a:lnTo>
                <a:lnTo>
                  <a:pt x="4" y="30"/>
                </a:lnTo>
                <a:lnTo>
                  <a:pt x="8" y="25"/>
                </a:lnTo>
                <a:lnTo>
                  <a:pt x="11" y="21"/>
                </a:lnTo>
                <a:lnTo>
                  <a:pt x="17" y="15"/>
                </a:lnTo>
                <a:lnTo>
                  <a:pt x="23" y="11"/>
                </a:lnTo>
                <a:lnTo>
                  <a:pt x="29" y="7"/>
                </a:lnTo>
                <a:lnTo>
                  <a:pt x="36" y="3"/>
                </a:lnTo>
                <a:lnTo>
                  <a:pt x="46" y="2"/>
                </a:lnTo>
                <a:lnTo>
                  <a:pt x="52" y="2"/>
                </a:lnTo>
                <a:lnTo>
                  <a:pt x="57" y="0"/>
                </a:lnTo>
                <a:lnTo>
                  <a:pt x="63" y="0"/>
                </a:lnTo>
                <a:lnTo>
                  <a:pt x="71" y="0"/>
                </a:lnTo>
                <a:lnTo>
                  <a:pt x="84" y="0"/>
                </a:lnTo>
                <a:lnTo>
                  <a:pt x="98" y="0"/>
                </a:lnTo>
                <a:lnTo>
                  <a:pt x="109" y="0"/>
                </a:lnTo>
                <a:lnTo>
                  <a:pt x="123" y="2"/>
                </a:lnTo>
                <a:lnTo>
                  <a:pt x="134" y="3"/>
                </a:lnTo>
                <a:lnTo>
                  <a:pt x="146" y="5"/>
                </a:lnTo>
                <a:lnTo>
                  <a:pt x="159" y="9"/>
                </a:lnTo>
                <a:lnTo>
                  <a:pt x="173" y="13"/>
                </a:lnTo>
                <a:lnTo>
                  <a:pt x="180" y="15"/>
                </a:lnTo>
                <a:lnTo>
                  <a:pt x="186" y="19"/>
                </a:lnTo>
                <a:lnTo>
                  <a:pt x="192" y="23"/>
                </a:lnTo>
                <a:lnTo>
                  <a:pt x="198" y="28"/>
                </a:lnTo>
                <a:lnTo>
                  <a:pt x="201" y="34"/>
                </a:lnTo>
                <a:lnTo>
                  <a:pt x="207" y="42"/>
                </a:lnTo>
                <a:lnTo>
                  <a:pt x="211" y="50"/>
                </a:lnTo>
                <a:lnTo>
                  <a:pt x="215" y="57"/>
                </a:lnTo>
                <a:lnTo>
                  <a:pt x="219" y="67"/>
                </a:lnTo>
                <a:lnTo>
                  <a:pt x="221" y="76"/>
                </a:lnTo>
                <a:lnTo>
                  <a:pt x="224" y="88"/>
                </a:lnTo>
                <a:lnTo>
                  <a:pt x="226" y="99"/>
                </a:lnTo>
                <a:lnTo>
                  <a:pt x="230" y="111"/>
                </a:lnTo>
                <a:lnTo>
                  <a:pt x="232" y="124"/>
                </a:lnTo>
                <a:lnTo>
                  <a:pt x="234" y="138"/>
                </a:lnTo>
                <a:lnTo>
                  <a:pt x="236" y="151"/>
                </a:lnTo>
                <a:lnTo>
                  <a:pt x="236" y="159"/>
                </a:lnTo>
                <a:lnTo>
                  <a:pt x="236" y="169"/>
                </a:lnTo>
                <a:lnTo>
                  <a:pt x="236" y="180"/>
                </a:lnTo>
                <a:lnTo>
                  <a:pt x="238" y="193"/>
                </a:lnTo>
                <a:lnTo>
                  <a:pt x="238" y="209"/>
                </a:lnTo>
                <a:lnTo>
                  <a:pt x="238" y="224"/>
                </a:lnTo>
                <a:lnTo>
                  <a:pt x="238" y="243"/>
                </a:lnTo>
                <a:lnTo>
                  <a:pt x="240" y="264"/>
                </a:lnTo>
                <a:lnTo>
                  <a:pt x="240" y="286"/>
                </a:lnTo>
                <a:lnTo>
                  <a:pt x="240" y="311"/>
                </a:lnTo>
                <a:lnTo>
                  <a:pt x="242" y="336"/>
                </a:lnTo>
                <a:lnTo>
                  <a:pt x="244" y="362"/>
                </a:lnTo>
                <a:lnTo>
                  <a:pt x="244" y="391"/>
                </a:lnTo>
                <a:lnTo>
                  <a:pt x="246" y="422"/>
                </a:lnTo>
                <a:lnTo>
                  <a:pt x="246" y="455"/>
                </a:lnTo>
                <a:lnTo>
                  <a:pt x="247" y="489"/>
                </a:lnTo>
                <a:lnTo>
                  <a:pt x="249" y="526"/>
                </a:lnTo>
                <a:lnTo>
                  <a:pt x="251" y="564"/>
                </a:lnTo>
                <a:lnTo>
                  <a:pt x="253" y="604"/>
                </a:lnTo>
                <a:lnTo>
                  <a:pt x="255" y="645"/>
                </a:lnTo>
                <a:lnTo>
                  <a:pt x="257" y="689"/>
                </a:lnTo>
                <a:lnTo>
                  <a:pt x="259" y="733"/>
                </a:lnTo>
                <a:lnTo>
                  <a:pt x="261" y="781"/>
                </a:lnTo>
                <a:lnTo>
                  <a:pt x="263" y="829"/>
                </a:lnTo>
                <a:lnTo>
                  <a:pt x="267" y="879"/>
                </a:lnTo>
                <a:lnTo>
                  <a:pt x="269" y="932"/>
                </a:lnTo>
                <a:lnTo>
                  <a:pt x="272" y="986"/>
                </a:lnTo>
                <a:lnTo>
                  <a:pt x="274" y="1042"/>
                </a:lnTo>
                <a:lnTo>
                  <a:pt x="278" y="1098"/>
                </a:lnTo>
                <a:lnTo>
                  <a:pt x="280" y="1157"/>
                </a:lnTo>
                <a:lnTo>
                  <a:pt x="284" y="1218"/>
                </a:lnTo>
                <a:lnTo>
                  <a:pt x="288" y="1282"/>
                </a:lnTo>
                <a:lnTo>
                  <a:pt x="236" y="1282"/>
                </a:lnTo>
                <a:lnTo>
                  <a:pt x="186" y="1282"/>
                </a:lnTo>
                <a:lnTo>
                  <a:pt x="184" y="1259"/>
                </a:lnTo>
                <a:lnTo>
                  <a:pt x="182" y="1236"/>
                </a:lnTo>
                <a:lnTo>
                  <a:pt x="180" y="1211"/>
                </a:lnTo>
                <a:lnTo>
                  <a:pt x="178" y="1186"/>
                </a:lnTo>
                <a:lnTo>
                  <a:pt x="176" y="1157"/>
                </a:lnTo>
                <a:lnTo>
                  <a:pt x="175" y="1128"/>
                </a:lnTo>
                <a:lnTo>
                  <a:pt x="175" y="1098"/>
                </a:lnTo>
                <a:lnTo>
                  <a:pt x="173" y="1067"/>
                </a:lnTo>
                <a:lnTo>
                  <a:pt x="173" y="1032"/>
                </a:lnTo>
                <a:lnTo>
                  <a:pt x="171" y="1000"/>
                </a:lnTo>
                <a:lnTo>
                  <a:pt x="169" y="963"/>
                </a:lnTo>
                <a:lnTo>
                  <a:pt x="167" y="927"/>
                </a:lnTo>
                <a:lnTo>
                  <a:pt x="167" y="888"/>
                </a:lnTo>
                <a:lnTo>
                  <a:pt x="165" y="848"/>
                </a:lnTo>
                <a:lnTo>
                  <a:pt x="163" y="808"/>
                </a:lnTo>
                <a:lnTo>
                  <a:pt x="161" y="765"/>
                </a:lnTo>
                <a:lnTo>
                  <a:pt x="157" y="725"/>
                </a:lnTo>
                <a:lnTo>
                  <a:pt x="155" y="683"/>
                </a:lnTo>
                <a:lnTo>
                  <a:pt x="151" y="645"/>
                </a:lnTo>
                <a:lnTo>
                  <a:pt x="150" y="606"/>
                </a:lnTo>
                <a:lnTo>
                  <a:pt x="146" y="570"/>
                </a:lnTo>
                <a:lnTo>
                  <a:pt x="142" y="533"/>
                </a:lnTo>
                <a:lnTo>
                  <a:pt x="138" y="499"/>
                </a:lnTo>
                <a:lnTo>
                  <a:pt x="134" y="466"/>
                </a:lnTo>
                <a:lnTo>
                  <a:pt x="130" y="435"/>
                </a:lnTo>
                <a:lnTo>
                  <a:pt x="128" y="405"/>
                </a:lnTo>
                <a:lnTo>
                  <a:pt x="125" y="376"/>
                </a:lnTo>
                <a:lnTo>
                  <a:pt x="121" y="347"/>
                </a:lnTo>
                <a:lnTo>
                  <a:pt x="117" y="322"/>
                </a:lnTo>
                <a:lnTo>
                  <a:pt x="115" y="297"/>
                </a:lnTo>
                <a:lnTo>
                  <a:pt x="111" y="272"/>
                </a:lnTo>
                <a:lnTo>
                  <a:pt x="109" y="251"/>
                </a:lnTo>
                <a:lnTo>
                  <a:pt x="105" y="230"/>
                </a:lnTo>
                <a:lnTo>
                  <a:pt x="100" y="211"/>
                </a:lnTo>
                <a:lnTo>
                  <a:pt x="96" y="193"/>
                </a:lnTo>
                <a:lnTo>
                  <a:pt x="90" y="178"/>
                </a:lnTo>
                <a:lnTo>
                  <a:pt x="84" y="163"/>
                </a:lnTo>
                <a:lnTo>
                  <a:pt x="80" y="149"/>
                </a:lnTo>
                <a:lnTo>
                  <a:pt x="75" y="136"/>
                </a:lnTo>
                <a:lnTo>
                  <a:pt x="69" y="126"/>
                </a:lnTo>
                <a:lnTo>
                  <a:pt x="63" y="115"/>
                </a:lnTo>
                <a:lnTo>
                  <a:pt x="57" y="107"/>
                </a:lnTo>
                <a:lnTo>
                  <a:pt x="52" y="99"/>
                </a:lnTo>
                <a:lnTo>
                  <a:pt x="46" y="92"/>
                </a:lnTo>
                <a:lnTo>
                  <a:pt x="40" y="86"/>
                </a:lnTo>
                <a:lnTo>
                  <a:pt x="34" y="82"/>
                </a:lnTo>
                <a:lnTo>
                  <a:pt x="27" y="78"/>
                </a:lnTo>
                <a:lnTo>
                  <a:pt x="21" y="7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190"/>
          <p:cNvSpPr/>
          <p:nvPr/>
        </p:nvSpPr>
        <p:spPr>
          <a:xfrm>
            <a:off x="6410160" y="3597120"/>
            <a:ext cx="268560" cy="579600"/>
          </a:xfrm>
          <a:custGeom>
            <a:avLst/>
            <a:gdLst/>
            <a:ahLst/>
            <a:rect l="l" t="t" r="r" b="b"/>
            <a:pathLst>
              <a:path w="338" h="730">
                <a:moveTo>
                  <a:pt x="44" y="121"/>
                </a:moveTo>
                <a:lnTo>
                  <a:pt x="37" y="114"/>
                </a:lnTo>
                <a:lnTo>
                  <a:pt x="31" y="106"/>
                </a:lnTo>
                <a:lnTo>
                  <a:pt x="25" y="98"/>
                </a:lnTo>
                <a:lnTo>
                  <a:pt x="19" y="93"/>
                </a:lnTo>
                <a:lnTo>
                  <a:pt x="16" y="85"/>
                </a:lnTo>
                <a:lnTo>
                  <a:pt x="12" y="79"/>
                </a:lnTo>
                <a:lnTo>
                  <a:pt x="8" y="71"/>
                </a:lnTo>
                <a:lnTo>
                  <a:pt x="6" y="66"/>
                </a:lnTo>
                <a:lnTo>
                  <a:pt x="4" y="60"/>
                </a:lnTo>
                <a:lnTo>
                  <a:pt x="2" y="52"/>
                </a:lnTo>
                <a:lnTo>
                  <a:pt x="0" y="46"/>
                </a:lnTo>
                <a:lnTo>
                  <a:pt x="0" y="41"/>
                </a:lnTo>
                <a:lnTo>
                  <a:pt x="0" y="35"/>
                </a:lnTo>
                <a:lnTo>
                  <a:pt x="2" y="29"/>
                </a:lnTo>
                <a:lnTo>
                  <a:pt x="2" y="25"/>
                </a:lnTo>
                <a:lnTo>
                  <a:pt x="6" y="20"/>
                </a:lnTo>
                <a:lnTo>
                  <a:pt x="8" y="16"/>
                </a:lnTo>
                <a:lnTo>
                  <a:pt x="12" y="12"/>
                </a:lnTo>
                <a:lnTo>
                  <a:pt x="16" y="8"/>
                </a:lnTo>
                <a:lnTo>
                  <a:pt x="21" y="6"/>
                </a:lnTo>
                <a:lnTo>
                  <a:pt x="29" y="4"/>
                </a:lnTo>
                <a:lnTo>
                  <a:pt x="37" y="2"/>
                </a:lnTo>
                <a:lnTo>
                  <a:pt x="46" y="0"/>
                </a:lnTo>
                <a:lnTo>
                  <a:pt x="56" y="0"/>
                </a:lnTo>
                <a:lnTo>
                  <a:pt x="67" y="0"/>
                </a:lnTo>
                <a:lnTo>
                  <a:pt x="79" y="2"/>
                </a:lnTo>
                <a:lnTo>
                  <a:pt x="94" y="4"/>
                </a:lnTo>
                <a:lnTo>
                  <a:pt x="110" y="6"/>
                </a:lnTo>
                <a:lnTo>
                  <a:pt x="125" y="8"/>
                </a:lnTo>
                <a:lnTo>
                  <a:pt x="142" y="12"/>
                </a:lnTo>
                <a:lnTo>
                  <a:pt x="161" y="16"/>
                </a:lnTo>
                <a:lnTo>
                  <a:pt x="183" y="20"/>
                </a:lnTo>
                <a:lnTo>
                  <a:pt x="194" y="60"/>
                </a:lnTo>
                <a:lnTo>
                  <a:pt x="204" y="100"/>
                </a:lnTo>
                <a:lnTo>
                  <a:pt x="213" y="139"/>
                </a:lnTo>
                <a:lnTo>
                  <a:pt x="223" y="175"/>
                </a:lnTo>
                <a:lnTo>
                  <a:pt x="232" y="212"/>
                </a:lnTo>
                <a:lnTo>
                  <a:pt x="240" y="246"/>
                </a:lnTo>
                <a:lnTo>
                  <a:pt x="248" y="279"/>
                </a:lnTo>
                <a:lnTo>
                  <a:pt x="256" y="311"/>
                </a:lnTo>
                <a:lnTo>
                  <a:pt x="263" y="342"/>
                </a:lnTo>
                <a:lnTo>
                  <a:pt x="271" y="373"/>
                </a:lnTo>
                <a:lnTo>
                  <a:pt x="279" y="402"/>
                </a:lnTo>
                <a:lnTo>
                  <a:pt x="284" y="428"/>
                </a:lnTo>
                <a:lnTo>
                  <a:pt x="290" y="455"/>
                </a:lnTo>
                <a:lnTo>
                  <a:pt x="296" y="480"/>
                </a:lnTo>
                <a:lnTo>
                  <a:pt x="302" y="503"/>
                </a:lnTo>
                <a:lnTo>
                  <a:pt x="307" y="526"/>
                </a:lnTo>
                <a:lnTo>
                  <a:pt x="311" y="547"/>
                </a:lnTo>
                <a:lnTo>
                  <a:pt x="315" y="567"/>
                </a:lnTo>
                <a:lnTo>
                  <a:pt x="319" y="586"/>
                </a:lnTo>
                <a:lnTo>
                  <a:pt x="323" y="603"/>
                </a:lnTo>
                <a:lnTo>
                  <a:pt x="327" y="618"/>
                </a:lnTo>
                <a:lnTo>
                  <a:pt x="328" y="634"/>
                </a:lnTo>
                <a:lnTo>
                  <a:pt x="330" y="647"/>
                </a:lnTo>
                <a:lnTo>
                  <a:pt x="334" y="659"/>
                </a:lnTo>
                <a:lnTo>
                  <a:pt x="334" y="670"/>
                </a:lnTo>
                <a:lnTo>
                  <a:pt x="336" y="680"/>
                </a:lnTo>
                <a:lnTo>
                  <a:pt x="338" y="688"/>
                </a:lnTo>
                <a:lnTo>
                  <a:pt x="338" y="695"/>
                </a:lnTo>
                <a:lnTo>
                  <a:pt x="338" y="701"/>
                </a:lnTo>
                <a:lnTo>
                  <a:pt x="338" y="705"/>
                </a:lnTo>
                <a:lnTo>
                  <a:pt x="338" y="709"/>
                </a:lnTo>
                <a:lnTo>
                  <a:pt x="336" y="711"/>
                </a:lnTo>
                <a:lnTo>
                  <a:pt x="332" y="714"/>
                </a:lnTo>
                <a:lnTo>
                  <a:pt x="327" y="718"/>
                </a:lnTo>
                <a:lnTo>
                  <a:pt x="323" y="722"/>
                </a:lnTo>
                <a:lnTo>
                  <a:pt x="317" y="724"/>
                </a:lnTo>
                <a:lnTo>
                  <a:pt x="313" y="728"/>
                </a:lnTo>
                <a:lnTo>
                  <a:pt x="307" y="728"/>
                </a:lnTo>
                <a:lnTo>
                  <a:pt x="304" y="730"/>
                </a:lnTo>
                <a:lnTo>
                  <a:pt x="300" y="730"/>
                </a:lnTo>
                <a:lnTo>
                  <a:pt x="296" y="730"/>
                </a:lnTo>
                <a:lnTo>
                  <a:pt x="292" y="728"/>
                </a:lnTo>
                <a:lnTo>
                  <a:pt x="288" y="728"/>
                </a:lnTo>
                <a:lnTo>
                  <a:pt x="284" y="724"/>
                </a:lnTo>
                <a:lnTo>
                  <a:pt x="280" y="722"/>
                </a:lnTo>
                <a:lnTo>
                  <a:pt x="279" y="718"/>
                </a:lnTo>
                <a:lnTo>
                  <a:pt x="275" y="714"/>
                </a:lnTo>
                <a:lnTo>
                  <a:pt x="273" y="711"/>
                </a:lnTo>
                <a:lnTo>
                  <a:pt x="267" y="705"/>
                </a:lnTo>
                <a:lnTo>
                  <a:pt x="263" y="697"/>
                </a:lnTo>
                <a:lnTo>
                  <a:pt x="257" y="689"/>
                </a:lnTo>
                <a:lnTo>
                  <a:pt x="252" y="678"/>
                </a:lnTo>
                <a:lnTo>
                  <a:pt x="246" y="666"/>
                </a:lnTo>
                <a:lnTo>
                  <a:pt x="238" y="651"/>
                </a:lnTo>
                <a:lnTo>
                  <a:pt x="232" y="636"/>
                </a:lnTo>
                <a:lnTo>
                  <a:pt x="227" y="618"/>
                </a:lnTo>
                <a:lnTo>
                  <a:pt x="219" y="599"/>
                </a:lnTo>
                <a:lnTo>
                  <a:pt x="213" y="578"/>
                </a:lnTo>
                <a:lnTo>
                  <a:pt x="206" y="557"/>
                </a:lnTo>
                <a:lnTo>
                  <a:pt x="198" y="532"/>
                </a:lnTo>
                <a:lnTo>
                  <a:pt x="192" y="507"/>
                </a:lnTo>
                <a:lnTo>
                  <a:pt x="184" y="480"/>
                </a:lnTo>
                <a:lnTo>
                  <a:pt x="177" y="451"/>
                </a:lnTo>
                <a:lnTo>
                  <a:pt x="171" y="423"/>
                </a:lnTo>
                <a:lnTo>
                  <a:pt x="161" y="392"/>
                </a:lnTo>
                <a:lnTo>
                  <a:pt x="152" y="363"/>
                </a:lnTo>
                <a:lnTo>
                  <a:pt x="144" y="336"/>
                </a:lnTo>
                <a:lnTo>
                  <a:pt x="135" y="311"/>
                </a:lnTo>
                <a:lnTo>
                  <a:pt x="127" y="286"/>
                </a:lnTo>
                <a:lnTo>
                  <a:pt x="119" y="265"/>
                </a:lnTo>
                <a:lnTo>
                  <a:pt x="110" y="244"/>
                </a:lnTo>
                <a:lnTo>
                  <a:pt x="102" y="223"/>
                </a:lnTo>
                <a:lnTo>
                  <a:pt x="94" y="206"/>
                </a:lnTo>
                <a:lnTo>
                  <a:pt x="87" y="188"/>
                </a:lnTo>
                <a:lnTo>
                  <a:pt x="79" y="175"/>
                </a:lnTo>
                <a:lnTo>
                  <a:pt x="71" y="160"/>
                </a:lnTo>
                <a:lnTo>
                  <a:pt x="65" y="148"/>
                </a:lnTo>
                <a:lnTo>
                  <a:pt x="58" y="137"/>
                </a:lnTo>
                <a:lnTo>
                  <a:pt x="50" y="129"/>
                </a:lnTo>
                <a:lnTo>
                  <a:pt x="44" y="1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91"/>
          <p:cNvSpPr/>
          <p:nvPr/>
        </p:nvSpPr>
        <p:spPr>
          <a:xfrm>
            <a:off x="6637320" y="3971880"/>
            <a:ext cx="836640" cy="141480"/>
          </a:xfrm>
          <a:custGeom>
            <a:avLst/>
            <a:gdLst/>
            <a:ahLst/>
            <a:rect l="l" t="t" r="r" b="b"/>
            <a:pathLst>
              <a:path w="1056" h="176">
                <a:moveTo>
                  <a:pt x="1056" y="0"/>
                </a:moveTo>
                <a:lnTo>
                  <a:pt x="1056" y="88"/>
                </a:lnTo>
                <a:lnTo>
                  <a:pt x="996" y="94"/>
                </a:lnTo>
                <a:lnTo>
                  <a:pt x="939" y="99"/>
                </a:lnTo>
                <a:lnTo>
                  <a:pt x="883" y="103"/>
                </a:lnTo>
                <a:lnTo>
                  <a:pt x="829" y="109"/>
                </a:lnTo>
                <a:lnTo>
                  <a:pt x="778" y="115"/>
                </a:lnTo>
                <a:lnTo>
                  <a:pt x="728" y="119"/>
                </a:lnTo>
                <a:lnTo>
                  <a:pt x="678" y="124"/>
                </a:lnTo>
                <a:lnTo>
                  <a:pt x="632" y="128"/>
                </a:lnTo>
                <a:lnTo>
                  <a:pt x="586" y="132"/>
                </a:lnTo>
                <a:lnTo>
                  <a:pt x="542" y="136"/>
                </a:lnTo>
                <a:lnTo>
                  <a:pt x="499" y="140"/>
                </a:lnTo>
                <a:lnTo>
                  <a:pt x="459" y="144"/>
                </a:lnTo>
                <a:lnTo>
                  <a:pt x="419" y="147"/>
                </a:lnTo>
                <a:lnTo>
                  <a:pt x="382" y="149"/>
                </a:lnTo>
                <a:lnTo>
                  <a:pt x="346" y="153"/>
                </a:lnTo>
                <a:lnTo>
                  <a:pt x="313" y="155"/>
                </a:lnTo>
                <a:lnTo>
                  <a:pt x="280" y="157"/>
                </a:lnTo>
                <a:lnTo>
                  <a:pt x="250" y="161"/>
                </a:lnTo>
                <a:lnTo>
                  <a:pt x="221" y="163"/>
                </a:lnTo>
                <a:lnTo>
                  <a:pt x="194" y="165"/>
                </a:lnTo>
                <a:lnTo>
                  <a:pt x="167" y="167"/>
                </a:lnTo>
                <a:lnTo>
                  <a:pt x="144" y="168"/>
                </a:lnTo>
                <a:lnTo>
                  <a:pt x="121" y="168"/>
                </a:lnTo>
                <a:lnTo>
                  <a:pt x="102" y="170"/>
                </a:lnTo>
                <a:lnTo>
                  <a:pt x="83" y="172"/>
                </a:lnTo>
                <a:lnTo>
                  <a:pt x="65" y="172"/>
                </a:lnTo>
                <a:lnTo>
                  <a:pt x="50" y="174"/>
                </a:lnTo>
                <a:lnTo>
                  <a:pt x="37" y="174"/>
                </a:lnTo>
                <a:lnTo>
                  <a:pt x="25" y="174"/>
                </a:lnTo>
                <a:lnTo>
                  <a:pt x="14" y="174"/>
                </a:lnTo>
                <a:lnTo>
                  <a:pt x="6" y="174"/>
                </a:lnTo>
                <a:lnTo>
                  <a:pt x="0" y="176"/>
                </a:lnTo>
                <a:lnTo>
                  <a:pt x="0" y="138"/>
                </a:lnTo>
                <a:lnTo>
                  <a:pt x="0" y="99"/>
                </a:lnTo>
                <a:lnTo>
                  <a:pt x="21" y="97"/>
                </a:lnTo>
                <a:lnTo>
                  <a:pt x="44" y="94"/>
                </a:lnTo>
                <a:lnTo>
                  <a:pt x="69" y="92"/>
                </a:lnTo>
                <a:lnTo>
                  <a:pt x="94" y="88"/>
                </a:lnTo>
                <a:lnTo>
                  <a:pt x="121" y="84"/>
                </a:lnTo>
                <a:lnTo>
                  <a:pt x="148" y="80"/>
                </a:lnTo>
                <a:lnTo>
                  <a:pt x="177" y="76"/>
                </a:lnTo>
                <a:lnTo>
                  <a:pt x="208" y="72"/>
                </a:lnTo>
                <a:lnTo>
                  <a:pt x="238" y="69"/>
                </a:lnTo>
                <a:lnTo>
                  <a:pt x="271" y="65"/>
                </a:lnTo>
                <a:lnTo>
                  <a:pt x="303" y="61"/>
                </a:lnTo>
                <a:lnTo>
                  <a:pt x="338" y="55"/>
                </a:lnTo>
                <a:lnTo>
                  <a:pt x="373" y="51"/>
                </a:lnTo>
                <a:lnTo>
                  <a:pt x="409" y="46"/>
                </a:lnTo>
                <a:lnTo>
                  <a:pt x="446" y="42"/>
                </a:lnTo>
                <a:lnTo>
                  <a:pt x="484" y="38"/>
                </a:lnTo>
                <a:lnTo>
                  <a:pt x="555" y="28"/>
                </a:lnTo>
                <a:lnTo>
                  <a:pt x="626" y="21"/>
                </a:lnTo>
                <a:lnTo>
                  <a:pt x="697" y="13"/>
                </a:lnTo>
                <a:lnTo>
                  <a:pt x="770" y="9"/>
                </a:lnTo>
                <a:lnTo>
                  <a:pt x="841" y="3"/>
                </a:lnTo>
                <a:lnTo>
                  <a:pt x="912" y="1"/>
                </a:lnTo>
                <a:lnTo>
                  <a:pt x="983" y="0"/>
                </a:lnTo>
                <a:lnTo>
                  <a:pt x="1056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92"/>
          <p:cNvSpPr/>
          <p:nvPr/>
        </p:nvSpPr>
        <p:spPr>
          <a:xfrm>
            <a:off x="6686640" y="3713040"/>
            <a:ext cx="696960" cy="146160"/>
          </a:xfrm>
          <a:custGeom>
            <a:avLst/>
            <a:gdLst/>
            <a:ahLst/>
            <a:rect l="l" t="t" r="r" b="b"/>
            <a:pathLst>
              <a:path w="877" h="185">
                <a:moveTo>
                  <a:pt x="330" y="62"/>
                </a:moveTo>
                <a:lnTo>
                  <a:pt x="351" y="58"/>
                </a:lnTo>
                <a:lnTo>
                  <a:pt x="372" y="56"/>
                </a:lnTo>
                <a:lnTo>
                  <a:pt x="391" y="52"/>
                </a:lnTo>
                <a:lnTo>
                  <a:pt x="410" y="48"/>
                </a:lnTo>
                <a:lnTo>
                  <a:pt x="430" y="44"/>
                </a:lnTo>
                <a:lnTo>
                  <a:pt x="449" y="42"/>
                </a:lnTo>
                <a:lnTo>
                  <a:pt x="466" y="39"/>
                </a:lnTo>
                <a:lnTo>
                  <a:pt x="483" y="37"/>
                </a:lnTo>
                <a:lnTo>
                  <a:pt x="499" y="33"/>
                </a:lnTo>
                <a:lnTo>
                  <a:pt x="516" y="31"/>
                </a:lnTo>
                <a:lnTo>
                  <a:pt x="531" y="27"/>
                </a:lnTo>
                <a:lnTo>
                  <a:pt x="545" y="25"/>
                </a:lnTo>
                <a:lnTo>
                  <a:pt x="560" y="23"/>
                </a:lnTo>
                <a:lnTo>
                  <a:pt x="573" y="21"/>
                </a:lnTo>
                <a:lnTo>
                  <a:pt x="587" y="18"/>
                </a:lnTo>
                <a:lnTo>
                  <a:pt x="598" y="16"/>
                </a:lnTo>
                <a:lnTo>
                  <a:pt x="610" y="14"/>
                </a:lnTo>
                <a:lnTo>
                  <a:pt x="621" y="12"/>
                </a:lnTo>
                <a:lnTo>
                  <a:pt x="633" y="10"/>
                </a:lnTo>
                <a:lnTo>
                  <a:pt x="643" y="10"/>
                </a:lnTo>
                <a:lnTo>
                  <a:pt x="652" y="8"/>
                </a:lnTo>
                <a:lnTo>
                  <a:pt x="662" y="6"/>
                </a:lnTo>
                <a:lnTo>
                  <a:pt x="671" y="4"/>
                </a:lnTo>
                <a:lnTo>
                  <a:pt x="679" y="4"/>
                </a:lnTo>
                <a:lnTo>
                  <a:pt x="687" y="2"/>
                </a:lnTo>
                <a:lnTo>
                  <a:pt x="692" y="2"/>
                </a:lnTo>
                <a:lnTo>
                  <a:pt x="700" y="0"/>
                </a:lnTo>
                <a:lnTo>
                  <a:pt x="706" y="0"/>
                </a:lnTo>
                <a:lnTo>
                  <a:pt x="712" y="0"/>
                </a:lnTo>
                <a:lnTo>
                  <a:pt x="716" y="0"/>
                </a:lnTo>
                <a:lnTo>
                  <a:pt x="721" y="0"/>
                </a:lnTo>
                <a:lnTo>
                  <a:pt x="725" y="0"/>
                </a:lnTo>
                <a:lnTo>
                  <a:pt x="739" y="0"/>
                </a:lnTo>
                <a:lnTo>
                  <a:pt x="750" y="0"/>
                </a:lnTo>
                <a:lnTo>
                  <a:pt x="763" y="0"/>
                </a:lnTo>
                <a:lnTo>
                  <a:pt x="775" y="0"/>
                </a:lnTo>
                <a:lnTo>
                  <a:pt x="787" y="2"/>
                </a:lnTo>
                <a:lnTo>
                  <a:pt x="800" y="4"/>
                </a:lnTo>
                <a:lnTo>
                  <a:pt x="811" y="8"/>
                </a:lnTo>
                <a:lnTo>
                  <a:pt x="827" y="12"/>
                </a:lnTo>
                <a:lnTo>
                  <a:pt x="833" y="16"/>
                </a:lnTo>
                <a:lnTo>
                  <a:pt x="838" y="18"/>
                </a:lnTo>
                <a:lnTo>
                  <a:pt x="844" y="21"/>
                </a:lnTo>
                <a:lnTo>
                  <a:pt x="850" y="23"/>
                </a:lnTo>
                <a:lnTo>
                  <a:pt x="856" y="27"/>
                </a:lnTo>
                <a:lnTo>
                  <a:pt x="859" y="31"/>
                </a:lnTo>
                <a:lnTo>
                  <a:pt x="863" y="33"/>
                </a:lnTo>
                <a:lnTo>
                  <a:pt x="865" y="37"/>
                </a:lnTo>
                <a:lnTo>
                  <a:pt x="871" y="44"/>
                </a:lnTo>
                <a:lnTo>
                  <a:pt x="875" y="50"/>
                </a:lnTo>
                <a:lnTo>
                  <a:pt x="877" y="58"/>
                </a:lnTo>
                <a:lnTo>
                  <a:pt x="877" y="62"/>
                </a:lnTo>
                <a:lnTo>
                  <a:pt x="875" y="67"/>
                </a:lnTo>
                <a:lnTo>
                  <a:pt x="871" y="71"/>
                </a:lnTo>
                <a:lnTo>
                  <a:pt x="867" y="75"/>
                </a:lnTo>
                <a:lnTo>
                  <a:pt x="863" y="79"/>
                </a:lnTo>
                <a:lnTo>
                  <a:pt x="858" y="83"/>
                </a:lnTo>
                <a:lnTo>
                  <a:pt x="852" y="85"/>
                </a:lnTo>
                <a:lnTo>
                  <a:pt x="846" y="89"/>
                </a:lnTo>
                <a:lnTo>
                  <a:pt x="838" y="90"/>
                </a:lnTo>
                <a:lnTo>
                  <a:pt x="831" y="92"/>
                </a:lnTo>
                <a:lnTo>
                  <a:pt x="823" y="94"/>
                </a:lnTo>
                <a:lnTo>
                  <a:pt x="815" y="96"/>
                </a:lnTo>
                <a:lnTo>
                  <a:pt x="806" y="98"/>
                </a:lnTo>
                <a:lnTo>
                  <a:pt x="796" y="98"/>
                </a:lnTo>
                <a:lnTo>
                  <a:pt x="785" y="100"/>
                </a:lnTo>
                <a:lnTo>
                  <a:pt x="775" y="100"/>
                </a:lnTo>
                <a:lnTo>
                  <a:pt x="763" y="100"/>
                </a:lnTo>
                <a:lnTo>
                  <a:pt x="735" y="100"/>
                </a:lnTo>
                <a:lnTo>
                  <a:pt x="708" y="100"/>
                </a:lnTo>
                <a:lnTo>
                  <a:pt x="681" y="100"/>
                </a:lnTo>
                <a:lnTo>
                  <a:pt x="656" y="102"/>
                </a:lnTo>
                <a:lnTo>
                  <a:pt x="631" y="102"/>
                </a:lnTo>
                <a:lnTo>
                  <a:pt x="606" y="106"/>
                </a:lnTo>
                <a:lnTo>
                  <a:pt x="583" y="108"/>
                </a:lnTo>
                <a:lnTo>
                  <a:pt x="558" y="113"/>
                </a:lnTo>
                <a:lnTo>
                  <a:pt x="547" y="115"/>
                </a:lnTo>
                <a:lnTo>
                  <a:pt x="533" y="117"/>
                </a:lnTo>
                <a:lnTo>
                  <a:pt x="520" y="121"/>
                </a:lnTo>
                <a:lnTo>
                  <a:pt x="506" y="125"/>
                </a:lnTo>
                <a:lnTo>
                  <a:pt x="491" y="127"/>
                </a:lnTo>
                <a:lnTo>
                  <a:pt x="476" y="131"/>
                </a:lnTo>
                <a:lnTo>
                  <a:pt x="458" y="135"/>
                </a:lnTo>
                <a:lnTo>
                  <a:pt x="441" y="138"/>
                </a:lnTo>
                <a:lnTo>
                  <a:pt x="422" y="140"/>
                </a:lnTo>
                <a:lnTo>
                  <a:pt x="403" y="144"/>
                </a:lnTo>
                <a:lnTo>
                  <a:pt x="383" y="148"/>
                </a:lnTo>
                <a:lnTo>
                  <a:pt x="362" y="152"/>
                </a:lnTo>
                <a:lnTo>
                  <a:pt x="339" y="154"/>
                </a:lnTo>
                <a:lnTo>
                  <a:pt x="316" y="158"/>
                </a:lnTo>
                <a:lnTo>
                  <a:pt x="291" y="160"/>
                </a:lnTo>
                <a:lnTo>
                  <a:pt x="266" y="163"/>
                </a:lnTo>
                <a:lnTo>
                  <a:pt x="241" y="167"/>
                </a:lnTo>
                <a:lnTo>
                  <a:pt x="216" y="171"/>
                </a:lnTo>
                <a:lnTo>
                  <a:pt x="193" y="175"/>
                </a:lnTo>
                <a:lnTo>
                  <a:pt x="172" y="177"/>
                </a:lnTo>
                <a:lnTo>
                  <a:pt x="153" y="179"/>
                </a:lnTo>
                <a:lnTo>
                  <a:pt x="136" y="181"/>
                </a:lnTo>
                <a:lnTo>
                  <a:pt x="119" y="183"/>
                </a:lnTo>
                <a:lnTo>
                  <a:pt x="103" y="183"/>
                </a:lnTo>
                <a:lnTo>
                  <a:pt x="90" y="185"/>
                </a:lnTo>
                <a:lnTo>
                  <a:pt x="78" y="185"/>
                </a:lnTo>
                <a:lnTo>
                  <a:pt x="67" y="183"/>
                </a:lnTo>
                <a:lnTo>
                  <a:pt x="59" y="183"/>
                </a:lnTo>
                <a:lnTo>
                  <a:pt x="51" y="181"/>
                </a:lnTo>
                <a:lnTo>
                  <a:pt x="46" y="179"/>
                </a:lnTo>
                <a:lnTo>
                  <a:pt x="40" y="177"/>
                </a:lnTo>
                <a:lnTo>
                  <a:pt x="38" y="175"/>
                </a:lnTo>
                <a:lnTo>
                  <a:pt x="28" y="169"/>
                </a:lnTo>
                <a:lnTo>
                  <a:pt x="21" y="163"/>
                </a:lnTo>
                <a:lnTo>
                  <a:pt x="13" y="158"/>
                </a:lnTo>
                <a:lnTo>
                  <a:pt x="9" y="150"/>
                </a:lnTo>
                <a:lnTo>
                  <a:pt x="3" y="142"/>
                </a:lnTo>
                <a:lnTo>
                  <a:pt x="1" y="137"/>
                </a:lnTo>
                <a:lnTo>
                  <a:pt x="0" y="131"/>
                </a:lnTo>
                <a:lnTo>
                  <a:pt x="0" y="125"/>
                </a:lnTo>
                <a:lnTo>
                  <a:pt x="0" y="123"/>
                </a:lnTo>
                <a:lnTo>
                  <a:pt x="1" y="121"/>
                </a:lnTo>
                <a:lnTo>
                  <a:pt x="3" y="121"/>
                </a:lnTo>
                <a:lnTo>
                  <a:pt x="7" y="119"/>
                </a:lnTo>
                <a:lnTo>
                  <a:pt x="11" y="117"/>
                </a:lnTo>
                <a:lnTo>
                  <a:pt x="15" y="117"/>
                </a:lnTo>
                <a:lnTo>
                  <a:pt x="21" y="115"/>
                </a:lnTo>
                <a:lnTo>
                  <a:pt x="26" y="113"/>
                </a:lnTo>
                <a:lnTo>
                  <a:pt x="32" y="113"/>
                </a:lnTo>
                <a:lnTo>
                  <a:pt x="38" y="112"/>
                </a:lnTo>
                <a:lnTo>
                  <a:pt x="46" y="110"/>
                </a:lnTo>
                <a:lnTo>
                  <a:pt x="55" y="108"/>
                </a:lnTo>
                <a:lnTo>
                  <a:pt x="63" y="106"/>
                </a:lnTo>
                <a:lnTo>
                  <a:pt x="73" y="106"/>
                </a:lnTo>
                <a:lnTo>
                  <a:pt x="82" y="104"/>
                </a:lnTo>
                <a:lnTo>
                  <a:pt x="94" y="102"/>
                </a:lnTo>
                <a:lnTo>
                  <a:pt x="105" y="100"/>
                </a:lnTo>
                <a:lnTo>
                  <a:pt x="117" y="98"/>
                </a:lnTo>
                <a:lnTo>
                  <a:pt x="130" y="96"/>
                </a:lnTo>
                <a:lnTo>
                  <a:pt x="144" y="94"/>
                </a:lnTo>
                <a:lnTo>
                  <a:pt x="157" y="90"/>
                </a:lnTo>
                <a:lnTo>
                  <a:pt x="172" y="89"/>
                </a:lnTo>
                <a:lnTo>
                  <a:pt x="188" y="87"/>
                </a:lnTo>
                <a:lnTo>
                  <a:pt x="203" y="85"/>
                </a:lnTo>
                <a:lnTo>
                  <a:pt x="218" y="81"/>
                </a:lnTo>
                <a:lnTo>
                  <a:pt x="236" y="79"/>
                </a:lnTo>
                <a:lnTo>
                  <a:pt x="253" y="75"/>
                </a:lnTo>
                <a:lnTo>
                  <a:pt x="272" y="73"/>
                </a:lnTo>
                <a:lnTo>
                  <a:pt x="291" y="69"/>
                </a:lnTo>
                <a:lnTo>
                  <a:pt x="311" y="66"/>
                </a:lnTo>
                <a:lnTo>
                  <a:pt x="330" y="6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93"/>
          <p:cNvSpPr/>
          <p:nvPr/>
        </p:nvSpPr>
        <p:spPr>
          <a:xfrm>
            <a:off x="6494400" y="3424320"/>
            <a:ext cx="1243080" cy="666720"/>
          </a:xfrm>
          <a:custGeom>
            <a:avLst/>
            <a:gdLst/>
            <a:ahLst/>
            <a:rect l="l" t="t" r="r" b="b"/>
            <a:pathLst>
              <a:path w="1564" h="840">
                <a:moveTo>
                  <a:pt x="1361" y="564"/>
                </a:moveTo>
                <a:lnTo>
                  <a:pt x="1355" y="581"/>
                </a:lnTo>
                <a:lnTo>
                  <a:pt x="1349" y="598"/>
                </a:lnTo>
                <a:lnTo>
                  <a:pt x="1343" y="616"/>
                </a:lnTo>
                <a:lnTo>
                  <a:pt x="1338" y="631"/>
                </a:lnTo>
                <a:lnTo>
                  <a:pt x="1334" y="646"/>
                </a:lnTo>
                <a:lnTo>
                  <a:pt x="1328" y="660"/>
                </a:lnTo>
                <a:lnTo>
                  <a:pt x="1322" y="673"/>
                </a:lnTo>
                <a:lnTo>
                  <a:pt x="1318" y="687"/>
                </a:lnTo>
                <a:lnTo>
                  <a:pt x="1313" y="700"/>
                </a:lnTo>
                <a:lnTo>
                  <a:pt x="1309" y="712"/>
                </a:lnTo>
                <a:lnTo>
                  <a:pt x="1305" y="723"/>
                </a:lnTo>
                <a:lnTo>
                  <a:pt x="1299" y="735"/>
                </a:lnTo>
                <a:lnTo>
                  <a:pt x="1295" y="746"/>
                </a:lnTo>
                <a:lnTo>
                  <a:pt x="1291" y="756"/>
                </a:lnTo>
                <a:lnTo>
                  <a:pt x="1288" y="765"/>
                </a:lnTo>
                <a:lnTo>
                  <a:pt x="1284" y="773"/>
                </a:lnTo>
                <a:lnTo>
                  <a:pt x="1280" y="783"/>
                </a:lnTo>
                <a:lnTo>
                  <a:pt x="1276" y="790"/>
                </a:lnTo>
                <a:lnTo>
                  <a:pt x="1272" y="796"/>
                </a:lnTo>
                <a:lnTo>
                  <a:pt x="1268" y="804"/>
                </a:lnTo>
                <a:lnTo>
                  <a:pt x="1265" y="810"/>
                </a:lnTo>
                <a:lnTo>
                  <a:pt x="1261" y="815"/>
                </a:lnTo>
                <a:lnTo>
                  <a:pt x="1259" y="819"/>
                </a:lnTo>
                <a:lnTo>
                  <a:pt x="1255" y="825"/>
                </a:lnTo>
                <a:lnTo>
                  <a:pt x="1253" y="829"/>
                </a:lnTo>
                <a:lnTo>
                  <a:pt x="1249" y="831"/>
                </a:lnTo>
                <a:lnTo>
                  <a:pt x="1247" y="835"/>
                </a:lnTo>
                <a:lnTo>
                  <a:pt x="1244" y="836"/>
                </a:lnTo>
                <a:lnTo>
                  <a:pt x="1242" y="838"/>
                </a:lnTo>
                <a:lnTo>
                  <a:pt x="1238" y="840"/>
                </a:lnTo>
                <a:lnTo>
                  <a:pt x="1236" y="840"/>
                </a:lnTo>
                <a:lnTo>
                  <a:pt x="1234" y="840"/>
                </a:lnTo>
                <a:lnTo>
                  <a:pt x="1228" y="840"/>
                </a:lnTo>
                <a:lnTo>
                  <a:pt x="1224" y="840"/>
                </a:lnTo>
                <a:lnTo>
                  <a:pt x="1220" y="838"/>
                </a:lnTo>
                <a:lnTo>
                  <a:pt x="1217" y="836"/>
                </a:lnTo>
                <a:lnTo>
                  <a:pt x="1213" y="833"/>
                </a:lnTo>
                <a:lnTo>
                  <a:pt x="1211" y="831"/>
                </a:lnTo>
                <a:lnTo>
                  <a:pt x="1207" y="827"/>
                </a:lnTo>
                <a:lnTo>
                  <a:pt x="1205" y="821"/>
                </a:lnTo>
                <a:lnTo>
                  <a:pt x="1203" y="817"/>
                </a:lnTo>
                <a:lnTo>
                  <a:pt x="1201" y="811"/>
                </a:lnTo>
                <a:lnTo>
                  <a:pt x="1199" y="806"/>
                </a:lnTo>
                <a:lnTo>
                  <a:pt x="1197" y="798"/>
                </a:lnTo>
                <a:lnTo>
                  <a:pt x="1197" y="790"/>
                </a:lnTo>
                <a:lnTo>
                  <a:pt x="1196" y="783"/>
                </a:lnTo>
                <a:lnTo>
                  <a:pt x="1196" y="775"/>
                </a:lnTo>
                <a:lnTo>
                  <a:pt x="1196" y="765"/>
                </a:lnTo>
                <a:lnTo>
                  <a:pt x="1194" y="758"/>
                </a:lnTo>
                <a:lnTo>
                  <a:pt x="1194" y="748"/>
                </a:lnTo>
                <a:lnTo>
                  <a:pt x="1192" y="737"/>
                </a:lnTo>
                <a:lnTo>
                  <a:pt x="1194" y="723"/>
                </a:lnTo>
                <a:lnTo>
                  <a:pt x="1196" y="708"/>
                </a:lnTo>
                <a:lnTo>
                  <a:pt x="1197" y="691"/>
                </a:lnTo>
                <a:lnTo>
                  <a:pt x="1199" y="673"/>
                </a:lnTo>
                <a:lnTo>
                  <a:pt x="1203" y="652"/>
                </a:lnTo>
                <a:lnTo>
                  <a:pt x="1209" y="631"/>
                </a:lnTo>
                <a:lnTo>
                  <a:pt x="1213" y="606"/>
                </a:lnTo>
                <a:lnTo>
                  <a:pt x="1220" y="581"/>
                </a:lnTo>
                <a:lnTo>
                  <a:pt x="1226" y="554"/>
                </a:lnTo>
                <a:lnTo>
                  <a:pt x="1234" y="524"/>
                </a:lnTo>
                <a:lnTo>
                  <a:pt x="1242" y="493"/>
                </a:lnTo>
                <a:lnTo>
                  <a:pt x="1249" y="460"/>
                </a:lnTo>
                <a:lnTo>
                  <a:pt x="1259" y="426"/>
                </a:lnTo>
                <a:lnTo>
                  <a:pt x="1263" y="410"/>
                </a:lnTo>
                <a:lnTo>
                  <a:pt x="1267" y="395"/>
                </a:lnTo>
                <a:lnTo>
                  <a:pt x="1268" y="380"/>
                </a:lnTo>
                <a:lnTo>
                  <a:pt x="1272" y="364"/>
                </a:lnTo>
                <a:lnTo>
                  <a:pt x="1274" y="351"/>
                </a:lnTo>
                <a:lnTo>
                  <a:pt x="1278" y="335"/>
                </a:lnTo>
                <a:lnTo>
                  <a:pt x="1280" y="324"/>
                </a:lnTo>
                <a:lnTo>
                  <a:pt x="1282" y="311"/>
                </a:lnTo>
                <a:lnTo>
                  <a:pt x="1284" y="299"/>
                </a:lnTo>
                <a:lnTo>
                  <a:pt x="1288" y="287"/>
                </a:lnTo>
                <a:lnTo>
                  <a:pt x="1290" y="276"/>
                </a:lnTo>
                <a:lnTo>
                  <a:pt x="1291" y="264"/>
                </a:lnTo>
                <a:lnTo>
                  <a:pt x="1293" y="255"/>
                </a:lnTo>
                <a:lnTo>
                  <a:pt x="1293" y="245"/>
                </a:lnTo>
                <a:lnTo>
                  <a:pt x="1295" y="236"/>
                </a:lnTo>
                <a:lnTo>
                  <a:pt x="1297" y="226"/>
                </a:lnTo>
                <a:lnTo>
                  <a:pt x="1299" y="211"/>
                </a:lnTo>
                <a:lnTo>
                  <a:pt x="1301" y="197"/>
                </a:lnTo>
                <a:lnTo>
                  <a:pt x="1301" y="184"/>
                </a:lnTo>
                <a:lnTo>
                  <a:pt x="1301" y="174"/>
                </a:lnTo>
                <a:lnTo>
                  <a:pt x="1301" y="165"/>
                </a:lnTo>
                <a:lnTo>
                  <a:pt x="1301" y="159"/>
                </a:lnTo>
                <a:lnTo>
                  <a:pt x="1299" y="153"/>
                </a:lnTo>
                <a:lnTo>
                  <a:pt x="1297" y="149"/>
                </a:lnTo>
                <a:lnTo>
                  <a:pt x="1288" y="145"/>
                </a:lnTo>
                <a:lnTo>
                  <a:pt x="1276" y="144"/>
                </a:lnTo>
                <a:lnTo>
                  <a:pt x="1263" y="140"/>
                </a:lnTo>
                <a:lnTo>
                  <a:pt x="1247" y="140"/>
                </a:lnTo>
                <a:lnTo>
                  <a:pt x="1232" y="138"/>
                </a:lnTo>
                <a:lnTo>
                  <a:pt x="1222" y="138"/>
                </a:lnTo>
                <a:lnTo>
                  <a:pt x="1213" y="138"/>
                </a:lnTo>
                <a:lnTo>
                  <a:pt x="1203" y="138"/>
                </a:lnTo>
                <a:lnTo>
                  <a:pt x="1194" y="138"/>
                </a:lnTo>
                <a:lnTo>
                  <a:pt x="1182" y="138"/>
                </a:lnTo>
                <a:lnTo>
                  <a:pt x="1171" y="138"/>
                </a:lnTo>
                <a:lnTo>
                  <a:pt x="1163" y="138"/>
                </a:lnTo>
                <a:lnTo>
                  <a:pt x="1155" y="138"/>
                </a:lnTo>
                <a:lnTo>
                  <a:pt x="1144" y="140"/>
                </a:lnTo>
                <a:lnTo>
                  <a:pt x="1130" y="140"/>
                </a:lnTo>
                <a:lnTo>
                  <a:pt x="1117" y="142"/>
                </a:lnTo>
                <a:lnTo>
                  <a:pt x="1100" y="144"/>
                </a:lnTo>
                <a:lnTo>
                  <a:pt x="1082" y="145"/>
                </a:lnTo>
                <a:lnTo>
                  <a:pt x="1063" y="149"/>
                </a:lnTo>
                <a:lnTo>
                  <a:pt x="1040" y="151"/>
                </a:lnTo>
                <a:lnTo>
                  <a:pt x="1017" y="155"/>
                </a:lnTo>
                <a:lnTo>
                  <a:pt x="990" y="159"/>
                </a:lnTo>
                <a:lnTo>
                  <a:pt x="977" y="161"/>
                </a:lnTo>
                <a:lnTo>
                  <a:pt x="963" y="165"/>
                </a:lnTo>
                <a:lnTo>
                  <a:pt x="948" y="167"/>
                </a:lnTo>
                <a:lnTo>
                  <a:pt x="933" y="168"/>
                </a:lnTo>
                <a:lnTo>
                  <a:pt x="917" y="170"/>
                </a:lnTo>
                <a:lnTo>
                  <a:pt x="902" y="174"/>
                </a:lnTo>
                <a:lnTo>
                  <a:pt x="885" y="176"/>
                </a:lnTo>
                <a:lnTo>
                  <a:pt x="867" y="180"/>
                </a:lnTo>
                <a:lnTo>
                  <a:pt x="850" y="182"/>
                </a:lnTo>
                <a:lnTo>
                  <a:pt x="833" y="186"/>
                </a:lnTo>
                <a:lnTo>
                  <a:pt x="814" y="188"/>
                </a:lnTo>
                <a:lnTo>
                  <a:pt x="794" y="191"/>
                </a:lnTo>
                <a:lnTo>
                  <a:pt x="775" y="195"/>
                </a:lnTo>
                <a:lnTo>
                  <a:pt x="756" y="197"/>
                </a:lnTo>
                <a:lnTo>
                  <a:pt x="735" y="201"/>
                </a:lnTo>
                <a:lnTo>
                  <a:pt x="714" y="205"/>
                </a:lnTo>
                <a:lnTo>
                  <a:pt x="693" y="209"/>
                </a:lnTo>
                <a:lnTo>
                  <a:pt x="672" y="213"/>
                </a:lnTo>
                <a:lnTo>
                  <a:pt x="648" y="216"/>
                </a:lnTo>
                <a:lnTo>
                  <a:pt x="625" y="220"/>
                </a:lnTo>
                <a:lnTo>
                  <a:pt x="602" y="224"/>
                </a:lnTo>
                <a:lnTo>
                  <a:pt x="579" y="230"/>
                </a:lnTo>
                <a:lnTo>
                  <a:pt x="554" y="234"/>
                </a:lnTo>
                <a:lnTo>
                  <a:pt x="529" y="238"/>
                </a:lnTo>
                <a:lnTo>
                  <a:pt x="505" y="243"/>
                </a:lnTo>
                <a:lnTo>
                  <a:pt x="480" y="247"/>
                </a:lnTo>
                <a:lnTo>
                  <a:pt x="453" y="253"/>
                </a:lnTo>
                <a:lnTo>
                  <a:pt x="426" y="257"/>
                </a:lnTo>
                <a:lnTo>
                  <a:pt x="399" y="263"/>
                </a:lnTo>
                <a:lnTo>
                  <a:pt x="370" y="268"/>
                </a:lnTo>
                <a:lnTo>
                  <a:pt x="343" y="272"/>
                </a:lnTo>
                <a:lnTo>
                  <a:pt x="315" y="278"/>
                </a:lnTo>
                <a:lnTo>
                  <a:pt x="284" y="284"/>
                </a:lnTo>
                <a:lnTo>
                  <a:pt x="255" y="289"/>
                </a:lnTo>
                <a:lnTo>
                  <a:pt x="224" y="295"/>
                </a:lnTo>
                <a:lnTo>
                  <a:pt x="194" y="301"/>
                </a:lnTo>
                <a:lnTo>
                  <a:pt x="163" y="307"/>
                </a:lnTo>
                <a:lnTo>
                  <a:pt x="130" y="312"/>
                </a:lnTo>
                <a:lnTo>
                  <a:pt x="98" y="318"/>
                </a:lnTo>
                <a:lnTo>
                  <a:pt x="65" y="326"/>
                </a:lnTo>
                <a:lnTo>
                  <a:pt x="32" y="332"/>
                </a:lnTo>
                <a:lnTo>
                  <a:pt x="0" y="337"/>
                </a:lnTo>
                <a:lnTo>
                  <a:pt x="0" y="287"/>
                </a:lnTo>
                <a:lnTo>
                  <a:pt x="0" y="238"/>
                </a:lnTo>
                <a:lnTo>
                  <a:pt x="38" y="232"/>
                </a:lnTo>
                <a:lnTo>
                  <a:pt x="78" y="226"/>
                </a:lnTo>
                <a:lnTo>
                  <a:pt x="117" y="220"/>
                </a:lnTo>
                <a:lnTo>
                  <a:pt x="155" y="215"/>
                </a:lnTo>
                <a:lnTo>
                  <a:pt x="192" y="209"/>
                </a:lnTo>
                <a:lnTo>
                  <a:pt x="228" y="203"/>
                </a:lnTo>
                <a:lnTo>
                  <a:pt x="265" y="197"/>
                </a:lnTo>
                <a:lnTo>
                  <a:pt x="299" y="193"/>
                </a:lnTo>
                <a:lnTo>
                  <a:pt x="334" y="188"/>
                </a:lnTo>
                <a:lnTo>
                  <a:pt x="368" y="182"/>
                </a:lnTo>
                <a:lnTo>
                  <a:pt x="401" y="178"/>
                </a:lnTo>
                <a:lnTo>
                  <a:pt x="434" y="172"/>
                </a:lnTo>
                <a:lnTo>
                  <a:pt x="464" y="167"/>
                </a:lnTo>
                <a:lnTo>
                  <a:pt x="495" y="163"/>
                </a:lnTo>
                <a:lnTo>
                  <a:pt x="526" y="157"/>
                </a:lnTo>
                <a:lnTo>
                  <a:pt x="554" y="153"/>
                </a:lnTo>
                <a:lnTo>
                  <a:pt x="583" y="149"/>
                </a:lnTo>
                <a:lnTo>
                  <a:pt x="610" y="144"/>
                </a:lnTo>
                <a:lnTo>
                  <a:pt x="637" y="140"/>
                </a:lnTo>
                <a:lnTo>
                  <a:pt x="664" y="136"/>
                </a:lnTo>
                <a:lnTo>
                  <a:pt x="691" y="130"/>
                </a:lnTo>
                <a:lnTo>
                  <a:pt x="716" y="126"/>
                </a:lnTo>
                <a:lnTo>
                  <a:pt x="739" y="122"/>
                </a:lnTo>
                <a:lnTo>
                  <a:pt x="764" y="119"/>
                </a:lnTo>
                <a:lnTo>
                  <a:pt x="787" y="115"/>
                </a:lnTo>
                <a:lnTo>
                  <a:pt x="808" y="109"/>
                </a:lnTo>
                <a:lnTo>
                  <a:pt x="831" y="105"/>
                </a:lnTo>
                <a:lnTo>
                  <a:pt x="852" y="101"/>
                </a:lnTo>
                <a:lnTo>
                  <a:pt x="871" y="97"/>
                </a:lnTo>
                <a:lnTo>
                  <a:pt x="890" y="94"/>
                </a:lnTo>
                <a:lnTo>
                  <a:pt x="910" y="90"/>
                </a:lnTo>
                <a:lnTo>
                  <a:pt x="929" y="88"/>
                </a:lnTo>
                <a:lnTo>
                  <a:pt x="961" y="80"/>
                </a:lnTo>
                <a:lnTo>
                  <a:pt x="992" y="72"/>
                </a:lnTo>
                <a:lnTo>
                  <a:pt x="1021" y="67"/>
                </a:lnTo>
                <a:lnTo>
                  <a:pt x="1048" y="61"/>
                </a:lnTo>
                <a:lnTo>
                  <a:pt x="1073" y="55"/>
                </a:lnTo>
                <a:lnTo>
                  <a:pt x="1096" y="49"/>
                </a:lnTo>
                <a:lnTo>
                  <a:pt x="1119" y="44"/>
                </a:lnTo>
                <a:lnTo>
                  <a:pt x="1138" y="40"/>
                </a:lnTo>
                <a:lnTo>
                  <a:pt x="1157" y="36"/>
                </a:lnTo>
                <a:lnTo>
                  <a:pt x="1172" y="30"/>
                </a:lnTo>
                <a:lnTo>
                  <a:pt x="1188" y="26"/>
                </a:lnTo>
                <a:lnTo>
                  <a:pt x="1199" y="23"/>
                </a:lnTo>
                <a:lnTo>
                  <a:pt x="1211" y="21"/>
                </a:lnTo>
                <a:lnTo>
                  <a:pt x="1220" y="17"/>
                </a:lnTo>
                <a:lnTo>
                  <a:pt x="1228" y="15"/>
                </a:lnTo>
                <a:lnTo>
                  <a:pt x="1234" y="11"/>
                </a:lnTo>
                <a:lnTo>
                  <a:pt x="1240" y="7"/>
                </a:lnTo>
                <a:lnTo>
                  <a:pt x="1245" y="5"/>
                </a:lnTo>
                <a:lnTo>
                  <a:pt x="1253" y="1"/>
                </a:lnTo>
                <a:lnTo>
                  <a:pt x="1261" y="1"/>
                </a:lnTo>
                <a:lnTo>
                  <a:pt x="1268" y="0"/>
                </a:lnTo>
                <a:lnTo>
                  <a:pt x="1278" y="0"/>
                </a:lnTo>
                <a:lnTo>
                  <a:pt x="1297" y="0"/>
                </a:lnTo>
                <a:lnTo>
                  <a:pt x="1299" y="0"/>
                </a:lnTo>
                <a:lnTo>
                  <a:pt x="1303" y="0"/>
                </a:lnTo>
                <a:lnTo>
                  <a:pt x="1309" y="1"/>
                </a:lnTo>
                <a:lnTo>
                  <a:pt x="1315" y="3"/>
                </a:lnTo>
                <a:lnTo>
                  <a:pt x="1320" y="7"/>
                </a:lnTo>
                <a:lnTo>
                  <a:pt x="1328" y="9"/>
                </a:lnTo>
                <a:lnTo>
                  <a:pt x="1336" y="13"/>
                </a:lnTo>
                <a:lnTo>
                  <a:pt x="1345" y="17"/>
                </a:lnTo>
                <a:lnTo>
                  <a:pt x="1355" y="23"/>
                </a:lnTo>
                <a:lnTo>
                  <a:pt x="1366" y="28"/>
                </a:lnTo>
                <a:lnTo>
                  <a:pt x="1378" y="34"/>
                </a:lnTo>
                <a:lnTo>
                  <a:pt x="1391" y="42"/>
                </a:lnTo>
                <a:lnTo>
                  <a:pt x="1405" y="49"/>
                </a:lnTo>
                <a:lnTo>
                  <a:pt x="1418" y="57"/>
                </a:lnTo>
                <a:lnTo>
                  <a:pt x="1434" y="65"/>
                </a:lnTo>
                <a:lnTo>
                  <a:pt x="1451" y="74"/>
                </a:lnTo>
                <a:lnTo>
                  <a:pt x="1464" y="86"/>
                </a:lnTo>
                <a:lnTo>
                  <a:pt x="1476" y="97"/>
                </a:lnTo>
                <a:lnTo>
                  <a:pt x="1489" y="107"/>
                </a:lnTo>
                <a:lnTo>
                  <a:pt x="1501" y="117"/>
                </a:lnTo>
                <a:lnTo>
                  <a:pt x="1510" y="126"/>
                </a:lnTo>
                <a:lnTo>
                  <a:pt x="1520" y="136"/>
                </a:lnTo>
                <a:lnTo>
                  <a:pt x="1528" y="144"/>
                </a:lnTo>
                <a:lnTo>
                  <a:pt x="1535" y="151"/>
                </a:lnTo>
                <a:lnTo>
                  <a:pt x="1543" y="159"/>
                </a:lnTo>
                <a:lnTo>
                  <a:pt x="1549" y="167"/>
                </a:lnTo>
                <a:lnTo>
                  <a:pt x="1553" y="172"/>
                </a:lnTo>
                <a:lnTo>
                  <a:pt x="1556" y="178"/>
                </a:lnTo>
                <a:lnTo>
                  <a:pt x="1560" y="184"/>
                </a:lnTo>
                <a:lnTo>
                  <a:pt x="1562" y="190"/>
                </a:lnTo>
                <a:lnTo>
                  <a:pt x="1564" y="195"/>
                </a:lnTo>
                <a:lnTo>
                  <a:pt x="1564" y="201"/>
                </a:lnTo>
                <a:lnTo>
                  <a:pt x="1564" y="209"/>
                </a:lnTo>
                <a:lnTo>
                  <a:pt x="1562" y="216"/>
                </a:lnTo>
                <a:lnTo>
                  <a:pt x="1558" y="224"/>
                </a:lnTo>
                <a:lnTo>
                  <a:pt x="1553" y="230"/>
                </a:lnTo>
                <a:lnTo>
                  <a:pt x="1547" y="236"/>
                </a:lnTo>
                <a:lnTo>
                  <a:pt x="1543" y="238"/>
                </a:lnTo>
                <a:lnTo>
                  <a:pt x="1537" y="241"/>
                </a:lnTo>
                <a:lnTo>
                  <a:pt x="1533" y="243"/>
                </a:lnTo>
                <a:lnTo>
                  <a:pt x="1528" y="245"/>
                </a:lnTo>
                <a:lnTo>
                  <a:pt x="1520" y="249"/>
                </a:lnTo>
                <a:lnTo>
                  <a:pt x="1514" y="251"/>
                </a:lnTo>
                <a:lnTo>
                  <a:pt x="1510" y="253"/>
                </a:lnTo>
                <a:lnTo>
                  <a:pt x="1506" y="255"/>
                </a:lnTo>
                <a:lnTo>
                  <a:pt x="1503" y="257"/>
                </a:lnTo>
                <a:lnTo>
                  <a:pt x="1499" y="261"/>
                </a:lnTo>
                <a:lnTo>
                  <a:pt x="1495" y="264"/>
                </a:lnTo>
                <a:lnTo>
                  <a:pt x="1491" y="268"/>
                </a:lnTo>
                <a:lnTo>
                  <a:pt x="1487" y="272"/>
                </a:lnTo>
                <a:lnTo>
                  <a:pt x="1482" y="278"/>
                </a:lnTo>
                <a:lnTo>
                  <a:pt x="1478" y="284"/>
                </a:lnTo>
                <a:lnTo>
                  <a:pt x="1474" y="291"/>
                </a:lnTo>
                <a:lnTo>
                  <a:pt x="1470" y="297"/>
                </a:lnTo>
                <a:lnTo>
                  <a:pt x="1464" y="305"/>
                </a:lnTo>
                <a:lnTo>
                  <a:pt x="1460" y="314"/>
                </a:lnTo>
                <a:lnTo>
                  <a:pt x="1457" y="322"/>
                </a:lnTo>
                <a:lnTo>
                  <a:pt x="1451" y="332"/>
                </a:lnTo>
                <a:lnTo>
                  <a:pt x="1447" y="341"/>
                </a:lnTo>
                <a:lnTo>
                  <a:pt x="1441" y="351"/>
                </a:lnTo>
                <a:lnTo>
                  <a:pt x="1437" y="362"/>
                </a:lnTo>
                <a:lnTo>
                  <a:pt x="1432" y="374"/>
                </a:lnTo>
                <a:lnTo>
                  <a:pt x="1426" y="385"/>
                </a:lnTo>
                <a:lnTo>
                  <a:pt x="1422" y="397"/>
                </a:lnTo>
                <a:lnTo>
                  <a:pt x="1416" y="410"/>
                </a:lnTo>
                <a:lnTo>
                  <a:pt x="1410" y="424"/>
                </a:lnTo>
                <a:lnTo>
                  <a:pt x="1405" y="437"/>
                </a:lnTo>
                <a:lnTo>
                  <a:pt x="1401" y="453"/>
                </a:lnTo>
                <a:lnTo>
                  <a:pt x="1395" y="466"/>
                </a:lnTo>
                <a:lnTo>
                  <a:pt x="1384" y="497"/>
                </a:lnTo>
                <a:lnTo>
                  <a:pt x="1372" y="529"/>
                </a:lnTo>
                <a:lnTo>
                  <a:pt x="1361" y="56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94"/>
          <p:cNvSpPr/>
          <p:nvPr/>
        </p:nvSpPr>
        <p:spPr>
          <a:xfrm>
            <a:off x="6621480" y="3162240"/>
            <a:ext cx="955800" cy="231840"/>
          </a:xfrm>
          <a:custGeom>
            <a:avLst/>
            <a:gdLst/>
            <a:ahLst/>
            <a:rect l="l" t="t" r="r" b="b"/>
            <a:pathLst>
              <a:path w="1204" h="292">
                <a:moveTo>
                  <a:pt x="1202" y="54"/>
                </a:moveTo>
                <a:lnTo>
                  <a:pt x="1202" y="56"/>
                </a:lnTo>
                <a:lnTo>
                  <a:pt x="1200" y="58"/>
                </a:lnTo>
                <a:lnTo>
                  <a:pt x="1198" y="62"/>
                </a:lnTo>
                <a:lnTo>
                  <a:pt x="1194" y="64"/>
                </a:lnTo>
                <a:lnTo>
                  <a:pt x="1188" y="68"/>
                </a:lnTo>
                <a:lnTo>
                  <a:pt x="1182" y="69"/>
                </a:lnTo>
                <a:lnTo>
                  <a:pt x="1177" y="73"/>
                </a:lnTo>
                <a:lnTo>
                  <a:pt x="1169" y="77"/>
                </a:lnTo>
                <a:lnTo>
                  <a:pt x="1159" y="81"/>
                </a:lnTo>
                <a:lnTo>
                  <a:pt x="1150" y="85"/>
                </a:lnTo>
                <a:lnTo>
                  <a:pt x="1138" y="89"/>
                </a:lnTo>
                <a:lnTo>
                  <a:pt x="1127" y="93"/>
                </a:lnTo>
                <a:lnTo>
                  <a:pt x="1113" y="96"/>
                </a:lnTo>
                <a:lnTo>
                  <a:pt x="1100" y="100"/>
                </a:lnTo>
                <a:lnTo>
                  <a:pt x="1085" y="104"/>
                </a:lnTo>
                <a:lnTo>
                  <a:pt x="1067" y="108"/>
                </a:lnTo>
                <a:lnTo>
                  <a:pt x="1050" y="114"/>
                </a:lnTo>
                <a:lnTo>
                  <a:pt x="1033" y="117"/>
                </a:lnTo>
                <a:lnTo>
                  <a:pt x="1013" y="121"/>
                </a:lnTo>
                <a:lnTo>
                  <a:pt x="992" y="127"/>
                </a:lnTo>
                <a:lnTo>
                  <a:pt x="971" y="131"/>
                </a:lnTo>
                <a:lnTo>
                  <a:pt x="948" y="137"/>
                </a:lnTo>
                <a:lnTo>
                  <a:pt x="925" y="142"/>
                </a:lnTo>
                <a:lnTo>
                  <a:pt x="900" y="146"/>
                </a:lnTo>
                <a:lnTo>
                  <a:pt x="875" y="152"/>
                </a:lnTo>
                <a:lnTo>
                  <a:pt x="848" y="158"/>
                </a:lnTo>
                <a:lnTo>
                  <a:pt x="822" y="164"/>
                </a:lnTo>
                <a:lnTo>
                  <a:pt x="793" y="169"/>
                </a:lnTo>
                <a:lnTo>
                  <a:pt x="762" y="175"/>
                </a:lnTo>
                <a:lnTo>
                  <a:pt x="731" y="181"/>
                </a:lnTo>
                <a:lnTo>
                  <a:pt x="701" y="187"/>
                </a:lnTo>
                <a:lnTo>
                  <a:pt x="668" y="192"/>
                </a:lnTo>
                <a:lnTo>
                  <a:pt x="633" y="198"/>
                </a:lnTo>
                <a:lnTo>
                  <a:pt x="603" y="204"/>
                </a:lnTo>
                <a:lnTo>
                  <a:pt x="572" y="210"/>
                </a:lnTo>
                <a:lnTo>
                  <a:pt x="541" y="215"/>
                </a:lnTo>
                <a:lnTo>
                  <a:pt x="513" y="219"/>
                </a:lnTo>
                <a:lnTo>
                  <a:pt x="484" y="225"/>
                </a:lnTo>
                <a:lnTo>
                  <a:pt x="457" y="231"/>
                </a:lnTo>
                <a:lnTo>
                  <a:pt x="432" y="235"/>
                </a:lnTo>
                <a:lnTo>
                  <a:pt x="407" y="238"/>
                </a:lnTo>
                <a:lnTo>
                  <a:pt x="382" y="244"/>
                </a:lnTo>
                <a:lnTo>
                  <a:pt x="359" y="248"/>
                </a:lnTo>
                <a:lnTo>
                  <a:pt x="336" y="252"/>
                </a:lnTo>
                <a:lnTo>
                  <a:pt x="315" y="256"/>
                </a:lnTo>
                <a:lnTo>
                  <a:pt x="296" y="260"/>
                </a:lnTo>
                <a:lnTo>
                  <a:pt x="276" y="263"/>
                </a:lnTo>
                <a:lnTo>
                  <a:pt x="259" y="267"/>
                </a:lnTo>
                <a:lnTo>
                  <a:pt x="242" y="269"/>
                </a:lnTo>
                <a:lnTo>
                  <a:pt x="225" y="273"/>
                </a:lnTo>
                <a:lnTo>
                  <a:pt x="209" y="275"/>
                </a:lnTo>
                <a:lnTo>
                  <a:pt x="196" y="277"/>
                </a:lnTo>
                <a:lnTo>
                  <a:pt x="182" y="281"/>
                </a:lnTo>
                <a:lnTo>
                  <a:pt x="171" y="283"/>
                </a:lnTo>
                <a:lnTo>
                  <a:pt x="159" y="284"/>
                </a:lnTo>
                <a:lnTo>
                  <a:pt x="150" y="286"/>
                </a:lnTo>
                <a:lnTo>
                  <a:pt x="140" y="288"/>
                </a:lnTo>
                <a:lnTo>
                  <a:pt x="132" y="288"/>
                </a:lnTo>
                <a:lnTo>
                  <a:pt x="127" y="290"/>
                </a:lnTo>
                <a:lnTo>
                  <a:pt x="121" y="290"/>
                </a:lnTo>
                <a:lnTo>
                  <a:pt x="115" y="292"/>
                </a:lnTo>
                <a:lnTo>
                  <a:pt x="111" y="292"/>
                </a:lnTo>
                <a:lnTo>
                  <a:pt x="109" y="292"/>
                </a:lnTo>
                <a:lnTo>
                  <a:pt x="108" y="292"/>
                </a:lnTo>
                <a:lnTo>
                  <a:pt x="98" y="292"/>
                </a:lnTo>
                <a:lnTo>
                  <a:pt x="88" y="290"/>
                </a:lnTo>
                <a:lnTo>
                  <a:pt x="79" y="288"/>
                </a:lnTo>
                <a:lnTo>
                  <a:pt x="69" y="283"/>
                </a:lnTo>
                <a:lnTo>
                  <a:pt x="60" y="279"/>
                </a:lnTo>
                <a:lnTo>
                  <a:pt x="50" y="271"/>
                </a:lnTo>
                <a:lnTo>
                  <a:pt x="40" y="263"/>
                </a:lnTo>
                <a:lnTo>
                  <a:pt x="31" y="256"/>
                </a:lnTo>
                <a:lnTo>
                  <a:pt x="25" y="252"/>
                </a:lnTo>
                <a:lnTo>
                  <a:pt x="19" y="250"/>
                </a:lnTo>
                <a:lnTo>
                  <a:pt x="13" y="246"/>
                </a:lnTo>
                <a:lnTo>
                  <a:pt x="10" y="244"/>
                </a:lnTo>
                <a:lnTo>
                  <a:pt x="6" y="240"/>
                </a:lnTo>
                <a:lnTo>
                  <a:pt x="4" y="236"/>
                </a:lnTo>
                <a:lnTo>
                  <a:pt x="2" y="233"/>
                </a:lnTo>
                <a:lnTo>
                  <a:pt x="0" y="229"/>
                </a:lnTo>
                <a:lnTo>
                  <a:pt x="0" y="227"/>
                </a:lnTo>
                <a:lnTo>
                  <a:pt x="2" y="223"/>
                </a:lnTo>
                <a:lnTo>
                  <a:pt x="2" y="219"/>
                </a:lnTo>
                <a:lnTo>
                  <a:pt x="4" y="215"/>
                </a:lnTo>
                <a:lnTo>
                  <a:pt x="8" y="213"/>
                </a:lnTo>
                <a:lnTo>
                  <a:pt x="10" y="210"/>
                </a:lnTo>
                <a:lnTo>
                  <a:pt x="13" y="208"/>
                </a:lnTo>
                <a:lnTo>
                  <a:pt x="19" y="204"/>
                </a:lnTo>
                <a:lnTo>
                  <a:pt x="23" y="200"/>
                </a:lnTo>
                <a:lnTo>
                  <a:pt x="31" y="198"/>
                </a:lnTo>
                <a:lnTo>
                  <a:pt x="37" y="194"/>
                </a:lnTo>
                <a:lnTo>
                  <a:pt x="44" y="194"/>
                </a:lnTo>
                <a:lnTo>
                  <a:pt x="54" y="192"/>
                </a:lnTo>
                <a:lnTo>
                  <a:pt x="63" y="192"/>
                </a:lnTo>
                <a:lnTo>
                  <a:pt x="83" y="192"/>
                </a:lnTo>
                <a:lnTo>
                  <a:pt x="84" y="192"/>
                </a:lnTo>
                <a:lnTo>
                  <a:pt x="88" y="192"/>
                </a:lnTo>
                <a:lnTo>
                  <a:pt x="92" y="190"/>
                </a:lnTo>
                <a:lnTo>
                  <a:pt x="98" y="190"/>
                </a:lnTo>
                <a:lnTo>
                  <a:pt x="104" y="189"/>
                </a:lnTo>
                <a:lnTo>
                  <a:pt x="109" y="189"/>
                </a:lnTo>
                <a:lnTo>
                  <a:pt x="117" y="187"/>
                </a:lnTo>
                <a:lnTo>
                  <a:pt x="125" y="185"/>
                </a:lnTo>
                <a:lnTo>
                  <a:pt x="132" y="183"/>
                </a:lnTo>
                <a:lnTo>
                  <a:pt x="142" y="181"/>
                </a:lnTo>
                <a:lnTo>
                  <a:pt x="154" y="179"/>
                </a:lnTo>
                <a:lnTo>
                  <a:pt x="163" y="177"/>
                </a:lnTo>
                <a:lnTo>
                  <a:pt x="177" y="175"/>
                </a:lnTo>
                <a:lnTo>
                  <a:pt x="188" y="171"/>
                </a:lnTo>
                <a:lnTo>
                  <a:pt x="202" y="169"/>
                </a:lnTo>
                <a:lnTo>
                  <a:pt x="215" y="165"/>
                </a:lnTo>
                <a:lnTo>
                  <a:pt x="230" y="162"/>
                </a:lnTo>
                <a:lnTo>
                  <a:pt x="246" y="160"/>
                </a:lnTo>
                <a:lnTo>
                  <a:pt x="261" y="156"/>
                </a:lnTo>
                <a:lnTo>
                  <a:pt x="278" y="152"/>
                </a:lnTo>
                <a:lnTo>
                  <a:pt x="296" y="148"/>
                </a:lnTo>
                <a:lnTo>
                  <a:pt x="315" y="142"/>
                </a:lnTo>
                <a:lnTo>
                  <a:pt x="334" y="139"/>
                </a:lnTo>
                <a:lnTo>
                  <a:pt x="353" y="135"/>
                </a:lnTo>
                <a:lnTo>
                  <a:pt x="374" y="129"/>
                </a:lnTo>
                <a:lnTo>
                  <a:pt x="395" y="125"/>
                </a:lnTo>
                <a:lnTo>
                  <a:pt x="418" y="119"/>
                </a:lnTo>
                <a:lnTo>
                  <a:pt x="441" y="114"/>
                </a:lnTo>
                <a:lnTo>
                  <a:pt x="465" y="108"/>
                </a:lnTo>
                <a:lnTo>
                  <a:pt x="489" y="104"/>
                </a:lnTo>
                <a:lnTo>
                  <a:pt x="514" y="98"/>
                </a:lnTo>
                <a:lnTo>
                  <a:pt x="539" y="93"/>
                </a:lnTo>
                <a:lnTo>
                  <a:pt x="566" y="85"/>
                </a:lnTo>
                <a:lnTo>
                  <a:pt x="591" y="79"/>
                </a:lnTo>
                <a:lnTo>
                  <a:pt x="616" y="73"/>
                </a:lnTo>
                <a:lnTo>
                  <a:pt x="639" y="69"/>
                </a:lnTo>
                <a:lnTo>
                  <a:pt x="664" y="64"/>
                </a:lnTo>
                <a:lnTo>
                  <a:pt x="687" y="58"/>
                </a:lnTo>
                <a:lnTo>
                  <a:pt x="708" y="54"/>
                </a:lnTo>
                <a:lnTo>
                  <a:pt x="731" y="48"/>
                </a:lnTo>
                <a:lnTo>
                  <a:pt x="752" y="45"/>
                </a:lnTo>
                <a:lnTo>
                  <a:pt x="774" y="41"/>
                </a:lnTo>
                <a:lnTo>
                  <a:pt x="793" y="37"/>
                </a:lnTo>
                <a:lnTo>
                  <a:pt x="812" y="33"/>
                </a:lnTo>
                <a:lnTo>
                  <a:pt x="831" y="29"/>
                </a:lnTo>
                <a:lnTo>
                  <a:pt x="850" y="25"/>
                </a:lnTo>
                <a:lnTo>
                  <a:pt x="868" y="22"/>
                </a:lnTo>
                <a:lnTo>
                  <a:pt x="885" y="20"/>
                </a:lnTo>
                <a:lnTo>
                  <a:pt x="902" y="16"/>
                </a:lnTo>
                <a:lnTo>
                  <a:pt x="918" y="14"/>
                </a:lnTo>
                <a:lnTo>
                  <a:pt x="933" y="12"/>
                </a:lnTo>
                <a:lnTo>
                  <a:pt x="948" y="8"/>
                </a:lnTo>
                <a:lnTo>
                  <a:pt x="964" y="6"/>
                </a:lnTo>
                <a:lnTo>
                  <a:pt x="977" y="6"/>
                </a:lnTo>
                <a:lnTo>
                  <a:pt x="990" y="4"/>
                </a:lnTo>
                <a:lnTo>
                  <a:pt x="1004" y="2"/>
                </a:lnTo>
                <a:lnTo>
                  <a:pt x="1015" y="2"/>
                </a:lnTo>
                <a:lnTo>
                  <a:pt x="1027" y="2"/>
                </a:lnTo>
                <a:lnTo>
                  <a:pt x="1038" y="0"/>
                </a:lnTo>
                <a:lnTo>
                  <a:pt x="1050" y="0"/>
                </a:lnTo>
                <a:lnTo>
                  <a:pt x="1060" y="2"/>
                </a:lnTo>
                <a:lnTo>
                  <a:pt x="1069" y="2"/>
                </a:lnTo>
                <a:lnTo>
                  <a:pt x="1079" y="2"/>
                </a:lnTo>
                <a:lnTo>
                  <a:pt x="1088" y="4"/>
                </a:lnTo>
                <a:lnTo>
                  <a:pt x="1104" y="6"/>
                </a:lnTo>
                <a:lnTo>
                  <a:pt x="1119" y="8"/>
                </a:lnTo>
                <a:lnTo>
                  <a:pt x="1132" y="10"/>
                </a:lnTo>
                <a:lnTo>
                  <a:pt x="1144" y="14"/>
                </a:lnTo>
                <a:lnTo>
                  <a:pt x="1156" y="16"/>
                </a:lnTo>
                <a:lnTo>
                  <a:pt x="1165" y="18"/>
                </a:lnTo>
                <a:lnTo>
                  <a:pt x="1175" y="22"/>
                </a:lnTo>
                <a:lnTo>
                  <a:pt x="1182" y="23"/>
                </a:lnTo>
                <a:lnTo>
                  <a:pt x="1188" y="27"/>
                </a:lnTo>
                <a:lnTo>
                  <a:pt x="1194" y="31"/>
                </a:lnTo>
                <a:lnTo>
                  <a:pt x="1198" y="33"/>
                </a:lnTo>
                <a:lnTo>
                  <a:pt x="1202" y="37"/>
                </a:lnTo>
                <a:lnTo>
                  <a:pt x="1204" y="41"/>
                </a:lnTo>
                <a:lnTo>
                  <a:pt x="1204" y="45"/>
                </a:lnTo>
                <a:lnTo>
                  <a:pt x="1204" y="48"/>
                </a:lnTo>
                <a:lnTo>
                  <a:pt x="1202" y="5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195"/>
          <p:cNvSpPr/>
          <p:nvPr/>
        </p:nvSpPr>
        <p:spPr>
          <a:xfrm>
            <a:off x="6119640" y="4017960"/>
            <a:ext cx="266760" cy="235080"/>
          </a:xfrm>
          <a:custGeom>
            <a:avLst/>
            <a:gdLst/>
            <a:ahLst/>
            <a:rect l="l" t="t" r="r" b="b"/>
            <a:pathLst>
              <a:path w="335" h="296">
                <a:moveTo>
                  <a:pt x="332" y="219"/>
                </a:moveTo>
                <a:lnTo>
                  <a:pt x="328" y="229"/>
                </a:lnTo>
                <a:lnTo>
                  <a:pt x="326" y="236"/>
                </a:lnTo>
                <a:lnTo>
                  <a:pt x="322" y="244"/>
                </a:lnTo>
                <a:lnTo>
                  <a:pt x="320" y="252"/>
                </a:lnTo>
                <a:lnTo>
                  <a:pt x="316" y="259"/>
                </a:lnTo>
                <a:lnTo>
                  <a:pt x="312" y="265"/>
                </a:lnTo>
                <a:lnTo>
                  <a:pt x="309" y="271"/>
                </a:lnTo>
                <a:lnTo>
                  <a:pt x="307" y="275"/>
                </a:lnTo>
                <a:lnTo>
                  <a:pt x="303" y="280"/>
                </a:lnTo>
                <a:lnTo>
                  <a:pt x="299" y="284"/>
                </a:lnTo>
                <a:lnTo>
                  <a:pt x="295" y="286"/>
                </a:lnTo>
                <a:lnTo>
                  <a:pt x="291" y="290"/>
                </a:lnTo>
                <a:lnTo>
                  <a:pt x="289" y="292"/>
                </a:lnTo>
                <a:lnTo>
                  <a:pt x="286" y="292"/>
                </a:lnTo>
                <a:lnTo>
                  <a:pt x="284" y="294"/>
                </a:lnTo>
                <a:lnTo>
                  <a:pt x="280" y="294"/>
                </a:lnTo>
                <a:lnTo>
                  <a:pt x="278" y="294"/>
                </a:lnTo>
                <a:lnTo>
                  <a:pt x="274" y="296"/>
                </a:lnTo>
                <a:lnTo>
                  <a:pt x="272" y="294"/>
                </a:lnTo>
                <a:lnTo>
                  <a:pt x="268" y="294"/>
                </a:lnTo>
                <a:lnTo>
                  <a:pt x="264" y="292"/>
                </a:lnTo>
                <a:lnTo>
                  <a:pt x="259" y="290"/>
                </a:lnTo>
                <a:lnTo>
                  <a:pt x="255" y="286"/>
                </a:lnTo>
                <a:lnTo>
                  <a:pt x="249" y="282"/>
                </a:lnTo>
                <a:lnTo>
                  <a:pt x="243" y="278"/>
                </a:lnTo>
                <a:lnTo>
                  <a:pt x="238" y="273"/>
                </a:lnTo>
                <a:lnTo>
                  <a:pt x="230" y="267"/>
                </a:lnTo>
                <a:lnTo>
                  <a:pt x="224" y="261"/>
                </a:lnTo>
                <a:lnTo>
                  <a:pt x="216" y="255"/>
                </a:lnTo>
                <a:lnTo>
                  <a:pt x="209" y="248"/>
                </a:lnTo>
                <a:lnTo>
                  <a:pt x="201" y="238"/>
                </a:lnTo>
                <a:lnTo>
                  <a:pt x="191" y="230"/>
                </a:lnTo>
                <a:lnTo>
                  <a:pt x="184" y="221"/>
                </a:lnTo>
                <a:lnTo>
                  <a:pt x="174" y="211"/>
                </a:lnTo>
                <a:lnTo>
                  <a:pt x="165" y="200"/>
                </a:lnTo>
                <a:lnTo>
                  <a:pt x="153" y="188"/>
                </a:lnTo>
                <a:lnTo>
                  <a:pt x="144" y="177"/>
                </a:lnTo>
                <a:lnTo>
                  <a:pt x="132" y="165"/>
                </a:lnTo>
                <a:lnTo>
                  <a:pt x="120" y="152"/>
                </a:lnTo>
                <a:lnTo>
                  <a:pt x="109" y="136"/>
                </a:lnTo>
                <a:lnTo>
                  <a:pt x="97" y="123"/>
                </a:lnTo>
                <a:lnTo>
                  <a:pt x="84" y="108"/>
                </a:lnTo>
                <a:lnTo>
                  <a:pt x="71" y="92"/>
                </a:lnTo>
                <a:lnTo>
                  <a:pt x="57" y="77"/>
                </a:lnTo>
                <a:lnTo>
                  <a:pt x="44" y="60"/>
                </a:lnTo>
                <a:lnTo>
                  <a:pt x="30" y="42"/>
                </a:lnTo>
                <a:lnTo>
                  <a:pt x="15" y="23"/>
                </a:lnTo>
                <a:lnTo>
                  <a:pt x="0" y="6"/>
                </a:lnTo>
                <a:lnTo>
                  <a:pt x="21" y="2"/>
                </a:lnTo>
                <a:lnTo>
                  <a:pt x="42" y="2"/>
                </a:lnTo>
                <a:lnTo>
                  <a:pt x="61" y="0"/>
                </a:lnTo>
                <a:lnTo>
                  <a:pt x="82" y="0"/>
                </a:lnTo>
                <a:lnTo>
                  <a:pt x="99" y="0"/>
                </a:lnTo>
                <a:lnTo>
                  <a:pt x="119" y="2"/>
                </a:lnTo>
                <a:lnTo>
                  <a:pt x="136" y="4"/>
                </a:lnTo>
                <a:lnTo>
                  <a:pt x="153" y="6"/>
                </a:lnTo>
                <a:lnTo>
                  <a:pt x="168" y="10"/>
                </a:lnTo>
                <a:lnTo>
                  <a:pt x="186" y="14"/>
                </a:lnTo>
                <a:lnTo>
                  <a:pt x="201" y="19"/>
                </a:lnTo>
                <a:lnTo>
                  <a:pt x="215" y="25"/>
                </a:lnTo>
                <a:lnTo>
                  <a:pt x="230" y="31"/>
                </a:lnTo>
                <a:lnTo>
                  <a:pt x="243" y="39"/>
                </a:lnTo>
                <a:lnTo>
                  <a:pt x="255" y="46"/>
                </a:lnTo>
                <a:lnTo>
                  <a:pt x="268" y="56"/>
                </a:lnTo>
                <a:lnTo>
                  <a:pt x="278" y="67"/>
                </a:lnTo>
                <a:lnTo>
                  <a:pt x="289" y="79"/>
                </a:lnTo>
                <a:lnTo>
                  <a:pt x="297" y="90"/>
                </a:lnTo>
                <a:lnTo>
                  <a:pt x="305" y="100"/>
                </a:lnTo>
                <a:lnTo>
                  <a:pt x="312" y="111"/>
                </a:lnTo>
                <a:lnTo>
                  <a:pt x="318" y="121"/>
                </a:lnTo>
                <a:lnTo>
                  <a:pt x="324" y="133"/>
                </a:lnTo>
                <a:lnTo>
                  <a:pt x="328" y="142"/>
                </a:lnTo>
                <a:lnTo>
                  <a:pt x="332" y="152"/>
                </a:lnTo>
                <a:lnTo>
                  <a:pt x="334" y="161"/>
                </a:lnTo>
                <a:lnTo>
                  <a:pt x="335" y="171"/>
                </a:lnTo>
                <a:lnTo>
                  <a:pt x="335" y="181"/>
                </a:lnTo>
                <a:lnTo>
                  <a:pt x="335" y="190"/>
                </a:lnTo>
                <a:lnTo>
                  <a:pt x="335" y="200"/>
                </a:lnTo>
                <a:lnTo>
                  <a:pt x="334" y="209"/>
                </a:lnTo>
                <a:lnTo>
                  <a:pt x="332" y="21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196"/>
          <p:cNvSpPr/>
          <p:nvPr/>
        </p:nvSpPr>
        <p:spPr>
          <a:xfrm>
            <a:off x="5462640" y="3741840"/>
            <a:ext cx="657000" cy="901440"/>
          </a:xfrm>
          <a:custGeom>
            <a:avLst/>
            <a:gdLst/>
            <a:ahLst/>
            <a:rect l="l" t="t" r="r" b="b"/>
            <a:pathLst>
              <a:path w="830" h="1134">
                <a:moveTo>
                  <a:pt x="169" y="1017"/>
                </a:moveTo>
                <a:lnTo>
                  <a:pt x="150" y="1034"/>
                </a:lnTo>
                <a:lnTo>
                  <a:pt x="133" y="1048"/>
                </a:lnTo>
                <a:lnTo>
                  <a:pt x="117" y="1063"/>
                </a:lnTo>
                <a:lnTo>
                  <a:pt x="102" y="1075"/>
                </a:lnTo>
                <a:lnTo>
                  <a:pt x="87" y="1086"/>
                </a:lnTo>
                <a:lnTo>
                  <a:pt x="75" y="1096"/>
                </a:lnTo>
                <a:lnTo>
                  <a:pt x="64" y="1105"/>
                </a:lnTo>
                <a:lnTo>
                  <a:pt x="52" y="1113"/>
                </a:lnTo>
                <a:lnTo>
                  <a:pt x="43" y="1119"/>
                </a:lnTo>
                <a:lnTo>
                  <a:pt x="35" y="1125"/>
                </a:lnTo>
                <a:lnTo>
                  <a:pt x="27" y="1128"/>
                </a:lnTo>
                <a:lnTo>
                  <a:pt x="20" y="1130"/>
                </a:lnTo>
                <a:lnTo>
                  <a:pt x="14" y="1132"/>
                </a:lnTo>
                <a:lnTo>
                  <a:pt x="10" y="1134"/>
                </a:lnTo>
                <a:lnTo>
                  <a:pt x="6" y="1132"/>
                </a:lnTo>
                <a:lnTo>
                  <a:pt x="2" y="1130"/>
                </a:lnTo>
                <a:lnTo>
                  <a:pt x="0" y="1128"/>
                </a:lnTo>
                <a:lnTo>
                  <a:pt x="0" y="1123"/>
                </a:lnTo>
                <a:lnTo>
                  <a:pt x="2" y="1117"/>
                </a:lnTo>
                <a:lnTo>
                  <a:pt x="6" y="1107"/>
                </a:lnTo>
                <a:lnTo>
                  <a:pt x="10" y="1098"/>
                </a:lnTo>
                <a:lnTo>
                  <a:pt x="18" y="1086"/>
                </a:lnTo>
                <a:lnTo>
                  <a:pt x="25" y="1073"/>
                </a:lnTo>
                <a:lnTo>
                  <a:pt x="35" y="1057"/>
                </a:lnTo>
                <a:lnTo>
                  <a:pt x="46" y="1040"/>
                </a:lnTo>
                <a:lnTo>
                  <a:pt x="60" y="1023"/>
                </a:lnTo>
                <a:lnTo>
                  <a:pt x="75" y="1002"/>
                </a:lnTo>
                <a:lnTo>
                  <a:pt x="92" y="981"/>
                </a:lnTo>
                <a:lnTo>
                  <a:pt x="102" y="969"/>
                </a:lnTo>
                <a:lnTo>
                  <a:pt x="112" y="958"/>
                </a:lnTo>
                <a:lnTo>
                  <a:pt x="123" y="946"/>
                </a:lnTo>
                <a:lnTo>
                  <a:pt x="133" y="933"/>
                </a:lnTo>
                <a:lnTo>
                  <a:pt x="144" y="921"/>
                </a:lnTo>
                <a:lnTo>
                  <a:pt x="156" y="908"/>
                </a:lnTo>
                <a:lnTo>
                  <a:pt x="167" y="894"/>
                </a:lnTo>
                <a:lnTo>
                  <a:pt x="181" y="879"/>
                </a:lnTo>
                <a:lnTo>
                  <a:pt x="192" y="865"/>
                </a:lnTo>
                <a:lnTo>
                  <a:pt x="206" y="850"/>
                </a:lnTo>
                <a:lnTo>
                  <a:pt x="217" y="833"/>
                </a:lnTo>
                <a:lnTo>
                  <a:pt x="231" y="815"/>
                </a:lnTo>
                <a:lnTo>
                  <a:pt x="244" y="798"/>
                </a:lnTo>
                <a:lnTo>
                  <a:pt x="258" y="779"/>
                </a:lnTo>
                <a:lnTo>
                  <a:pt x="271" y="760"/>
                </a:lnTo>
                <a:lnTo>
                  <a:pt x="286" y="741"/>
                </a:lnTo>
                <a:lnTo>
                  <a:pt x="300" y="720"/>
                </a:lnTo>
                <a:lnTo>
                  <a:pt x="315" y="696"/>
                </a:lnTo>
                <a:lnTo>
                  <a:pt x="330" y="675"/>
                </a:lnTo>
                <a:lnTo>
                  <a:pt x="346" y="650"/>
                </a:lnTo>
                <a:lnTo>
                  <a:pt x="363" y="627"/>
                </a:lnTo>
                <a:lnTo>
                  <a:pt x="378" y="601"/>
                </a:lnTo>
                <a:lnTo>
                  <a:pt x="396" y="576"/>
                </a:lnTo>
                <a:lnTo>
                  <a:pt x="413" y="549"/>
                </a:lnTo>
                <a:lnTo>
                  <a:pt x="430" y="520"/>
                </a:lnTo>
                <a:lnTo>
                  <a:pt x="448" y="493"/>
                </a:lnTo>
                <a:lnTo>
                  <a:pt x="465" y="462"/>
                </a:lnTo>
                <a:lnTo>
                  <a:pt x="484" y="432"/>
                </a:lnTo>
                <a:lnTo>
                  <a:pt x="501" y="401"/>
                </a:lnTo>
                <a:lnTo>
                  <a:pt x="521" y="370"/>
                </a:lnTo>
                <a:lnTo>
                  <a:pt x="540" y="336"/>
                </a:lnTo>
                <a:lnTo>
                  <a:pt x="561" y="303"/>
                </a:lnTo>
                <a:lnTo>
                  <a:pt x="580" y="268"/>
                </a:lnTo>
                <a:lnTo>
                  <a:pt x="601" y="232"/>
                </a:lnTo>
                <a:lnTo>
                  <a:pt x="620" y="196"/>
                </a:lnTo>
                <a:lnTo>
                  <a:pt x="641" y="159"/>
                </a:lnTo>
                <a:lnTo>
                  <a:pt x="663" y="121"/>
                </a:lnTo>
                <a:lnTo>
                  <a:pt x="684" y="80"/>
                </a:lnTo>
                <a:lnTo>
                  <a:pt x="707" y="42"/>
                </a:lnTo>
                <a:lnTo>
                  <a:pt x="728" y="0"/>
                </a:lnTo>
                <a:lnTo>
                  <a:pt x="780" y="57"/>
                </a:lnTo>
                <a:lnTo>
                  <a:pt x="805" y="84"/>
                </a:lnTo>
                <a:lnTo>
                  <a:pt x="830" y="113"/>
                </a:lnTo>
                <a:lnTo>
                  <a:pt x="814" y="149"/>
                </a:lnTo>
                <a:lnTo>
                  <a:pt x="797" y="184"/>
                </a:lnTo>
                <a:lnTo>
                  <a:pt x="780" y="217"/>
                </a:lnTo>
                <a:lnTo>
                  <a:pt x="760" y="251"/>
                </a:lnTo>
                <a:lnTo>
                  <a:pt x="724" y="316"/>
                </a:lnTo>
                <a:lnTo>
                  <a:pt x="686" y="380"/>
                </a:lnTo>
                <a:lnTo>
                  <a:pt x="645" y="443"/>
                </a:lnTo>
                <a:lnTo>
                  <a:pt x="603" y="505"/>
                </a:lnTo>
                <a:lnTo>
                  <a:pt x="580" y="535"/>
                </a:lnTo>
                <a:lnTo>
                  <a:pt x="559" y="566"/>
                </a:lnTo>
                <a:lnTo>
                  <a:pt x="536" y="597"/>
                </a:lnTo>
                <a:lnTo>
                  <a:pt x="513" y="629"/>
                </a:lnTo>
                <a:lnTo>
                  <a:pt x="488" y="658"/>
                </a:lnTo>
                <a:lnTo>
                  <a:pt x="465" y="689"/>
                </a:lnTo>
                <a:lnTo>
                  <a:pt x="442" y="718"/>
                </a:lnTo>
                <a:lnTo>
                  <a:pt x="419" y="746"/>
                </a:lnTo>
                <a:lnTo>
                  <a:pt x="398" y="773"/>
                </a:lnTo>
                <a:lnTo>
                  <a:pt x="375" y="800"/>
                </a:lnTo>
                <a:lnTo>
                  <a:pt x="352" y="827"/>
                </a:lnTo>
                <a:lnTo>
                  <a:pt x="330" y="852"/>
                </a:lnTo>
                <a:lnTo>
                  <a:pt x="309" y="875"/>
                </a:lnTo>
                <a:lnTo>
                  <a:pt x="288" y="898"/>
                </a:lnTo>
                <a:lnTo>
                  <a:pt x="267" y="921"/>
                </a:lnTo>
                <a:lnTo>
                  <a:pt x="246" y="942"/>
                </a:lnTo>
                <a:lnTo>
                  <a:pt x="227" y="963"/>
                </a:lnTo>
                <a:lnTo>
                  <a:pt x="208" y="982"/>
                </a:lnTo>
                <a:lnTo>
                  <a:pt x="187" y="1000"/>
                </a:lnTo>
                <a:lnTo>
                  <a:pt x="169" y="10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97"/>
          <p:cNvSpPr/>
          <p:nvPr/>
        </p:nvSpPr>
        <p:spPr>
          <a:xfrm>
            <a:off x="5505480" y="3632040"/>
            <a:ext cx="868320" cy="284400"/>
          </a:xfrm>
          <a:custGeom>
            <a:avLst/>
            <a:gdLst/>
            <a:ahLst/>
            <a:rect l="l" t="t" r="r" b="b"/>
            <a:pathLst>
              <a:path w="1094" h="357">
                <a:moveTo>
                  <a:pt x="904" y="151"/>
                </a:moveTo>
                <a:lnTo>
                  <a:pt x="854" y="165"/>
                </a:lnTo>
                <a:lnTo>
                  <a:pt x="806" y="180"/>
                </a:lnTo>
                <a:lnTo>
                  <a:pt x="754" y="193"/>
                </a:lnTo>
                <a:lnTo>
                  <a:pt x="703" y="209"/>
                </a:lnTo>
                <a:lnTo>
                  <a:pt x="649" y="224"/>
                </a:lnTo>
                <a:lnTo>
                  <a:pt x="595" y="241"/>
                </a:lnTo>
                <a:lnTo>
                  <a:pt x="539" y="259"/>
                </a:lnTo>
                <a:lnTo>
                  <a:pt x="484" y="276"/>
                </a:lnTo>
                <a:lnTo>
                  <a:pt x="453" y="286"/>
                </a:lnTo>
                <a:lnTo>
                  <a:pt x="424" y="295"/>
                </a:lnTo>
                <a:lnTo>
                  <a:pt x="397" y="303"/>
                </a:lnTo>
                <a:lnTo>
                  <a:pt x="374" y="310"/>
                </a:lnTo>
                <a:lnTo>
                  <a:pt x="349" y="316"/>
                </a:lnTo>
                <a:lnTo>
                  <a:pt x="328" y="322"/>
                </a:lnTo>
                <a:lnTo>
                  <a:pt x="309" y="328"/>
                </a:lnTo>
                <a:lnTo>
                  <a:pt x="290" y="334"/>
                </a:lnTo>
                <a:lnTo>
                  <a:pt x="275" y="337"/>
                </a:lnTo>
                <a:lnTo>
                  <a:pt x="259" y="341"/>
                </a:lnTo>
                <a:lnTo>
                  <a:pt x="246" y="345"/>
                </a:lnTo>
                <a:lnTo>
                  <a:pt x="234" y="347"/>
                </a:lnTo>
                <a:lnTo>
                  <a:pt x="225" y="349"/>
                </a:lnTo>
                <a:lnTo>
                  <a:pt x="215" y="351"/>
                </a:lnTo>
                <a:lnTo>
                  <a:pt x="209" y="351"/>
                </a:lnTo>
                <a:lnTo>
                  <a:pt x="204" y="353"/>
                </a:lnTo>
                <a:lnTo>
                  <a:pt x="198" y="355"/>
                </a:lnTo>
                <a:lnTo>
                  <a:pt x="194" y="355"/>
                </a:lnTo>
                <a:lnTo>
                  <a:pt x="188" y="357"/>
                </a:lnTo>
                <a:lnTo>
                  <a:pt x="182" y="357"/>
                </a:lnTo>
                <a:lnTo>
                  <a:pt x="175" y="357"/>
                </a:lnTo>
                <a:lnTo>
                  <a:pt x="169" y="357"/>
                </a:lnTo>
                <a:lnTo>
                  <a:pt x="163" y="355"/>
                </a:lnTo>
                <a:lnTo>
                  <a:pt x="156" y="355"/>
                </a:lnTo>
                <a:lnTo>
                  <a:pt x="140" y="349"/>
                </a:lnTo>
                <a:lnTo>
                  <a:pt x="125" y="343"/>
                </a:lnTo>
                <a:lnTo>
                  <a:pt x="108" y="335"/>
                </a:lnTo>
                <a:lnTo>
                  <a:pt x="88" y="328"/>
                </a:lnTo>
                <a:lnTo>
                  <a:pt x="77" y="322"/>
                </a:lnTo>
                <a:lnTo>
                  <a:pt x="67" y="318"/>
                </a:lnTo>
                <a:lnTo>
                  <a:pt x="58" y="312"/>
                </a:lnTo>
                <a:lnTo>
                  <a:pt x="48" y="309"/>
                </a:lnTo>
                <a:lnTo>
                  <a:pt x="40" y="303"/>
                </a:lnTo>
                <a:lnTo>
                  <a:pt x="33" y="299"/>
                </a:lnTo>
                <a:lnTo>
                  <a:pt x="27" y="295"/>
                </a:lnTo>
                <a:lnTo>
                  <a:pt x="21" y="291"/>
                </a:lnTo>
                <a:lnTo>
                  <a:pt x="15" y="286"/>
                </a:lnTo>
                <a:lnTo>
                  <a:pt x="12" y="282"/>
                </a:lnTo>
                <a:lnTo>
                  <a:pt x="8" y="280"/>
                </a:lnTo>
                <a:lnTo>
                  <a:pt x="4" y="276"/>
                </a:lnTo>
                <a:lnTo>
                  <a:pt x="2" y="272"/>
                </a:lnTo>
                <a:lnTo>
                  <a:pt x="0" y="268"/>
                </a:lnTo>
                <a:lnTo>
                  <a:pt x="0" y="266"/>
                </a:lnTo>
                <a:lnTo>
                  <a:pt x="0" y="264"/>
                </a:lnTo>
                <a:lnTo>
                  <a:pt x="0" y="262"/>
                </a:lnTo>
                <a:lnTo>
                  <a:pt x="4" y="259"/>
                </a:lnTo>
                <a:lnTo>
                  <a:pt x="8" y="257"/>
                </a:lnTo>
                <a:lnTo>
                  <a:pt x="14" y="255"/>
                </a:lnTo>
                <a:lnTo>
                  <a:pt x="21" y="251"/>
                </a:lnTo>
                <a:lnTo>
                  <a:pt x="33" y="249"/>
                </a:lnTo>
                <a:lnTo>
                  <a:pt x="44" y="245"/>
                </a:lnTo>
                <a:lnTo>
                  <a:pt x="58" y="241"/>
                </a:lnTo>
                <a:lnTo>
                  <a:pt x="73" y="239"/>
                </a:lnTo>
                <a:lnTo>
                  <a:pt x="88" y="234"/>
                </a:lnTo>
                <a:lnTo>
                  <a:pt x="108" y="230"/>
                </a:lnTo>
                <a:lnTo>
                  <a:pt x="129" y="226"/>
                </a:lnTo>
                <a:lnTo>
                  <a:pt x="152" y="220"/>
                </a:lnTo>
                <a:lnTo>
                  <a:pt x="175" y="214"/>
                </a:lnTo>
                <a:lnTo>
                  <a:pt x="202" y="209"/>
                </a:lnTo>
                <a:lnTo>
                  <a:pt x="229" y="201"/>
                </a:lnTo>
                <a:lnTo>
                  <a:pt x="255" y="193"/>
                </a:lnTo>
                <a:lnTo>
                  <a:pt x="282" y="188"/>
                </a:lnTo>
                <a:lnTo>
                  <a:pt x="309" y="180"/>
                </a:lnTo>
                <a:lnTo>
                  <a:pt x="338" y="172"/>
                </a:lnTo>
                <a:lnTo>
                  <a:pt x="395" y="159"/>
                </a:lnTo>
                <a:lnTo>
                  <a:pt x="455" y="143"/>
                </a:lnTo>
                <a:lnTo>
                  <a:pt x="515" y="128"/>
                </a:lnTo>
                <a:lnTo>
                  <a:pt x="576" y="111"/>
                </a:lnTo>
                <a:lnTo>
                  <a:pt x="637" y="94"/>
                </a:lnTo>
                <a:lnTo>
                  <a:pt x="701" y="76"/>
                </a:lnTo>
                <a:lnTo>
                  <a:pt x="729" y="67"/>
                </a:lnTo>
                <a:lnTo>
                  <a:pt x="758" y="57"/>
                </a:lnTo>
                <a:lnTo>
                  <a:pt x="785" y="49"/>
                </a:lnTo>
                <a:lnTo>
                  <a:pt x="812" y="42"/>
                </a:lnTo>
                <a:lnTo>
                  <a:pt x="835" y="36"/>
                </a:lnTo>
                <a:lnTo>
                  <a:pt x="858" y="28"/>
                </a:lnTo>
                <a:lnTo>
                  <a:pt x="877" y="23"/>
                </a:lnTo>
                <a:lnTo>
                  <a:pt x="896" y="19"/>
                </a:lnTo>
                <a:lnTo>
                  <a:pt x="914" y="15"/>
                </a:lnTo>
                <a:lnTo>
                  <a:pt x="929" y="11"/>
                </a:lnTo>
                <a:lnTo>
                  <a:pt x="943" y="7"/>
                </a:lnTo>
                <a:lnTo>
                  <a:pt x="948" y="5"/>
                </a:lnTo>
                <a:lnTo>
                  <a:pt x="954" y="5"/>
                </a:lnTo>
                <a:lnTo>
                  <a:pt x="958" y="3"/>
                </a:lnTo>
                <a:lnTo>
                  <a:pt x="964" y="3"/>
                </a:lnTo>
                <a:lnTo>
                  <a:pt x="967" y="1"/>
                </a:lnTo>
                <a:lnTo>
                  <a:pt x="971" y="1"/>
                </a:lnTo>
                <a:lnTo>
                  <a:pt x="973" y="1"/>
                </a:lnTo>
                <a:lnTo>
                  <a:pt x="977" y="0"/>
                </a:lnTo>
                <a:lnTo>
                  <a:pt x="979" y="0"/>
                </a:lnTo>
                <a:lnTo>
                  <a:pt x="985" y="1"/>
                </a:lnTo>
                <a:lnTo>
                  <a:pt x="991" y="1"/>
                </a:lnTo>
                <a:lnTo>
                  <a:pt x="996" y="5"/>
                </a:lnTo>
                <a:lnTo>
                  <a:pt x="1002" y="7"/>
                </a:lnTo>
                <a:lnTo>
                  <a:pt x="1010" y="11"/>
                </a:lnTo>
                <a:lnTo>
                  <a:pt x="1019" y="15"/>
                </a:lnTo>
                <a:lnTo>
                  <a:pt x="1025" y="19"/>
                </a:lnTo>
                <a:lnTo>
                  <a:pt x="1031" y="21"/>
                </a:lnTo>
                <a:lnTo>
                  <a:pt x="1037" y="23"/>
                </a:lnTo>
                <a:lnTo>
                  <a:pt x="1044" y="24"/>
                </a:lnTo>
                <a:lnTo>
                  <a:pt x="1052" y="30"/>
                </a:lnTo>
                <a:lnTo>
                  <a:pt x="1060" y="36"/>
                </a:lnTo>
                <a:lnTo>
                  <a:pt x="1067" y="44"/>
                </a:lnTo>
                <a:lnTo>
                  <a:pt x="1073" y="49"/>
                </a:lnTo>
                <a:lnTo>
                  <a:pt x="1079" y="57"/>
                </a:lnTo>
                <a:lnTo>
                  <a:pt x="1085" y="65"/>
                </a:lnTo>
                <a:lnTo>
                  <a:pt x="1090" y="71"/>
                </a:lnTo>
                <a:lnTo>
                  <a:pt x="1094" y="76"/>
                </a:lnTo>
                <a:lnTo>
                  <a:pt x="1094" y="78"/>
                </a:lnTo>
                <a:lnTo>
                  <a:pt x="1090" y="80"/>
                </a:lnTo>
                <a:lnTo>
                  <a:pt x="1088" y="84"/>
                </a:lnTo>
                <a:lnTo>
                  <a:pt x="1083" y="88"/>
                </a:lnTo>
                <a:lnTo>
                  <a:pt x="1075" y="90"/>
                </a:lnTo>
                <a:lnTo>
                  <a:pt x="1067" y="95"/>
                </a:lnTo>
                <a:lnTo>
                  <a:pt x="1058" y="99"/>
                </a:lnTo>
                <a:lnTo>
                  <a:pt x="1046" y="103"/>
                </a:lnTo>
                <a:lnTo>
                  <a:pt x="1035" y="109"/>
                </a:lnTo>
                <a:lnTo>
                  <a:pt x="1019" y="113"/>
                </a:lnTo>
                <a:lnTo>
                  <a:pt x="1004" y="119"/>
                </a:lnTo>
                <a:lnTo>
                  <a:pt x="987" y="124"/>
                </a:lnTo>
                <a:lnTo>
                  <a:pt x="967" y="130"/>
                </a:lnTo>
                <a:lnTo>
                  <a:pt x="948" y="138"/>
                </a:lnTo>
                <a:lnTo>
                  <a:pt x="927" y="143"/>
                </a:lnTo>
                <a:lnTo>
                  <a:pt x="904" y="15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198"/>
          <p:cNvSpPr/>
          <p:nvPr/>
        </p:nvSpPr>
        <p:spPr>
          <a:xfrm>
            <a:off x="5985000" y="2898720"/>
            <a:ext cx="220680" cy="2060640"/>
          </a:xfrm>
          <a:custGeom>
            <a:avLst/>
            <a:gdLst/>
            <a:ahLst/>
            <a:rect l="l" t="t" r="r" b="b"/>
            <a:pathLst>
              <a:path w="278" h="2597">
                <a:moveTo>
                  <a:pt x="209" y="1254"/>
                </a:moveTo>
                <a:lnTo>
                  <a:pt x="209" y="1317"/>
                </a:lnTo>
                <a:lnTo>
                  <a:pt x="207" y="1379"/>
                </a:lnTo>
                <a:lnTo>
                  <a:pt x="205" y="1440"/>
                </a:lnTo>
                <a:lnTo>
                  <a:pt x="205" y="1498"/>
                </a:lnTo>
                <a:lnTo>
                  <a:pt x="203" y="1555"/>
                </a:lnTo>
                <a:lnTo>
                  <a:pt x="201" y="1611"/>
                </a:lnTo>
                <a:lnTo>
                  <a:pt x="199" y="1665"/>
                </a:lnTo>
                <a:lnTo>
                  <a:pt x="197" y="1716"/>
                </a:lnTo>
                <a:lnTo>
                  <a:pt x="195" y="1766"/>
                </a:lnTo>
                <a:lnTo>
                  <a:pt x="194" y="1816"/>
                </a:lnTo>
                <a:lnTo>
                  <a:pt x="194" y="1862"/>
                </a:lnTo>
                <a:lnTo>
                  <a:pt x="192" y="1906"/>
                </a:lnTo>
                <a:lnTo>
                  <a:pt x="190" y="1951"/>
                </a:lnTo>
                <a:lnTo>
                  <a:pt x="188" y="1993"/>
                </a:lnTo>
                <a:lnTo>
                  <a:pt x="186" y="2033"/>
                </a:lnTo>
                <a:lnTo>
                  <a:pt x="184" y="2071"/>
                </a:lnTo>
                <a:lnTo>
                  <a:pt x="182" y="2108"/>
                </a:lnTo>
                <a:lnTo>
                  <a:pt x="180" y="2142"/>
                </a:lnTo>
                <a:lnTo>
                  <a:pt x="178" y="2175"/>
                </a:lnTo>
                <a:lnTo>
                  <a:pt x="176" y="2206"/>
                </a:lnTo>
                <a:lnTo>
                  <a:pt x="174" y="2237"/>
                </a:lnTo>
                <a:lnTo>
                  <a:pt x="172" y="2263"/>
                </a:lnTo>
                <a:lnTo>
                  <a:pt x="171" y="2290"/>
                </a:lnTo>
                <a:lnTo>
                  <a:pt x="171" y="2313"/>
                </a:lnTo>
                <a:lnTo>
                  <a:pt x="169" y="2336"/>
                </a:lnTo>
                <a:lnTo>
                  <a:pt x="167" y="2357"/>
                </a:lnTo>
                <a:lnTo>
                  <a:pt x="165" y="2377"/>
                </a:lnTo>
                <a:lnTo>
                  <a:pt x="163" y="2394"/>
                </a:lnTo>
                <a:lnTo>
                  <a:pt x="163" y="2409"/>
                </a:lnTo>
                <a:lnTo>
                  <a:pt x="161" y="2423"/>
                </a:lnTo>
                <a:lnTo>
                  <a:pt x="159" y="2436"/>
                </a:lnTo>
                <a:lnTo>
                  <a:pt x="159" y="2446"/>
                </a:lnTo>
                <a:lnTo>
                  <a:pt x="153" y="2465"/>
                </a:lnTo>
                <a:lnTo>
                  <a:pt x="149" y="2480"/>
                </a:lnTo>
                <a:lnTo>
                  <a:pt x="144" y="2498"/>
                </a:lnTo>
                <a:lnTo>
                  <a:pt x="140" y="2511"/>
                </a:lnTo>
                <a:lnTo>
                  <a:pt x="134" y="2526"/>
                </a:lnTo>
                <a:lnTo>
                  <a:pt x="130" y="2538"/>
                </a:lnTo>
                <a:lnTo>
                  <a:pt x="126" y="2549"/>
                </a:lnTo>
                <a:lnTo>
                  <a:pt x="123" y="2559"/>
                </a:lnTo>
                <a:lnTo>
                  <a:pt x="117" y="2569"/>
                </a:lnTo>
                <a:lnTo>
                  <a:pt x="113" y="2576"/>
                </a:lnTo>
                <a:lnTo>
                  <a:pt x="109" y="2582"/>
                </a:lnTo>
                <a:lnTo>
                  <a:pt x="107" y="2588"/>
                </a:lnTo>
                <a:lnTo>
                  <a:pt x="103" y="2592"/>
                </a:lnTo>
                <a:lnTo>
                  <a:pt x="100" y="2595"/>
                </a:lnTo>
                <a:lnTo>
                  <a:pt x="98" y="2595"/>
                </a:lnTo>
                <a:lnTo>
                  <a:pt x="96" y="2597"/>
                </a:lnTo>
                <a:lnTo>
                  <a:pt x="92" y="2597"/>
                </a:lnTo>
                <a:lnTo>
                  <a:pt x="90" y="2595"/>
                </a:lnTo>
                <a:lnTo>
                  <a:pt x="86" y="2594"/>
                </a:lnTo>
                <a:lnTo>
                  <a:pt x="82" y="2590"/>
                </a:lnTo>
                <a:lnTo>
                  <a:pt x="80" y="2586"/>
                </a:lnTo>
                <a:lnTo>
                  <a:pt x="76" y="2580"/>
                </a:lnTo>
                <a:lnTo>
                  <a:pt x="73" y="2572"/>
                </a:lnTo>
                <a:lnTo>
                  <a:pt x="69" y="2565"/>
                </a:lnTo>
                <a:lnTo>
                  <a:pt x="65" y="2557"/>
                </a:lnTo>
                <a:lnTo>
                  <a:pt x="61" y="2547"/>
                </a:lnTo>
                <a:lnTo>
                  <a:pt x="59" y="2536"/>
                </a:lnTo>
                <a:lnTo>
                  <a:pt x="55" y="2523"/>
                </a:lnTo>
                <a:lnTo>
                  <a:pt x="52" y="2509"/>
                </a:lnTo>
                <a:lnTo>
                  <a:pt x="50" y="2494"/>
                </a:lnTo>
                <a:lnTo>
                  <a:pt x="46" y="2476"/>
                </a:lnTo>
                <a:lnTo>
                  <a:pt x="44" y="2459"/>
                </a:lnTo>
                <a:lnTo>
                  <a:pt x="40" y="2442"/>
                </a:lnTo>
                <a:lnTo>
                  <a:pt x="34" y="2427"/>
                </a:lnTo>
                <a:lnTo>
                  <a:pt x="30" y="2413"/>
                </a:lnTo>
                <a:lnTo>
                  <a:pt x="29" y="2400"/>
                </a:lnTo>
                <a:lnTo>
                  <a:pt x="25" y="2386"/>
                </a:lnTo>
                <a:lnTo>
                  <a:pt x="21" y="2375"/>
                </a:lnTo>
                <a:lnTo>
                  <a:pt x="19" y="2363"/>
                </a:lnTo>
                <a:lnTo>
                  <a:pt x="17" y="2354"/>
                </a:lnTo>
                <a:lnTo>
                  <a:pt x="15" y="2344"/>
                </a:lnTo>
                <a:lnTo>
                  <a:pt x="15" y="2334"/>
                </a:lnTo>
                <a:lnTo>
                  <a:pt x="13" y="2327"/>
                </a:lnTo>
                <a:lnTo>
                  <a:pt x="13" y="2319"/>
                </a:lnTo>
                <a:lnTo>
                  <a:pt x="13" y="2311"/>
                </a:lnTo>
                <a:lnTo>
                  <a:pt x="15" y="2306"/>
                </a:lnTo>
                <a:lnTo>
                  <a:pt x="17" y="2300"/>
                </a:lnTo>
                <a:lnTo>
                  <a:pt x="19" y="2296"/>
                </a:lnTo>
                <a:lnTo>
                  <a:pt x="19" y="2292"/>
                </a:lnTo>
                <a:lnTo>
                  <a:pt x="19" y="2288"/>
                </a:lnTo>
                <a:lnTo>
                  <a:pt x="19" y="2285"/>
                </a:lnTo>
                <a:lnTo>
                  <a:pt x="19" y="2279"/>
                </a:lnTo>
                <a:lnTo>
                  <a:pt x="19" y="2273"/>
                </a:lnTo>
                <a:lnTo>
                  <a:pt x="21" y="2267"/>
                </a:lnTo>
                <a:lnTo>
                  <a:pt x="21" y="2260"/>
                </a:lnTo>
                <a:lnTo>
                  <a:pt x="21" y="2250"/>
                </a:lnTo>
                <a:lnTo>
                  <a:pt x="23" y="2240"/>
                </a:lnTo>
                <a:lnTo>
                  <a:pt x="23" y="2231"/>
                </a:lnTo>
                <a:lnTo>
                  <a:pt x="23" y="2219"/>
                </a:lnTo>
                <a:lnTo>
                  <a:pt x="25" y="2208"/>
                </a:lnTo>
                <a:lnTo>
                  <a:pt x="27" y="2196"/>
                </a:lnTo>
                <a:lnTo>
                  <a:pt x="27" y="2183"/>
                </a:lnTo>
                <a:lnTo>
                  <a:pt x="29" y="2167"/>
                </a:lnTo>
                <a:lnTo>
                  <a:pt x="30" y="2152"/>
                </a:lnTo>
                <a:lnTo>
                  <a:pt x="32" y="2137"/>
                </a:lnTo>
                <a:lnTo>
                  <a:pt x="32" y="2119"/>
                </a:lnTo>
                <a:lnTo>
                  <a:pt x="34" y="2102"/>
                </a:lnTo>
                <a:lnTo>
                  <a:pt x="36" y="2083"/>
                </a:lnTo>
                <a:lnTo>
                  <a:pt x="38" y="2064"/>
                </a:lnTo>
                <a:lnTo>
                  <a:pt x="40" y="2043"/>
                </a:lnTo>
                <a:lnTo>
                  <a:pt x="44" y="2022"/>
                </a:lnTo>
                <a:lnTo>
                  <a:pt x="46" y="2000"/>
                </a:lnTo>
                <a:lnTo>
                  <a:pt x="48" y="1977"/>
                </a:lnTo>
                <a:lnTo>
                  <a:pt x="52" y="1954"/>
                </a:lnTo>
                <a:lnTo>
                  <a:pt x="53" y="1929"/>
                </a:lnTo>
                <a:lnTo>
                  <a:pt x="57" y="1903"/>
                </a:lnTo>
                <a:lnTo>
                  <a:pt x="59" y="1878"/>
                </a:lnTo>
                <a:lnTo>
                  <a:pt x="63" y="1851"/>
                </a:lnTo>
                <a:lnTo>
                  <a:pt x="65" y="1822"/>
                </a:lnTo>
                <a:lnTo>
                  <a:pt x="69" y="1793"/>
                </a:lnTo>
                <a:lnTo>
                  <a:pt x="75" y="1734"/>
                </a:lnTo>
                <a:lnTo>
                  <a:pt x="78" y="1676"/>
                </a:lnTo>
                <a:lnTo>
                  <a:pt x="82" y="1618"/>
                </a:lnTo>
                <a:lnTo>
                  <a:pt x="86" y="1563"/>
                </a:lnTo>
                <a:lnTo>
                  <a:pt x="90" y="1505"/>
                </a:lnTo>
                <a:lnTo>
                  <a:pt x="92" y="1450"/>
                </a:lnTo>
                <a:lnTo>
                  <a:pt x="96" y="1396"/>
                </a:lnTo>
                <a:lnTo>
                  <a:pt x="98" y="1340"/>
                </a:lnTo>
                <a:lnTo>
                  <a:pt x="100" y="1286"/>
                </a:lnTo>
                <a:lnTo>
                  <a:pt x="101" y="1233"/>
                </a:lnTo>
                <a:lnTo>
                  <a:pt x="103" y="1181"/>
                </a:lnTo>
                <a:lnTo>
                  <a:pt x="105" y="1129"/>
                </a:lnTo>
                <a:lnTo>
                  <a:pt x="105" y="1077"/>
                </a:lnTo>
                <a:lnTo>
                  <a:pt x="107" y="1025"/>
                </a:lnTo>
                <a:lnTo>
                  <a:pt x="107" y="975"/>
                </a:lnTo>
                <a:lnTo>
                  <a:pt x="107" y="926"/>
                </a:lnTo>
                <a:lnTo>
                  <a:pt x="107" y="878"/>
                </a:lnTo>
                <a:lnTo>
                  <a:pt x="107" y="830"/>
                </a:lnTo>
                <a:lnTo>
                  <a:pt x="107" y="783"/>
                </a:lnTo>
                <a:lnTo>
                  <a:pt x="107" y="737"/>
                </a:lnTo>
                <a:lnTo>
                  <a:pt x="107" y="693"/>
                </a:lnTo>
                <a:lnTo>
                  <a:pt x="107" y="651"/>
                </a:lnTo>
                <a:lnTo>
                  <a:pt x="105" y="611"/>
                </a:lnTo>
                <a:lnTo>
                  <a:pt x="105" y="570"/>
                </a:lnTo>
                <a:lnTo>
                  <a:pt x="105" y="532"/>
                </a:lnTo>
                <a:lnTo>
                  <a:pt x="103" y="496"/>
                </a:lnTo>
                <a:lnTo>
                  <a:pt x="103" y="461"/>
                </a:lnTo>
                <a:lnTo>
                  <a:pt x="101" y="428"/>
                </a:lnTo>
                <a:lnTo>
                  <a:pt x="101" y="396"/>
                </a:lnTo>
                <a:lnTo>
                  <a:pt x="100" y="365"/>
                </a:lnTo>
                <a:lnTo>
                  <a:pt x="98" y="336"/>
                </a:lnTo>
                <a:lnTo>
                  <a:pt x="96" y="311"/>
                </a:lnTo>
                <a:lnTo>
                  <a:pt x="92" y="284"/>
                </a:lnTo>
                <a:lnTo>
                  <a:pt x="90" y="261"/>
                </a:lnTo>
                <a:lnTo>
                  <a:pt x="86" y="238"/>
                </a:lnTo>
                <a:lnTo>
                  <a:pt x="82" y="219"/>
                </a:lnTo>
                <a:lnTo>
                  <a:pt x="80" y="200"/>
                </a:lnTo>
                <a:lnTo>
                  <a:pt x="76" y="181"/>
                </a:lnTo>
                <a:lnTo>
                  <a:pt x="73" y="165"/>
                </a:lnTo>
                <a:lnTo>
                  <a:pt x="67" y="150"/>
                </a:lnTo>
                <a:lnTo>
                  <a:pt x="63" y="137"/>
                </a:lnTo>
                <a:lnTo>
                  <a:pt x="59" y="125"/>
                </a:lnTo>
                <a:lnTo>
                  <a:pt x="55" y="115"/>
                </a:lnTo>
                <a:lnTo>
                  <a:pt x="50" y="106"/>
                </a:lnTo>
                <a:lnTo>
                  <a:pt x="46" y="98"/>
                </a:lnTo>
                <a:lnTo>
                  <a:pt x="40" y="92"/>
                </a:lnTo>
                <a:lnTo>
                  <a:pt x="36" y="87"/>
                </a:lnTo>
                <a:lnTo>
                  <a:pt x="30" y="85"/>
                </a:lnTo>
                <a:lnTo>
                  <a:pt x="23" y="79"/>
                </a:lnTo>
                <a:lnTo>
                  <a:pt x="15" y="75"/>
                </a:lnTo>
                <a:lnTo>
                  <a:pt x="9" y="69"/>
                </a:lnTo>
                <a:lnTo>
                  <a:pt x="4" y="62"/>
                </a:lnTo>
                <a:lnTo>
                  <a:pt x="2" y="54"/>
                </a:lnTo>
                <a:lnTo>
                  <a:pt x="2" y="50"/>
                </a:lnTo>
                <a:lnTo>
                  <a:pt x="0" y="46"/>
                </a:lnTo>
                <a:lnTo>
                  <a:pt x="2" y="41"/>
                </a:lnTo>
                <a:lnTo>
                  <a:pt x="2" y="35"/>
                </a:lnTo>
                <a:lnTo>
                  <a:pt x="4" y="29"/>
                </a:lnTo>
                <a:lnTo>
                  <a:pt x="5" y="21"/>
                </a:lnTo>
                <a:lnTo>
                  <a:pt x="5" y="18"/>
                </a:lnTo>
                <a:lnTo>
                  <a:pt x="7" y="14"/>
                </a:lnTo>
                <a:lnTo>
                  <a:pt x="9" y="10"/>
                </a:lnTo>
                <a:lnTo>
                  <a:pt x="13" y="8"/>
                </a:lnTo>
                <a:lnTo>
                  <a:pt x="17" y="4"/>
                </a:lnTo>
                <a:lnTo>
                  <a:pt x="21" y="2"/>
                </a:lnTo>
                <a:lnTo>
                  <a:pt x="27" y="2"/>
                </a:lnTo>
                <a:lnTo>
                  <a:pt x="34" y="0"/>
                </a:lnTo>
                <a:lnTo>
                  <a:pt x="42" y="0"/>
                </a:lnTo>
                <a:lnTo>
                  <a:pt x="50" y="0"/>
                </a:lnTo>
                <a:lnTo>
                  <a:pt x="59" y="0"/>
                </a:lnTo>
                <a:lnTo>
                  <a:pt x="71" y="2"/>
                </a:lnTo>
                <a:lnTo>
                  <a:pt x="80" y="2"/>
                </a:lnTo>
                <a:lnTo>
                  <a:pt x="94" y="4"/>
                </a:lnTo>
                <a:lnTo>
                  <a:pt x="107" y="6"/>
                </a:lnTo>
                <a:lnTo>
                  <a:pt x="121" y="10"/>
                </a:lnTo>
                <a:lnTo>
                  <a:pt x="134" y="12"/>
                </a:lnTo>
                <a:lnTo>
                  <a:pt x="148" y="14"/>
                </a:lnTo>
                <a:lnTo>
                  <a:pt x="161" y="18"/>
                </a:lnTo>
                <a:lnTo>
                  <a:pt x="172" y="21"/>
                </a:lnTo>
                <a:lnTo>
                  <a:pt x="184" y="23"/>
                </a:lnTo>
                <a:lnTo>
                  <a:pt x="195" y="27"/>
                </a:lnTo>
                <a:lnTo>
                  <a:pt x="205" y="31"/>
                </a:lnTo>
                <a:lnTo>
                  <a:pt x="215" y="35"/>
                </a:lnTo>
                <a:lnTo>
                  <a:pt x="222" y="41"/>
                </a:lnTo>
                <a:lnTo>
                  <a:pt x="230" y="44"/>
                </a:lnTo>
                <a:lnTo>
                  <a:pt x="238" y="48"/>
                </a:lnTo>
                <a:lnTo>
                  <a:pt x="243" y="54"/>
                </a:lnTo>
                <a:lnTo>
                  <a:pt x="249" y="58"/>
                </a:lnTo>
                <a:lnTo>
                  <a:pt x="253" y="62"/>
                </a:lnTo>
                <a:lnTo>
                  <a:pt x="257" y="68"/>
                </a:lnTo>
                <a:lnTo>
                  <a:pt x="261" y="71"/>
                </a:lnTo>
                <a:lnTo>
                  <a:pt x="265" y="81"/>
                </a:lnTo>
                <a:lnTo>
                  <a:pt x="268" y="91"/>
                </a:lnTo>
                <a:lnTo>
                  <a:pt x="272" y="100"/>
                </a:lnTo>
                <a:lnTo>
                  <a:pt x="276" y="110"/>
                </a:lnTo>
                <a:lnTo>
                  <a:pt x="278" y="119"/>
                </a:lnTo>
                <a:lnTo>
                  <a:pt x="278" y="129"/>
                </a:lnTo>
                <a:lnTo>
                  <a:pt x="278" y="133"/>
                </a:lnTo>
                <a:lnTo>
                  <a:pt x="276" y="139"/>
                </a:lnTo>
                <a:lnTo>
                  <a:pt x="274" y="142"/>
                </a:lnTo>
                <a:lnTo>
                  <a:pt x="272" y="148"/>
                </a:lnTo>
                <a:lnTo>
                  <a:pt x="272" y="152"/>
                </a:lnTo>
                <a:lnTo>
                  <a:pt x="270" y="158"/>
                </a:lnTo>
                <a:lnTo>
                  <a:pt x="268" y="167"/>
                </a:lnTo>
                <a:lnTo>
                  <a:pt x="268" y="171"/>
                </a:lnTo>
                <a:lnTo>
                  <a:pt x="268" y="177"/>
                </a:lnTo>
                <a:lnTo>
                  <a:pt x="267" y="183"/>
                </a:lnTo>
                <a:lnTo>
                  <a:pt x="267" y="188"/>
                </a:lnTo>
                <a:lnTo>
                  <a:pt x="265" y="196"/>
                </a:lnTo>
                <a:lnTo>
                  <a:pt x="265" y="204"/>
                </a:lnTo>
                <a:lnTo>
                  <a:pt x="265" y="211"/>
                </a:lnTo>
                <a:lnTo>
                  <a:pt x="263" y="219"/>
                </a:lnTo>
                <a:lnTo>
                  <a:pt x="263" y="229"/>
                </a:lnTo>
                <a:lnTo>
                  <a:pt x="261" y="236"/>
                </a:lnTo>
                <a:lnTo>
                  <a:pt x="261" y="246"/>
                </a:lnTo>
                <a:lnTo>
                  <a:pt x="259" y="258"/>
                </a:lnTo>
                <a:lnTo>
                  <a:pt x="259" y="267"/>
                </a:lnTo>
                <a:lnTo>
                  <a:pt x="257" y="279"/>
                </a:lnTo>
                <a:lnTo>
                  <a:pt x="257" y="290"/>
                </a:lnTo>
                <a:lnTo>
                  <a:pt x="255" y="302"/>
                </a:lnTo>
                <a:lnTo>
                  <a:pt x="255" y="315"/>
                </a:lnTo>
                <a:lnTo>
                  <a:pt x="253" y="329"/>
                </a:lnTo>
                <a:lnTo>
                  <a:pt x="253" y="342"/>
                </a:lnTo>
                <a:lnTo>
                  <a:pt x="251" y="355"/>
                </a:lnTo>
                <a:lnTo>
                  <a:pt x="251" y="371"/>
                </a:lnTo>
                <a:lnTo>
                  <a:pt x="249" y="386"/>
                </a:lnTo>
                <a:lnTo>
                  <a:pt x="249" y="401"/>
                </a:lnTo>
                <a:lnTo>
                  <a:pt x="247" y="417"/>
                </a:lnTo>
                <a:lnTo>
                  <a:pt x="247" y="434"/>
                </a:lnTo>
                <a:lnTo>
                  <a:pt x="245" y="449"/>
                </a:lnTo>
                <a:lnTo>
                  <a:pt x="245" y="469"/>
                </a:lnTo>
                <a:lnTo>
                  <a:pt x="243" y="486"/>
                </a:lnTo>
                <a:lnTo>
                  <a:pt x="243" y="505"/>
                </a:lnTo>
                <a:lnTo>
                  <a:pt x="242" y="522"/>
                </a:lnTo>
                <a:lnTo>
                  <a:pt x="240" y="544"/>
                </a:lnTo>
                <a:lnTo>
                  <a:pt x="240" y="563"/>
                </a:lnTo>
                <a:lnTo>
                  <a:pt x="238" y="584"/>
                </a:lnTo>
                <a:lnTo>
                  <a:pt x="238" y="603"/>
                </a:lnTo>
                <a:lnTo>
                  <a:pt x="236" y="626"/>
                </a:lnTo>
                <a:lnTo>
                  <a:pt x="236" y="647"/>
                </a:lnTo>
                <a:lnTo>
                  <a:pt x="234" y="670"/>
                </a:lnTo>
                <a:lnTo>
                  <a:pt x="232" y="691"/>
                </a:lnTo>
                <a:lnTo>
                  <a:pt x="232" y="716"/>
                </a:lnTo>
                <a:lnTo>
                  <a:pt x="230" y="739"/>
                </a:lnTo>
                <a:lnTo>
                  <a:pt x="230" y="764"/>
                </a:lnTo>
                <a:lnTo>
                  <a:pt x="228" y="789"/>
                </a:lnTo>
                <a:lnTo>
                  <a:pt x="226" y="814"/>
                </a:lnTo>
                <a:lnTo>
                  <a:pt x="226" y="839"/>
                </a:lnTo>
                <a:lnTo>
                  <a:pt x="224" y="866"/>
                </a:lnTo>
                <a:lnTo>
                  <a:pt x="224" y="893"/>
                </a:lnTo>
                <a:lnTo>
                  <a:pt x="222" y="920"/>
                </a:lnTo>
                <a:lnTo>
                  <a:pt x="220" y="949"/>
                </a:lnTo>
                <a:lnTo>
                  <a:pt x="220" y="975"/>
                </a:lnTo>
                <a:lnTo>
                  <a:pt x="219" y="1004"/>
                </a:lnTo>
                <a:lnTo>
                  <a:pt x="219" y="1035"/>
                </a:lnTo>
                <a:lnTo>
                  <a:pt x="217" y="1064"/>
                </a:lnTo>
                <a:lnTo>
                  <a:pt x="215" y="1094"/>
                </a:lnTo>
                <a:lnTo>
                  <a:pt x="215" y="1125"/>
                </a:lnTo>
                <a:lnTo>
                  <a:pt x="213" y="1156"/>
                </a:lnTo>
                <a:lnTo>
                  <a:pt x="213" y="1188"/>
                </a:lnTo>
                <a:lnTo>
                  <a:pt x="211" y="1219"/>
                </a:lnTo>
                <a:lnTo>
                  <a:pt x="209" y="1252"/>
                </a:lnTo>
                <a:lnTo>
                  <a:pt x="209" y="125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199"/>
          <p:cNvSpPr/>
          <p:nvPr/>
        </p:nvSpPr>
        <p:spPr>
          <a:xfrm>
            <a:off x="6238800" y="3205080"/>
            <a:ext cx="287280" cy="282600"/>
          </a:xfrm>
          <a:custGeom>
            <a:avLst/>
            <a:gdLst/>
            <a:ahLst/>
            <a:rect l="l" t="t" r="r" b="b"/>
            <a:pathLst>
              <a:path w="361" h="357">
                <a:moveTo>
                  <a:pt x="284" y="213"/>
                </a:moveTo>
                <a:lnTo>
                  <a:pt x="265" y="227"/>
                </a:lnTo>
                <a:lnTo>
                  <a:pt x="246" y="240"/>
                </a:lnTo>
                <a:lnTo>
                  <a:pt x="227" y="252"/>
                </a:lnTo>
                <a:lnTo>
                  <a:pt x="206" y="263"/>
                </a:lnTo>
                <a:lnTo>
                  <a:pt x="185" y="275"/>
                </a:lnTo>
                <a:lnTo>
                  <a:pt x="163" y="288"/>
                </a:lnTo>
                <a:lnTo>
                  <a:pt x="142" y="300"/>
                </a:lnTo>
                <a:lnTo>
                  <a:pt x="119" y="315"/>
                </a:lnTo>
                <a:lnTo>
                  <a:pt x="106" y="321"/>
                </a:lnTo>
                <a:lnTo>
                  <a:pt x="96" y="326"/>
                </a:lnTo>
                <a:lnTo>
                  <a:pt x="85" y="332"/>
                </a:lnTo>
                <a:lnTo>
                  <a:pt x="75" y="338"/>
                </a:lnTo>
                <a:lnTo>
                  <a:pt x="66" y="342"/>
                </a:lnTo>
                <a:lnTo>
                  <a:pt x="58" y="346"/>
                </a:lnTo>
                <a:lnTo>
                  <a:pt x="50" y="349"/>
                </a:lnTo>
                <a:lnTo>
                  <a:pt x="42" y="351"/>
                </a:lnTo>
                <a:lnTo>
                  <a:pt x="35" y="353"/>
                </a:lnTo>
                <a:lnTo>
                  <a:pt x="29" y="355"/>
                </a:lnTo>
                <a:lnTo>
                  <a:pt x="23" y="355"/>
                </a:lnTo>
                <a:lnTo>
                  <a:pt x="18" y="357"/>
                </a:lnTo>
                <a:lnTo>
                  <a:pt x="14" y="355"/>
                </a:lnTo>
                <a:lnTo>
                  <a:pt x="10" y="355"/>
                </a:lnTo>
                <a:lnTo>
                  <a:pt x="6" y="353"/>
                </a:lnTo>
                <a:lnTo>
                  <a:pt x="4" y="351"/>
                </a:lnTo>
                <a:lnTo>
                  <a:pt x="2" y="349"/>
                </a:lnTo>
                <a:lnTo>
                  <a:pt x="0" y="346"/>
                </a:lnTo>
                <a:lnTo>
                  <a:pt x="0" y="344"/>
                </a:lnTo>
                <a:lnTo>
                  <a:pt x="2" y="340"/>
                </a:lnTo>
                <a:lnTo>
                  <a:pt x="2" y="336"/>
                </a:lnTo>
                <a:lnTo>
                  <a:pt x="6" y="332"/>
                </a:lnTo>
                <a:lnTo>
                  <a:pt x="8" y="326"/>
                </a:lnTo>
                <a:lnTo>
                  <a:pt x="12" y="323"/>
                </a:lnTo>
                <a:lnTo>
                  <a:pt x="16" y="317"/>
                </a:lnTo>
                <a:lnTo>
                  <a:pt x="21" y="311"/>
                </a:lnTo>
                <a:lnTo>
                  <a:pt x="27" y="303"/>
                </a:lnTo>
                <a:lnTo>
                  <a:pt x="35" y="298"/>
                </a:lnTo>
                <a:lnTo>
                  <a:pt x="42" y="290"/>
                </a:lnTo>
                <a:lnTo>
                  <a:pt x="50" y="282"/>
                </a:lnTo>
                <a:lnTo>
                  <a:pt x="58" y="273"/>
                </a:lnTo>
                <a:lnTo>
                  <a:pt x="67" y="263"/>
                </a:lnTo>
                <a:lnTo>
                  <a:pt x="87" y="244"/>
                </a:lnTo>
                <a:lnTo>
                  <a:pt x="104" y="227"/>
                </a:lnTo>
                <a:lnTo>
                  <a:pt x="119" y="207"/>
                </a:lnTo>
                <a:lnTo>
                  <a:pt x="135" y="190"/>
                </a:lnTo>
                <a:lnTo>
                  <a:pt x="148" y="173"/>
                </a:lnTo>
                <a:lnTo>
                  <a:pt x="161" y="156"/>
                </a:lnTo>
                <a:lnTo>
                  <a:pt x="171" y="140"/>
                </a:lnTo>
                <a:lnTo>
                  <a:pt x="183" y="125"/>
                </a:lnTo>
                <a:lnTo>
                  <a:pt x="186" y="111"/>
                </a:lnTo>
                <a:lnTo>
                  <a:pt x="188" y="100"/>
                </a:lnTo>
                <a:lnTo>
                  <a:pt x="190" y="88"/>
                </a:lnTo>
                <a:lnTo>
                  <a:pt x="192" y="77"/>
                </a:lnTo>
                <a:lnTo>
                  <a:pt x="190" y="67"/>
                </a:lnTo>
                <a:lnTo>
                  <a:pt x="188" y="56"/>
                </a:lnTo>
                <a:lnTo>
                  <a:pt x="186" y="46"/>
                </a:lnTo>
                <a:lnTo>
                  <a:pt x="183" y="39"/>
                </a:lnTo>
                <a:lnTo>
                  <a:pt x="179" y="29"/>
                </a:lnTo>
                <a:lnTo>
                  <a:pt x="175" y="21"/>
                </a:lnTo>
                <a:lnTo>
                  <a:pt x="173" y="14"/>
                </a:lnTo>
                <a:lnTo>
                  <a:pt x="175" y="10"/>
                </a:lnTo>
                <a:lnTo>
                  <a:pt x="175" y="8"/>
                </a:lnTo>
                <a:lnTo>
                  <a:pt x="177" y="6"/>
                </a:lnTo>
                <a:lnTo>
                  <a:pt x="179" y="4"/>
                </a:lnTo>
                <a:lnTo>
                  <a:pt x="181" y="2"/>
                </a:lnTo>
                <a:lnTo>
                  <a:pt x="183" y="0"/>
                </a:lnTo>
                <a:lnTo>
                  <a:pt x="186" y="0"/>
                </a:lnTo>
                <a:lnTo>
                  <a:pt x="190" y="0"/>
                </a:lnTo>
                <a:lnTo>
                  <a:pt x="194" y="0"/>
                </a:lnTo>
                <a:lnTo>
                  <a:pt x="206" y="0"/>
                </a:lnTo>
                <a:lnTo>
                  <a:pt x="215" y="2"/>
                </a:lnTo>
                <a:lnTo>
                  <a:pt x="229" y="4"/>
                </a:lnTo>
                <a:lnTo>
                  <a:pt x="240" y="8"/>
                </a:lnTo>
                <a:lnTo>
                  <a:pt x="254" y="12"/>
                </a:lnTo>
                <a:lnTo>
                  <a:pt x="269" y="15"/>
                </a:lnTo>
                <a:lnTo>
                  <a:pt x="296" y="25"/>
                </a:lnTo>
                <a:lnTo>
                  <a:pt x="304" y="29"/>
                </a:lnTo>
                <a:lnTo>
                  <a:pt x="309" y="35"/>
                </a:lnTo>
                <a:lnTo>
                  <a:pt x="315" y="39"/>
                </a:lnTo>
                <a:lnTo>
                  <a:pt x="321" y="44"/>
                </a:lnTo>
                <a:lnTo>
                  <a:pt x="330" y="54"/>
                </a:lnTo>
                <a:lnTo>
                  <a:pt x="338" y="63"/>
                </a:lnTo>
                <a:lnTo>
                  <a:pt x="344" y="73"/>
                </a:lnTo>
                <a:lnTo>
                  <a:pt x="350" y="81"/>
                </a:lnTo>
                <a:lnTo>
                  <a:pt x="355" y="90"/>
                </a:lnTo>
                <a:lnTo>
                  <a:pt x="361" y="100"/>
                </a:lnTo>
                <a:lnTo>
                  <a:pt x="359" y="108"/>
                </a:lnTo>
                <a:lnTo>
                  <a:pt x="359" y="115"/>
                </a:lnTo>
                <a:lnTo>
                  <a:pt x="357" y="121"/>
                </a:lnTo>
                <a:lnTo>
                  <a:pt x="355" y="129"/>
                </a:lnTo>
                <a:lnTo>
                  <a:pt x="353" y="136"/>
                </a:lnTo>
                <a:lnTo>
                  <a:pt x="350" y="142"/>
                </a:lnTo>
                <a:lnTo>
                  <a:pt x="346" y="150"/>
                </a:lnTo>
                <a:lnTo>
                  <a:pt x="340" y="158"/>
                </a:lnTo>
                <a:lnTo>
                  <a:pt x="336" y="163"/>
                </a:lnTo>
                <a:lnTo>
                  <a:pt x="330" y="171"/>
                </a:lnTo>
                <a:lnTo>
                  <a:pt x="325" y="179"/>
                </a:lnTo>
                <a:lnTo>
                  <a:pt x="317" y="184"/>
                </a:lnTo>
                <a:lnTo>
                  <a:pt x="309" y="192"/>
                </a:lnTo>
                <a:lnTo>
                  <a:pt x="302" y="200"/>
                </a:lnTo>
                <a:lnTo>
                  <a:pt x="294" y="206"/>
                </a:lnTo>
                <a:lnTo>
                  <a:pt x="284" y="2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200"/>
          <p:cNvSpPr/>
          <p:nvPr/>
        </p:nvSpPr>
        <p:spPr>
          <a:xfrm>
            <a:off x="5713560" y="3363840"/>
            <a:ext cx="236520" cy="262080"/>
          </a:xfrm>
          <a:custGeom>
            <a:avLst/>
            <a:gdLst/>
            <a:ahLst/>
            <a:rect l="l" t="t" r="r" b="b"/>
            <a:pathLst>
              <a:path w="298" h="330">
                <a:moveTo>
                  <a:pt x="221" y="86"/>
                </a:moveTo>
                <a:lnTo>
                  <a:pt x="230" y="94"/>
                </a:lnTo>
                <a:lnTo>
                  <a:pt x="238" y="101"/>
                </a:lnTo>
                <a:lnTo>
                  <a:pt x="246" y="109"/>
                </a:lnTo>
                <a:lnTo>
                  <a:pt x="253" y="117"/>
                </a:lnTo>
                <a:lnTo>
                  <a:pt x="261" y="126"/>
                </a:lnTo>
                <a:lnTo>
                  <a:pt x="267" y="134"/>
                </a:lnTo>
                <a:lnTo>
                  <a:pt x="273" y="142"/>
                </a:lnTo>
                <a:lnTo>
                  <a:pt x="276" y="151"/>
                </a:lnTo>
                <a:lnTo>
                  <a:pt x="282" y="161"/>
                </a:lnTo>
                <a:lnTo>
                  <a:pt x="286" y="169"/>
                </a:lnTo>
                <a:lnTo>
                  <a:pt x="290" y="178"/>
                </a:lnTo>
                <a:lnTo>
                  <a:pt x="292" y="188"/>
                </a:lnTo>
                <a:lnTo>
                  <a:pt x="294" y="197"/>
                </a:lnTo>
                <a:lnTo>
                  <a:pt x="296" y="207"/>
                </a:lnTo>
                <a:lnTo>
                  <a:pt x="296" y="215"/>
                </a:lnTo>
                <a:lnTo>
                  <a:pt x="298" y="224"/>
                </a:lnTo>
                <a:lnTo>
                  <a:pt x="294" y="236"/>
                </a:lnTo>
                <a:lnTo>
                  <a:pt x="292" y="247"/>
                </a:lnTo>
                <a:lnTo>
                  <a:pt x="290" y="257"/>
                </a:lnTo>
                <a:lnTo>
                  <a:pt x="288" y="265"/>
                </a:lnTo>
                <a:lnTo>
                  <a:pt x="284" y="274"/>
                </a:lnTo>
                <a:lnTo>
                  <a:pt x="282" y="280"/>
                </a:lnTo>
                <a:lnTo>
                  <a:pt x="280" y="288"/>
                </a:lnTo>
                <a:lnTo>
                  <a:pt x="278" y="293"/>
                </a:lnTo>
                <a:lnTo>
                  <a:pt x="275" y="299"/>
                </a:lnTo>
                <a:lnTo>
                  <a:pt x="273" y="305"/>
                </a:lnTo>
                <a:lnTo>
                  <a:pt x="271" y="309"/>
                </a:lnTo>
                <a:lnTo>
                  <a:pt x="269" y="313"/>
                </a:lnTo>
                <a:lnTo>
                  <a:pt x="263" y="320"/>
                </a:lnTo>
                <a:lnTo>
                  <a:pt x="259" y="326"/>
                </a:lnTo>
                <a:lnTo>
                  <a:pt x="255" y="328"/>
                </a:lnTo>
                <a:lnTo>
                  <a:pt x="253" y="330"/>
                </a:lnTo>
                <a:lnTo>
                  <a:pt x="250" y="330"/>
                </a:lnTo>
                <a:lnTo>
                  <a:pt x="244" y="330"/>
                </a:lnTo>
                <a:lnTo>
                  <a:pt x="240" y="330"/>
                </a:lnTo>
                <a:lnTo>
                  <a:pt x="234" y="330"/>
                </a:lnTo>
                <a:lnTo>
                  <a:pt x="228" y="328"/>
                </a:lnTo>
                <a:lnTo>
                  <a:pt x="223" y="326"/>
                </a:lnTo>
                <a:lnTo>
                  <a:pt x="217" y="322"/>
                </a:lnTo>
                <a:lnTo>
                  <a:pt x="211" y="320"/>
                </a:lnTo>
                <a:lnTo>
                  <a:pt x="204" y="316"/>
                </a:lnTo>
                <a:lnTo>
                  <a:pt x="198" y="311"/>
                </a:lnTo>
                <a:lnTo>
                  <a:pt x="190" y="307"/>
                </a:lnTo>
                <a:lnTo>
                  <a:pt x="184" y="301"/>
                </a:lnTo>
                <a:lnTo>
                  <a:pt x="177" y="295"/>
                </a:lnTo>
                <a:lnTo>
                  <a:pt x="169" y="288"/>
                </a:lnTo>
                <a:lnTo>
                  <a:pt x="152" y="272"/>
                </a:lnTo>
                <a:lnTo>
                  <a:pt x="134" y="257"/>
                </a:lnTo>
                <a:lnTo>
                  <a:pt x="117" y="240"/>
                </a:lnTo>
                <a:lnTo>
                  <a:pt x="102" y="222"/>
                </a:lnTo>
                <a:lnTo>
                  <a:pt x="86" y="203"/>
                </a:lnTo>
                <a:lnTo>
                  <a:pt x="71" y="182"/>
                </a:lnTo>
                <a:lnTo>
                  <a:pt x="56" y="161"/>
                </a:lnTo>
                <a:lnTo>
                  <a:pt x="42" y="138"/>
                </a:lnTo>
                <a:lnTo>
                  <a:pt x="35" y="124"/>
                </a:lnTo>
                <a:lnTo>
                  <a:pt x="29" y="115"/>
                </a:lnTo>
                <a:lnTo>
                  <a:pt x="23" y="103"/>
                </a:lnTo>
                <a:lnTo>
                  <a:pt x="19" y="92"/>
                </a:lnTo>
                <a:lnTo>
                  <a:pt x="13" y="82"/>
                </a:lnTo>
                <a:lnTo>
                  <a:pt x="10" y="73"/>
                </a:lnTo>
                <a:lnTo>
                  <a:pt x="8" y="63"/>
                </a:lnTo>
                <a:lnTo>
                  <a:pt x="4" y="55"/>
                </a:lnTo>
                <a:lnTo>
                  <a:pt x="2" y="48"/>
                </a:lnTo>
                <a:lnTo>
                  <a:pt x="0" y="40"/>
                </a:lnTo>
                <a:lnTo>
                  <a:pt x="0" y="34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5"/>
                </a:lnTo>
                <a:lnTo>
                  <a:pt x="4" y="11"/>
                </a:lnTo>
                <a:lnTo>
                  <a:pt x="4" y="9"/>
                </a:lnTo>
                <a:lnTo>
                  <a:pt x="6" y="7"/>
                </a:lnTo>
                <a:lnTo>
                  <a:pt x="6" y="5"/>
                </a:lnTo>
                <a:lnTo>
                  <a:pt x="10" y="4"/>
                </a:lnTo>
                <a:lnTo>
                  <a:pt x="12" y="4"/>
                </a:lnTo>
                <a:lnTo>
                  <a:pt x="15" y="2"/>
                </a:lnTo>
                <a:lnTo>
                  <a:pt x="19" y="2"/>
                </a:lnTo>
                <a:lnTo>
                  <a:pt x="23" y="0"/>
                </a:lnTo>
                <a:lnTo>
                  <a:pt x="29" y="0"/>
                </a:lnTo>
                <a:lnTo>
                  <a:pt x="35" y="0"/>
                </a:lnTo>
                <a:lnTo>
                  <a:pt x="40" y="0"/>
                </a:lnTo>
                <a:lnTo>
                  <a:pt x="46" y="0"/>
                </a:lnTo>
                <a:lnTo>
                  <a:pt x="54" y="0"/>
                </a:lnTo>
                <a:lnTo>
                  <a:pt x="61" y="0"/>
                </a:lnTo>
                <a:lnTo>
                  <a:pt x="71" y="0"/>
                </a:lnTo>
                <a:lnTo>
                  <a:pt x="81" y="0"/>
                </a:lnTo>
                <a:lnTo>
                  <a:pt x="96" y="4"/>
                </a:lnTo>
                <a:lnTo>
                  <a:pt x="111" y="11"/>
                </a:lnTo>
                <a:lnTo>
                  <a:pt x="129" y="19"/>
                </a:lnTo>
                <a:lnTo>
                  <a:pt x="146" y="28"/>
                </a:lnTo>
                <a:lnTo>
                  <a:pt x="156" y="34"/>
                </a:lnTo>
                <a:lnTo>
                  <a:pt x="163" y="40"/>
                </a:lnTo>
                <a:lnTo>
                  <a:pt x="173" y="46"/>
                </a:lnTo>
                <a:lnTo>
                  <a:pt x="182" y="53"/>
                </a:lnTo>
                <a:lnTo>
                  <a:pt x="192" y="61"/>
                </a:lnTo>
                <a:lnTo>
                  <a:pt x="202" y="69"/>
                </a:lnTo>
                <a:lnTo>
                  <a:pt x="211" y="78"/>
                </a:lnTo>
                <a:lnTo>
                  <a:pt x="221" y="8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组合 31"/>
          <p:cNvGrpSpPr/>
          <p:nvPr/>
        </p:nvGrpSpPr>
        <p:grpSpPr>
          <a:xfrm>
            <a:off x="1200240" y="4000680"/>
            <a:ext cx="2840040" cy="1571400"/>
            <a:chOff x="1200240" y="4000680"/>
            <a:chExt cx="2840040" cy="1571400"/>
          </a:xfrm>
        </p:grpSpPr>
        <p:pic>
          <p:nvPicPr>
            <p:cNvPr id="106" name="图示 32" descr=""/>
            <p:cNvPicPr/>
            <p:nvPr/>
          </p:nvPicPr>
          <p:blipFill>
            <a:blip r:embed="rId3"/>
            <a:stretch/>
          </p:blipFill>
          <p:spPr>
            <a:xfrm>
              <a:off x="1200240" y="4000680"/>
              <a:ext cx="284004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2"/>
            <p:cNvSpPr/>
            <p:nvPr/>
          </p:nvSpPr>
          <p:spPr>
            <a:xfrm>
              <a:off x="1211400" y="4614480"/>
              <a:ext cx="28152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“曹”上宽下窄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reeform 67"/>
          <p:cNvSpPr/>
          <p:nvPr/>
        </p:nvSpPr>
        <p:spPr>
          <a:xfrm>
            <a:off x="5421240" y="3957480"/>
            <a:ext cx="1374840" cy="398520"/>
          </a:xfrm>
          <a:custGeom>
            <a:avLst/>
            <a:gdLst/>
            <a:ahLst/>
            <a:rect l="l" t="t" r="r" b="b"/>
            <a:pathLst>
              <a:path w="1733" h="501">
                <a:moveTo>
                  <a:pt x="34" y="399"/>
                </a:moveTo>
                <a:lnTo>
                  <a:pt x="26" y="388"/>
                </a:lnTo>
                <a:lnTo>
                  <a:pt x="21" y="376"/>
                </a:lnTo>
                <a:lnTo>
                  <a:pt x="15" y="365"/>
                </a:lnTo>
                <a:lnTo>
                  <a:pt x="11" y="355"/>
                </a:lnTo>
                <a:lnTo>
                  <a:pt x="7" y="346"/>
                </a:lnTo>
                <a:lnTo>
                  <a:pt x="3" y="336"/>
                </a:lnTo>
                <a:lnTo>
                  <a:pt x="1" y="326"/>
                </a:lnTo>
                <a:lnTo>
                  <a:pt x="0" y="319"/>
                </a:lnTo>
                <a:lnTo>
                  <a:pt x="0" y="311"/>
                </a:lnTo>
                <a:lnTo>
                  <a:pt x="0" y="303"/>
                </a:lnTo>
                <a:lnTo>
                  <a:pt x="0" y="296"/>
                </a:lnTo>
                <a:lnTo>
                  <a:pt x="0" y="290"/>
                </a:lnTo>
                <a:lnTo>
                  <a:pt x="1" y="286"/>
                </a:lnTo>
                <a:lnTo>
                  <a:pt x="1" y="280"/>
                </a:lnTo>
                <a:lnTo>
                  <a:pt x="3" y="276"/>
                </a:lnTo>
                <a:lnTo>
                  <a:pt x="7" y="275"/>
                </a:lnTo>
                <a:lnTo>
                  <a:pt x="9" y="273"/>
                </a:lnTo>
                <a:lnTo>
                  <a:pt x="13" y="271"/>
                </a:lnTo>
                <a:lnTo>
                  <a:pt x="17" y="269"/>
                </a:lnTo>
                <a:lnTo>
                  <a:pt x="21" y="267"/>
                </a:lnTo>
                <a:lnTo>
                  <a:pt x="32" y="265"/>
                </a:lnTo>
                <a:lnTo>
                  <a:pt x="44" y="265"/>
                </a:lnTo>
                <a:lnTo>
                  <a:pt x="57" y="265"/>
                </a:lnTo>
                <a:lnTo>
                  <a:pt x="71" y="267"/>
                </a:lnTo>
                <a:lnTo>
                  <a:pt x="86" y="271"/>
                </a:lnTo>
                <a:lnTo>
                  <a:pt x="99" y="275"/>
                </a:lnTo>
                <a:lnTo>
                  <a:pt x="115" y="278"/>
                </a:lnTo>
                <a:lnTo>
                  <a:pt x="128" y="284"/>
                </a:lnTo>
                <a:lnTo>
                  <a:pt x="140" y="288"/>
                </a:lnTo>
                <a:lnTo>
                  <a:pt x="151" y="292"/>
                </a:lnTo>
                <a:lnTo>
                  <a:pt x="163" y="296"/>
                </a:lnTo>
                <a:lnTo>
                  <a:pt x="174" y="298"/>
                </a:lnTo>
                <a:lnTo>
                  <a:pt x="184" y="300"/>
                </a:lnTo>
                <a:lnTo>
                  <a:pt x="193" y="300"/>
                </a:lnTo>
                <a:lnTo>
                  <a:pt x="197" y="300"/>
                </a:lnTo>
                <a:lnTo>
                  <a:pt x="201" y="300"/>
                </a:lnTo>
                <a:lnTo>
                  <a:pt x="207" y="298"/>
                </a:lnTo>
                <a:lnTo>
                  <a:pt x="213" y="298"/>
                </a:lnTo>
                <a:lnTo>
                  <a:pt x="220" y="296"/>
                </a:lnTo>
                <a:lnTo>
                  <a:pt x="230" y="294"/>
                </a:lnTo>
                <a:lnTo>
                  <a:pt x="239" y="292"/>
                </a:lnTo>
                <a:lnTo>
                  <a:pt x="251" y="290"/>
                </a:lnTo>
                <a:lnTo>
                  <a:pt x="264" y="288"/>
                </a:lnTo>
                <a:lnTo>
                  <a:pt x="278" y="286"/>
                </a:lnTo>
                <a:lnTo>
                  <a:pt x="291" y="282"/>
                </a:lnTo>
                <a:lnTo>
                  <a:pt x="309" y="278"/>
                </a:lnTo>
                <a:lnTo>
                  <a:pt x="324" y="275"/>
                </a:lnTo>
                <a:lnTo>
                  <a:pt x="343" y="271"/>
                </a:lnTo>
                <a:lnTo>
                  <a:pt x="362" y="267"/>
                </a:lnTo>
                <a:lnTo>
                  <a:pt x="383" y="263"/>
                </a:lnTo>
                <a:lnTo>
                  <a:pt x="405" y="257"/>
                </a:lnTo>
                <a:lnTo>
                  <a:pt x="428" y="253"/>
                </a:lnTo>
                <a:lnTo>
                  <a:pt x="451" y="248"/>
                </a:lnTo>
                <a:lnTo>
                  <a:pt x="476" y="242"/>
                </a:lnTo>
                <a:lnTo>
                  <a:pt x="502" y="236"/>
                </a:lnTo>
                <a:lnTo>
                  <a:pt x="529" y="230"/>
                </a:lnTo>
                <a:lnTo>
                  <a:pt x="558" y="223"/>
                </a:lnTo>
                <a:lnTo>
                  <a:pt x="587" y="217"/>
                </a:lnTo>
                <a:lnTo>
                  <a:pt x="618" y="209"/>
                </a:lnTo>
                <a:lnTo>
                  <a:pt x="648" y="202"/>
                </a:lnTo>
                <a:lnTo>
                  <a:pt x="683" y="194"/>
                </a:lnTo>
                <a:lnTo>
                  <a:pt x="715" y="186"/>
                </a:lnTo>
                <a:lnTo>
                  <a:pt x="750" y="177"/>
                </a:lnTo>
                <a:lnTo>
                  <a:pt x="786" y="169"/>
                </a:lnTo>
                <a:lnTo>
                  <a:pt x="825" y="159"/>
                </a:lnTo>
                <a:lnTo>
                  <a:pt x="863" y="150"/>
                </a:lnTo>
                <a:lnTo>
                  <a:pt x="900" y="140"/>
                </a:lnTo>
                <a:lnTo>
                  <a:pt x="938" y="131"/>
                </a:lnTo>
                <a:lnTo>
                  <a:pt x="975" y="123"/>
                </a:lnTo>
                <a:lnTo>
                  <a:pt x="1009" y="115"/>
                </a:lnTo>
                <a:lnTo>
                  <a:pt x="1044" y="106"/>
                </a:lnTo>
                <a:lnTo>
                  <a:pt x="1076" y="98"/>
                </a:lnTo>
                <a:lnTo>
                  <a:pt x="1109" y="90"/>
                </a:lnTo>
                <a:lnTo>
                  <a:pt x="1142" y="85"/>
                </a:lnTo>
                <a:lnTo>
                  <a:pt x="1170" y="77"/>
                </a:lnTo>
                <a:lnTo>
                  <a:pt x="1201" y="71"/>
                </a:lnTo>
                <a:lnTo>
                  <a:pt x="1230" y="63"/>
                </a:lnTo>
                <a:lnTo>
                  <a:pt x="1257" y="58"/>
                </a:lnTo>
                <a:lnTo>
                  <a:pt x="1284" y="52"/>
                </a:lnTo>
                <a:lnTo>
                  <a:pt x="1309" y="46"/>
                </a:lnTo>
                <a:lnTo>
                  <a:pt x="1334" y="42"/>
                </a:lnTo>
                <a:lnTo>
                  <a:pt x="1357" y="37"/>
                </a:lnTo>
                <a:lnTo>
                  <a:pt x="1380" y="33"/>
                </a:lnTo>
                <a:lnTo>
                  <a:pt x="1401" y="29"/>
                </a:lnTo>
                <a:lnTo>
                  <a:pt x="1422" y="25"/>
                </a:lnTo>
                <a:lnTo>
                  <a:pt x="1443" y="21"/>
                </a:lnTo>
                <a:lnTo>
                  <a:pt x="1462" y="17"/>
                </a:lnTo>
                <a:lnTo>
                  <a:pt x="1479" y="15"/>
                </a:lnTo>
                <a:lnTo>
                  <a:pt x="1497" y="12"/>
                </a:lnTo>
                <a:lnTo>
                  <a:pt x="1514" y="10"/>
                </a:lnTo>
                <a:lnTo>
                  <a:pt x="1529" y="8"/>
                </a:lnTo>
                <a:lnTo>
                  <a:pt x="1543" y="6"/>
                </a:lnTo>
                <a:lnTo>
                  <a:pt x="1556" y="4"/>
                </a:lnTo>
                <a:lnTo>
                  <a:pt x="1570" y="2"/>
                </a:lnTo>
                <a:lnTo>
                  <a:pt x="1581" y="2"/>
                </a:lnTo>
                <a:lnTo>
                  <a:pt x="1593" y="2"/>
                </a:lnTo>
                <a:lnTo>
                  <a:pt x="1602" y="0"/>
                </a:lnTo>
                <a:lnTo>
                  <a:pt x="1612" y="0"/>
                </a:lnTo>
                <a:lnTo>
                  <a:pt x="1625" y="0"/>
                </a:lnTo>
                <a:lnTo>
                  <a:pt x="1639" y="2"/>
                </a:lnTo>
                <a:lnTo>
                  <a:pt x="1652" y="2"/>
                </a:lnTo>
                <a:lnTo>
                  <a:pt x="1664" y="2"/>
                </a:lnTo>
                <a:lnTo>
                  <a:pt x="1675" y="4"/>
                </a:lnTo>
                <a:lnTo>
                  <a:pt x="1685" y="6"/>
                </a:lnTo>
                <a:lnTo>
                  <a:pt x="1694" y="6"/>
                </a:lnTo>
                <a:lnTo>
                  <a:pt x="1702" y="8"/>
                </a:lnTo>
                <a:lnTo>
                  <a:pt x="1708" y="10"/>
                </a:lnTo>
                <a:lnTo>
                  <a:pt x="1715" y="12"/>
                </a:lnTo>
                <a:lnTo>
                  <a:pt x="1719" y="14"/>
                </a:lnTo>
                <a:lnTo>
                  <a:pt x="1725" y="15"/>
                </a:lnTo>
                <a:lnTo>
                  <a:pt x="1727" y="19"/>
                </a:lnTo>
                <a:lnTo>
                  <a:pt x="1731" y="21"/>
                </a:lnTo>
                <a:lnTo>
                  <a:pt x="1731" y="23"/>
                </a:lnTo>
                <a:lnTo>
                  <a:pt x="1733" y="25"/>
                </a:lnTo>
                <a:lnTo>
                  <a:pt x="1731" y="29"/>
                </a:lnTo>
                <a:lnTo>
                  <a:pt x="1731" y="31"/>
                </a:lnTo>
                <a:lnTo>
                  <a:pt x="1729" y="33"/>
                </a:lnTo>
                <a:lnTo>
                  <a:pt x="1727" y="35"/>
                </a:lnTo>
                <a:lnTo>
                  <a:pt x="1723" y="38"/>
                </a:lnTo>
                <a:lnTo>
                  <a:pt x="1719" y="40"/>
                </a:lnTo>
                <a:lnTo>
                  <a:pt x="1714" y="44"/>
                </a:lnTo>
                <a:lnTo>
                  <a:pt x="1710" y="46"/>
                </a:lnTo>
                <a:lnTo>
                  <a:pt x="1702" y="50"/>
                </a:lnTo>
                <a:lnTo>
                  <a:pt x="1696" y="52"/>
                </a:lnTo>
                <a:lnTo>
                  <a:pt x="1689" y="56"/>
                </a:lnTo>
                <a:lnTo>
                  <a:pt x="1681" y="60"/>
                </a:lnTo>
                <a:lnTo>
                  <a:pt x="1671" y="63"/>
                </a:lnTo>
                <a:lnTo>
                  <a:pt x="1662" y="65"/>
                </a:lnTo>
                <a:lnTo>
                  <a:pt x="1650" y="69"/>
                </a:lnTo>
                <a:lnTo>
                  <a:pt x="1641" y="73"/>
                </a:lnTo>
                <a:lnTo>
                  <a:pt x="1627" y="77"/>
                </a:lnTo>
                <a:lnTo>
                  <a:pt x="1616" y="81"/>
                </a:lnTo>
                <a:lnTo>
                  <a:pt x="1602" y="85"/>
                </a:lnTo>
                <a:lnTo>
                  <a:pt x="1587" y="88"/>
                </a:lnTo>
                <a:lnTo>
                  <a:pt x="1573" y="94"/>
                </a:lnTo>
                <a:lnTo>
                  <a:pt x="1556" y="98"/>
                </a:lnTo>
                <a:lnTo>
                  <a:pt x="1541" y="102"/>
                </a:lnTo>
                <a:lnTo>
                  <a:pt x="1524" y="108"/>
                </a:lnTo>
                <a:lnTo>
                  <a:pt x="1504" y="111"/>
                </a:lnTo>
                <a:lnTo>
                  <a:pt x="1487" y="117"/>
                </a:lnTo>
                <a:lnTo>
                  <a:pt x="1466" y="123"/>
                </a:lnTo>
                <a:lnTo>
                  <a:pt x="1447" y="127"/>
                </a:lnTo>
                <a:lnTo>
                  <a:pt x="1426" y="133"/>
                </a:lnTo>
                <a:lnTo>
                  <a:pt x="1405" y="138"/>
                </a:lnTo>
                <a:lnTo>
                  <a:pt x="1381" y="144"/>
                </a:lnTo>
                <a:lnTo>
                  <a:pt x="1358" y="150"/>
                </a:lnTo>
                <a:lnTo>
                  <a:pt x="1262" y="175"/>
                </a:lnTo>
                <a:lnTo>
                  <a:pt x="1167" y="200"/>
                </a:lnTo>
                <a:lnTo>
                  <a:pt x="1072" y="225"/>
                </a:lnTo>
                <a:lnTo>
                  <a:pt x="977" y="252"/>
                </a:lnTo>
                <a:lnTo>
                  <a:pt x="881" y="280"/>
                </a:lnTo>
                <a:lnTo>
                  <a:pt x="785" y="311"/>
                </a:lnTo>
                <a:lnTo>
                  <a:pt x="691" y="342"/>
                </a:lnTo>
                <a:lnTo>
                  <a:pt x="595" y="374"/>
                </a:lnTo>
                <a:lnTo>
                  <a:pt x="572" y="382"/>
                </a:lnTo>
                <a:lnTo>
                  <a:pt x="548" y="390"/>
                </a:lnTo>
                <a:lnTo>
                  <a:pt x="527" y="397"/>
                </a:lnTo>
                <a:lnTo>
                  <a:pt x="504" y="405"/>
                </a:lnTo>
                <a:lnTo>
                  <a:pt x="483" y="413"/>
                </a:lnTo>
                <a:lnTo>
                  <a:pt x="464" y="420"/>
                </a:lnTo>
                <a:lnTo>
                  <a:pt x="443" y="426"/>
                </a:lnTo>
                <a:lnTo>
                  <a:pt x="424" y="432"/>
                </a:lnTo>
                <a:lnTo>
                  <a:pt x="406" y="440"/>
                </a:lnTo>
                <a:lnTo>
                  <a:pt x="389" y="445"/>
                </a:lnTo>
                <a:lnTo>
                  <a:pt x="372" y="451"/>
                </a:lnTo>
                <a:lnTo>
                  <a:pt x="355" y="455"/>
                </a:lnTo>
                <a:lnTo>
                  <a:pt x="339" y="461"/>
                </a:lnTo>
                <a:lnTo>
                  <a:pt x="324" y="467"/>
                </a:lnTo>
                <a:lnTo>
                  <a:pt x="309" y="470"/>
                </a:lnTo>
                <a:lnTo>
                  <a:pt x="293" y="474"/>
                </a:lnTo>
                <a:lnTo>
                  <a:pt x="280" y="478"/>
                </a:lnTo>
                <a:lnTo>
                  <a:pt x="268" y="482"/>
                </a:lnTo>
                <a:lnTo>
                  <a:pt x="255" y="486"/>
                </a:lnTo>
                <a:lnTo>
                  <a:pt x="243" y="488"/>
                </a:lnTo>
                <a:lnTo>
                  <a:pt x="234" y="491"/>
                </a:lnTo>
                <a:lnTo>
                  <a:pt x="222" y="493"/>
                </a:lnTo>
                <a:lnTo>
                  <a:pt x="213" y="495"/>
                </a:lnTo>
                <a:lnTo>
                  <a:pt x="203" y="497"/>
                </a:lnTo>
                <a:lnTo>
                  <a:pt x="195" y="499"/>
                </a:lnTo>
                <a:lnTo>
                  <a:pt x="188" y="499"/>
                </a:lnTo>
                <a:lnTo>
                  <a:pt x="180" y="501"/>
                </a:lnTo>
                <a:lnTo>
                  <a:pt x="174" y="501"/>
                </a:lnTo>
                <a:lnTo>
                  <a:pt x="168" y="501"/>
                </a:lnTo>
                <a:lnTo>
                  <a:pt x="163" y="501"/>
                </a:lnTo>
                <a:lnTo>
                  <a:pt x="157" y="499"/>
                </a:lnTo>
                <a:lnTo>
                  <a:pt x="153" y="499"/>
                </a:lnTo>
                <a:lnTo>
                  <a:pt x="145" y="499"/>
                </a:lnTo>
                <a:lnTo>
                  <a:pt x="138" y="497"/>
                </a:lnTo>
                <a:lnTo>
                  <a:pt x="130" y="495"/>
                </a:lnTo>
                <a:lnTo>
                  <a:pt x="122" y="491"/>
                </a:lnTo>
                <a:lnTo>
                  <a:pt x="117" y="488"/>
                </a:lnTo>
                <a:lnTo>
                  <a:pt x="109" y="484"/>
                </a:lnTo>
                <a:lnTo>
                  <a:pt x="101" y="478"/>
                </a:lnTo>
                <a:lnTo>
                  <a:pt x="94" y="472"/>
                </a:lnTo>
                <a:lnTo>
                  <a:pt x="86" y="467"/>
                </a:lnTo>
                <a:lnTo>
                  <a:pt x="78" y="459"/>
                </a:lnTo>
                <a:lnTo>
                  <a:pt x="71" y="449"/>
                </a:lnTo>
                <a:lnTo>
                  <a:pt x="63" y="442"/>
                </a:lnTo>
                <a:lnTo>
                  <a:pt x="55" y="432"/>
                </a:lnTo>
                <a:lnTo>
                  <a:pt x="48" y="420"/>
                </a:lnTo>
                <a:lnTo>
                  <a:pt x="40" y="411"/>
                </a:lnTo>
                <a:lnTo>
                  <a:pt x="34" y="39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判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组合 3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12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矩形 2"/>
            <p:cNvSpPr/>
            <p:nvPr/>
          </p:nvSpPr>
          <p:spPr>
            <a:xfrm>
              <a:off x="1410120" y="4587840"/>
              <a:ext cx="28152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宽右窄。注意右部两笔的距离适当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矩形 2"/>
          <p:cNvSpPr/>
          <p:nvPr/>
        </p:nvSpPr>
        <p:spPr>
          <a:xfrm>
            <a:off x="1965240" y="1825560"/>
            <a:ext cx="147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pà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65"/>
          <p:cNvSpPr/>
          <p:nvPr/>
        </p:nvSpPr>
        <p:spPr>
          <a:xfrm>
            <a:off x="7207200" y="2795760"/>
            <a:ext cx="488880" cy="2249280"/>
          </a:xfrm>
          <a:custGeom>
            <a:avLst/>
            <a:gdLst/>
            <a:ahLst/>
            <a:rect l="l" t="t" r="r" b="b"/>
            <a:pathLst>
              <a:path w="614" h="2835">
                <a:moveTo>
                  <a:pt x="443" y="32"/>
                </a:moveTo>
                <a:lnTo>
                  <a:pt x="461" y="36"/>
                </a:lnTo>
                <a:lnTo>
                  <a:pt x="478" y="42"/>
                </a:lnTo>
                <a:lnTo>
                  <a:pt x="493" y="46"/>
                </a:lnTo>
                <a:lnTo>
                  <a:pt x="507" y="51"/>
                </a:lnTo>
                <a:lnTo>
                  <a:pt x="520" y="55"/>
                </a:lnTo>
                <a:lnTo>
                  <a:pt x="532" y="61"/>
                </a:lnTo>
                <a:lnTo>
                  <a:pt x="543" y="65"/>
                </a:lnTo>
                <a:lnTo>
                  <a:pt x="555" y="71"/>
                </a:lnTo>
                <a:lnTo>
                  <a:pt x="564" y="74"/>
                </a:lnTo>
                <a:lnTo>
                  <a:pt x="572" y="78"/>
                </a:lnTo>
                <a:lnTo>
                  <a:pt x="580" y="84"/>
                </a:lnTo>
                <a:lnTo>
                  <a:pt x="587" y="88"/>
                </a:lnTo>
                <a:lnTo>
                  <a:pt x="593" y="94"/>
                </a:lnTo>
                <a:lnTo>
                  <a:pt x="597" y="97"/>
                </a:lnTo>
                <a:lnTo>
                  <a:pt x="601" y="103"/>
                </a:lnTo>
                <a:lnTo>
                  <a:pt x="605" y="107"/>
                </a:lnTo>
                <a:lnTo>
                  <a:pt x="608" y="120"/>
                </a:lnTo>
                <a:lnTo>
                  <a:pt x="612" y="134"/>
                </a:lnTo>
                <a:lnTo>
                  <a:pt x="614" y="145"/>
                </a:lnTo>
                <a:lnTo>
                  <a:pt x="614" y="155"/>
                </a:lnTo>
                <a:lnTo>
                  <a:pt x="614" y="167"/>
                </a:lnTo>
                <a:lnTo>
                  <a:pt x="612" y="176"/>
                </a:lnTo>
                <a:lnTo>
                  <a:pt x="608" y="186"/>
                </a:lnTo>
                <a:lnTo>
                  <a:pt x="605" y="195"/>
                </a:lnTo>
                <a:lnTo>
                  <a:pt x="603" y="199"/>
                </a:lnTo>
                <a:lnTo>
                  <a:pt x="599" y="205"/>
                </a:lnTo>
                <a:lnTo>
                  <a:pt x="597" y="211"/>
                </a:lnTo>
                <a:lnTo>
                  <a:pt x="595" y="218"/>
                </a:lnTo>
                <a:lnTo>
                  <a:pt x="593" y="224"/>
                </a:lnTo>
                <a:lnTo>
                  <a:pt x="591" y="232"/>
                </a:lnTo>
                <a:lnTo>
                  <a:pt x="585" y="249"/>
                </a:lnTo>
                <a:lnTo>
                  <a:pt x="583" y="266"/>
                </a:lnTo>
                <a:lnTo>
                  <a:pt x="580" y="287"/>
                </a:lnTo>
                <a:lnTo>
                  <a:pt x="578" y="309"/>
                </a:lnTo>
                <a:lnTo>
                  <a:pt x="578" y="332"/>
                </a:lnTo>
                <a:lnTo>
                  <a:pt x="578" y="339"/>
                </a:lnTo>
                <a:lnTo>
                  <a:pt x="578" y="349"/>
                </a:lnTo>
                <a:lnTo>
                  <a:pt x="578" y="358"/>
                </a:lnTo>
                <a:lnTo>
                  <a:pt x="578" y="372"/>
                </a:lnTo>
                <a:lnTo>
                  <a:pt x="580" y="385"/>
                </a:lnTo>
                <a:lnTo>
                  <a:pt x="580" y="401"/>
                </a:lnTo>
                <a:lnTo>
                  <a:pt x="580" y="418"/>
                </a:lnTo>
                <a:lnTo>
                  <a:pt x="580" y="437"/>
                </a:lnTo>
                <a:lnTo>
                  <a:pt x="582" y="456"/>
                </a:lnTo>
                <a:lnTo>
                  <a:pt x="582" y="477"/>
                </a:lnTo>
                <a:lnTo>
                  <a:pt x="582" y="500"/>
                </a:lnTo>
                <a:lnTo>
                  <a:pt x="583" y="525"/>
                </a:lnTo>
                <a:lnTo>
                  <a:pt x="583" y="552"/>
                </a:lnTo>
                <a:lnTo>
                  <a:pt x="583" y="579"/>
                </a:lnTo>
                <a:lnTo>
                  <a:pt x="585" y="608"/>
                </a:lnTo>
                <a:lnTo>
                  <a:pt x="585" y="639"/>
                </a:lnTo>
                <a:lnTo>
                  <a:pt x="587" y="671"/>
                </a:lnTo>
                <a:lnTo>
                  <a:pt x="587" y="706"/>
                </a:lnTo>
                <a:lnTo>
                  <a:pt x="589" y="740"/>
                </a:lnTo>
                <a:lnTo>
                  <a:pt x="591" y="777"/>
                </a:lnTo>
                <a:lnTo>
                  <a:pt x="591" y="815"/>
                </a:lnTo>
                <a:lnTo>
                  <a:pt x="593" y="856"/>
                </a:lnTo>
                <a:lnTo>
                  <a:pt x="593" y="898"/>
                </a:lnTo>
                <a:lnTo>
                  <a:pt x="595" y="940"/>
                </a:lnTo>
                <a:lnTo>
                  <a:pt x="597" y="984"/>
                </a:lnTo>
                <a:lnTo>
                  <a:pt x="597" y="1030"/>
                </a:lnTo>
                <a:lnTo>
                  <a:pt x="599" y="1078"/>
                </a:lnTo>
                <a:lnTo>
                  <a:pt x="599" y="1128"/>
                </a:lnTo>
                <a:lnTo>
                  <a:pt x="601" y="1178"/>
                </a:lnTo>
                <a:lnTo>
                  <a:pt x="603" y="1230"/>
                </a:lnTo>
                <a:lnTo>
                  <a:pt x="603" y="1284"/>
                </a:lnTo>
                <a:lnTo>
                  <a:pt x="605" y="1339"/>
                </a:lnTo>
                <a:lnTo>
                  <a:pt x="607" y="1395"/>
                </a:lnTo>
                <a:lnTo>
                  <a:pt x="607" y="1449"/>
                </a:lnTo>
                <a:lnTo>
                  <a:pt x="608" y="1502"/>
                </a:lnTo>
                <a:lnTo>
                  <a:pt x="608" y="1552"/>
                </a:lnTo>
                <a:lnTo>
                  <a:pt x="610" y="1602"/>
                </a:lnTo>
                <a:lnTo>
                  <a:pt x="610" y="1650"/>
                </a:lnTo>
                <a:lnTo>
                  <a:pt x="610" y="1698"/>
                </a:lnTo>
                <a:lnTo>
                  <a:pt x="612" y="1744"/>
                </a:lnTo>
                <a:lnTo>
                  <a:pt x="612" y="1788"/>
                </a:lnTo>
                <a:lnTo>
                  <a:pt x="612" y="1831"/>
                </a:lnTo>
                <a:lnTo>
                  <a:pt x="614" y="1873"/>
                </a:lnTo>
                <a:lnTo>
                  <a:pt x="614" y="1913"/>
                </a:lnTo>
                <a:lnTo>
                  <a:pt x="614" y="1952"/>
                </a:lnTo>
                <a:lnTo>
                  <a:pt x="614" y="1988"/>
                </a:lnTo>
                <a:lnTo>
                  <a:pt x="614" y="2025"/>
                </a:lnTo>
                <a:lnTo>
                  <a:pt x="614" y="2059"/>
                </a:lnTo>
                <a:lnTo>
                  <a:pt x="614" y="2092"/>
                </a:lnTo>
                <a:lnTo>
                  <a:pt x="614" y="2124"/>
                </a:lnTo>
                <a:lnTo>
                  <a:pt x="614" y="2155"/>
                </a:lnTo>
                <a:lnTo>
                  <a:pt x="614" y="2184"/>
                </a:lnTo>
                <a:lnTo>
                  <a:pt x="614" y="2211"/>
                </a:lnTo>
                <a:lnTo>
                  <a:pt x="612" y="2238"/>
                </a:lnTo>
                <a:lnTo>
                  <a:pt x="612" y="2263"/>
                </a:lnTo>
                <a:lnTo>
                  <a:pt x="612" y="2286"/>
                </a:lnTo>
                <a:lnTo>
                  <a:pt x="610" y="2307"/>
                </a:lnTo>
                <a:lnTo>
                  <a:pt x="610" y="2328"/>
                </a:lnTo>
                <a:lnTo>
                  <a:pt x="610" y="2347"/>
                </a:lnTo>
                <a:lnTo>
                  <a:pt x="608" y="2366"/>
                </a:lnTo>
                <a:lnTo>
                  <a:pt x="608" y="2382"/>
                </a:lnTo>
                <a:lnTo>
                  <a:pt x="607" y="2397"/>
                </a:lnTo>
                <a:lnTo>
                  <a:pt x="607" y="2410"/>
                </a:lnTo>
                <a:lnTo>
                  <a:pt x="605" y="2424"/>
                </a:lnTo>
                <a:lnTo>
                  <a:pt x="603" y="2449"/>
                </a:lnTo>
                <a:lnTo>
                  <a:pt x="599" y="2474"/>
                </a:lnTo>
                <a:lnTo>
                  <a:pt x="595" y="2497"/>
                </a:lnTo>
                <a:lnTo>
                  <a:pt x="589" y="2520"/>
                </a:lnTo>
                <a:lnTo>
                  <a:pt x="585" y="2541"/>
                </a:lnTo>
                <a:lnTo>
                  <a:pt x="580" y="2562"/>
                </a:lnTo>
                <a:lnTo>
                  <a:pt x="574" y="2583"/>
                </a:lnTo>
                <a:lnTo>
                  <a:pt x="568" y="2602"/>
                </a:lnTo>
                <a:lnTo>
                  <a:pt x="560" y="2622"/>
                </a:lnTo>
                <a:lnTo>
                  <a:pt x="555" y="2639"/>
                </a:lnTo>
                <a:lnTo>
                  <a:pt x="547" y="2656"/>
                </a:lnTo>
                <a:lnTo>
                  <a:pt x="539" y="2673"/>
                </a:lnTo>
                <a:lnTo>
                  <a:pt x="534" y="2691"/>
                </a:lnTo>
                <a:lnTo>
                  <a:pt x="526" y="2706"/>
                </a:lnTo>
                <a:lnTo>
                  <a:pt x="518" y="2721"/>
                </a:lnTo>
                <a:lnTo>
                  <a:pt x="511" y="2735"/>
                </a:lnTo>
                <a:lnTo>
                  <a:pt x="501" y="2746"/>
                </a:lnTo>
                <a:lnTo>
                  <a:pt x="491" y="2758"/>
                </a:lnTo>
                <a:lnTo>
                  <a:pt x="482" y="2767"/>
                </a:lnTo>
                <a:lnTo>
                  <a:pt x="474" y="2777"/>
                </a:lnTo>
                <a:lnTo>
                  <a:pt x="464" y="2787"/>
                </a:lnTo>
                <a:lnTo>
                  <a:pt x="457" y="2794"/>
                </a:lnTo>
                <a:lnTo>
                  <a:pt x="449" y="2802"/>
                </a:lnTo>
                <a:lnTo>
                  <a:pt x="441" y="2808"/>
                </a:lnTo>
                <a:lnTo>
                  <a:pt x="434" y="2813"/>
                </a:lnTo>
                <a:lnTo>
                  <a:pt x="426" y="2819"/>
                </a:lnTo>
                <a:lnTo>
                  <a:pt x="420" y="2823"/>
                </a:lnTo>
                <a:lnTo>
                  <a:pt x="413" y="2827"/>
                </a:lnTo>
                <a:lnTo>
                  <a:pt x="407" y="2831"/>
                </a:lnTo>
                <a:lnTo>
                  <a:pt x="401" y="2833"/>
                </a:lnTo>
                <a:lnTo>
                  <a:pt x="395" y="2835"/>
                </a:lnTo>
                <a:lnTo>
                  <a:pt x="392" y="2835"/>
                </a:lnTo>
                <a:lnTo>
                  <a:pt x="382" y="2829"/>
                </a:lnTo>
                <a:lnTo>
                  <a:pt x="372" y="2823"/>
                </a:lnTo>
                <a:lnTo>
                  <a:pt x="369" y="2817"/>
                </a:lnTo>
                <a:lnTo>
                  <a:pt x="365" y="2813"/>
                </a:lnTo>
                <a:lnTo>
                  <a:pt x="361" y="2810"/>
                </a:lnTo>
                <a:lnTo>
                  <a:pt x="359" y="2804"/>
                </a:lnTo>
                <a:lnTo>
                  <a:pt x="355" y="2796"/>
                </a:lnTo>
                <a:lnTo>
                  <a:pt x="353" y="2790"/>
                </a:lnTo>
                <a:lnTo>
                  <a:pt x="349" y="2783"/>
                </a:lnTo>
                <a:lnTo>
                  <a:pt x="347" y="2775"/>
                </a:lnTo>
                <a:lnTo>
                  <a:pt x="344" y="2765"/>
                </a:lnTo>
                <a:lnTo>
                  <a:pt x="342" y="2756"/>
                </a:lnTo>
                <a:lnTo>
                  <a:pt x="340" y="2746"/>
                </a:lnTo>
                <a:lnTo>
                  <a:pt x="338" y="2735"/>
                </a:lnTo>
                <a:lnTo>
                  <a:pt x="334" y="2723"/>
                </a:lnTo>
                <a:lnTo>
                  <a:pt x="330" y="2710"/>
                </a:lnTo>
                <a:lnTo>
                  <a:pt x="324" y="2696"/>
                </a:lnTo>
                <a:lnTo>
                  <a:pt x="319" y="2683"/>
                </a:lnTo>
                <a:lnTo>
                  <a:pt x="311" y="2670"/>
                </a:lnTo>
                <a:lnTo>
                  <a:pt x="303" y="2656"/>
                </a:lnTo>
                <a:lnTo>
                  <a:pt x="294" y="2641"/>
                </a:lnTo>
                <a:lnTo>
                  <a:pt x="284" y="2625"/>
                </a:lnTo>
                <a:lnTo>
                  <a:pt x="271" y="2608"/>
                </a:lnTo>
                <a:lnTo>
                  <a:pt x="257" y="2593"/>
                </a:lnTo>
                <a:lnTo>
                  <a:pt x="244" y="2575"/>
                </a:lnTo>
                <a:lnTo>
                  <a:pt x="228" y="2558"/>
                </a:lnTo>
                <a:lnTo>
                  <a:pt x="211" y="2541"/>
                </a:lnTo>
                <a:lnTo>
                  <a:pt x="192" y="2524"/>
                </a:lnTo>
                <a:lnTo>
                  <a:pt x="171" y="2504"/>
                </a:lnTo>
                <a:lnTo>
                  <a:pt x="150" y="2485"/>
                </a:lnTo>
                <a:lnTo>
                  <a:pt x="129" y="2470"/>
                </a:lnTo>
                <a:lnTo>
                  <a:pt x="109" y="2455"/>
                </a:lnTo>
                <a:lnTo>
                  <a:pt x="90" y="2439"/>
                </a:lnTo>
                <a:lnTo>
                  <a:pt x="75" y="2426"/>
                </a:lnTo>
                <a:lnTo>
                  <a:pt x="59" y="2412"/>
                </a:lnTo>
                <a:lnTo>
                  <a:pt x="48" y="2399"/>
                </a:lnTo>
                <a:lnTo>
                  <a:pt x="36" y="2387"/>
                </a:lnTo>
                <a:lnTo>
                  <a:pt x="27" y="2376"/>
                </a:lnTo>
                <a:lnTo>
                  <a:pt x="19" y="2366"/>
                </a:lnTo>
                <a:lnTo>
                  <a:pt x="12" y="2357"/>
                </a:lnTo>
                <a:lnTo>
                  <a:pt x="8" y="2349"/>
                </a:lnTo>
                <a:lnTo>
                  <a:pt x="4" y="2341"/>
                </a:lnTo>
                <a:lnTo>
                  <a:pt x="2" y="2336"/>
                </a:lnTo>
                <a:lnTo>
                  <a:pt x="0" y="2330"/>
                </a:lnTo>
                <a:lnTo>
                  <a:pt x="0" y="2326"/>
                </a:lnTo>
                <a:lnTo>
                  <a:pt x="2" y="2324"/>
                </a:lnTo>
                <a:lnTo>
                  <a:pt x="6" y="2322"/>
                </a:lnTo>
                <a:lnTo>
                  <a:pt x="10" y="2320"/>
                </a:lnTo>
                <a:lnTo>
                  <a:pt x="13" y="2320"/>
                </a:lnTo>
                <a:lnTo>
                  <a:pt x="21" y="2320"/>
                </a:lnTo>
                <a:lnTo>
                  <a:pt x="27" y="2322"/>
                </a:lnTo>
                <a:lnTo>
                  <a:pt x="35" y="2324"/>
                </a:lnTo>
                <a:lnTo>
                  <a:pt x="44" y="2326"/>
                </a:lnTo>
                <a:lnTo>
                  <a:pt x="54" y="2330"/>
                </a:lnTo>
                <a:lnTo>
                  <a:pt x="65" y="2334"/>
                </a:lnTo>
                <a:lnTo>
                  <a:pt x="79" y="2337"/>
                </a:lnTo>
                <a:lnTo>
                  <a:pt x="92" y="2343"/>
                </a:lnTo>
                <a:lnTo>
                  <a:pt x="106" y="2347"/>
                </a:lnTo>
                <a:lnTo>
                  <a:pt x="123" y="2353"/>
                </a:lnTo>
                <a:lnTo>
                  <a:pt x="138" y="2360"/>
                </a:lnTo>
                <a:lnTo>
                  <a:pt x="157" y="2366"/>
                </a:lnTo>
                <a:lnTo>
                  <a:pt x="177" y="2374"/>
                </a:lnTo>
                <a:lnTo>
                  <a:pt x="196" y="2380"/>
                </a:lnTo>
                <a:lnTo>
                  <a:pt x="215" y="2387"/>
                </a:lnTo>
                <a:lnTo>
                  <a:pt x="232" y="2393"/>
                </a:lnTo>
                <a:lnTo>
                  <a:pt x="250" y="2397"/>
                </a:lnTo>
                <a:lnTo>
                  <a:pt x="265" y="2401"/>
                </a:lnTo>
                <a:lnTo>
                  <a:pt x="280" y="2405"/>
                </a:lnTo>
                <a:lnTo>
                  <a:pt x="296" y="2408"/>
                </a:lnTo>
                <a:lnTo>
                  <a:pt x="309" y="2410"/>
                </a:lnTo>
                <a:lnTo>
                  <a:pt x="321" y="2410"/>
                </a:lnTo>
                <a:lnTo>
                  <a:pt x="334" y="2412"/>
                </a:lnTo>
                <a:lnTo>
                  <a:pt x="345" y="2412"/>
                </a:lnTo>
                <a:lnTo>
                  <a:pt x="355" y="2410"/>
                </a:lnTo>
                <a:lnTo>
                  <a:pt x="365" y="2408"/>
                </a:lnTo>
                <a:lnTo>
                  <a:pt x="374" y="2407"/>
                </a:lnTo>
                <a:lnTo>
                  <a:pt x="382" y="2403"/>
                </a:lnTo>
                <a:lnTo>
                  <a:pt x="392" y="2399"/>
                </a:lnTo>
                <a:lnTo>
                  <a:pt x="393" y="2395"/>
                </a:lnTo>
                <a:lnTo>
                  <a:pt x="395" y="2391"/>
                </a:lnTo>
                <a:lnTo>
                  <a:pt x="397" y="2387"/>
                </a:lnTo>
                <a:lnTo>
                  <a:pt x="399" y="2384"/>
                </a:lnTo>
                <a:lnTo>
                  <a:pt x="403" y="2376"/>
                </a:lnTo>
                <a:lnTo>
                  <a:pt x="405" y="2370"/>
                </a:lnTo>
                <a:lnTo>
                  <a:pt x="407" y="2362"/>
                </a:lnTo>
                <a:lnTo>
                  <a:pt x="409" y="2355"/>
                </a:lnTo>
                <a:lnTo>
                  <a:pt x="411" y="2345"/>
                </a:lnTo>
                <a:lnTo>
                  <a:pt x="413" y="2336"/>
                </a:lnTo>
                <a:lnTo>
                  <a:pt x="415" y="2324"/>
                </a:lnTo>
                <a:lnTo>
                  <a:pt x="417" y="2312"/>
                </a:lnTo>
                <a:lnTo>
                  <a:pt x="417" y="2301"/>
                </a:lnTo>
                <a:lnTo>
                  <a:pt x="418" y="2288"/>
                </a:lnTo>
                <a:lnTo>
                  <a:pt x="420" y="2274"/>
                </a:lnTo>
                <a:lnTo>
                  <a:pt x="422" y="2261"/>
                </a:lnTo>
                <a:lnTo>
                  <a:pt x="424" y="2245"/>
                </a:lnTo>
                <a:lnTo>
                  <a:pt x="426" y="2228"/>
                </a:lnTo>
                <a:lnTo>
                  <a:pt x="426" y="2213"/>
                </a:lnTo>
                <a:lnTo>
                  <a:pt x="428" y="2193"/>
                </a:lnTo>
                <a:lnTo>
                  <a:pt x="430" y="2176"/>
                </a:lnTo>
                <a:lnTo>
                  <a:pt x="432" y="2157"/>
                </a:lnTo>
                <a:lnTo>
                  <a:pt x="432" y="2138"/>
                </a:lnTo>
                <a:lnTo>
                  <a:pt x="434" y="2117"/>
                </a:lnTo>
                <a:lnTo>
                  <a:pt x="436" y="2096"/>
                </a:lnTo>
                <a:lnTo>
                  <a:pt x="436" y="2073"/>
                </a:lnTo>
                <a:lnTo>
                  <a:pt x="438" y="2050"/>
                </a:lnTo>
                <a:lnTo>
                  <a:pt x="440" y="2026"/>
                </a:lnTo>
                <a:lnTo>
                  <a:pt x="440" y="2003"/>
                </a:lnTo>
                <a:lnTo>
                  <a:pt x="441" y="1977"/>
                </a:lnTo>
                <a:lnTo>
                  <a:pt x="443" y="1952"/>
                </a:lnTo>
                <a:lnTo>
                  <a:pt x="443" y="1925"/>
                </a:lnTo>
                <a:lnTo>
                  <a:pt x="443" y="1873"/>
                </a:lnTo>
                <a:lnTo>
                  <a:pt x="443" y="1819"/>
                </a:lnTo>
                <a:lnTo>
                  <a:pt x="443" y="1767"/>
                </a:lnTo>
                <a:lnTo>
                  <a:pt x="443" y="1717"/>
                </a:lnTo>
                <a:lnTo>
                  <a:pt x="443" y="1668"/>
                </a:lnTo>
                <a:lnTo>
                  <a:pt x="443" y="1620"/>
                </a:lnTo>
                <a:lnTo>
                  <a:pt x="443" y="1572"/>
                </a:lnTo>
                <a:lnTo>
                  <a:pt x="443" y="1524"/>
                </a:lnTo>
                <a:lnTo>
                  <a:pt x="443" y="1478"/>
                </a:lnTo>
                <a:lnTo>
                  <a:pt x="443" y="1431"/>
                </a:lnTo>
                <a:lnTo>
                  <a:pt x="443" y="1387"/>
                </a:lnTo>
                <a:lnTo>
                  <a:pt x="443" y="1343"/>
                </a:lnTo>
                <a:lnTo>
                  <a:pt x="443" y="1301"/>
                </a:lnTo>
                <a:lnTo>
                  <a:pt x="443" y="1259"/>
                </a:lnTo>
                <a:lnTo>
                  <a:pt x="443" y="1218"/>
                </a:lnTo>
                <a:lnTo>
                  <a:pt x="443" y="1178"/>
                </a:lnTo>
                <a:lnTo>
                  <a:pt x="443" y="1097"/>
                </a:lnTo>
                <a:lnTo>
                  <a:pt x="441" y="1017"/>
                </a:lnTo>
                <a:lnTo>
                  <a:pt x="440" y="934"/>
                </a:lnTo>
                <a:lnTo>
                  <a:pt x="436" y="852"/>
                </a:lnTo>
                <a:lnTo>
                  <a:pt x="432" y="767"/>
                </a:lnTo>
                <a:lnTo>
                  <a:pt x="426" y="681"/>
                </a:lnTo>
                <a:lnTo>
                  <a:pt x="422" y="595"/>
                </a:lnTo>
                <a:lnTo>
                  <a:pt x="417" y="506"/>
                </a:lnTo>
                <a:lnTo>
                  <a:pt x="417" y="483"/>
                </a:lnTo>
                <a:lnTo>
                  <a:pt x="415" y="462"/>
                </a:lnTo>
                <a:lnTo>
                  <a:pt x="413" y="441"/>
                </a:lnTo>
                <a:lnTo>
                  <a:pt x="411" y="422"/>
                </a:lnTo>
                <a:lnTo>
                  <a:pt x="409" y="403"/>
                </a:lnTo>
                <a:lnTo>
                  <a:pt x="407" y="383"/>
                </a:lnTo>
                <a:lnTo>
                  <a:pt x="405" y="364"/>
                </a:lnTo>
                <a:lnTo>
                  <a:pt x="403" y="347"/>
                </a:lnTo>
                <a:lnTo>
                  <a:pt x="399" y="330"/>
                </a:lnTo>
                <a:lnTo>
                  <a:pt x="397" y="312"/>
                </a:lnTo>
                <a:lnTo>
                  <a:pt x="395" y="297"/>
                </a:lnTo>
                <a:lnTo>
                  <a:pt x="392" y="282"/>
                </a:lnTo>
                <a:lnTo>
                  <a:pt x="390" y="266"/>
                </a:lnTo>
                <a:lnTo>
                  <a:pt x="386" y="253"/>
                </a:lnTo>
                <a:lnTo>
                  <a:pt x="384" y="239"/>
                </a:lnTo>
                <a:lnTo>
                  <a:pt x="380" y="226"/>
                </a:lnTo>
                <a:lnTo>
                  <a:pt x="376" y="213"/>
                </a:lnTo>
                <a:lnTo>
                  <a:pt x="374" y="201"/>
                </a:lnTo>
                <a:lnTo>
                  <a:pt x="370" y="190"/>
                </a:lnTo>
                <a:lnTo>
                  <a:pt x="367" y="178"/>
                </a:lnTo>
                <a:lnTo>
                  <a:pt x="363" y="168"/>
                </a:lnTo>
                <a:lnTo>
                  <a:pt x="361" y="159"/>
                </a:lnTo>
                <a:lnTo>
                  <a:pt x="357" y="149"/>
                </a:lnTo>
                <a:lnTo>
                  <a:pt x="353" y="142"/>
                </a:lnTo>
                <a:lnTo>
                  <a:pt x="349" y="134"/>
                </a:lnTo>
                <a:lnTo>
                  <a:pt x="345" y="126"/>
                </a:lnTo>
                <a:lnTo>
                  <a:pt x="342" y="120"/>
                </a:lnTo>
                <a:lnTo>
                  <a:pt x="338" y="113"/>
                </a:lnTo>
                <a:lnTo>
                  <a:pt x="334" y="107"/>
                </a:lnTo>
                <a:lnTo>
                  <a:pt x="330" y="103"/>
                </a:lnTo>
                <a:lnTo>
                  <a:pt x="326" y="99"/>
                </a:lnTo>
                <a:lnTo>
                  <a:pt x="324" y="95"/>
                </a:lnTo>
                <a:lnTo>
                  <a:pt x="315" y="88"/>
                </a:lnTo>
                <a:lnTo>
                  <a:pt x="305" y="80"/>
                </a:lnTo>
                <a:lnTo>
                  <a:pt x="298" y="74"/>
                </a:lnTo>
                <a:lnTo>
                  <a:pt x="292" y="69"/>
                </a:lnTo>
                <a:lnTo>
                  <a:pt x="286" y="63"/>
                </a:lnTo>
                <a:lnTo>
                  <a:pt x="280" y="57"/>
                </a:lnTo>
                <a:lnTo>
                  <a:pt x="276" y="51"/>
                </a:lnTo>
                <a:lnTo>
                  <a:pt x="273" y="46"/>
                </a:lnTo>
                <a:lnTo>
                  <a:pt x="271" y="42"/>
                </a:lnTo>
                <a:lnTo>
                  <a:pt x="271" y="36"/>
                </a:lnTo>
                <a:lnTo>
                  <a:pt x="271" y="30"/>
                </a:lnTo>
                <a:lnTo>
                  <a:pt x="271" y="26"/>
                </a:lnTo>
                <a:lnTo>
                  <a:pt x="273" y="21"/>
                </a:lnTo>
                <a:lnTo>
                  <a:pt x="276" y="17"/>
                </a:lnTo>
                <a:lnTo>
                  <a:pt x="278" y="11"/>
                </a:lnTo>
                <a:lnTo>
                  <a:pt x="284" y="7"/>
                </a:lnTo>
                <a:lnTo>
                  <a:pt x="286" y="5"/>
                </a:lnTo>
                <a:lnTo>
                  <a:pt x="290" y="3"/>
                </a:lnTo>
                <a:lnTo>
                  <a:pt x="296" y="1"/>
                </a:lnTo>
                <a:lnTo>
                  <a:pt x="301" y="1"/>
                </a:lnTo>
                <a:lnTo>
                  <a:pt x="307" y="0"/>
                </a:lnTo>
                <a:lnTo>
                  <a:pt x="315" y="0"/>
                </a:lnTo>
                <a:lnTo>
                  <a:pt x="324" y="0"/>
                </a:lnTo>
                <a:lnTo>
                  <a:pt x="334" y="1"/>
                </a:lnTo>
                <a:lnTo>
                  <a:pt x="344" y="1"/>
                </a:lnTo>
                <a:lnTo>
                  <a:pt x="355" y="5"/>
                </a:lnTo>
                <a:lnTo>
                  <a:pt x="369" y="7"/>
                </a:lnTo>
                <a:lnTo>
                  <a:pt x="382" y="11"/>
                </a:lnTo>
                <a:lnTo>
                  <a:pt x="395" y="15"/>
                </a:lnTo>
                <a:lnTo>
                  <a:pt x="411" y="21"/>
                </a:lnTo>
                <a:lnTo>
                  <a:pt x="426" y="26"/>
                </a:lnTo>
                <a:lnTo>
                  <a:pt x="443" y="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66"/>
          <p:cNvSpPr/>
          <p:nvPr/>
        </p:nvSpPr>
        <p:spPr>
          <a:xfrm>
            <a:off x="7000920" y="3376440"/>
            <a:ext cx="198360" cy="898560"/>
          </a:xfrm>
          <a:custGeom>
            <a:avLst/>
            <a:gdLst/>
            <a:ahLst/>
            <a:rect l="l" t="t" r="r" b="b"/>
            <a:pathLst>
              <a:path w="249" h="1130">
                <a:moveTo>
                  <a:pt x="23" y="84"/>
                </a:moveTo>
                <a:lnTo>
                  <a:pt x="17" y="77"/>
                </a:lnTo>
                <a:lnTo>
                  <a:pt x="13" y="71"/>
                </a:lnTo>
                <a:lnTo>
                  <a:pt x="10" y="65"/>
                </a:lnTo>
                <a:lnTo>
                  <a:pt x="8" y="57"/>
                </a:lnTo>
                <a:lnTo>
                  <a:pt x="6" y="52"/>
                </a:lnTo>
                <a:lnTo>
                  <a:pt x="4" y="48"/>
                </a:lnTo>
                <a:lnTo>
                  <a:pt x="2" y="42"/>
                </a:lnTo>
                <a:lnTo>
                  <a:pt x="2" y="36"/>
                </a:lnTo>
                <a:lnTo>
                  <a:pt x="0" y="29"/>
                </a:lnTo>
                <a:lnTo>
                  <a:pt x="2" y="21"/>
                </a:lnTo>
                <a:lnTo>
                  <a:pt x="6" y="15"/>
                </a:lnTo>
                <a:lnTo>
                  <a:pt x="10" y="9"/>
                </a:lnTo>
                <a:lnTo>
                  <a:pt x="11" y="7"/>
                </a:lnTo>
                <a:lnTo>
                  <a:pt x="15" y="6"/>
                </a:lnTo>
                <a:lnTo>
                  <a:pt x="19" y="4"/>
                </a:lnTo>
                <a:lnTo>
                  <a:pt x="25" y="2"/>
                </a:lnTo>
                <a:lnTo>
                  <a:pt x="29" y="2"/>
                </a:lnTo>
                <a:lnTo>
                  <a:pt x="35" y="0"/>
                </a:lnTo>
                <a:lnTo>
                  <a:pt x="40" y="0"/>
                </a:lnTo>
                <a:lnTo>
                  <a:pt x="48" y="0"/>
                </a:lnTo>
                <a:lnTo>
                  <a:pt x="63" y="0"/>
                </a:lnTo>
                <a:lnTo>
                  <a:pt x="79" y="2"/>
                </a:lnTo>
                <a:lnTo>
                  <a:pt x="98" y="6"/>
                </a:lnTo>
                <a:lnTo>
                  <a:pt x="117" y="9"/>
                </a:lnTo>
                <a:lnTo>
                  <a:pt x="136" y="15"/>
                </a:lnTo>
                <a:lnTo>
                  <a:pt x="154" y="21"/>
                </a:lnTo>
                <a:lnTo>
                  <a:pt x="171" y="29"/>
                </a:lnTo>
                <a:lnTo>
                  <a:pt x="184" y="36"/>
                </a:lnTo>
                <a:lnTo>
                  <a:pt x="192" y="40"/>
                </a:lnTo>
                <a:lnTo>
                  <a:pt x="198" y="44"/>
                </a:lnTo>
                <a:lnTo>
                  <a:pt x="203" y="48"/>
                </a:lnTo>
                <a:lnTo>
                  <a:pt x="209" y="54"/>
                </a:lnTo>
                <a:lnTo>
                  <a:pt x="213" y="57"/>
                </a:lnTo>
                <a:lnTo>
                  <a:pt x="217" y="61"/>
                </a:lnTo>
                <a:lnTo>
                  <a:pt x="221" y="67"/>
                </a:lnTo>
                <a:lnTo>
                  <a:pt x="225" y="71"/>
                </a:lnTo>
                <a:lnTo>
                  <a:pt x="226" y="78"/>
                </a:lnTo>
                <a:lnTo>
                  <a:pt x="228" y="88"/>
                </a:lnTo>
                <a:lnTo>
                  <a:pt x="230" y="100"/>
                </a:lnTo>
                <a:lnTo>
                  <a:pt x="234" y="113"/>
                </a:lnTo>
                <a:lnTo>
                  <a:pt x="236" y="128"/>
                </a:lnTo>
                <a:lnTo>
                  <a:pt x="238" y="146"/>
                </a:lnTo>
                <a:lnTo>
                  <a:pt x="240" y="165"/>
                </a:lnTo>
                <a:lnTo>
                  <a:pt x="242" y="186"/>
                </a:lnTo>
                <a:lnTo>
                  <a:pt x="244" y="207"/>
                </a:lnTo>
                <a:lnTo>
                  <a:pt x="244" y="220"/>
                </a:lnTo>
                <a:lnTo>
                  <a:pt x="246" y="232"/>
                </a:lnTo>
                <a:lnTo>
                  <a:pt x="246" y="245"/>
                </a:lnTo>
                <a:lnTo>
                  <a:pt x="246" y="259"/>
                </a:lnTo>
                <a:lnTo>
                  <a:pt x="248" y="272"/>
                </a:lnTo>
                <a:lnTo>
                  <a:pt x="248" y="288"/>
                </a:lnTo>
                <a:lnTo>
                  <a:pt x="248" y="301"/>
                </a:lnTo>
                <a:lnTo>
                  <a:pt x="249" y="316"/>
                </a:lnTo>
                <a:lnTo>
                  <a:pt x="249" y="334"/>
                </a:lnTo>
                <a:lnTo>
                  <a:pt x="249" y="349"/>
                </a:lnTo>
                <a:lnTo>
                  <a:pt x="249" y="366"/>
                </a:lnTo>
                <a:lnTo>
                  <a:pt x="249" y="384"/>
                </a:lnTo>
                <a:lnTo>
                  <a:pt x="249" y="401"/>
                </a:lnTo>
                <a:lnTo>
                  <a:pt x="249" y="420"/>
                </a:lnTo>
                <a:lnTo>
                  <a:pt x="248" y="459"/>
                </a:lnTo>
                <a:lnTo>
                  <a:pt x="246" y="497"/>
                </a:lnTo>
                <a:lnTo>
                  <a:pt x="242" y="533"/>
                </a:lnTo>
                <a:lnTo>
                  <a:pt x="240" y="570"/>
                </a:lnTo>
                <a:lnTo>
                  <a:pt x="238" y="604"/>
                </a:lnTo>
                <a:lnTo>
                  <a:pt x="234" y="639"/>
                </a:lnTo>
                <a:lnTo>
                  <a:pt x="232" y="672"/>
                </a:lnTo>
                <a:lnTo>
                  <a:pt x="228" y="704"/>
                </a:lnTo>
                <a:lnTo>
                  <a:pt x="225" y="735"/>
                </a:lnTo>
                <a:lnTo>
                  <a:pt x="221" y="766"/>
                </a:lnTo>
                <a:lnTo>
                  <a:pt x="219" y="794"/>
                </a:lnTo>
                <a:lnTo>
                  <a:pt x="215" y="823"/>
                </a:lnTo>
                <a:lnTo>
                  <a:pt x="211" y="850"/>
                </a:lnTo>
                <a:lnTo>
                  <a:pt x="205" y="879"/>
                </a:lnTo>
                <a:lnTo>
                  <a:pt x="201" y="904"/>
                </a:lnTo>
                <a:lnTo>
                  <a:pt x="198" y="931"/>
                </a:lnTo>
                <a:lnTo>
                  <a:pt x="192" y="956"/>
                </a:lnTo>
                <a:lnTo>
                  <a:pt x="186" y="979"/>
                </a:lnTo>
                <a:lnTo>
                  <a:pt x="182" y="1000"/>
                </a:lnTo>
                <a:lnTo>
                  <a:pt x="177" y="1019"/>
                </a:lnTo>
                <a:lnTo>
                  <a:pt x="173" y="1038"/>
                </a:lnTo>
                <a:lnTo>
                  <a:pt x="167" y="1054"/>
                </a:lnTo>
                <a:lnTo>
                  <a:pt x="163" y="1069"/>
                </a:lnTo>
                <a:lnTo>
                  <a:pt x="157" y="1082"/>
                </a:lnTo>
                <a:lnTo>
                  <a:pt x="154" y="1094"/>
                </a:lnTo>
                <a:lnTo>
                  <a:pt x="150" y="1103"/>
                </a:lnTo>
                <a:lnTo>
                  <a:pt x="146" y="1111"/>
                </a:lnTo>
                <a:lnTo>
                  <a:pt x="142" y="1119"/>
                </a:lnTo>
                <a:lnTo>
                  <a:pt x="138" y="1123"/>
                </a:lnTo>
                <a:lnTo>
                  <a:pt x="134" y="1126"/>
                </a:lnTo>
                <a:lnTo>
                  <a:pt x="132" y="1128"/>
                </a:lnTo>
                <a:lnTo>
                  <a:pt x="130" y="1130"/>
                </a:lnTo>
                <a:lnTo>
                  <a:pt x="127" y="1130"/>
                </a:lnTo>
                <a:lnTo>
                  <a:pt x="125" y="1128"/>
                </a:lnTo>
                <a:lnTo>
                  <a:pt x="121" y="1126"/>
                </a:lnTo>
                <a:lnTo>
                  <a:pt x="117" y="1125"/>
                </a:lnTo>
                <a:lnTo>
                  <a:pt x="113" y="1123"/>
                </a:lnTo>
                <a:lnTo>
                  <a:pt x="109" y="1119"/>
                </a:lnTo>
                <a:lnTo>
                  <a:pt x="106" y="1115"/>
                </a:lnTo>
                <a:lnTo>
                  <a:pt x="102" y="1109"/>
                </a:lnTo>
                <a:lnTo>
                  <a:pt x="96" y="1103"/>
                </a:lnTo>
                <a:lnTo>
                  <a:pt x="92" y="1098"/>
                </a:lnTo>
                <a:lnTo>
                  <a:pt x="88" y="1090"/>
                </a:lnTo>
                <a:lnTo>
                  <a:pt x="82" y="1082"/>
                </a:lnTo>
                <a:lnTo>
                  <a:pt x="79" y="1075"/>
                </a:lnTo>
                <a:lnTo>
                  <a:pt x="73" y="1065"/>
                </a:lnTo>
                <a:lnTo>
                  <a:pt x="67" y="1054"/>
                </a:lnTo>
                <a:lnTo>
                  <a:pt x="63" y="1044"/>
                </a:lnTo>
                <a:lnTo>
                  <a:pt x="58" y="1031"/>
                </a:lnTo>
                <a:lnTo>
                  <a:pt x="54" y="1019"/>
                </a:lnTo>
                <a:lnTo>
                  <a:pt x="50" y="1007"/>
                </a:lnTo>
                <a:lnTo>
                  <a:pt x="48" y="996"/>
                </a:lnTo>
                <a:lnTo>
                  <a:pt x="46" y="984"/>
                </a:lnTo>
                <a:lnTo>
                  <a:pt x="44" y="971"/>
                </a:lnTo>
                <a:lnTo>
                  <a:pt x="42" y="959"/>
                </a:lnTo>
                <a:lnTo>
                  <a:pt x="42" y="946"/>
                </a:lnTo>
                <a:lnTo>
                  <a:pt x="40" y="919"/>
                </a:lnTo>
                <a:lnTo>
                  <a:pt x="42" y="892"/>
                </a:lnTo>
                <a:lnTo>
                  <a:pt x="44" y="877"/>
                </a:lnTo>
                <a:lnTo>
                  <a:pt x="46" y="862"/>
                </a:lnTo>
                <a:lnTo>
                  <a:pt x="48" y="846"/>
                </a:lnTo>
                <a:lnTo>
                  <a:pt x="50" y="831"/>
                </a:lnTo>
                <a:lnTo>
                  <a:pt x="52" y="816"/>
                </a:lnTo>
                <a:lnTo>
                  <a:pt x="54" y="800"/>
                </a:lnTo>
                <a:lnTo>
                  <a:pt x="56" y="783"/>
                </a:lnTo>
                <a:lnTo>
                  <a:pt x="58" y="764"/>
                </a:lnTo>
                <a:lnTo>
                  <a:pt x="58" y="743"/>
                </a:lnTo>
                <a:lnTo>
                  <a:pt x="59" y="721"/>
                </a:lnTo>
                <a:lnTo>
                  <a:pt x="59" y="697"/>
                </a:lnTo>
                <a:lnTo>
                  <a:pt x="61" y="672"/>
                </a:lnTo>
                <a:lnTo>
                  <a:pt x="61" y="647"/>
                </a:lnTo>
                <a:lnTo>
                  <a:pt x="61" y="618"/>
                </a:lnTo>
                <a:lnTo>
                  <a:pt x="63" y="589"/>
                </a:lnTo>
                <a:lnTo>
                  <a:pt x="63" y="558"/>
                </a:lnTo>
                <a:lnTo>
                  <a:pt x="63" y="526"/>
                </a:lnTo>
                <a:lnTo>
                  <a:pt x="63" y="491"/>
                </a:lnTo>
                <a:lnTo>
                  <a:pt x="63" y="457"/>
                </a:lnTo>
                <a:lnTo>
                  <a:pt x="63" y="420"/>
                </a:lnTo>
                <a:lnTo>
                  <a:pt x="63" y="386"/>
                </a:lnTo>
                <a:lnTo>
                  <a:pt x="61" y="353"/>
                </a:lnTo>
                <a:lnTo>
                  <a:pt x="61" y="322"/>
                </a:lnTo>
                <a:lnTo>
                  <a:pt x="59" y="293"/>
                </a:lnTo>
                <a:lnTo>
                  <a:pt x="59" y="267"/>
                </a:lnTo>
                <a:lnTo>
                  <a:pt x="58" y="242"/>
                </a:lnTo>
                <a:lnTo>
                  <a:pt x="56" y="219"/>
                </a:lnTo>
                <a:lnTo>
                  <a:pt x="52" y="196"/>
                </a:lnTo>
                <a:lnTo>
                  <a:pt x="50" y="176"/>
                </a:lnTo>
                <a:lnTo>
                  <a:pt x="46" y="157"/>
                </a:lnTo>
                <a:lnTo>
                  <a:pt x="44" y="142"/>
                </a:lnTo>
                <a:lnTo>
                  <a:pt x="40" y="126"/>
                </a:lnTo>
                <a:lnTo>
                  <a:pt x="36" y="113"/>
                </a:lnTo>
                <a:lnTo>
                  <a:pt x="33" y="101"/>
                </a:lnTo>
                <a:lnTo>
                  <a:pt x="27" y="92"/>
                </a:lnTo>
                <a:lnTo>
                  <a:pt x="23" y="8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68"/>
          <p:cNvSpPr/>
          <p:nvPr/>
        </p:nvSpPr>
        <p:spPr>
          <a:xfrm>
            <a:off x="5872320" y="3602160"/>
            <a:ext cx="814320" cy="247680"/>
          </a:xfrm>
          <a:custGeom>
            <a:avLst/>
            <a:gdLst/>
            <a:ahLst/>
            <a:rect l="l" t="t" r="r" b="b"/>
            <a:pathLst>
              <a:path w="1027" h="311">
                <a:moveTo>
                  <a:pt x="53" y="272"/>
                </a:moveTo>
                <a:lnTo>
                  <a:pt x="44" y="269"/>
                </a:lnTo>
                <a:lnTo>
                  <a:pt x="36" y="263"/>
                </a:lnTo>
                <a:lnTo>
                  <a:pt x="28" y="259"/>
                </a:lnTo>
                <a:lnTo>
                  <a:pt x="21" y="255"/>
                </a:lnTo>
                <a:lnTo>
                  <a:pt x="15" y="249"/>
                </a:lnTo>
                <a:lnTo>
                  <a:pt x="11" y="246"/>
                </a:lnTo>
                <a:lnTo>
                  <a:pt x="7" y="242"/>
                </a:lnTo>
                <a:lnTo>
                  <a:pt x="4" y="238"/>
                </a:lnTo>
                <a:lnTo>
                  <a:pt x="2" y="234"/>
                </a:lnTo>
                <a:lnTo>
                  <a:pt x="0" y="230"/>
                </a:lnTo>
                <a:lnTo>
                  <a:pt x="0" y="226"/>
                </a:lnTo>
                <a:lnTo>
                  <a:pt x="2" y="222"/>
                </a:lnTo>
                <a:lnTo>
                  <a:pt x="4" y="219"/>
                </a:lnTo>
                <a:lnTo>
                  <a:pt x="5" y="217"/>
                </a:lnTo>
                <a:lnTo>
                  <a:pt x="9" y="213"/>
                </a:lnTo>
                <a:lnTo>
                  <a:pt x="13" y="211"/>
                </a:lnTo>
                <a:lnTo>
                  <a:pt x="15" y="209"/>
                </a:lnTo>
                <a:lnTo>
                  <a:pt x="17" y="209"/>
                </a:lnTo>
                <a:lnTo>
                  <a:pt x="21" y="207"/>
                </a:lnTo>
                <a:lnTo>
                  <a:pt x="25" y="205"/>
                </a:lnTo>
                <a:lnTo>
                  <a:pt x="30" y="203"/>
                </a:lnTo>
                <a:lnTo>
                  <a:pt x="36" y="201"/>
                </a:lnTo>
                <a:lnTo>
                  <a:pt x="44" y="199"/>
                </a:lnTo>
                <a:lnTo>
                  <a:pt x="51" y="198"/>
                </a:lnTo>
                <a:lnTo>
                  <a:pt x="59" y="194"/>
                </a:lnTo>
                <a:lnTo>
                  <a:pt x="69" y="192"/>
                </a:lnTo>
                <a:lnTo>
                  <a:pt x="78" y="190"/>
                </a:lnTo>
                <a:lnTo>
                  <a:pt x="90" y="186"/>
                </a:lnTo>
                <a:lnTo>
                  <a:pt x="101" y="184"/>
                </a:lnTo>
                <a:lnTo>
                  <a:pt x="113" y="180"/>
                </a:lnTo>
                <a:lnTo>
                  <a:pt x="126" y="176"/>
                </a:lnTo>
                <a:lnTo>
                  <a:pt x="142" y="175"/>
                </a:lnTo>
                <a:lnTo>
                  <a:pt x="155" y="171"/>
                </a:lnTo>
                <a:lnTo>
                  <a:pt x="170" y="167"/>
                </a:lnTo>
                <a:lnTo>
                  <a:pt x="188" y="163"/>
                </a:lnTo>
                <a:lnTo>
                  <a:pt x="205" y="159"/>
                </a:lnTo>
                <a:lnTo>
                  <a:pt x="222" y="155"/>
                </a:lnTo>
                <a:lnTo>
                  <a:pt x="242" y="150"/>
                </a:lnTo>
                <a:lnTo>
                  <a:pt x="261" y="146"/>
                </a:lnTo>
                <a:lnTo>
                  <a:pt x="282" y="142"/>
                </a:lnTo>
                <a:lnTo>
                  <a:pt x="301" y="136"/>
                </a:lnTo>
                <a:lnTo>
                  <a:pt x="324" y="132"/>
                </a:lnTo>
                <a:lnTo>
                  <a:pt x="345" y="127"/>
                </a:lnTo>
                <a:lnTo>
                  <a:pt x="368" y="121"/>
                </a:lnTo>
                <a:lnTo>
                  <a:pt x="393" y="115"/>
                </a:lnTo>
                <a:lnTo>
                  <a:pt x="418" y="111"/>
                </a:lnTo>
                <a:lnTo>
                  <a:pt x="443" y="105"/>
                </a:lnTo>
                <a:lnTo>
                  <a:pt x="468" y="100"/>
                </a:lnTo>
                <a:lnTo>
                  <a:pt x="495" y="92"/>
                </a:lnTo>
                <a:lnTo>
                  <a:pt x="520" y="86"/>
                </a:lnTo>
                <a:lnTo>
                  <a:pt x="545" y="82"/>
                </a:lnTo>
                <a:lnTo>
                  <a:pt x="568" y="77"/>
                </a:lnTo>
                <a:lnTo>
                  <a:pt x="591" y="71"/>
                </a:lnTo>
                <a:lnTo>
                  <a:pt x="614" y="65"/>
                </a:lnTo>
                <a:lnTo>
                  <a:pt x="635" y="61"/>
                </a:lnTo>
                <a:lnTo>
                  <a:pt x="656" y="56"/>
                </a:lnTo>
                <a:lnTo>
                  <a:pt x="677" y="52"/>
                </a:lnTo>
                <a:lnTo>
                  <a:pt x="696" y="48"/>
                </a:lnTo>
                <a:lnTo>
                  <a:pt x="714" y="44"/>
                </a:lnTo>
                <a:lnTo>
                  <a:pt x="733" y="40"/>
                </a:lnTo>
                <a:lnTo>
                  <a:pt x="750" y="36"/>
                </a:lnTo>
                <a:lnTo>
                  <a:pt x="767" y="32"/>
                </a:lnTo>
                <a:lnTo>
                  <a:pt x="783" y="29"/>
                </a:lnTo>
                <a:lnTo>
                  <a:pt x="798" y="25"/>
                </a:lnTo>
                <a:lnTo>
                  <a:pt x="812" y="23"/>
                </a:lnTo>
                <a:lnTo>
                  <a:pt x="825" y="19"/>
                </a:lnTo>
                <a:lnTo>
                  <a:pt x="838" y="17"/>
                </a:lnTo>
                <a:lnTo>
                  <a:pt x="850" y="13"/>
                </a:lnTo>
                <a:lnTo>
                  <a:pt x="861" y="11"/>
                </a:lnTo>
                <a:lnTo>
                  <a:pt x="873" y="9"/>
                </a:lnTo>
                <a:lnTo>
                  <a:pt x="883" y="8"/>
                </a:lnTo>
                <a:lnTo>
                  <a:pt x="892" y="6"/>
                </a:lnTo>
                <a:lnTo>
                  <a:pt x="900" y="4"/>
                </a:lnTo>
                <a:lnTo>
                  <a:pt x="908" y="2"/>
                </a:lnTo>
                <a:lnTo>
                  <a:pt x="913" y="2"/>
                </a:lnTo>
                <a:lnTo>
                  <a:pt x="921" y="0"/>
                </a:lnTo>
                <a:lnTo>
                  <a:pt x="925" y="0"/>
                </a:lnTo>
                <a:lnTo>
                  <a:pt x="931" y="0"/>
                </a:lnTo>
                <a:lnTo>
                  <a:pt x="934" y="0"/>
                </a:lnTo>
                <a:lnTo>
                  <a:pt x="936" y="0"/>
                </a:lnTo>
                <a:lnTo>
                  <a:pt x="946" y="0"/>
                </a:lnTo>
                <a:lnTo>
                  <a:pt x="957" y="2"/>
                </a:lnTo>
                <a:lnTo>
                  <a:pt x="967" y="4"/>
                </a:lnTo>
                <a:lnTo>
                  <a:pt x="977" y="8"/>
                </a:lnTo>
                <a:lnTo>
                  <a:pt x="986" y="13"/>
                </a:lnTo>
                <a:lnTo>
                  <a:pt x="996" y="19"/>
                </a:lnTo>
                <a:lnTo>
                  <a:pt x="1007" y="27"/>
                </a:lnTo>
                <a:lnTo>
                  <a:pt x="1017" y="36"/>
                </a:lnTo>
                <a:lnTo>
                  <a:pt x="1021" y="46"/>
                </a:lnTo>
                <a:lnTo>
                  <a:pt x="1025" y="56"/>
                </a:lnTo>
                <a:lnTo>
                  <a:pt x="1027" y="65"/>
                </a:lnTo>
                <a:lnTo>
                  <a:pt x="1027" y="75"/>
                </a:lnTo>
                <a:lnTo>
                  <a:pt x="1027" y="82"/>
                </a:lnTo>
                <a:lnTo>
                  <a:pt x="1025" y="92"/>
                </a:lnTo>
                <a:lnTo>
                  <a:pt x="1021" y="102"/>
                </a:lnTo>
                <a:lnTo>
                  <a:pt x="1017" y="111"/>
                </a:lnTo>
                <a:lnTo>
                  <a:pt x="1007" y="121"/>
                </a:lnTo>
                <a:lnTo>
                  <a:pt x="996" y="128"/>
                </a:lnTo>
                <a:lnTo>
                  <a:pt x="986" y="134"/>
                </a:lnTo>
                <a:lnTo>
                  <a:pt x="975" y="140"/>
                </a:lnTo>
                <a:lnTo>
                  <a:pt x="963" y="146"/>
                </a:lnTo>
                <a:lnTo>
                  <a:pt x="952" y="151"/>
                </a:lnTo>
                <a:lnTo>
                  <a:pt x="938" y="155"/>
                </a:lnTo>
                <a:lnTo>
                  <a:pt x="923" y="161"/>
                </a:lnTo>
                <a:lnTo>
                  <a:pt x="915" y="163"/>
                </a:lnTo>
                <a:lnTo>
                  <a:pt x="909" y="165"/>
                </a:lnTo>
                <a:lnTo>
                  <a:pt x="904" y="167"/>
                </a:lnTo>
                <a:lnTo>
                  <a:pt x="898" y="169"/>
                </a:lnTo>
                <a:lnTo>
                  <a:pt x="892" y="169"/>
                </a:lnTo>
                <a:lnTo>
                  <a:pt x="885" y="171"/>
                </a:lnTo>
                <a:lnTo>
                  <a:pt x="877" y="173"/>
                </a:lnTo>
                <a:lnTo>
                  <a:pt x="869" y="175"/>
                </a:lnTo>
                <a:lnTo>
                  <a:pt x="861" y="176"/>
                </a:lnTo>
                <a:lnTo>
                  <a:pt x="852" y="178"/>
                </a:lnTo>
                <a:lnTo>
                  <a:pt x="844" y="180"/>
                </a:lnTo>
                <a:lnTo>
                  <a:pt x="833" y="182"/>
                </a:lnTo>
                <a:lnTo>
                  <a:pt x="823" y="184"/>
                </a:lnTo>
                <a:lnTo>
                  <a:pt x="812" y="186"/>
                </a:lnTo>
                <a:lnTo>
                  <a:pt x="802" y="188"/>
                </a:lnTo>
                <a:lnTo>
                  <a:pt x="789" y="192"/>
                </a:lnTo>
                <a:lnTo>
                  <a:pt x="777" y="194"/>
                </a:lnTo>
                <a:lnTo>
                  <a:pt x="764" y="196"/>
                </a:lnTo>
                <a:lnTo>
                  <a:pt x="750" y="199"/>
                </a:lnTo>
                <a:lnTo>
                  <a:pt x="737" y="201"/>
                </a:lnTo>
                <a:lnTo>
                  <a:pt x="721" y="203"/>
                </a:lnTo>
                <a:lnTo>
                  <a:pt x="708" y="207"/>
                </a:lnTo>
                <a:lnTo>
                  <a:pt x="693" y="209"/>
                </a:lnTo>
                <a:lnTo>
                  <a:pt x="675" y="213"/>
                </a:lnTo>
                <a:lnTo>
                  <a:pt x="660" y="217"/>
                </a:lnTo>
                <a:lnTo>
                  <a:pt x="643" y="219"/>
                </a:lnTo>
                <a:lnTo>
                  <a:pt x="625" y="222"/>
                </a:lnTo>
                <a:lnTo>
                  <a:pt x="606" y="226"/>
                </a:lnTo>
                <a:lnTo>
                  <a:pt x="587" y="228"/>
                </a:lnTo>
                <a:lnTo>
                  <a:pt x="568" y="232"/>
                </a:lnTo>
                <a:lnTo>
                  <a:pt x="549" y="236"/>
                </a:lnTo>
                <a:lnTo>
                  <a:pt x="529" y="240"/>
                </a:lnTo>
                <a:lnTo>
                  <a:pt x="510" y="246"/>
                </a:lnTo>
                <a:lnTo>
                  <a:pt x="491" y="249"/>
                </a:lnTo>
                <a:lnTo>
                  <a:pt x="472" y="253"/>
                </a:lnTo>
                <a:lnTo>
                  <a:pt x="455" y="257"/>
                </a:lnTo>
                <a:lnTo>
                  <a:pt x="437" y="261"/>
                </a:lnTo>
                <a:lnTo>
                  <a:pt x="422" y="265"/>
                </a:lnTo>
                <a:lnTo>
                  <a:pt x="407" y="269"/>
                </a:lnTo>
                <a:lnTo>
                  <a:pt x="391" y="272"/>
                </a:lnTo>
                <a:lnTo>
                  <a:pt x="376" y="276"/>
                </a:lnTo>
                <a:lnTo>
                  <a:pt x="361" y="278"/>
                </a:lnTo>
                <a:lnTo>
                  <a:pt x="347" y="282"/>
                </a:lnTo>
                <a:lnTo>
                  <a:pt x="334" y="284"/>
                </a:lnTo>
                <a:lnTo>
                  <a:pt x="322" y="288"/>
                </a:lnTo>
                <a:lnTo>
                  <a:pt x="309" y="290"/>
                </a:lnTo>
                <a:lnTo>
                  <a:pt x="297" y="292"/>
                </a:lnTo>
                <a:lnTo>
                  <a:pt x="288" y="294"/>
                </a:lnTo>
                <a:lnTo>
                  <a:pt x="276" y="295"/>
                </a:lnTo>
                <a:lnTo>
                  <a:pt x="266" y="297"/>
                </a:lnTo>
                <a:lnTo>
                  <a:pt x="257" y="299"/>
                </a:lnTo>
                <a:lnTo>
                  <a:pt x="247" y="301"/>
                </a:lnTo>
                <a:lnTo>
                  <a:pt x="240" y="303"/>
                </a:lnTo>
                <a:lnTo>
                  <a:pt x="232" y="305"/>
                </a:lnTo>
                <a:lnTo>
                  <a:pt x="224" y="305"/>
                </a:lnTo>
                <a:lnTo>
                  <a:pt x="218" y="307"/>
                </a:lnTo>
                <a:lnTo>
                  <a:pt x="213" y="307"/>
                </a:lnTo>
                <a:lnTo>
                  <a:pt x="207" y="309"/>
                </a:lnTo>
                <a:lnTo>
                  <a:pt x="201" y="309"/>
                </a:lnTo>
                <a:lnTo>
                  <a:pt x="197" y="309"/>
                </a:lnTo>
                <a:lnTo>
                  <a:pt x="194" y="311"/>
                </a:lnTo>
                <a:lnTo>
                  <a:pt x="190" y="311"/>
                </a:lnTo>
                <a:lnTo>
                  <a:pt x="188" y="311"/>
                </a:lnTo>
                <a:lnTo>
                  <a:pt x="176" y="309"/>
                </a:lnTo>
                <a:lnTo>
                  <a:pt x="165" y="309"/>
                </a:lnTo>
                <a:lnTo>
                  <a:pt x="151" y="305"/>
                </a:lnTo>
                <a:lnTo>
                  <a:pt x="136" y="301"/>
                </a:lnTo>
                <a:lnTo>
                  <a:pt x="128" y="299"/>
                </a:lnTo>
                <a:lnTo>
                  <a:pt x="119" y="295"/>
                </a:lnTo>
                <a:lnTo>
                  <a:pt x="109" y="294"/>
                </a:lnTo>
                <a:lnTo>
                  <a:pt x="99" y="290"/>
                </a:lnTo>
                <a:lnTo>
                  <a:pt x="88" y="286"/>
                </a:lnTo>
                <a:lnTo>
                  <a:pt x="78" y="282"/>
                </a:lnTo>
                <a:lnTo>
                  <a:pt x="67" y="278"/>
                </a:lnTo>
                <a:lnTo>
                  <a:pt x="53" y="27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reeform 69"/>
          <p:cNvSpPr/>
          <p:nvPr/>
        </p:nvSpPr>
        <p:spPr>
          <a:xfrm>
            <a:off x="5791320" y="2814480"/>
            <a:ext cx="630000" cy="2252880"/>
          </a:xfrm>
          <a:custGeom>
            <a:avLst/>
            <a:gdLst/>
            <a:ahLst/>
            <a:rect l="l" t="t" r="r" b="b"/>
            <a:pathLst>
              <a:path w="795" h="2837">
                <a:moveTo>
                  <a:pt x="451" y="2375"/>
                </a:moveTo>
                <a:lnTo>
                  <a:pt x="416" y="2425"/>
                </a:lnTo>
                <a:lnTo>
                  <a:pt x="382" y="2475"/>
                </a:lnTo>
                <a:lnTo>
                  <a:pt x="367" y="2498"/>
                </a:lnTo>
                <a:lnTo>
                  <a:pt x="349" y="2523"/>
                </a:lnTo>
                <a:lnTo>
                  <a:pt x="332" y="2546"/>
                </a:lnTo>
                <a:lnTo>
                  <a:pt x="317" y="2567"/>
                </a:lnTo>
                <a:lnTo>
                  <a:pt x="299" y="2590"/>
                </a:lnTo>
                <a:lnTo>
                  <a:pt x="284" y="2611"/>
                </a:lnTo>
                <a:lnTo>
                  <a:pt x="267" y="2630"/>
                </a:lnTo>
                <a:lnTo>
                  <a:pt x="249" y="2651"/>
                </a:lnTo>
                <a:lnTo>
                  <a:pt x="234" y="2670"/>
                </a:lnTo>
                <a:lnTo>
                  <a:pt x="217" y="2688"/>
                </a:lnTo>
                <a:lnTo>
                  <a:pt x="200" y="2707"/>
                </a:lnTo>
                <a:lnTo>
                  <a:pt x="182" y="2724"/>
                </a:lnTo>
                <a:lnTo>
                  <a:pt x="165" y="2740"/>
                </a:lnTo>
                <a:lnTo>
                  <a:pt x="150" y="2753"/>
                </a:lnTo>
                <a:lnTo>
                  <a:pt x="132" y="2766"/>
                </a:lnTo>
                <a:lnTo>
                  <a:pt x="119" y="2780"/>
                </a:lnTo>
                <a:lnTo>
                  <a:pt x="104" y="2791"/>
                </a:lnTo>
                <a:lnTo>
                  <a:pt x="90" y="2801"/>
                </a:lnTo>
                <a:lnTo>
                  <a:pt x="77" y="2809"/>
                </a:lnTo>
                <a:lnTo>
                  <a:pt x="65" y="2816"/>
                </a:lnTo>
                <a:lnTo>
                  <a:pt x="56" y="2824"/>
                </a:lnTo>
                <a:lnTo>
                  <a:pt x="46" y="2828"/>
                </a:lnTo>
                <a:lnTo>
                  <a:pt x="36" y="2832"/>
                </a:lnTo>
                <a:lnTo>
                  <a:pt x="29" y="2836"/>
                </a:lnTo>
                <a:lnTo>
                  <a:pt x="21" y="2837"/>
                </a:lnTo>
                <a:lnTo>
                  <a:pt x="15" y="2837"/>
                </a:lnTo>
                <a:lnTo>
                  <a:pt x="11" y="2837"/>
                </a:lnTo>
                <a:lnTo>
                  <a:pt x="10" y="2836"/>
                </a:lnTo>
                <a:lnTo>
                  <a:pt x="4" y="2832"/>
                </a:lnTo>
                <a:lnTo>
                  <a:pt x="2" y="2828"/>
                </a:lnTo>
                <a:lnTo>
                  <a:pt x="0" y="2822"/>
                </a:lnTo>
                <a:lnTo>
                  <a:pt x="2" y="2816"/>
                </a:lnTo>
                <a:lnTo>
                  <a:pt x="4" y="2809"/>
                </a:lnTo>
                <a:lnTo>
                  <a:pt x="6" y="2801"/>
                </a:lnTo>
                <a:lnTo>
                  <a:pt x="11" y="2791"/>
                </a:lnTo>
                <a:lnTo>
                  <a:pt x="17" y="2780"/>
                </a:lnTo>
                <a:lnTo>
                  <a:pt x="25" y="2766"/>
                </a:lnTo>
                <a:lnTo>
                  <a:pt x="34" y="2755"/>
                </a:lnTo>
                <a:lnTo>
                  <a:pt x="44" y="2740"/>
                </a:lnTo>
                <a:lnTo>
                  <a:pt x="56" y="2724"/>
                </a:lnTo>
                <a:lnTo>
                  <a:pt x="69" y="2707"/>
                </a:lnTo>
                <a:lnTo>
                  <a:pt x="82" y="2688"/>
                </a:lnTo>
                <a:lnTo>
                  <a:pt x="100" y="2669"/>
                </a:lnTo>
                <a:lnTo>
                  <a:pt x="115" y="2649"/>
                </a:lnTo>
                <a:lnTo>
                  <a:pt x="132" y="2626"/>
                </a:lnTo>
                <a:lnTo>
                  <a:pt x="150" y="2605"/>
                </a:lnTo>
                <a:lnTo>
                  <a:pt x="167" y="2582"/>
                </a:lnTo>
                <a:lnTo>
                  <a:pt x="182" y="2557"/>
                </a:lnTo>
                <a:lnTo>
                  <a:pt x="200" y="2532"/>
                </a:lnTo>
                <a:lnTo>
                  <a:pt x="215" y="2507"/>
                </a:lnTo>
                <a:lnTo>
                  <a:pt x="230" y="2482"/>
                </a:lnTo>
                <a:lnTo>
                  <a:pt x="246" y="2455"/>
                </a:lnTo>
                <a:lnTo>
                  <a:pt x="261" y="2429"/>
                </a:lnTo>
                <a:lnTo>
                  <a:pt x="276" y="2400"/>
                </a:lnTo>
                <a:lnTo>
                  <a:pt x="290" y="2373"/>
                </a:lnTo>
                <a:lnTo>
                  <a:pt x="303" y="2344"/>
                </a:lnTo>
                <a:lnTo>
                  <a:pt x="332" y="2285"/>
                </a:lnTo>
                <a:lnTo>
                  <a:pt x="357" y="2225"/>
                </a:lnTo>
                <a:lnTo>
                  <a:pt x="380" y="2164"/>
                </a:lnTo>
                <a:lnTo>
                  <a:pt x="403" y="2102"/>
                </a:lnTo>
                <a:lnTo>
                  <a:pt x="426" y="2039"/>
                </a:lnTo>
                <a:lnTo>
                  <a:pt x="447" y="1976"/>
                </a:lnTo>
                <a:lnTo>
                  <a:pt x="466" y="1912"/>
                </a:lnTo>
                <a:lnTo>
                  <a:pt x="484" y="1851"/>
                </a:lnTo>
                <a:lnTo>
                  <a:pt x="501" y="1787"/>
                </a:lnTo>
                <a:lnTo>
                  <a:pt x="516" y="1728"/>
                </a:lnTo>
                <a:lnTo>
                  <a:pt x="520" y="1711"/>
                </a:lnTo>
                <a:lnTo>
                  <a:pt x="524" y="1695"/>
                </a:lnTo>
                <a:lnTo>
                  <a:pt x="528" y="1678"/>
                </a:lnTo>
                <a:lnTo>
                  <a:pt x="530" y="1659"/>
                </a:lnTo>
                <a:lnTo>
                  <a:pt x="534" y="1640"/>
                </a:lnTo>
                <a:lnTo>
                  <a:pt x="535" y="1621"/>
                </a:lnTo>
                <a:lnTo>
                  <a:pt x="539" y="1599"/>
                </a:lnTo>
                <a:lnTo>
                  <a:pt x="541" y="1578"/>
                </a:lnTo>
                <a:lnTo>
                  <a:pt x="545" y="1555"/>
                </a:lnTo>
                <a:lnTo>
                  <a:pt x="547" y="1532"/>
                </a:lnTo>
                <a:lnTo>
                  <a:pt x="549" y="1507"/>
                </a:lnTo>
                <a:lnTo>
                  <a:pt x="551" y="1482"/>
                </a:lnTo>
                <a:lnTo>
                  <a:pt x="553" y="1455"/>
                </a:lnTo>
                <a:lnTo>
                  <a:pt x="555" y="1429"/>
                </a:lnTo>
                <a:lnTo>
                  <a:pt x="557" y="1400"/>
                </a:lnTo>
                <a:lnTo>
                  <a:pt x="558" y="1371"/>
                </a:lnTo>
                <a:lnTo>
                  <a:pt x="560" y="1342"/>
                </a:lnTo>
                <a:lnTo>
                  <a:pt x="562" y="1311"/>
                </a:lnTo>
                <a:lnTo>
                  <a:pt x="562" y="1281"/>
                </a:lnTo>
                <a:lnTo>
                  <a:pt x="564" y="1248"/>
                </a:lnTo>
                <a:lnTo>
                  <a:pt x="564" y="1215"/>
                </a:lnTo>
                <a:lnTo>
                  <a:pt x="566" y="1181"/>
                </a:lnTo>
                <a:lnTo>
                  <a:pt x="566" y="1146"/>
                </a:lnTo>
                <a:lnTo>
                  <a:pt x="568" y="1110"/>
                </a:lnTo>
                <a:lnTo>
                  <a:pt x="568" y="1073"/>
                </a:lnTo>
                <a:lnTo>
                  <a:pt x="568" y="1037"/>
                </a:lnTo>
                <a:lnTo>
                  <a:pt x="570" y="999"/>
                </a:lnTo>
                <a:lnTo>
                  <a:pt x="570" y="958"/>
                </a:lnTo>
                <a:lnTo>
                  <a:pt x="570" y="918"/>
                </a:lnTo>
                <a:lnTo>
                  <a:pt x="570" y="878"/>
                </a:lnTo>
                <a:lnTo>
                  <a:pt x="570" y="835"/>
                </a:lnTo>
                <a:lnTo>
                  <a:pt x="570" y="793"/>
                </a:lnTo>
                <a:lnTo>
                  <a:pt x="570" y="751"/>
                </a:lnTo>
                <a:lnTo>
                  <a:pt x="570" y="709"/>
                </a:lnTo>
                <a:lnTo>
                  <a:pt x="570" y="668"/>
                </a:lnTo>
                <a:lnTo>
                  <a:pt x="570" y="630"/>
                </a:lnTo>
                <a:lnTo>
                  <a:pt x="568" y="594"/>
                </a:lnTo>
                <a:lnTo>
                  <a:pt x="568" y="557"/>
                </a:lnTo>
                <a:lnTo>
                  <a:pt x="566" y="523"/>
                </a:lnTo>
                <a:lnTo>
                  <a:pt x="566" y="490"/>
                </a:lnTo>
                <a:lnTo>
                  <a:pt x="564" y="457"/>
                </a:lnTo>
                <a:lnTo>
                  <a:pt x="562" y="427"/>
                </a:lnTo>
                <a:lnTo>
                  <a:pt x="562" y="398"/>
                </a:lnTo>
                <a:lnTo>
                  <a:pt x="560" y="369"/>
                </a:lnTo>
                <a:lnTo>
                  <a:pt x="558" y="342"/>
                </a:lnTo>
                <a:lnTo>
                  <a:pt x="557" y="317"/>
                </a:lnTo>
                <a:lnTo>
                  <a:pt x="555" y="292"/>
                </a:lnTo>
                <a:lnTo>
                  <a:pt x="553" y="269"/>
                </a:lnTo>
                <a:lnTo>
                  <a:pt x="549" y="248"/>
                </a:lnTo>
                <a:lnTo>
                  <a:pt x="547" y="229"/>
                </a:lnTo>
                <a:lnTo>
                  <a:pt x="545" y="210"/>
                </a:lnTo>
                <a:lnTo>
                  <a:pt x="543" y="192"/>
                </a:lnTo>
                <a:lnTo>
                  <a:pt x="539" y="175"/>
                </a:lnTo>
                <a:lnTo>
                  <a:pt x="537" y="160"/>
                </a:lnTo>
                <a:lnTo>
                  <a:pt x="534" y="146"/>
                </a:lnTo>
                <a:lnTo>
                  <a:pt x="532" y="135"/>
                </a:lnTo>
                <a:lnTo>
                  <a:pt x="528" y="123"/>
                </a:lnTo>
                <a:lnTo>
                  <a:pt x="524" y="114"/>
                </a:lnTo>
                <a:lnTo>
                  <a:pt x="522" y="106"/>
                </a:lnTo>
                <a:lnTo>
                  <a:pt x="518" y="98"/>
                </a:lnTo>
                <a:lnTo>
                  <a:pt x="514" y="93"/>
                </a:lnTo>
                <a:lnTo>
                  <a:pt x="511" y="89"/>
                </a:lnTo>
                <a:lnTo>
                  <a:pt x="507" y="85"/>
                </a:lnTo>
                <a:lnTo>
                  <a:pt x="503" y="83"/>
                </a:lnTo>
                <a:lnTo>
                  <a:pt x="493" y="81"/>
                </a:lnTo>
                <a:lnTo>
                  <a:pt x="486" y="77"/>
                </a:lnTo>
                <a:lnTo>
                  <a:pt x="478" y="75"/>
                </a:lnTo>
                <a:lnTo>
                  <a:pt x="470" y="71"/>
                </a:lnTo>
                <a:lnTo>
                  <a:pt x="464" y="68"/>
                </a:lnTo>
                <a:lnTo>
                  <a:pt x="459" y="64"/>
                </a:lnTo>
                <a:lnTo>
                  <a:pt x="455" y="60"/>
                </a:lnTo>
                <a:lnTo>
                  <a:pt x="451" y="56"/>
                </a:lnTo>
                <a:lnTo>
                  <a:pt x="449" y="52"/>
                </a:lnTo>
                <a:lnTo>
                  <a:pt x="447" y="48"/>
                </a:lnTo>
                <a:lnTo>
                  <a:pt x="445" y="45"/>
                </a:lnTo>
                <a:lnTo>
                  <a:pt x="445" y="39"/>
                </a:lnTo>
                <a:lnTo>
                  <a:pt x="445" y="35"/>
                </a:lnTo>
                <a:lnTo>
                  <a:pt x="447" y="29"/>
                </a:lnTo>
                <a:lnTo>
                  <a:pt x="447" y="25"/>
                </a:lnTo>
                <a:lnTo>
                  <a:pt x="451" y="22"/>
                </a:lnTo>
                <a:lnTo>
                  <a:pt x="453" y="16"/>
                </a:lnTo>
                <a:lnTo>
                  <a:pt x="457" y="12"/>
                </a:lnTo>
                <a:lnTo>
                  <a:pt x="463" y="10"/>
                </a:lnTo>
                <a:lnTo>
                  <a:pt x="470" y="6"/>
                </a:lnTo>
                <a:lnTo>
                  <a:pt x="478" y="4"/>
                </a:lnTo>
                <a:lnTo>
                  <a:pt x="486" y="2"/>
                </a:lnTo>
                <a:lnTo>
                  <a:pt x="495" y="0"/>
                </a:lnTo>
                <a:lnTo>
                  <a:pt x="507" y="0"/>
                </a:lnTo>
                <a:lnTo>
                  <a:pt x="518" y="0"/>
                </a:lnTo>
                <a:lnTo>
                  <a:pt x="532" y="0"/>
                </a:lnTo>
                <a:lnTo>
                  <a:pt x="545" y="0"/>
                </a:lnTo>
                <a:lnTo>
                  <a:pt x="558" y="0"/>
                </a:lnTo>
                <a:lnTo>
                  <a:pt x="574" y="2"/>
                </a:lnTo>
                <a:lnTo>
                  <a:pt x="589" y="4"/>
                </a:lnTo>
                <a:lnTo>
                  <a:pt x="606" y="6"/>
                </a:lnTo>
                <a:lnTo>
                  <a:pt x="624" y="8"/>
                </a:lnTo>
                <a:lnTo>
                  <a:pt x="641" y="10"/>
                </a:lnTo>
                <a:lnTo>
                  <a:pt x="656" y="14"/>
                </a:lnTo>
                <a:lnTo>
                  <a:pt x="672" y="16"/>
                </a:lnTo>
                <a:lnTo>
                  <a:pt x="687" y="20"/>
                </a:lnTo>
                <a:lnTo>
                  <a:pt x="701" y="24"/>
                </a:lnTo>
                <a:lnTo>
                  <a:pt x="712" y="27"/>
                </a:lnTo>
                <a:lnTo>
                  <a:pt x="724" y="31"/>
                </a:lnTo>
                <a:lnTo>
                  <a:pt x="735" y="35"/>
                </a:lnTo>
                <a:lnTo>
                  <a:pt x="745" y="39"/>
                </a:lnTo>
                <a:lnTo>
                  <a:pt x="752" y="43"/>
                </a:lnTo>
                <a:lnTo>
                  <a:pt x="760" y="48"/>
                </a:lnTo>
                <a:lnTo>
                  <a:pt x="768" y="52"/>
                </a:lnTo>
                <a:lnTo>
                  <a:pt x="773" y="56"/>
                </a:lnTo>
                <a:lnTo>
                  <a:pt x="777" y="62"/>
                </a:lnTo>
                <a:lnTo>
                  <a:pt x="781" y="66"/>
                </a:lnTo>
                <a:lnTo>
                  <a:pt x="785" y="71"/>
                </a:lnTo>
                <a:lnTo>
                  <a:pt x="789" y="79"/>
                </a:lnTo>
                <a:lnTo>
                  <a:pt x="793" y="89"/>
                </a:lnTo>
                <a:lnTo>
                  <a:pt x="795" y="98"/>
                </a:lnTo>
                <a:lnTo>
                  <a:pt x="795" y="110"/>
                </a:lnTo>
                <a:lnTo>
                  <a:pt x="795" y="119"/>
                </a:lnTo>
                <a:lnTo>
                  <a:pt x="793" y="133"/>
                </a:lnTo>
                <a:lnTo>
                  <a:pt x="789" y="144"/>
                </a:lnTo>
                <a:lnTo>
                  <a:pt x="785" y="158"/>
                </a:lnTo>
                <a:lnTo>
                  <a:pt x="783" y="162"/>
                </a:lnTo>
                <a:lnTo>
                  <a:pt x="783" y="166"/>
                </a:lnTo>
                <a:lnTo>
                  <a:pt x="781" y="171"/>
                </a:lnTo>
                <a:lnTo>
                  <a:pt x="779" y="175"/>
                </a:lnTo>
                <a:lnTo>
                  <a:pt x="779" y="181"/>
                </a:lnTo>
                <a:lnTo>
                  <a:pt x="779" y="189"/>
                </a:lnTo>
                <a:lnTo>
                  <a:pt x="777" y="194"/>
                </a:lnTo>
                <a:lnTo>
                  <a:pt x="777" y="202"/>
                </a:lnTo>
                <a:lnTo>
                  <a:pt x="775" y="210"/>
                </a:lnTo>
                <a:lnTo>
                  <a:pt x="775" y="219"/>
                </a:lnTo>
                <a:lnTo>
                  <a:pt x="775" y="227"/>
                </a:lnTo>
                <a:lnTo>
                  <a:pt x="773" y="237"/>
                </a:lnTo>
                <a:lnTo>
                  <a:pt x="773" y="246"/>
                </a:lnTo>
                <a:lnTo>
                  <a:pt x="773" y="258"/>
                </a:lnTo>
                <a:lnTo>
                  <a:pt x="773" y="267"/>
                </a:lnTo>
                <a:lnTo>
                  <a:pt x="773" y="279"/>
                </a:lnTo>
                <a:lnTo>
                  <a:pt x="772" y="290"/>
                </a:lnTo>
                <a:lnTo>
                  <a:pt x="772" y="304"/>
                </a:lnTo>
                <a:lnTo>
                  <a:pt x="772" y="317"/>
                </a:lnTo>
                <a:lnTo>
                  <a:pt x="772" y="331"/>
                </a:lnTo>
                <a:lnTo>
                  <a:pt x="772" y="344"/>
                </a:lnTo>
                <a:lnTo>
                  <a:pt x="772" y="357"/>
                </a:lnTo>
                <a:lnTo>
                  <a:pt x="772" y="373"/>
                </a:lnTo>
                <a:lnTo>
                  <a:pt x="772" y="388"/>
                </a:lnTo>
                <a:lnTo>
                  <a:pt x="772" y="405"/>
                </a:lnTo>
                <a:lnTo>
                  <a:pt x="772" y="421"/>
                </a:lnTo>
                <a:lnTo>
                  <a:pt x="772" y="438"/>
                </a:lnTo>
                <a:lnTo>
                  <a:pt x="772" y="455"/>
                </a:lnTo>
                <a:lnTo>
                  <a:pt x="772" y="475"/>
                </a:lnTo>
                <a:lnTo>
                  <a:pt x="772" y="492"/>
                </a:lnTo>
                <a:lnTo>
                  <a:pt x="772" y="511"/>
                </a:lnTo>
                <a:lnTo>
                  <a:pt x="772" y="532"/>
                </a:lnTo>
                <a:lnTo>
                  <a:pt x="772" y="611"/>
                </a:lnTo>
                <a:lnTo>
                  <a:pt x="772" y="693"/>
                </a:lnTo>
                <a:lnTo>
                  <a:pt x="772" y="734"/>
                </a:lnTo>
                <a:lnTo>
                  <a:pt x="770" y="776"/>
                </a:lnTo>
                <a:lnTo>
                  <a:pt x="770" y="818"/>
                </a:lnTo>
                <a:lnTo>
                  <a:pt x="770" y="862"/>
                </a:lnTo>
                <a:lnTo>
                  <a:pt x="768" y="905"/>
                </a:lnTo>
                <a:lnTo>
                  <a:pt x="768" y="949"/>
                </a:lnTo>
                <a:lnTo>
                  <a:pt x="766" y="995"/>
                </a:lnTo>
                <a:lnTo>
                  <a:pt x="766" y="1039"/>
                </a:lnTo>
                <a:lnTo>
                  <a:pt x="764" y="1085"/>
                </a:lnTo>
                <a:lnTo>
                  <a:pt x="762" y="1133"/>
                </a:lnTo>
                <a:lnTo>
                  <a:pt x="760" y="1181"/>
                </a:lnTo>
                <a:lnTo>
                  <a:pt x="758" y="1229"/>
                </a:lnTo>
                <a:lnTo>
                  <a:pt x="754" y="1277"/>
                </a:lnTo>
                <a:lnTo>
                  <a:pt x="752" y="1325"/>
                </a:lnTo>
                <a:lnTo>
                  <a:pt x="749" y="1371"/>
                </a:lnTo>
                <a:lnTo>
                  <a:pt x="743" y="1415"/>
                </a:lnTo>
                <a:lnTo>
                  <a:pt x="739" y="1459"/>
                </a:lnTo>
                <a:lnTo>
                  <a:pt x="733" y="1503"/>
                </a:lnTo>
                <a:lnTo>
                  <a:pt x="727" y="1544"/>
                </a:lnTo>
                <a:lnTo>
                  <a:pt x="722" y="1586"/>
                </a:lnTo>
                <a:lnTo>
                  <a:pt x="714" y="1624"/>
                </a:lnTo>
                <a:lnTo>
                  <a:pt x="708" y="1663"/>
                </a:lnTo>
                <a:lnTo>
                  <a:pt x="701" y="1701"/>
                </a:lnTo>
                <a:lnTo>
                  <a:pt x="693" y="1738"/>
                </a:lnTo>
                <a:lnTo>
                  <a:pt x="687" y="1774"/>
                </a:lnTo>
                <a:lnTo>
                  <a:pt x="679" y="1809"/>
                </a:lnTo>
                <a:lnTo>
                  <a:pt x="672" y="1843"/>
                </a:lnTo>
                <a:lnTo>
                  <a:pt x="664" y="1876"/>
                </a:lnTo>
                <a:lnTo>
                  <a:pt x="656" y="1910"/>
                </a:lnTo>
                <a:lnTo>
                  <a:pt x="647" y="1945"/>
                </a:lnTo>
                <a:lnTo>
                  <a:pt x="637" y="1979"/>
                </a:lnTo>
                <a:lnTo>
                  <a:pt x="628" y="2012"/>
                </a:lnTo>
                <a:lnTo>
                  <a:pt x="616" y="2045"/>
                </a:lnTo>
                <a:lnTo>
                  <a:pt x="603" y="2077"/>
                </a:lnTo>
                <a:lnTo>
                  <a:pt x="591" y="2108"/>
                </a:lnTo>
                <a:lnTo>
                  <a:pt x="578" y="2139"/>
                </a:lnTo>
                <a:lnTo>
                  <a:pt x="562" y="2169"/>
                </a:lnTo>
                <a:lnTo>
                  <a:pt x="547" y="2200"/>
                </a:lnTo>
                <a:lnTo>
                  <a:pt x="534" y="2231"/>
                </a:lnTo>
                <a:lnTo>
                  <a:pt x="516" y="2260"/>
                </a:lnTo>
                <a:lnTo>
                  <a:pt x="484" y="2317"/>
                </a:lnTo>
                <a:lnTo>
                  <a:pt x="451" y="237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70"/>
          <p:cNvSpPr/>
          <p:nvPr/>
        </p:nvSpPr>
        <p:spPr>
          <a:xfrm>
            <a:off x="6469200" y="3046320"/>
            <a:ext cx="453960" cy="428760"/>
          </a:xfrm>
          <a:custGeom>
            <a:avLst/>
            <a:gdLst/>
            <a:ahLst/>
            <a:rect l="l" t="t" r="r" b="b"/>
            <a:pathLst>
              <a:path w="572" h="540">
                <a:moveTo>
                  <a:pt x="292" y="401"/>
                </a:moveTo>
                <a:lnTo>
                  <a:pt x="259" y="421"/>
                </a:lnTo>
                <a:lnTo>
                  <a:pt x="230" y="436"/>
                </a:lnTo>
                <a:lnTo>
                  <a:pt x="202" y="453"/>
                </a:lnTo>
                <a:lnTo>
                  <a:pt x="177" y="467"/>
                </a:lnTo>
                <a:lnTo>
                  <a:pt x="152" y="480"/>
                </a:lnTo>
                <a:lnTo>
                  <a:pt x="131" y="492"/>
                </a:lnTo>
                <a:lnTo>
                  <a:pt x="109" y="503"/>
                </a:lnTo>
                <a:lnTo>
                  <a:pt x="90" y="513"/>
                </a:lnTo>
                <a:lnTo>
                  <a:pt x="75" y="520"/>
                </a:lnTo>
                <a:lnTo>
                  <a:pt x="60" y="526"/>
                </a:lnTo>
                <a:lnTo>
                  <a:pt x="46" y="532"/>
                </a:lnTo>
                <a:lnTo>
                  <a:pt x="37" y="536"/>
                </a:lnTo>
                <a:lnTo>
                  <a:pt x="27" y="540"/>
                </a:lnTo>
                <a:lnTo>
                  <a:pt x="19" y="540"/>
                </a:lnTo>
                <a:lnTo>
                  <a:pt x="14" y="540"/>
                </a:lnTo>
                <a:lnTo>
                  <a:pt x="12" y="540"/>
                </a:lnTo>
                <a:lnTo>
                  <a:pt x="12" y="538"/>
                </a:lnTo>
                <a:lnTo>
                  <a:pt x="6" y="536"/>
                </a:lnTo>
                <a:lnTo>
                  <a:pt x="4" y="532"/>
                </a:lnTo>
                <a:lnTo>
                  <a:pt x="2" y="528"/>
                </a:lnTo>
                <a:lnTo>
                  <a:pt x="0" y="524"/>
                </a:lnTo>
                <a:lnTo>
                  <a:pt x="2" y="518"/>
                </a:lnTo>
                <a:lnTo>
                  <a:pt x="4" y="513"/>
                </a:lnTo>
                <a:lnTo>
                  <a:pt x="8" y="505"/>
                </a:lnTo>
                <a:lnTo>
                  <a:pt x="14" y="497"/>
                </a:lnTo>
                <a:lnTo>
                  <a:pt x="19" y="490"/>
                </a:lnTo>
                <a:lnTo>
                  <a:pt x="27" y="480"/>
                </a:lnTo>
                <a:lnTo>
                  <a:pt x="37" y="471"/>
                </a:lnTo>
                <a:lnTo>
                  <a:pt x="46" y="459"/>
                </a:lnTo>
                <a:lnTo>
                  <a:pt x="60" y="446"/>
                </a:lnTo>
                <a:lnTo>
                  <a:pt x="73" y="432"/>
                </a:lnTo>
                <a:lnTo>
                  <a:pt x="88" y="417"/>
                </a:lnTo>
                <a:lnTo>
                  <a:pt x="104" y="401"/>
                </a:lnTo>
                <a:lnTo>
                  <a:pt x="134" y="373"/>
                </a:lnTo>
                <a:lnTo>
                  <a:pt x="161" y="346"/>
                </a:lnTo>
                <a:lnTo>
                  <a:pt x="188" y="317"/>
                </a:lnTo>
                <a:lnTo>
                  <a:pt x="213" y="290"/>
                </a:lnTo>
                <a:lnTo>
                  <a:pt x="225" y="277"/>
                </a:lnTo>
                <a:lnTo>
                  <a:pt x="236" y="263"/>
                </a:lnTo>
                <a:lnTo>
                  <a:pt x="246" y="252"/>
                </a:lnTo>
                <a:lnTo>
                  <a:pt x="257" y="238"/>
                </a:lnTo>
                <a:lnTo>
                  <a:pt x="267" y="225"/>
                </a:lnTo>
                <a:lnTo>
                  <a:pt x="275" y="213"/>
                </a:lnTo>
                <a:lnTo>
                  <a:pt x="284" y="202"/>
                </a:lnTo>
                <a:lnTo>
                  <a:pt x="292" y="190"/>
                </a:lnTo>
                <a:lnTo>
                  <a:pt x="298" y="179"/>
                </a:lnTo>
                <a:lnTo>
                  <a:pt x="305" y="167"/>
                </a:lnTo>
                <a:lnTo>
                  <a:pt x="311" y="158"/>
                </a:lnTo>
                <a:lnTo>
                  <a:pt x="317" y="146"/>
                </a:lnTo>
                <a:lnTo>
                  <a:pt x="321" y="138"/>
                </a:lnTo>
                <a:lnTo>
                  <a:pt x="324" y="129"/>
                </a:lnTo>
                <a:lnTo>
                  <a:pt x="328" y="119"/>
                </a:lnTo>
                <a:lnTo>
                  <a:pt x="330" y="112"/>
                </a:lnTo>
                <a:lnTo>
                  <a:pt x="330" y="104"/>
                </a:lnTo>
                <a:lnTo>
                  <a:pt x="332" y="96"/>
                </a:lnTo>
                <a:lnTo>
                  <a:pt x="332" y="89"/>
                </a:lnTo>
                <a:lnTo>
                  <a:pt x="330" y="81"/>
                </a:lnTo>
                <a:lnTo>
                  <a:pt x="328" y="73"/>
                </a:lnTo>
                <a:lnTo>
                  <a:pt x="326" y="67"/>
                </a:lnTo>
                <a:lnTo>
                  <a:pt x="323" y="60"/>
                </a:lnTo>
                <a:lnTo>
                  <a:pt x="319" y="52"/>
                </a:lnTo>
                <a:lnTo>
                  <a:pt x="313" y="48"/>
                </a:lnTo>
                <a:lnTo>
                  <a:pt x="309" y="44"/>
                </a:lnTo>
                <a:lnTo>
                  <a:pt x="307" y="41"/>
                </a:lnTo>
                <a:lnTo>
                  <a:pt x="303" y="37"/>
                </a:lnTo>
                <a:lnTo>
                  <a:pt x="301" y="33"/>
                </a:lnTo>
                <a:lnTo>
                  <a:pt x="300" y="29"/>
                </a:lnTo>
                <a:lnTo>
                  <a:pt x="300" y="25"/>
                </a:lnTo>
                <a:lnTo>
                  <a:pt x="300" y="23"/>
                </a:lnTo>
                <a:lnTo>
                  <a:pt x="301" y="19"/>
                </a:lnTo>
                <a:lnTo>
                  <a:pt x="303" y="18"/>
                </a:lnTo>
                <a:lnTo>
                  <a:pt x="305" y="16"/>
                </a:lnTo>
                <a:lnTo>
                  <a:pt x="309" y="12"/>
                </a:lnTo>
                <a:lnTo>
                  <a:pt x="313" y="10"/>
                </a:lnTo>
                <a:lnTo>
                  <a:pt x="319" y="8"/>
                </a:lnTo>
                <a:lnTo>
                  <a:pt x="324" y="6"/>
                </a:lnTo>
                <a:lnTo>
                  <a:pt x="332" y="2"/>
                </a:lnTo>
                <a:lnTo>
                  <a:pt x="338" y="0"/>
                </a:lnTo>
                <a:lnTo>
                  <a:pt x="344" y="0"/>
                </a:lnTo>
                <a:lnTo>
                  <a:pt x="349" y="0"/>
                </a:lnTo>
                <a:lnTo>
                  <a:pt x="357" y="0"/>
                </a:lnTo>
                <a:lnTo>
                  <a:pt x="365" y="2"/>
                </a:lnTo>
                <a:lnTo>
                  <a:pt x="372" y="4"/>
                </a:lnTo>
                <a:lnTo>
                  <a:pt x="380" y="6"/>
                </a:lnTo>
                <a:lnTo>
                  <a:pt x="390" y="10"/>
                </a:lnTo>
                <a:lnTo>
                  <a:pt x="399" y="16"/>
                </a:lnTo>
                <a:lnTo>
                  <a:pt x="411" y="19"/>
                </a:lnTo>
                <a:lnTo>
                  <a:pt x="420" y="25"/>
                </a:lnTo>
                <a:lnTo>
                  <a:pt x="432" y="33"/>
                </a:lnTo>
                <a:lnTo>
                  <a:pt x="443" y="39"/>
                </a:lnTo>
                <a:lnTo>
                  <a:pt x="455" y="48"/>
                </a:lnTo>
                <a:lnTo>
                  <a:pt x="466" y="56"/>
                </a:lnTo>
                <a:lnTo>
                  <a:pt x="478" y="65"/>
                </a:lnTo>
                <a:lnTo>
                  <a:pt x="491" y="77"/>
                </a:lnTo>
                <a:lnTo>
                  <a:pt x="501" y="87"/>
                </a:lnTo>
                <a:lnTo>
                  <a:pt x="513" y="98"/>
                </a:lnTo>
                <a:lnTo>
                  <a:pt x="520" y="108"/>
                </a:lnTo>
                <a:lnTo>
                  <a:pt x="530" y="117"/>
                </a:lnTo>
                <a:lnTo>
                  <a:pt x="538" y="125"/>
                </a:lnTo>
                <a:lnTo>
                  <a:pt x="545" y="135"/>
                </a:lnTo>
                <a:lnTo>
                  <a:pt x="551" y="142"/>
                </a:lnTo>
                <a:lnTo>
                  <a:pt x="555" y="148"/>
                </a:lnTo>
                <a:lnTo>
                  <a:pt x="561" y="156"/>
                </a:lnTo>
                <a:lnTo>
                  <a:pt x="564" y="161"/>
                </a:lnTo>
                <a:lnTo>
                  <a:pt x="566" y="169"/>
                </a:lnTo>
                <a:lnTo>
                  <a:pt x="570" y="175"/>
                </a:lnTo>
                <a:lnTo>
                  <a:pt x="572" y="179"/>
                </a:lnTo>
                <a:lnTo>
                  <a:pt x="572" y="184"/>
                </a:lnTo>
                <a:lnTo>
                  <a:pt x="572" y="190"/>
                </a:lnTo>
                <a:lnTo>
                  <a:pt x="568" y="196"/>
                </a:lnTo>
                <a:lnTo>
                  <a:pt x="564" y="206"/>
                </a:lnTo>
                <a:lnTo>
                  <a:pt x="557" y="213"/>
                </a:lnTo>
                <a:lnTo>
                  <a:pt x="547" y="223"/>
                </a:lnTo>
                <a:lnTo>
                  <a:pt x="536" y="232"/>
                </a:lnTo>
                <a:lnTo>
                  <a:pt x="524" y="244"/>
                </a:lnTo>
                <a:lnTo>
                  <a:pt x="509" y="256"/>
                </a:lnTo>
                <a:lnTo>
                  <a:pt x="491" y="267"/>
                </a:lnTo>
                <a:lnTo>
                  <a:pt x="472" y="280"/>
                </a:lnTo>
                <a:lnTo>
                  <a:pt x="453" y="294"/>
                </a:lnTo>
                <a:lnTo>
                  <a:pt x="430" y="309"/>
                </a:lnTo>
                <a:lnTo>
                  <a:pt x="407" y="327"/>
                </a:lnTo>
                <a:lnTo>
                  <a:pt x="380" y="344"/>
                </a:lnTo>
                <a:lnTo>
                  <a:pt x="353" y="361"/>
                </a:lnTo>
                <a:lnTo>
                  <a:pt x="323" y="380"/>
                </a:lnTo>
                <a:lnTo>
                  <a:pt x="292" y="40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71"/>
          <p:cNvSpPr/>
          <p:nvPr/>
        </p:nvSpPr>
        <p:spPr>
          <a:xfrm>
            <a:off x="5794200" y="3252960"/>
            <a:ext cx="325440" cy="291960"/>
          </a:xfrm>
          <a:custGeom>
            <a:avLst/>
            <a:gdLst/>
            <a:ahLst/>
            <a:rect l="l" t="t" r="r" b="b"/>
            <a:pathLst>
              <a:path w="411" h="369">
                <a:moveTo>
                  <a:pt x="138" y="18"/>
                </a:moveTo>
                <a:lnTo>
                  <a:pt x="169" y="23"/>
                </a:lnTo>
                <a:lnTo>
                  <a:pt x="196" y="29"/>
                </a:lnTo>
                <a:lnTo>
                  <a:pt x="211" y="33"/>
                </a:lnTo>
                <a:lnTo>
                  <a:pt x="224" y="39"/>
                </a:lnTo>
                <a:lnTo>
                  <a:pt x="238" y="43"/>
                </a:lnTo>
                <a:lnTo>
                  <a:pt x="251" y="48"/>
                </a:lnTo>
                <a:lnTo>
                  <a:pt x="265" y="54"/>
                </a:lnTo>
                <a:lnTo>
                  <a:pt x="276" y="62"/>
                </a:lnTo>
                <a:lnTo>
                  <a:pt x="290" y="69"/>
                </a:lnTo>
                <a:lnTo>
                  <a:pt x="303" y="77"/>
                </a:lnTo>
                <a:lnTo>
                  <a:pt x="315" y="87"/>
                </a:lnTo>
                <a:lnTo>
                  <a:pt x="328" y="96"/>
                </a:lnTo>
                <a:lnTo>
                  <a:pt x="340" y="106"/>
                </a:lnTo>
                <a:lnTo>
                  <a:pt x="353" y="117"/>
                </a:lnTo>
                <a:lnTo>
                  <a:pt x="363" y="129"/>
                </a:lnTo>
                <a:lnTo>
                  <a:pt x="370" y="140"/>
                </a:lnTo>
                <a:lnTo>
                  <a:pt x="378" y="152"/>
                </a:lnTo>
                <a:lnTo>
                  <a:pt x="386" y="162"/>
                </a:lnTo>
                <a:lnTo>
                  <a:pt x="391" y="173"/>
                </a:lnTo>
                <a:lnTo>
                  <a:pt x="395" y="183"/>
                </a:lnTo>
                <a:lnTo>
                  <a:pt x="401" y="192"/>
                </a:lnTo>
                <a:lnTo>
                  <a:pt x="403" y="204"/>
                </a:lnTo>
                <a:lnTo>
                  <a:pt x="407" y="213"/>
                </a:lnTo>
                <a:lnTo>
                  <a:pt x="409" y="223"/>
                </a:lnTo>
                <a:lnTo>
                  <a:pt x="411" y="233"/>
                </a:lnTo>
                <a:lnTo>
                  <a:pt x="411" y="242"/>
                </a:lnTo>
                <a:lnTo>
                  <a:pt x="411" y="252"/>
                </a:lnTo>
                <a:lnTo>
                  <a:pt x="409" y="261"/>
                </a:lnTo>
                <a:lnTo>
                  <a:pt x="409" y="269"/>
                </a:lnTo>
                <a:lnTo>
                  <a:pt x="407" y="279"/>
                </a:lnTo>
                <a:lnTo>
                  <a:pt x="401" y="290"/>
                </a:lnTo>
                <a:lnTo>
                  <a:pt x="395" y="302"/>
                </a:lnTo>
                <a:lnTo>
                  <a:pt x="391" y="311"/>
                </a:lnTo>
                <a:lnTo>
                  <a:pt x="386" y="319"/>
                </a:lnTo>
                <a:lnTo>
                  <a:pt x="382" y="327"/>
                </a:lnTo>
                <a:lnTo>
                  <a:pt x="376" y="334"/>
                </a:lnTo>
                <a:lnTo>
                  <a:pt x="372" y="340"/>
                </a:lnTo>
                <a:lnTo>
                  <a:pt x="368" y="346"/>
                </a:lnTo>
                <a:lnTo>
                  <a:pt x="363" y="352"/>
                </a:lnTo>
                <a:lnTo>
                  <a:pt x="359" y="355"/>
                </a:lnTo>
                <a:lnTo>
                  <a:pt x="355" y="359"/>
                </a:lnTo>
                <a:lnTo>
                  <a:pt x="351" y="361"/>
                </a:lnTo>
                <a:lnTo>
                  <a:pt x="347" y="363"/>
                </a:lnTo>
                <a:lnTo>
                  <a:pt x="345" y="365"/>
                </a:lnTo>
                <a:lnTo>
                  <a:pt x="341" y="367"/>
                </a:lnTo>
                <a:lnTo>
                  <a:pt x="340" y="367"/>
                </a:lnTo>
                <a:lnTo>
                  <a:pt x="336" y="369"/>
                </a:lnTo>
                <a:lnTo>
                  <a:pt x="332" y="369"/>
                </a:lnTo>
                <a:lnTo>
                  <a:pt x="328" y="369"/>
                </a:lnTo>
                <a:lnTo>
                  <a:pt x="322" y="367"/>
                </a:lnTo>
                <a:lnTo>
                  <a:pt x="315" y="363"/>
                </a:lnTo>
                <a:lnTo>
                  <a:pt x="307" y="361"/>
                </a:lnTo>
                <a:lnTo>
                  <a:pt x="299" y="355"/>
                </a:lnTo>
                <a:lnTo>
                  <a:pt x="290" y="350"/>
                </a:lnTo>
                <a:lnTo>
                  <a:pt x="280" y="342"/>
                </a:lnTo>
                <a:lnTo>
                  <a:pt x="270" y="334"/>
                </a:lnTo>
                <a:lnTo>
                  <a:pt x="259" y="327"/>
                </a:lnTo>
                <a:lnTo>
                  <a:pt x="247" y="315"/>
                </a:lnTo>
                <a:lnTo>
                  <a:pt x="234" y="306"/>
                </a:lnTo>
                <a:lnTo>
                  <a:pt x="221" y="294"/>
                </a:lnTo>
                <a:lnTo>
                  <a:pt x="207" y="281"/>
                </a:lnTo>
                <a:lnTo>
                  <a:pt x="192" y="267"/>
                </a:lnTo>
                <a:lnTo>
                  <a:pt x="176" y="252"/>
                </a:lnTo>
                <a:lnTo>
                  <a:pt x="163" y="238"/>
                </a:lnTo>
                <a:lnTo>
                  <a:pt x="149" y="225"/>
                </a:lnTo>
                <a:lnTo>
                  <a:pt x="138" y="213"/>
                </a:lnTo>
                <a:lnTo>
                  <a:pt x="125" y="200"/>
                </a:lnTo>
                <a:lnTo>
                  <a:pt x="113" y="188"/>
                </a:lnTo>
                <a:lnTo>
                  <a:pt x="102" y="177"/>
                </a:lnTo>
                <a:lnTo>
                  <a:pt x="92" y="165"/>
                </a:lnTo>
                <a:lnTo>
                  <a:pt x="82" y="154"/>
                </a:lnTo>
                <a:lnTo>
                  <a:pt x="73" y="144"/>
                </a:lnTo>
                <a:lnTo>
                  <a:pt x="65" y="135"/>
                </a:lnTo>
                <a:lnTo>
                  <a:pt x="57" y="125"/>
                </a:lnTo>
                <a:lnTo>
                  <a:pt x="50" y="116"/>
                </a:lnTo>
                <a:lnTo>
                  <a:pt x="42" y="108"/>
                </a:lnTo>
                <a:lnTo>
                  <a:pt x="36" y="100"/>
                </a:lnTo>
                <a:lnTo>
                  <a:pt x="32" y="92"/>
                </a:lnTo>
                <a:lnTo>
                  <a:pt x="23" y="79"/>
                </a:lnTo>
                <a:lnTo>
                  <a:pt x="15" y="64"/>
                </a:lnTo>
                <a:lnTo>
                  <a:pt x="7" y="52"/>
                </a:lnTo>
                <a:lnTo>
                  <a:pt x="4" y="39"/>
                </a:lnTo>
                <a:lnTo>
                  <a:pt x="2" y="33"/>
                </a:lnTo>
                <a:lnTo>
                  <a:pt x="0" y="29"/>
                </a:lnTo>
                <a:lnTo>
                  <a:pt x="0" y="23"/>
                </a:lnTo>
                <a:lnTo>
                  <a:pt x="0" y="20"/>
                </a:lnTo>
                <a:lnTo>
                  <a:pt x="0" y="14"/>
                </a:lnTo>
                <a:lnTo>
                  <a:pt x="2" y="12"/>
                </a:lnTo>
                <a:lnTo>
                  <a:pt x="2" y="8"/>
                </a:lnTo>
                <a:lnTo>
                  <a:pt x="6" y="6"/>
                </a:lnTo>
                <a:lnTo>
                  <a:pt x="7" y="2"/>
                </a:lnTo>
                <a:lnTo>
                  <a:pt x="11" y="2"/>
                </a:lnTo>
                <a:lnTo>
                  <a:pt x="15" y="0"/>
                </a:lnTo>
                <a:lnTo>
                  <a:pt x="21" y="0"/>
                </a:lnTo>
                <a:lnTo>
                  <a:pt x="25" y="0"/>
                </a:lnTo>
                <a:lnTo>
                  <a:pt x="32" y="0"/>
                </a:lnTo>
                <a:lnTo>
                  <a:pt x="38" y="0"/>
                </a:lnTo>
                <a:lnTo>
                  <a:pt x="46" y="2"/>
                </a:lnTo>
                <a:lnTo>
                  <a:pt x="55" y="4"/>
                </a:lnTo>
                <a:lnTo>
                  <a:pt x="65" y="4"/>
                </a:lnTo>
                <a:lnTo>
                  <a:pt x="75" y="6"/>
                </a:lnTo>
                <a:lnTo>
                  <a:pt x="86" y="8"/>
                </a:lnTo>
                <a:lnTo>
                  <a:pt x="98" y="10"/>
                </a:lnTo>
                <a:lnTo>
                  <a:pt x="111" y="14"/>
                </a:lnTo>
                <a:lnTo>
                  <a:pt x="125" y="16"/>
                </a:lnTo>
                <a:lnTo>
                  <a:pt x="138" y="1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4"/>
          <p:cNvSpPr/>
          <p:nvPr/>
        </p:nvSpPr>
        <p:spPr>
          <a:xfrm>
            <a:off x="22240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怨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3" name="组合 5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24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矩形 2"/>
            <p:cNvSpPr/>
            <p:nvPr/>
          </p:nvSpPr>
          <p:spPr>
            <a:xfrm>
              <a:off x="1410120" y="4587840"/>
              <a:ext cx="28152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上部竖弯钩有力；下部卧钩宜正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AutoShape 22"/>
          <p:cNvSpPr/>
          <p:nvPr/>
        </p:nvSpPr>
        <p:spPr>
          <a:xfrm>
            <a:off x="3747960" y="1457280"/>
            <a:ext cx="5739120" cy="54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4" descr=""/>
          <p:cNvPicPr/>
          <p:nvPr/>
        </p:nvPicPr>
        <p:blipFill>
          <a:blip r:embed="rId2"/>
          <a:stretch/>
        </p:blipFill>
        <p:spPr>
          <a:xfrm>
            <a:off x="4645080" y="1508040"/>
            <a:ext cx="4843440" cy="448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矩形 3"/>
          <p:cNvSpPr/>
          <p:nvPr/>
        </p:nvSpPr>
        <p:spPr>
          <a:xfrm>
            <a:off x="1933560" y="1920960"/>
            <a:ext cx="147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uà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84"/>
          <p:cNvSpPr/>
          <p:nvPr/>
        </p:nvSpPr>
        <p:spPr>
          <a:xfrm>
            <a:off x="6014880" y="4264200"/>
            <a:ext cx="1548000" cy="750600"/>
          </a:xfrm>
          <a:custGeom>
            <a:avLst/>
            <a:gdLst/>
            <a:ahLst/>
            <a:rect l="l" t="t" r="r" b="b"/>
            <a:pathLst>
              <a:path w="1950" h="944">
                <a:moveTo>
                  <a:pt x="1197" y="739"/>
                </a:moveTo>
                <a:lnTo>
                  <a:pt x="1222" y="737"/>
                </a:lnTo>
                <a:lnTo>
                  <a:pt x="1245" y="735"/>
                </a:lnTo>
                <a:lnTo>
                  <a:pt x="1268" y="731"/>
                </a:lnTo>
                <a:lnTo>
                  <a:pt x="1291" y="729"/>
                </a:lnTo>
                <a:lnTo>
                  <a:pt x="1311" y="727"/>
                </a:lnTo>
                <a:lnTo>
                  <a:pt x="1330" y="723"/>
                </a:lnTo>
                <a:lnTo>
                  <a:pt x="1347" y="721"/>
                </a:lnTo>
                <a:lnTo>
                  <a:pt x="1364" y="719"/>
                </a:lnTo>
                <a:lnTo>
                  <a:pt x="1380" y="716"/>
                </a:lnTo>
                <a:lnTo>
                  <a:pt x="1393" y="714"/>
                </a:lnTo>
                <a:lnTo>
                  <a:pt x="1405" y="712"/>
                </a:lnTo>
                <a:lnTo>
                  <a:pt x="1416" y="708"/>
                </a:lnTo>
                <a:lnTo>
                  <a:pt x="1426" y="706"/>
                </a:lnTo>
                <a:lnTo>
                  <a:pt x="1433" y="704"/>
                </a:lnTo>
                <a:lnTo>
                  <a:pt x="1441" y="700"/>
                </a:lnTo>
                <a:lnTo>
                  <a:pt x="1447" y="698"/>
                </a:lnTo>
                <a:lnTo>
                  <a:pt x="1449" y="695"/>
                </a:lnTo>
                <a:lnTo>
                  <a:pt x="1451" y="691"/>
                </a:lnTo>
                <a:lnTo>
                  <a:pt x="1453" y="683"/>
                </a:lnTo>
                <a:lnTo>
                  <a:pt x="1453" y="675"/>
                </a:lnTo>
                <a:lnTo>
                  <a:pt x="1451" y="666"/>
                </a:lnTo>
                <a:lnTo>
                  <a:pt x="1451" y="654"/>
                </a:lnTo>
                <a:lnTo>
                  <a:pt x="1449" y="641"/>
                </a:lnTo>
                <a:lnTo>
                  <a:pt x="1445" y="627"/>
                </a:lnTo>
                <a:lnTo>
                  <a:pt x="1441" y="610"/>
                </a:lnTo>
                <a:lnTo>
                  <a:pt x="1437" y="593"/>
                </a:lnTo>
                <a:lnTo>
                  <a:pt x="1432" y="574"/>
                </a:lnTo>
                <a:lnTo>
                  <a:pt x="1426" y="552"/>
                </a:lnTo>
                <a:lnTo>
                  <a:pt x="1418" y="529"/>
                </a:lnTo>
                <a:lnTo>
                  <a:pt x="1410" y="506"/>
                </a:lnTo>
                <a:lnTo>
                  <a:pt x="1401" y="480"/>
                </a:lnTo>
                <a:lnTo>
                  <a:pt x="1391" y="453"/>
                </a:lnTo>
                <a:lnTo>
                  <a:pt x="1385" y="439"/>
                </a:lnTo>
                <a:lnTo>
                  <a:pt x="1380" y="426"/>
                </a:lnTo>
                <a:lnTo>
                  <a:pt x="1368" y="401"/>
                </a:lnTo>
                <a:lnTo>
                  <a:pt x="1359" y="376"/>
                </a:lnTo>
                <a:lnTo>
                  <a:pt x="1351" y="355"/>
                </a:lnTo>
                <a:lnTo>
                  <a:pt x="1343" y="336"/>
                </a:lnTo>
                <a:lnTo>
                  <a:pt x="1336" y="318"/>
                </a:lnTo>
                <a:lnTo>
                  <a:pt x="1332" y="301"/>
                </a:lnTo>
                <a:lnTo>
                  <a:pt x="1328" y="288"/>
                </a:lnTo>
                <a:lnTo>
                  <a:pt x="1324" y="274"/>
                </a:lnTo>
                <a:lnTo>
                  <a:pt x="1324" y="265"/>
                </a:lnTo>
                <a:lnTo>
                  <a:pt x="1322" y="255"/>
                </a:lnTo>
                <a:lnTo>
                  <a:pt x="1324" y="247"/>
                </a:lnTo>
                <a:lnTo>
                  <a:pt x="1324" y="242"/>
                </a:lnTo>
                <a:lnTo>
                  <a:pt x="1328" y="238"/>
                </a:lnTo>
                <a:lnTo>
                  <a:pt x="1332" y="236"/>
                </a:lnTo>
                <a:lnTo>
                  <a:pt x="1336" y="236"/>
                </a:lnTo>
                <a:lnTo>
                  <a:pt x="1339" y="236"/>
                </a:lnTo>
                <a:lnTo>
                  <a:pt x="1345" y="238"/>
                </a:lnTo>
                <a:lnTo>
                  <a:pt x="1351" y="242"/>
                </a:lnTo>
                <a:lnTo>
                  <a:pt x="1360" y="247"/>
                </a:lnTo>
                <a:lnTo>
                  <a:pt x="1370" y="255"/>
                </a:lnTo>
                <a:lnTo>
                  <a:pt x="1382" y="263"/>
                </a:lnTo>
                <a:lnTo>
                  <a:pt x="1393" y="274"/>
                </a:lnTo>
                <a:lnTo>
                  <a:pt x="1408" y="286"/>
                </a:lnTo>
                <a:lnTo>
                  <a:pt x="1424" y="299"/>
                </a:lnTo>
                <a:lnTo>
                  <a:pt x="1441" y="314"/>
                </a:lnTo>
                <a:lnTo>
                  <a:pt x="1460" y="332"/>
                </a:lnTo>
                <a:lnTo>
                  <a:pt x="1479" y="349"/>
                </a:lnTo>
                <a:lnTo>
                  <a:pt x="1501" y="370"/>
                </a:lnTo>
                <a:lnTo>
                  <a:pt x="1524" y="391"/>
                </a:lnTo>
                <a:lnTo>
                  <a:pt x="1549" y="414"/>
                </a:lnTo>
                <a:lnTo>
                  <a:pt x="1574" y="439"/>
                </a:lnTo>
                <a:lnTo>
                  <a:pt x="1585" y="453"/>
                </a:lnTo>
                <a:lnTo>
                  <a:pt x="1597" y="466"/>
                </a:lnTo>
                <a:lnTo>
                  <a:pt x="1608" y="480"/>
                </a:lnTo>
                <a:lnTo>
                  <a:pt x="1618" y="493"/>
                </a:lnTo>
                <a:lnTo>
                  <a:pt x="1641" y="516"/>
                </a:lnTo>
                <a:lnTo>
                  <a:pt x="1662" y="537"/>
                </a:lnTo>
                <a:lnTo>
                  <a:pt x="1681" y="556"/>
                </a:lnTo>
                <a:lnTo>
                  <a:pt x="1702" y="576"/>
                </a:lnTo>
                <a:lnTo>
                  <a:pt x="1719" y="591"/>
                </a:lnTo>
                <a:lnTo>
                  <a:pt x="1739" y="606"/>
                </a:lnTo>
                <a:lnTo>
                  <a:pt x="1756" y="620"/>
                </a:lnTo>
                <a:lnTo>
                  <a:pt x="1773" y="631"/>
                </a:lnTo>
                <a:lnTo>
                  <a:pt x="1789" y="641"/>
                </a:lnTo>
                <a:lnTo>
                  <a:pt x="1802" y="650"/>
                </a:lnTo>
                <a:lnTo>
                  <a:pt x="1817" y="658"/>
                </a:lnTo>
                <a:lnTo>
                  <a:pt x="1829" y="664"/>
                </a:lnTo>
                <a:lnTo>
                  <a:pt x="1842" y="668"/>
                </a:lnTo>
                <a:lnTo>
                  <a:pt x="1852" y="671"/>
                </a:lnTo>
                <a:lnTo>
                  <a:pt x="1863" y="673"/>
                </a:lnTo>
                <a:lnTo>
                  <a:pt x="1871" y="677"/>
                </a:lnTo>
                <a:lnTo>
                  <a:pt x="1881" y="681"/>
                </a:lnTo>
                <a:lnTo>
                  <a:pt x="1888" y="683"/>
                </a:lnTo>
                <a:lnTo>
                  <a:pt x="1896" y="689"/>
                </a:lnTo>
                <a:lnTo>
                  <a:pt x="1904" y="693"/>
                </a:lnTo>
                <a:lnTo>
                  <a:pt x="1911" y="696"/>
                </a:lnTo>
                <a:lnTo>
                  <a:pt x="1917" y="702"/>
                </a:lnTo>
                <a:lnTo>
                  <a:pt x="1923" y="708"/>
                </a:lnTo>
                <a:lnTo>
                  <a:pt x="1929" y="712"/>
                </a:lnTo>
                <a:lnTo>
                  <a:pt x="1936" y="725"/>
                </a:lnTo>
                <a:lnTo>
                  <a:pt x="1944" y="739"/>
                </a:lnTo>
                <a:lnTo>
                  <a:pt x="1950" y="752"/>
                </a:lnTo>
                <a:lnTo>
                  <a:pt x="1950" y="760"/>
                </a:lnTo>
                <a:lnTo>
                  <a:pt x="1948" y="767"/>
                </a:lnTo>
                <a:lnTo>
                  <a:pt x="1944" y="775"/>
                </a:lnTo>
                <a:lnTo>
                  <a:pt x="1940" y="783"/>
                </a:lnTo>
                <a:lnTo>
                  <a:pt x="1934" y="790"/>
                </a:lnTo>
                <a:lnTo>
                  <a:pt x="1927" y="798"/>
                </a:lnTo>
                <a:lnTo>
                  <a:pt x="1919" y="806"/>
                </a:lnTo>
                <a:lnTo>
                  <a:pt x="1909" y="814"/>
                </a:lnTo>
                <a:lnTo>
                  <a:pt x="1900" y="821"/>
                </a:lnTo>
                <a:lnTo>
                  <a:pt x="1888" y="829"/>
                </a:lnTo>
                <a:lnTo>
                  <a:pt x="1875" y="837"/>
                </a:lnTo>
                <a:lnTo>
                  <a:pt x="1861" y="844"/>
                </a:lnTo>
                <a:lnTo>
                  <a:pt x="1846" y="852"/>
                </a:lnTo>
                <a:lnTo>
                  <a:pt x="1831" y="860"/>
                </a:lnTo>
                <a:lnTo>
                  <a:pt x="1813" y="867"/>
                </a:lnTo>
                <a:lnTo>
                  <a:pt x="1796" y="875"/>
                </a:lnTo>
                <a:lnTo>
                  <a:pt x="1775" y="883"/>
                </a:lnTo>
                <a:lnTo>
                  <a:pt x="1752" y="890"/>
                </a:lnTo>
                <a:lnTo>
                  <a:pt x="1727" y="898"/>
                </a:lnTo>
                <a:lnTo>
                  <a:pt x="1702" y="904"/>
                </a:lnTo>
                <a:lnTo>
                  <a:pt x="1675" y="909"/>
                </a:lnTo>
                <a:lnTo>
                  <a:pt x="1646" y="915"/>
                </a:lnTo>
                <a:lnTo>
                  <a:pt x="1616" y="921"/>
                </a:lnTo>
                <a:lnTo>
                  <a:pt x="1585" y="925"/>
                </a:lnTo>
                <a:lnTo>
                  <a:pt x="1552" y="929"/>
                </a:lnTo>
                <a:lnTo>
                  <a:pt x="1518" y="933"/>
                </a:lnTo>
                <a:lnTo>
                  <a:pt x="1483" y="936"/>
                </a:lnTo>
                <a:lnTo>
                  <a:pt x="1445" y="938"/>
                </a:lnTo>
                <a:lnTo>
                  <a:pt x="1407" y="940"/>
                </a:lnTo>
                <a:lnTo>
                  <a:pt x="1366" y="942"/>
                </a:lnTo>
                <a:lnTo>
                  <a:pt x="1324" y="944"/>
                </a:lnTo>
                <a:lnTo>
                  <a:pt x="1280" y="944"/>
                </a:lnTo>
                <a:lnTo>
                  <a:pt x="1236" y="944"/>
                </a:lnTo>
                <a:lnTo>
                  <a:pt x="1194" y="942"/>
                </a:lnTo>
                <a:lnTo>
                  <a:pt x="1153" y="940"/>
                </a:lnTo>
                <a:lnTo>
                  <a:pt x="1113" y="938"/>
                </a:lnTo>
                <a:lnTo>
                  <a:pt x="1073" y="936"/>
                </a:lnTo>
                <a:lnTo>
                  <a:pt x="1036" y="933"/>
                </a:lnTo>
                <a:lnTo>
                  <a:pt x="1000" y="929"/>
                </a:lnTo>
                <a:lnTo>
                  <a:pt x="965" y="925"/>
                </a:lnTo>
                <a:lnTo>
                  <a:pt x="931" y="921"/>
                </a:lnTo>
                <a:lnTo>
                  <a:pt x="898" y="915"/>
                </a:lnTo>
                <a:lnTo>
                  <a:pt x="865" y="909"/>
                </a:lnTo>
                <a:lnTo>
                  <a:pt x="835" y="904"/>
                </a:lnTo>
                <a:lnTo>
                  <a:pt x="804" y="898"/>
                </a:lnTo>
                <a:lnTo>
                  <a:pt x="777" y="890"/>
                </a:lnTo>
                <a:lnTo>
                  <a:pt x="748" y="883"/>
                </a:lnTo>
                <a:lnTo>
                  <a:pt x="721" y="875"/>
                </a:lnTo>
                <a:lnTo>
                  <a:pt x="696" y="867"/>
                </a:lnTo>
                <a:lnTo>
                  <a:pt x="670" y="860"/>
                </a:lnTo>
                <a:lnTo>
                  <a:pt x="645" y="850"/>
                </a:lnTo>
                <a:lnTo>
                  <a:pt x="620" y="840"/>
                </a:lnTo>
                <a:lnTo>
                  <a:pt x="595" y="829"/>
                </a:lnTo>
                <a:lnTo>
                  <a:pt x="570" y="817"/>
                </a:lnTo>
                <a:lnTo>
                  <a:pt x="547" y="806"/>
                </a:lnTo>
                <a:lnTo>
                  <a:pt x="522" y="794"/>
                </a:lnTo>
                <a:lnTo>
                  <a:pt x="499" y="781"/>
                </a:lnTo>
                <a:lnTo>
                  <a:pt x="476" y="767"/>
                </a:lnTo>
                <a:lnTo>
                  <a:pt x="453" y="752"/>
                </a:lnTo>
                <a:lnTo>
                  <a:pt x="432" y="739"/>
                </a:lnTo>
                <a:lnTo>
                  <a:pt x="408" y="721"/>
                </a:lnTo>
                <a:lnTo>
                  <a:pt x="387" y="706"/>
                </a:lnTo>
                <a:lnTo>
                  <a:pt x="366" y="689"/>
                </a:lnTo>
                <a:lnTo>
                  <a:pt x="345" y="671"/>
                </a:lnTo>
                <a:lnTo>
                  <a:pt x="324" y="652"/>
                </a:lnTo>
                <a:lnTo>
                  <a:pt x="305" y="633"/>
                </a:lnTo>
                <a:lnTo>
                  <a:pt x="286" y="614"/>
                </a:lnTo>
                <a:lnTo>
                  <a:pt x="266" y="593"/>
                </a:lnTo>
                <a:lnTo>
                  <a:pt x="249" y="572"/>
                </a:lnTo>
                <a:lnTo>
                  <a:pt x="230" y="551"/>
                </a:lnTo>
                <a:lnTo>
                  <a:pt x="213" y="528"/>
                </a:lnTo>
                <a:lnTo>
                  <a:pt x="197" y="504"/>
                </a:lnTo>
                <a:lnTo>
                  <a:pt x="180" y="480"/>
                </a:lnTo>
                <a:lnTo>
                  <a:pt x="165" y="453"/>
                </a:lnTo>
                <a:lnTo>
                  <a:pt x="149" y="426"/>
                </a:lnTo>
                <a:lnTo>
                  <a:pt x="134" y="399"/>
                </a:lnTo>
                <a:lnTo>
                  <a:pt x="121" y="370"/>
                </a:lnTo>
                <a:lnTo>
                  <a:pt x="107" y="339"/>
                </a:lnTo>
                <a:lnTo>
                  <a:pt x="94" y="309"/>
                </a:lnTo>
                <a:lnTo>
                  <a:pt x="80" y="276"/>
                </a:lnTo>
                <a:lnTo>
                  <a:pt x="73" y="259"/>
                </a:lnTo>
                <a:lnTo>
                  <a:pt x="67" y="243"/>
                </a:lnTo>
                <a:lnTo>
                  <a:pt x="61" y="228"/>
                </a:lnTo>
                <a:lnTo>
                  <a:pt x="55" y="213"/>
                </a:lnTo>
                <a:lnTo>
                  <a:pt x="51" y="199"/>
                </a:lnTo>
                <a:lnTo>
                  <a:pt x="46" y="186"/>
                </a:lnTo>
                <a:lnTo>
                  <a:pt x="40" y="172"/>
                </a:lnTo>
                <a:lnTo>
                  <a:pt x="36" y="161"/>
                </a:lnTo>
                <a:lnTo>
                  <a:pt x="32" y="147"/>
                </a:lnTo>
                <a:lnTo>
                  <a:pt x="28" y="136"/>
                </a:lnTo>
                <a:lnTo>
                  <a:pt x="25" y="126"/>
                </a:lnTo>
                <a:lnTo>
                  <a:pt x="21" y="115"/>
                </a:lnTo>
                <a:lnTo>
                  <a:pt x="17" y="105"/>
                </a:lnTo>
                <a:lnTo>
                  <a:pt x="13" y="96"/>
                </a:lnTo>
                <a:lnTo>
                  <a:pt x="11" y="86"/>
                </a:lnTo>
                <a:lnTo>
                  <a:pt x="9" y="78"/>
                </a:lnTo>
                <a:lnTo>
                  <a:pt x="5" y="63"/>
                </a:lnTo>
                <a:lnTo>
                  <a:pt x="2" y="48"/>
                </a:lnTo>
                <a:lnTo>
                  <a:pt x="0" y="36"/>
                </a:lnTo>
                <a:lnTo>
                  <a:pt x="0" y="27"/>
                </a:lnTo>
                <a:lnTo>
                  <a:pt x="0" y="19"/>
                </a:lnTo>
                <a:lnTo>
                  <a:pt x="2" y="11"/>
                </a:lnTo>
                <a:lnTo>
                  <a:pt x="5" y="7"/>
                </a:lnTo>
                <a:lnTo>
                  <a:pt x="11" y="4"/>
                </a:lnTo>
                <a:lnTo>
                  <a:pt x="13" y="2"/>
                </a:lnTo>
                <a:lnTo>
                  <a:pt x="17" y="0"/>
                </a:lnTo>
                <a:lnTo>
                  <a:pt x="21" y="2"/>
                </a:lnTo>
                <a:lnTo>
                  <a:pt x="27" y="4"/>
                </a:lnTo>
                <a:lnTo>
                  <a:pt x="30" y="5"/>
                </a:lnTo>
                <a:lnTo>
                  <a:pt x="36" y="11"/>
                </a:lnTo>
                <a:lnTo>
                  <a:pt x="44" y="17"/>
                </a:lnTo>
                <a:lnTo>
                  <a:pt x="50" y="23"/>
                </a:lnTo>
                <a:lnTo>
                  <a:pt x="57" y="32"/>
                </a:lnTo>
                <a:lnTo>
                  <a:pt x="65" y="42"/>
                </a:lnTo>
                <a:lnTo>
                  <a:pt x="75" y="51"/>
                </a:lnTo>
                <a:lnTo>
                  <a:pt x="82" y="65"/>
                </a:lnTo>
                <a:lnTo>
                  <a:pt x="92" y="78"/>
                </a:lnTo>
                <a:lnTo>
                  <a:pt x="101" y="92"/>
                </a:lnTo>
                <a:lnTo>
                  <a:pt x="111" y="109"/>
                </a:lnTo>
                <a:lnTo>
                  <a:pt x="123" y="126"/>
                </a:lnTo>
                <a:lnTo>
                  <a:pt x="130" y="144"/>
                </a:lnTo>
                <a:lnTo>
                  <a:pt x="140" y="163"/>
                </a:lnTo>
                <a:lnTo>
                  <a:pt x="149" y="180"/>
                </a:lnTo>
                <a:lnTo>
                  <a:pt x="161" y="199"/>
                </a:lnTo>
                <a:lnTo>
                  <a:pt x="172" y="218"/>
                </a:lnTo>
                <a:lnTo>
                  <a:pt x="186" y="238"/>
                </a:lnTo>
                <a:lnTo>
                  <a:pt x="199" y="257"/>
                </a:lnTo>
                <a:lnTo>
                  <a:pt x="213" y="276"/>
                </a:lnTo>
                <a:lnTo>
                  <a:pt x="228" y="295"/>
                </a:lnTo>
                <a:lnTo>
                  <a:pt x="243" y="314"/>
                </a:lnTo>
                <a:lnTo>
                  <a:pt x="259" y="334"/>
                </a:lnTo>
                <a:lnTo>
                  <a:pt x="276" y="351"/>
                </a:lnTo>
                <a:lnTo>
                  <a:pt x="309" y="389"/>
                </a:lnTo>
                <a:lnTo>
                  <a:pt x="345" y="426"/>
                </a:lnTo>
                <a:lnTo>
                  <a:pt x="364" y="443"/>
                </a:lnTo>
                <a:lnTo>
                  <a:pt x="384" y="460"/>
                </a:lnTo>
                <a:lnTo>
                  <a:pt x="403" y="478"/>
                </a:lnTo>
                <a:lnTo>
                  <a:pt x="424" y="495"/>
                </a:lnTo>
                <a:lnTo>
                  <a:pt x="445" y="510"/>
                </a:lnTo>
                <a:lnTo>
                  <a:pt x="468" y="528"/>
                </a:lnTo>
                <a:lnTo>
                  <a:pt x="491" y="543"/>
                </a:lnTo>
                <a:lnTo>
                  <a:pt x="514" y="556"/>
                </a:lnTo>
                <a:lnTo>
                  <a:pt x="539" y="572"/>
                </a:lnTo>
                <a:lnTo>
                  <a:pt x="564" y="585"/>
                </a:lnTo>
                <a:lnTo>
                  <a:pt x="591" y="599"/>
                </a:lnTo>
                <a:lnTo>
                  <a:pt x="618" y="612"/>
                </a:lnTo>
                <a:lnTo>
                  <a:pt x="646" y="623"/>
                </a:lnTo>
                <a:lnTo>
                  <a:pt x="675" y="635"/>
                </a:lnTo>
                <a:lnTo>
                  <a:pt x="704" y="647"/>
                </a:lnTo>
                <a:lnTo>
                  <a:pt x="737" y="658"/>
                </a:lnTo>
                <a:lnTo>
                  <a:pt x="767" y="668"/>
                </a:lnTo>
                <a:lnTo>
                  <a:pt x="798" y="677"/>
                </a:lnTo>
                <a:lnTo>
                  <a:pt x="829" y="685"/>
                </a:lnTo>
                <a:lnTo>
                  <a:pt x="858" y="693"/>
                </a:lnTo>
                <a:lnTo>
                  <a:pt x="888" y="700"/>
                </a:lnTo>
                <a:lnTo>
                  <a:pt x="919" y="708"/>
                </a:lnTo>
                <a:lnTo>
                  <a:pt x="948" y="714"/>
                </a:lnTo>
                <a:lnTo>
                  <a:pt x="977" y="719"/>
                </a:lnTo>
                <a:lnTo>
                  <a:pt x="1005" y="723"/>
                </a:lnTo>
                <a:lnTo>
                  <a:pt x="1034" y="727"/>
                </a:lnTo>
                <a:lnTo>
                  <a:pt x="1061" y="731"/>
                </a:lnTo>
                <a:lnTo>
                  <a:pt x="1090" y="735"/>
                </a:lnTo>
                <a:lnTo>
                  <a:pt x="1117" y="737"/>
                </a:lnTo>
                <a:lnTo>
                  <a:pt x="1144" y="739"/>
                </a:lnTo>
                <a:lnTo>
                  <a:pt x="1170" y="739"/>
                </a:lnTo>
                <a:lnTo>
                  <a:pt x="1197" y="73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85"/>
          <p:cNvSpPr/>
          <p:nvPr/>
        </p:nvSpPr>
        <p:spPr>
          <a:xfrm>
            <a:off x="7218360" y="4170240"/>
            <a:ext cx="560520" cy="384120"/>
          </a:xfrm>
          <a:custGeom>
            <a:avLst/>
            <a:gdLst/>
            <a:ahLst/>
            <a:rect l="l" t="t" r="r" b="b"/>
            <a:pathLst>
              <a:path w="704" h="483">
                <a:moveTo>
                  <a:pt x="476" y="123"/>
                </a:moveTo>
                <a:lnTo>
                  <a:pt x="499" y="136"/>
                </a:lnTo>
                <a:lnTo>
                  <a:pt x="520" y="147"/>
                </a:lnTo>
                <a:lnTo>
                  <a:pt x="541" y="161"/>
                </a:lnTo>
                <a:lnTo>
                  <a:pt x="562" y="174"/>
                </a:lnTo>
                <a:lnTo>
                  <a:pt x="580" y="186"/>
                </a:lnTo>
                <a:lnTo>
                  <a:pt x="599" y="199"/>
                </a:lnTo>
                <a:lnTo>
                  <a:pt x="614" y="213"/>
                </a:lnTo>
                <a:lnTo>
                  <a:pt x="630" y="224"/>
                </a:lnTo>
                <a:lnTo>
                  <a:pt x="643" y="238"/>
                </a:lnTo>
                <a:lnTo>
                  <a:pt x="656" y="249"/>
                </a:lnTo>
                <a:lnTo>
                  <a:pt x="666" y="263"/>
                </a:lnTo>
                <a:lnTo>
                  <a:pt x="676" y="276"/>
                </a:lnTo>
                <a:lnTo>
                  <a:pt x="685" y="288"/>
                </a:lnTo>
                <a:lnTo>
                  <a:pt x="691" y="301"/>
                </a:lnTo>
                <a:lnTo>
                  <a:pt x="697" y="314"/>
                </a:lnTo>
                <a:lnTo>
                  <a:pt x="699" y="326"/>
                </a:lnTo>
                <a:lnTo>
                  <a:pt x="701" y="339"/>
                </a:lnTo>
                <a:lnTo>
                  <a:pt x="702" y="351"/>
                </a:lnTo>
                <a:lnTo>
                  <a:pt x="704" y="362"/>
                </a:lnTo>
                <a:lnTo>
                  <a:pt x="704" y="374"/>
                </a:lnTo>
                <a:lnTo>
                  <a:pt x="704" y="385"/>
                </a:lnTo>
                <a:lnTo>
                  <a:pt x="704" y="395"/>
                </a:lnTo>
                <a:lnTo>
                  <a:pt x="702" y="407"/>
                </a:lnTo>
                <a:lnTo>
                  <a:pt x="701" y="414"/>
                </a:lnTo>
                <a:lnTo>
                  <a:pt x="699" y="424"/>
                </a:lnTo>
                <a:lnTo>
                  <a:pt x="697" y="432"/>
                </a:lnTo>
                <a:lnTo>
                  <a:pt x="693" y="439"/>
                </a:lnTo>
                <a:lnTo>
                  <a:pt x="689" y="445"/>
                </a:lnTo>
                <a:lnTo>
                  <a:pt x="685" y="451"/>
                </a:lnTo>
                <a:lnTo>
                  <a:pt x="681" y="456"/>
                </a:lnTo>
                <a:lnTo>
                  <a:pt x="676" y="460"/>
                </a:lnTo>
                <a:lnTo>
                  <a:pt x="672" y="462"/>
                </a:lnTo>
                <a:lnTo>
                  <a:pt x="666" y="468"/>
                </a:lnTo>
                <a:lnTo>
                  <a:pt x="660" y="472"/>
                </a:lnTo>
                <a:lnTo>
                  <a:pt x="656" y="476"/>
                </a:lnTo>
                <a:lnTo>
                  <a:pt x="651" y="478"/>
                </a:lnTo>
                <a:lnTo>
                  <a:pt x="645" y="481"/>
                </a:lnTo>
                <a:lnTo>
                  <a:pt x="639" y="481"/>
                </a:lnTo>
                <a:lnTo>
                  <a:pt x="633" y="483"/>
                </a:lnTo>
                <a:lnTo>
                  <a:pt x="628" y="483"/>
                </a:lnTo>
                <a:lnTo>
                  <a:pt x="622" y="483"/>
                </a:lnTo>
                <a:lnTo>
                  <a:pt x="616" y="481"/>
                </a:lnTo>
                <a:lnTo>
                  <a:pt x="608" y="481"/>
                </a:lnTo>
                <a:lnTo>
                  <a:pt x="603" y="478"/>
                </a:lnTo>
                <a:lnTo>
                  <a:pt x="595" y="476"/>
                </a:lnTo>
                <a:lnTo>
                  <a:pt x="589" y="472"/>
                </a:lnTo>
                <a:lnTo>
                  <a:pt x="582" y="468"/>
                </a:lnTo>
                <a:lnTo>
                  <a:pt x="574" y="462"/>
                </a:lnTo>
                <a:lnTo>
                  <a:pt x="564" y="460"/>
                </a:lnTo>
                <a:lnTo>
                  <a:pt x="555" y="455"/>
                </a:lnTo>
                <a:lnTo>
                  <a:pt x="543" y="449"/>
                </a:lnTo>
                <a:lnTo>
                  <a:pt x="532" y="439"/>
                </a:lnTo>
                <a:lnTo>
                  <a:pt x="516" y="432"/>
                </a:lnTo>
                <a:lnTo>
                  <a:pt x="501" y="420"/>
                </a:lnTo>
                <a:lnTo>
                  <a:pt x="484" y="407"/>
                </a:lnTo>
                <a:lnTo>
                  <a:pt x="464" y="393"/>
                </a:lnTo>
                <a:lnTo>
                  <a:pt x="445" y="378"/>
                </a:lnTo>
                <a:lnTo>
                  <a:pt x="422" y="361"/>
                </a:lnTo>
                <a:lnTo>
                  <a:pt x="399" y="343"/>
                </a:lnTo>
                <a:lnTo>
                  <a:pt x="372" y="324"/>
                </a:lnTo>
                <a:lnTo>
                  <a:pt x="345" y="303"/>
                </a:lnTo>
                <a:lnTo>
                  <a:pt x="317" y="280"/>
                </a:lnTo>
                <a:lnTo>
                  <a:pt x="286" y="257"/>
                </a:lnTo>
                <a:lnTo>
                  <a:pt x="253" y="232"/>
                </a:lnTo>
                <a:lnTo>
                  <a:pt x="236" y="220"/>
                </a:lnTo>
                <a:lnTo>
                  <a:pt x="221" y="209"/>
                </a:lnTo>
                <a:lnTo>
                  <a:pt x="203" y="197"/>
                </a:lnTo>
                <a:lnTo>
                  <a:pt x="190" y="186"/>
                </a:lnTo>
                <a:lnTo>
                  <a:pt x="175" y="176"/>
                </a:lnTo>
                <a:lnTo>
                  <a:pt x="161" y="167"/>
                </a:lnTo>
                <a:lnTo>
                  <a:pt x="148" y="155"/>
                </a:lnTo>
                <a:lnTo>
                  <a:pt x="136" y="146"/>
                </a:lnTo>
                <a:lnTo>
                  <a:pt x="123" y="138"/>
                </a:lnTo>
                <a:lnTo>
                  <a:pt x="111" y="128"/>
                </a:lnTo>
                <a:lnTo>
                  <a:pt x="100" y="119"/>
                </a:lnTo>
                <a:lnTo>
                  <a:pt x="90" y="111"/>
                </a:lnTo>
                <a:lnTo>
                  <a:pt x="81" y="103"/>
                </a:lnTo>
                <a:lnTo>
                  <a:pt x="71" y="96"/>
                </a:lnTo>
                <a:lnTo>
                  <a:pt x="63" y="88"/>
                </a:lnTo>
                <a:lnTo>
                  <a:pt x="54" y="80"/>
                </a:lnTo>
                <a:lnTo>
                  <a:pt x="46" y="75"/>
                </a:lnTo>
                <a:lnTo>
                  <a:pt x="40" y="67"/>
                </a:lnTo>
                <a:lnTo>
                  <a:pt x="33" y="61"/>
                </a:lnTo>
                <a:lnTo>
                  <a:pt x="27" y="55"/>
                </a:lnTo>
                <a:lnTo>
                  <a:pt x="21" y="50"/>
                </a:lnTo>
                <a:lnTo>
                  <a:pt x="17" y="46"/>
                </a:lnTo>
                <a:lnTo>
                  <a:pt x="13" y="40"/>
                </a:lnTo>
                <a:lnTo>
                  <a:pt x="10" y="36"/>
                </a:lnTo>
                <a:lnTo>
                  <a:pt x="6" y="32"/>
                </a:lnTo>
                <a:lnTo>
                  <a:pt x="4" y="28"/>
                </a:lnTo>
                <a:lnTo>
                  <a:pt x="2" y="25"/>
                </a:lnTo>
                <a:lnTo>
                  <a:pt x="0" y="21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8" y="7"/>
                </a:lnTo>
                <a:lnTo>
                  <a:pt x="11" y="5"/>
                </a:lnTo>
                <a:lnTo>
                  <a:pt x="17" y="3"/>
                </a:lnTo>
                <a:lnTo>
                  <a:pt x="25" y="3"/>
                </a:lnTo>
                <a:lnTo>
                  <a:pt x="33" y="2"/>
                </a:lnTo>
                <a:lnTo>
                  <a:pt x="42" y="2"/>
                </a:lnTo>
                <a:lnTo>
                  <a:pt x="52" y="2"/>
                </a:lnTo>
                <a:lnTo>
                  <a:pt x="63" y="0"/>
                </a:lnTo>
                <a:lnTo>
                  <a:pt x="77" y="0"/>
                </a:lnTo>
                <a:lnTo>
                  <a:pt x="90" y="0"/>
                </a:lnTo>
                <a:lnTo>
                  <a:pt x="104" y="0"/>
                </a:lnTo>
                <a:lnTo>
                  <a:pt x="121" y="0"/>
                </a:lnTo>
                <a:lnTo>
                  <a:pt x="136" y="0"/>
                </a:lnTo>
                <a:lnTo>
                  <a:pt x="155" y="0"/>
                </a:lnTo>
                <a:lnTo>
                  <a:pt x="173" y="3"/>
                </a:lnTo>
                <a:lnTo>
                  <a:pt x="192" y="5"/>
                </a:lnTo>
                <a:lnTo>
                  <a:pt x="209" y="11"/>
                </a:lnTo>
                <a:lnTo>
                  <a:pt x="228" y="15"/>
                </a:lnTo>
                <a:lnTo>
                  <a:pt x="248" y="21"/>
                </a:lnTo>
                <a:lnTo>
                  <a:pt x="267" y="27"/>
                </a:lnTo>
                <a:lnTo>
                  <a:pt x="286" y="32"/>
                </a:lnTo>
                <a:lnTo>
                  <a:pt x="305" y="40"/>
                </a:lnTo>
                <a:lnTo>
                  <a:pt x="324" y="48"/>
                </a:lnTo>
                <a:lnTo>
                  <a:pt x="345" y="57"/>
                </a:lnTo>
                <a:lnTo>
                  <a:pt x="367" y="65"/>
                </a:lnTo>
                <a:lnTo>
                  <a:pt x="386" y="76"/>
                </a:lnTo>
                <a:lnTo>
                  <a:pt x="409" y="86"/>
                </a:lnTo>
                <a:lnTo>
                  <a:pt x="430" y="98"/>
                </a:lnTo>
                <a:lnTo>
                  <a:pt x="453" y="109"/>
                </a:lnTo>
                <a:lnTo>
                  <a:pt x="476" y="1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86"/>
          <p:cNvSpPr/>
          <p:nvPr/>
        </p:nvSpPr>
        <p:spPr>
          <a:xfrm>
            <a:off x="6377040" y="4051440"/>
            <a:ext cx="347760" cy="390240"/>
          </a:xfrm>
          <a:custGeom>
            <a:avLst/>
            <a:gdLst/>
            <a:ahLst/>
            <a:rect l="l" t="t" r="r" b="b"/>
            <a:pathLst>
              <a:path w="437" h="491">
                <a:moveTo>
                  <a:pt x="322" y="136"/>
                </a:moveTo>
                <a:lnTo>
                  <a:pt x="337" y="152"/>
                </a:lnTo>
                <a:lnTo>
                  <a:pt x="351" y="167"/>
                </a:lnTo>
                <a:lnTo>
                  <a:pt x="364" y="182"/>
                </a:lnTo>
                <a:lnTo>
                  <a:pt x="378" y="198"/>
                </a:lnTo>
                <a:lnTo>
                  <a:pt x="387" y="213"/>
                </a:lnTo>
                <a:lnTo>
                  <a:pt x="399" y="228"/>
                </a:lnTo>
                <a:lnTo>
                  <a:pt x="406" y="242"/>
                </a:lnTo>
                <a:lnTo>
                  <a:pt x="414" y="257"/>
                </a:lnTo>
                <a:lnTo>
                  <a:pt x="422" y="273"/>
                </a:lnTo>
                <a:lnTo>
                  <a:pt x="428" y="286"/>
                </a:lnTo>
                <a:lnTo>
                  <a:pt x="431" y="299"/>
                </a:lnTo>
                <a:lnTo>
                  <a:pt x="433" y="315"/>
                </a:lnTo>
                <a:lnTo>
                  <a:pt x="435" y="328"/>
                </a:lnTo>
                <a:lnTo>
                  <a:pt x="437" y="342"/>
                </a:lnTo>
                <a:lnTo>
                  <a:pt x="435" y="355"/>
                </a:lnTo>
                <a:lnTo>
                  <a:pt x="435" y="368"/>
                </a:lnTo>
                <a:lnTo>
                  <a:pt x="431" y="382"/>
                </a:lnTo>
                <a:lnTo>
                  <a:pt x="428" y="397"/>
                </a:lnTo>
                <a:lnTo>
                  <a:pt x="426" y="409"/>
                </a:lnTo>
                <a:lnTo>
                  <a:pt x="422" y="422"/>
                </a:lnTo>
                <a:lnTo>
                  <a:pt x="418" y="432"/>
                </a:lnTo>
                <a:lnTo>
                  <a:pt x="414" y="443"/>
                </a:lnTo>
                <a:lnTo>
                  <a:pt x="410" y="451"/>
                </a:lnTo>
                <a:lnTo>
                  <a:pt x="406" y="461"/>
                </a:lnTo>
                <a:lnTo>
                  <a:pt x="403" y="466"/>
                </a:lnTo>
                <a:lnTo>
                  <a:pt x="399" y="474"/>
                </a:lnTo>
                <a:lnTo>
                  <a:pt x="395" y="478"/>
                </a:lnTo>
                <a:lnTo>
                  <a:pt x="391" y="484"/>
                </a:lnTo>
                <a:lnTo>
                  <a:pt x="387" y="486"/>
                </a:lnTo>
                <a:lnTo>
                  <a:pt x="385" y="489"/>
                </a:lnTo>
                <a:lnTo>
                  <a:pt x="382" y="489"/>
                </a:lnTo>
                <a:lnTo>
                  <a:pt x="380" y="491"/>
                </a:lnTo>
                <a:lnTo>
                  <a:pt x="378" y="491"/>
                </a:lnTo>
                <a:lnTo>
                  <a:pt x="376" y="491"/>
                </a:lnTo>
                <a:lnTo>
                  <a:pt x="374" y="491"/>
                </a:lnTo>
                <a:lnTo>
                  <a:pt x="370" y="491"/>
                </a:lnTo>
                <a:lnTo>
                  <a:pt x="368" y="489"/>
                </a:lnTo>
                <a:lnTo>
                  <a:pt x="364" y="487"/>
                </a:lnTo>
                <a:lnTo>
                  <a:pt x="360" y="486"/>
                </a:lnTo>
                <a:lnTo>
                  <a:pt x="357" y="484"/>
                </a:lnTo>
                <a:lnTo>
                  <a:pt x="353" y="480"/>
                </a:lnTo>
                <a:lnTo>
                  <a:pt x="349" y="476"/>
                </a:lnTo>
                <a:lnTo>
                  <a:pt x="345" y="472"/>
                </a:lnTo>
                <a:lnTo>
                  <a:pt x="339" y="466"/>
                </a:lnTo>
                <a:lnTo>
                  <a:pt x="334" y="463"/>
                </a:lnTo>
                <a:lnTo>
                  <a:pt x="328" y="457"/>
                </a:lnTo>
                <a:lnTo>
                  <a:pt x="322" y="449"/>
                </a:lnTo>
                <a:lnTo>
                  <a:pt x="314" y="443"/>
                </a:lnTo>
                <a:lnTo>
                  <a:pt x="309" y="436"/>
                </a:lnTo>
                <a:lnTo>
                  <a:pt x="301" y="428"/>
                </a:lnTo>
                <a:lnTo>
                  <a:pt x="286" y="411"/>
                </a:lnTo>
                <a:lnTo>
                  <a:pt x="270" y="392"/>
                </a:lnTo>
                <a:lnTo>
                  <a:pt x="253" y="372"/>
                </a:lnTo>
                <a:lnTo>
                  <a:pt x="234" y="349"/>
                </a:lnTo>
                <a:lnTo>
                  <a:pt x="213" y="326"/>
                </a:lnTo>
                <a:lnTo>
                  <a:pt x="191" y="299"/>
                </a:lnTo>
                <a:lnTo>
                  <a:pt x="168" y="273"/>
                </a:lnTo>
                <a:lnTo>
                  <a:pt x="147" y="244"/>
                </a:lnTo>
                <a:lnTo>
                  <a:pt x="126" y="219"/>
                </a:lnTo>
                <a:lnTo>
                  <a:pt x="107" y="194"/>
                </a:lnTo>
                <a:lnTo>
                  <a:pt x="88" y="169"/>
                </a:lnTo>
                <a:lnTo>
                  <a:pt x="72" y="148"/>
                </a:lnTo>
                <a:lnTo>
                  <a:pt x="57" y="127"/>
                </a:lnTo>
                <a:lnTo>
                  <a:pt x="46" y="109"/>
                </a:lnTo>
                <a:lnTo>
                  <a:pt x="34" y="90"/>
                </a:lnTo>
                <a:lnTo>
                  <a:pt x="25" y="75"/>
                </a:lnTo>
                <a:lnTo>
                  <a:pt x="15" y="61"/>
                </a:lnTo>
                <a:lnTo>
                  <a:pt x="9" y="50"/>
                </a:lnTo>
                <a:lnTo>
                  <a:pt x="5" y="38"/>
                </a:lnTo>
                <a:lnTo>
                  <a:pt x="1" y="29"/>
                </a:lnTo>
                <a:lnTo>
                  <a:pt x="0" y="23"/>
                </a:lnTo>
                <a:lnTo>
                  <a:pt x="0" y="17"/>
                </a:lnTo>
                <a:lnTo>
                  <a:pt x="1" y="13"/>
                </a:lnTo>
                <a:lnTo>
                  <a:pt x="7" y="10"/>
                </a:lnTo>
                <a:lnTo>
                  <a:pt x="11" y="8"/>
                </a:lnTo>
                <a:lnTo>
                  <a:pt x="15" y="6"/>
                </a:lnTo>
                <a:lnTo>
                  <a:pt x="19" y="4"/>
                </a:lnTo>
                <a:lnTo>
                  <a:pt x="25" y="4"/>
                </a:lnTo>
                <a:lnTo>
                  <a:pt x="30" y="2"/>
                </a:lnTo>
                <a:lnTo>
                  <a:pt x="36" y="2"/>
                </a:lnTo>
                <a:lnTo>
                  <a:pt x="44" y="0"/>
                </a:lnTo>
                <a:lnTo>
                  <a:pt x="51" y="0"/>
                </a:lnTo>
                <a:lnTo>
                  <a:pt x="59" y="0"/>
                </a:lnTo>
                <a:lnTo>
                  <a:pt x="69" y="0"/>
                </a:lnTo>
                <a:lnTo>
                  <a:pt x="78" y="0"/>
                </a:lnTo>
                <a:lnTo>
                  <a:pt x="90" y="0"/>
                </a:lnTo>
                <a:lnTo>
                  <a:pt x="101" y="0"/>
                </a:lnTo>
                <a:lnTo>
                  <a:pt x="113" y="0"/>
                </a:lnTo>
                <a:lnTo>
                  <a:pt x="124" y="2"/>
                </a:lnTo>
                <a:lnTo>
                  <a:pt x="136" y="6"/>
                </a:lnTo>
                <a:lnTo>
                  <a:pt x="145" y="10"/>
                </a:lnTo>
                <a:lnTo>
                  <a:pt x="157" y="15"/>
                </a:lnTo>
                <a:lnTo>
                  <a:pt x="170" y="21"/>
                </a:lnTo>
                <a:lnTo>
                  <a:pt x="182" y="27"/>
                </a:lnTo>
                <a:lnTo>
                  <a:pt x="195" y="34"/>
                </a:lnTo>
                <a:lnTo>
                  <a:pt x="207" y="42"/>
                </a:lnTo>
                <a:lnTo>
                  <a:pt x="220" y="50"/>
                </a:lnTo>
                <a:lnTo>
                  <a:pt x="234" y="59"/>
                </a:lnTo>
                <a:lnTo>
                  <a:pt x="249" y="71"/>
                </a:lnTo>
                <a:lnTo>
                  <a:pt x="263" y="82"/>
                </a:lnTo>
                <a:lnTo>
                  <a:pt x="278" y="94"/>
                </a:lnTo>
                <a:lnTo>
                  <a:pt x="291" y="107"/>
                </a:lnTo>
                <a:lnTo>
                  <a:pt x="307" y="121"/>
                </a:lnTo>
                <a:lnTo>
                  <a:pt x="322" y="1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87"/>
          <p:cNvSpPr/>
          <p:nvPr/>
        </p:nvSpPr>
        <p:spPr>
          <a:xfrm>
            <a:off x="5514840" y="4319640"/>
            <a:ext cx="281160" cy="585720"/>
          </a:xfrm>
          <a:custGeom>
            <a:avLst/>
            <a:gdLst/>
            <a:ahLst/>
            <a:rect l="l" t="t" r="r" b="b"/>
            <a:pathLst>
              <a:path w="355" h="739">
                <a:moveTo>
                  <a:pt x="42" y="656"/>
                </a:moveTo>
                <a:lnTo>
                  <a:pt x="33" y="637"/>
                </a:lnTo>
                <a:lnTo>
                  <a:pt x="23" y="618"/>
                </a:lnTo>
                <a:lnTo>
                  <a:pt x="17" y="601"/>
                </a:lnTo>
                <a:lnTo>
                  <a:pt x="12" y="587"/>
                </a:lnTo>
                <a:lnTo>
                  <a:pt x="8" y="579"/>
                </a:lnTo>
                <a:lnTo>
                  <a:pt x="6" y="574"/>
                </a:lnTo>
                <a:lnTo>
                  <a:pt x="4" y="568"/>
                </a:lnTo>
                <a:lnTo>
                  <a:pt x="2" y="562"/>
                </a:lnTo>
                <a:lnTo>
                  <a:pt x="2" y="558"/>
                </a:lnTo>
                <a:lnTo>
                  <a:pt x="0" y="554"/>
                </a:lnTo>
                <a:lnTo>
                  <a:pt x="0" y="551"/>
                </a:lnTo>
                <a:lnTo>
                  <a:pt x="0" y="547"/>
                </a:lnTo>
                <a:lnTo>
                  <a:pt x="0" y="545"/>
                </a:lnTo>
                <a:lnTo>
                  <a:pt x="2" y="541"/>
                </a:lnTo>
                <a:lnTo>
                  <a:pt x="4" y="537"/>
                </a:lnTo>
                <a:lnTo>
                  <a:pt x="6" y="531"/>
                </a:lnTo>
                <a:lnTo>
                  <a:pt x="8" y="528"/>
                </a:lnTo>
                <a:lnTo>
                  <a:pt x="12" y="522"/>
                </a:lnTo>
                <a:lnTo>
                  <a:pt x="16" y="516"/>
                </a:lnTo>
                <a:lnTo>
                  <a:pt x="19" y="508"/>
                </a:lnTo>
                <a:lnTo>
                  <a:pt x="25" y="501"/>
                </a:lnTo>
                <a:lnTo>
                  <a:pt x="29" y="493"/>
                </a:lnTo>
                <a:lnTo>
                  <a:pt x="42" y="478"/>
                </a:lnTo>
                <a:lnTo>
                  <a:pt x="56" y="459"/>
                </a:lnTo>
                <a:lnTo>
                  <a:pt x="69" y="439"/>
                </a:lnTo>
                <a:lnTo>
                  <a:pt x="77" y="428"/>
                </a:lnTo>
                <a:lnTo>
                  <a:pt x="85" y="416"/>
                </a:lnTo>
                <a:lnTo>
                  <a:pt x="92" y="403"/>
                </a:lnTo>
                <a:lnTo>
                  <a:pt x="102" y="389"/>
                </a:lnTo>
                <a:lnTo>
                  <a:pt x="110" y="376"/>
                </a:lnTo>
                <a:lnTo>
                  <a:pt x="117" y="361"/>
                </a:lnTo>
                <a:lnTo>
                  <a:pt x="125" y="345"/>
                </a:lnTo>
                <a:lnTo>
                  <a:pt x="133" y="328"/>
                </a:lnTo>
                <a:lnTo>
                  <a:pt x="140" y="311"/>
                </a:lnTo>
                <a:lnTo>
                  <a:pt x="148" y="292"/>
                </a:lnTo>
                <a:lnTo>
                  <a:pt x="156" y="272"/>
                </a:lnTo>
                <a:lnTo>
                  <a:pt x="163" y="253"/>
                </a:lnTo>
                <a:lnTo>
                  <a:pt x="173" y="232"/>
                </a:lnTo>
                <a:lnTo>
                  <a:pt x="181" y="211"/>
                </a:lnTo>
                <a:lnTo>
                  <a:pt x="188" y="188"/>
                </a:lnTo>
                <a:lnTo>
                  <a:pt x="196" y="167"/>
                </a:lnTo>
                <a:lnTo>
                  <a:pt x="204" y="144"/>
                </a:lnTo>
                <a:lnTo>
                  <a:pt x="209" y="123"/>
                </a:lnTo>
                <a:lnTo>
                  <a:pt x="217" y="103"/>
                </a:lnTo>
                <a:lnTo>
                  <a:pt x="225" y="86"/>
                </a:lnTo>
                <a:lnTo>
                  <a:pt x="231" y="71"/>
                </a:lnTo>
                <a:lnTo>
                  <a:pt x="236" y="57"/>
                </a:lnTo>
                <a:lnTo>
                  <a:pt x="242" y="44"/>
                </a:lnTo>
                <a:lnTo>
                  <a:pt x="248" y="32"/>
                </a:lnTo>
                <a:lnTo>
                  <a:pt x="252" y="23"/>
                </a:lnTo>
                <a:lnTo>
                  <a:pt x="257" y="15"/>
                </a:lnTo>
                <a:lnTo>
                  <a:pt x="261" y="9"/>
                </a:lnTo>
                <a:lnTo>
                  <a:pt x="265" y="6"/>
                </a:lnTo>
                <a:lnTo>
                  <a:pt x="269" y="2"/>
                </a:lnTo>
                <a:lnTo>
                  <a:pt x="273" y="0"/>
                </a:lnTo>
                <a:lnTo>
                  <a:pt x="277" y="0"/>
                </a:lnTo>
                <a:lnTo>
                  <a:pt x="279" y="2"/>
                </a:lnTo>
                <a:lnTo>
                  <a:pt x="290" y="13"/>
                </a:lnTo>
                <a:lnTo>
                  <a:pt x="296" y="19"/>
                </a:lnTo>
                <a:lnTo>
                  <a:pt x="300" y="25"/>
                </a:lnTo>
                <a:lnTo>
                  <a:pt x="305" y="30"/>
                </a:lnTo>
                <a:lnTo>
                  <a:pt x="311" y="38"/>
                </a:lnTo>
                <a:lnTo>
                  <a:pt x="317" y="48"/>
                </a:lnTo>
                <a:lnTo>
                  <a:pt x="321" y="57"/>
                </a:lnTo>
                <a:lnTo>
                  <a:pt x="326" y="73"/>
                </a:lnTo>
                <a:lnTo>
                  <a:pt x="328" y="88"/>
                </a:lnTo>
                <a:lnTo>
                  <a:pt x="332" y="103"/>
                </a:lnTo>
                <a:lnTo>
                  <a:pt x="334" y="121"/>
                </a:lnTo>
                <a:lnTo>
                  <a:pt x="338" y="140"/>
                </a:lnTo>
                <a:lnTo>
                  <a:pt x="340" y="149"/>
                </a:lnTo>
                <a:lnTo>
                  <a:pt x="340" y="161"/>
                </a:lnTo>
                <a:lnTo>
                  <a:pt x="342" y="171"/>
                </a:lnTo>
                <a:lnTo>
                  <a:pt x="344" y="182"/>
                </a:lnTo>
                <a:lnTo>
                  <a:pt x="346" y="194"/>
                </a:lnTo>
                <a:lnTo>
                  <a:pt x="350" y="207"/>
                </a:lnTo>
                <a:lnTo>
                  <a:pt x="351" y="219"/>
                </a:lnTo>
                <a:lnTo>
                  <a:pt x="353" y="232"/>
                </a:lnTo>
                <a:lnTo>
                  <a:pt x="353" y="245"/>
                </a:lnTo>
                <a:lnTo>
                  <a:pt x="355" y="259"/>
                </a:lnTo>
                <a:lnTo>
                  <a:pt x="353" y="284"/>
                </a:lnTo>
                <a:lnTo>
                  <a:pt x="351" y="311"/>
                </a:lnTo>
                <a:lnTo>
                  <a:pt x="350" y="338"/>
                </a:lnTo>
                <a:lnTo>
                  <a:pt x="346" y="366"/>
                </a:lnTo>
                <a:lnTo>
                  <a:pt x="340" y="395"/>
                </a:lnTo>
                <a:lnTo>
                  <a:pt x="336" y="426"/>
                </a:lnTo>
                <a:lnTo>
                  <a:pt x="325" y="455"/>
                </a:lnTo>
                <a:lnTo>
                  <a:pt x="311" y="483"/>
                </a:lnTo>
                <a:lnTo>
                  <a:pt x="298" y="512"/>
                </a:lnTo>
                <a:lnTo>
                  <a:pt x="282" y="539"/>
                </a:lnTo>
                <a:lnTo>
                  <a:pt x="267" y="566"/>
                </a:lnTo>
                <a:lnTo>
                  <a:pt x="248" y="591"/>
                </a:lnTo>
                <a:lnTo>
                  <a:pt x="229" y="618"/>
                </a:lnTo>
                <a:lnTo>
                  <a:pt x="209" y="643"/>
                </a:lnTo>
                <a:lnTo>
                  <a:pt x="200" y="654"/>
                </a:lnTo>
                <a:lnTo>
                  <a:pt x="190" y="666"/>
                </a:lnTo>
                <a:lnTo>
                  <a:pt x="181" y="677"/>
                </a:lnTo>
                <a:lnTo>
                  <a:pt x="173" y="687"/>
                </a:lnTo>
                <a:lnTo>
                  <a:pt x="165" y="695"/>
                </a:lnTo>
                <a:lnTo>
                  <a:pt x="158" y="702"/>
                </a:lnTo>
                <a:lnTo>
                  <a:pt x="152" y="710"/>
                </a:lnTo>
                <a:lnTo>
                  <a:pt x="144" y="716"/>
                </a:lnTo>
                <a:lnTo>
                  <a:pt x="138" y="721"/>
                </a:lnTo>
                <a:lnTo>
                  <a:pt x="135" y="725"/>
                </a:lnTo>
                <a:lnTo>
                  <a:pt x="129" y="729"/>
                </a:lnTo>
                <a:lnTo>
                  <a:pt x="125" y="733"/>
                </a:lnTo>
                <a:lnTo>
                  <a:pt x="121" y="735"/>
                </a:lnTo>
                <a:lnTo>
                  <a:pt x="117" y="737"/>
                </a:lnTo>
                <a:lnTo>
                  <a:pt x="113" y="739"/>
                </a:lnTo>
                <a:lnTo>
                  <a:pt x="112" y="739"/>
                </a:lnTo>
                <a:lnTo>
                  <a:pt x="110" y="739"/>
                </a:lnTo>
                <a:lnTo>
                  <a:pt x="106" y="737"/>
                </a:lnTo>
                <a:lnTo>
                  <a:pt x="102" y="735"/>
                </a:lnTo>
                <a:lnTo>
                  <a:pt x="98" y="733"/>
                </a:lnTo>
                <a:lnTo>
                  <a:pt x="94" y="731"/>
                </a:lnTo>
                <a:lnTo>
                  <a:pt x="90" y="727"/>
                </a:lnTo>
                <a:lnTo>
                  <a:pt x="87" y="723"/>
                </a:lnTo>
                <a:lnTo>
                  <a:pt x="83" y="718"/>
                </a:lnTo>
                <a:lnTo>
                  <a:pt x="77" y="712"/>
                </a:lnTo>
                <a:lnTo>
                  <a:pt x="73" y="706"/>
                </a:lnTo>
                <a:lnTo>
                  <a:pt x="67" y="700"/>
                </a:lnTo>
                <a:lnTo>
                  <a:pt x="62" y="693"/>
                </a:lnTo>
                <a:lnTo>
                  <a:pt x="58" y="685"/>
                </a:lnTo>
                <a:lnTo>
                  <a:pt x="52" y="675"/>
                </a:lnTo>
                <a:lnTo>
                  <a:pt x="46" y="666"/>
                </a:lnTo>
                <a:lnTo>
                  <a:pt x="42" y="65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88"/>
          <p:cNvSpPr/>
          <p:nvPr/>
        </p:nvSpPr>
        <p:spPr>
          <a:xfrm>
            <a:off x="6637320" y="3008160"/>
            <a:ext cx="965160" cy="1003320"/>
          </a:xfrm>
          <a:custGeom>
            <a:avLst/>
            <a:gdLst/>
            <a:ahLst/>
            <a:rect l="l" t="t" r="r" b="b"/>
            <a:pathLst>
              <a:path w="1217" h="1265">
                <a:moveTo>
                  <a:pt x="1084" y="1179"/>
                </a:moveTo>
                <a:lnTo>
                  <a:pt x="1065" y="1186"/>
                </a:lnTo>
                <a:lnTo>
                  <a:pt x="1044" y="1194"/>
                </a:lnTo>
                <a:lnTo>
                  <a:pt x="1025" y="1200"/>
                </a:lnTo>
                <a:lnTo>
                  <a:pt x="1002" y="1207"/>
                </a:lnTo>
                <a:lnTo>
                  <a:pt x="981" y="1213"/>
                </a:lnTo>
                <a:lnTo>
                  <a:pt x="956" y="1219"/>
                </a:lnTo>
                <a:lnTo>
                  <a:pt x="933" y="1225"/>
                </a:lnTo>
                <a:lnTo>
                  <a:pt x="908" y="1230"/>
                </a:lnTo>
                <a:lnTo>
                  <a:pt x="881" y="1234"/>
                </a:lnTo>
                <a:lnTo>
                  <a:pt x="854" y="1240"/>
                </a:lnTo>
                <a:lnTo>
                  <a:pt x="827" y="1244"/>
                </a:lnTo>
                <a:lnTo>
                  <a:pt x="798" y="1248"/>
                </a:lnTo>
                <a:lnTo>
                  <a:pt x="769" y="1252"/>
                </a:lnTo>
                <a:lnTo>
                  <a:pt x="741" y="1254"/>
                </a:lnTo>
                <a:lnTo>
                  <a:pt x="710" y="1257"/>
                </a:lnTo>
                <a:lnTo>
                  <a:pt x="679" y="1261"/>
                </a:lnTo>
                <a:lnTo>
                  <a:pt x="647" y="1263"/>
                </a:lnTo>
                <a:lnTo>
                  <a:pt x="618" y="1265"/>
                </a:lnTo>
                <a:lnTo>
                  <a:pt x="589" y="1265"/>
                </a:lnTo>
                <a:lnTo>
                  <a:pt x="560" y="1265"/>
                </a:lnTo>
                <a:lnTo>
                  <a:pt x="533" y="1265"/>
                </a:lnTo>
                <a:lnTo>
                  <a:pt x="508" y="1265"/>
                </a:lnTo>
                <a:lnTo>
                  <a:pt x="483" y="1263"/>
                </a:lnTo>
                <a:lnTo>
                  <a:pt x="458" y="1261"/>
                </a:lnTo>
                <a:lnTo>
                  <a:pt x="435" y="1257"/>
                </a:lnTo>
                <a:lnTo>
                  <a:pt x="412" y="1254"/>
                </a:lnTo>
                <a:lnTo>
                  <a:pt x="391" y="1250"/>
                </a:lnTo>
                <a:lnTo>
                  <a:pt x="372" y="1246"/>
                </a:lnTo>
                <a:lnTo>
                  <a:pt x="353" y="1240"/>
                </a:lnTo>
                <a:lnTo>
                  <a:pt x="336" y="1232"/>
                </a:lnTo>
                <a:lnTo>
                  <a:pt x="318" y="1227"/>
                </a:lnTo>
                <a:lnTo>
                  <a:pt x="301" y="1219"/>
                </a:lnTo>
                <a:lnTo>
                  <a:pt x="284" y="1211"/>
                </a:lnTo>
                <a:lnTo>
                  <a:pt x="267" y="1204"/>
                </a:lnTo>
                <a:lnTo>
                  <a:pt x="251" y="1196"/>
                </a:lnTo>
                <a:lnTo>
                  <a:pt x="236" y="1188"/>
                </a:lnTo>
                <a:lnTo>
                  <a:pt x="222" y="1181"/>
                </a:lnTo>
                <a:lnTo>
                  <a:pt x="209" y="1171"/>
                </a:lnTo>
                <a:lnTo>
                  <a:pt x="196" y="1163"/>
                </a:lnTo>
                <a:lnTo>
                  <a:pt x="184" y="1154"/>
                </a:lnTo>
                <a:lnTo>
                  <a:pt x="174" y="1146"/>
                </a:lnTo>
                <a:lnTo>
                  <a:pt x="165" y="1136"/>
                </a:lnTo>
                <a:lnTo>
                  <a:pt x="155" y="1127"/>
                </a:lnTo>
                <a:lnTo>
                  <a:pt x="146" y="1115"/>
                </a:lnTo>
                <a:lnTo>
                  <a:pt x="138" y="1106"/>
                </a:lnTo>
                <a:lnTo>
                  <a:pt x="132" y="1094"/>
                </a:lnTo>
                <a:lnTo>
                  <a:pt x="126" y="1083"/>
                </a:lnTo>
                <a:lnTo>
                  <a:pt x="121" y="1069"/>
                </a:lnTo>
                <a:lnTo>
                  <a:pt x="117" y="1063"/>
                </a:lnTo>
                <a:lnTo>
                  <a:pt x="113" y="1058"/>
                </a:lnTo>
                <a:lnTo>
                  <a:pt x="109" y="1052"/>
                </a:lnTo>
                <a:lnTo>
                  <a:pt x="105" y="1044"/>
                </a:lnTo>
                <a:lnTo>
                  <a:pt x="103" y="1037"/>
                </a:lnTo>
                <a:lnTo>
                  <a:pt x="100" y="1029"/>
                </a:lnTo>
                <a:lnTo>
                  <a:pt x="96" y="1019"/>
                </a:lnTo>
                <a:lnTo>
                  <a:pt x="94" y="1010"/>
                </a:lnTo>
                <a:lnTo>
                  <a:pt x="92" y="1000"/>
                </a:lnTo>
                <a:lnTo>
                  <a:pt x="88" y="991"/>
                </a:lnTo>
                <a:lnTo>
                  <a:pt x="86" y="979"/>
                </a:lnTo>
                <a:lnTo>
                  <a:pt x="84" y="968"/>
                </a:lnTo>
                <a:lnTo>
                  <a:pt x="82" y="956"/>
                </a:lnTo>
                <a:lnTo>
                  <a:pt x="78" y="943"/>
                </a:lnTo>
                <a:lnTo>
                  <a:pt x="77" y="929"/>
                </a:lnTo>
                <a:lnTo>
                  <a:pt x="75" y="916"/>
                </a:lnTo>
                <a:lnTo>
                  <a:pt x="73" y="902"/>
                </a:lnTo>
                <a:lnTo>
                  <a:pt x="71" y="887"/>
                </a:lnTo>
                <a:lnTo>
                  <a:pt x="69" y="872"/>
                </a:lnTo>
                <a:lnTo>
                  <a:pt x="67" y="856"/>
                </a:lnTo>
                <a:lnTo>
                  <a:pt x="67" y="839"/>
                </a:lnTo>
                <a:lnTo>
                  <a:pt x="65" y="822"/>
                </a:lnTo>
                <a:lnTo>
                  <a:pt x="63" y="804"/>
                </a:lnTo>
                <a:lnTo>
                  <a:pt x="61" y="785"/>
                </a:lnTo>
                <a:lnTo>
                  <a:pt x="59" y="766"/>
                </a:lnTo>
                <a:lnTo>
                  <a:pt x="59" y="747"/>
                </a:lnTo>
                <a:lnTo>
                  <a:pt x="57" y="728"/>
                </a:lnTo>
                <a:lnTo>
                  <a:pt x="55" y="706"/>
                </a:lnTo>
                <a:lnTo>
                  <a:pt x="55" y="685"/>
                </a:lnTo>
                <a:lnTo>
                  <a:pt x="54" y="664"/>
                </a:lnTo>
                <a:lnTo>
                  <a:pt x="52" y="643"/>
                </a:lnTo>
                <a:lnTo>
                  <a:pt x="52" y="620"/>
                </a:lnTo>
                <a:lnTo>
                  <a:pt x="50" y="599"/>
                </a:lnTo>
                <a:lnTo>
                  <a:pt x="48" y="578"/>
                </a:lnTo>
                <a:lnTo>
                  <a:pt x="48" y="557"/>
                </a:lnTo>
                <a:lnTo>
                  <a:pt x="46" y="538"/>
                </a:lnTo>
                <a:lnTo>
                  <a:pt x="46" y="516"/>
                </a:lnTo>
                <a:lnTo>
                  <a:pt x="44" y="497"/>
                </a:lnTo>
                <a:lnTo>
                  <a:pt x="44" y="480"/>
                </a:lnTo>
                <a:lnTo>
                  <a:pt x="42" y="461"/>
                </a:lnTo>
                <a:lnTo>
                  <a:pt x="42" y="444"/>
                </a:lnTo>
                <a:lnTo>
                  <a:pt x="42" y="428"/>
                </a:lnTo>
                <a:lnTo>
                  <a:pt x="40" y="411"/>
                </a:lnTo>
                <a:lnTo>
                  <a:pt x="40" y="396"/>
                </a:lnTo>
                <a:lnTo>
                  <a:pt x="40" y="380"/>
                </a:lnTo>
                <a:lnTo>
                  <a:pt x="38" y="365"/>
                </a:lnTo>
                <a:lnTo>
                  <a:pt x="38" y="351"/>
                </a:lnTo>
                <a:lnTo>
                  <a:pt x="38" y="336"/>
                </a:lnTo>
                <a:lnTo>
                  <a:pt x="38" y="324"/>
                </a:lnTo>
                <a:lnTo>
                  <a:pt x="38" y="311"/>
                </a:lnTo>
                <a:lnTo>
                  <a:pt x="38" y="300"/>
                </a:lnTo>
                <a:lnTo>
                  <a:pt x="36" y="288"/>
                </a:lnTo>
                <a:lnTo>
                  <a:pt x="36" y="277"/>
                </a:lnTo>
                <a:lnTo>
                  <a:pt x="36" y="267"/>
                </a:lnTo>
                <a:lnTo>
                  <a:pt x="36" y="257"/>
                </a:lnTo>
                <a:lnTo>
                  <a:pt x="36" y="248"/>
                </a:lnTo>
                <a:lnTo>
                  <a:pt x="36" y="240"/>
                </a:lnTo>
                <a:lnTo>
                  <a:pt x="36" y="230"/>
                </a:lnTo>
                <a:lnTo>
                  <a:pt x="36" y="225"/>
                </a:lnTo>
                <a:lnTo>
                  <a:pt x="36" y="217"/>
                </a:lnTo>
                <a:lnTo>
                  <a:pt x="36" y="211"/>
                </a:lnTo>
                <a:lnTo>
                  <a:pt x="36" y="205"/>
                </a:lnTo>
                <a:lnTo>
                  <a:pt x="36" y="202"/>
                </a:lnTo>
                <a:lnTo>
                  <a:pt x="36" y="198"/>
                </a:lnTo>
                <a:lnTo>
                  <a:pt x="32" y="182"/>
                </a:lnTo>
                <a:lnTo>
                  <a:pt x="29" y="167"/>
                </a:lnTo>
                <a:lnTo>
                  <a:pt x="25" y="152"/>
                </a:lnTo>
                <a:lnTo>
                  <a:pt x="23" y="136"/>
                </a:lnTo>
                <a:lnTo>
                  <a:pt x="19" y="121"/>
                </a:lnTo>
                <a:lnTo>
                  <a:pt x="17" y="106"/>
                </a:lnTo>
                <a:lnTo>
                  <a:pt x="13" y="90"/>
                </a:lnTo>
                <a:lnTo>
                  <a:pt x="9" y="75"/>
                </a:lnTo>
                <a:lnTo>
                  <a:pt x="6" y="67"/>
                </a:lnTo>
                <a:lnTo>
                  <a:pt x="4" y="60"/>
                </a:lnTo>
                <a:lnTo>
                  <a:pt x="2" y="54"/>
                </a:lnTo>
                <a:lnTo>
                  <a:pt x="2" y="48"/>
                </a:lnTo>
                <a:lnTo>
                  <a:pt x="0" y="42"/>
                </a:lnTo>
                <a:lnTo>
                  <a:pt x="0" y="38"/>
                </a:lnTo>
                <a:lnTo>
                  <a:pt x="0" y="35"/>
                </a:lnTo>
                <a:lnTo>
                  <a:pt x="0" y="31"/>
                </a:lnTo>
                <a:lnTo>
                  <a:pt x="2" y="27"/>
                </a:lnTo>
                <a:lnTo>
                  <a:pt x="2" y="23"/>
                </a:lnTo>
                <a:lnTo>
                  <a:pt x="4" y="19"/>
                </a:lnTo>
                <a:lnTo>
                  <a:pt x="7" y="17"/>
                </a:lnTo>
                <a:lnTo>
                  <a:pt x="9" y="14"/>
                </a:lnTo>
                <a:lnTo>
                  <a:pt x="13" y="12"/>
                </a:lnTo>
                <a:lnTo>
                  <a:pt x="17" y="10"/>
                </a:lnTo>
                <a:lnTo>
                  <a:pt x="23" y="6"/>
                </a:lnTo>
                <a:lnTo>
                  <a:pt x="25" y="4"/>
                </a:lnTo>
                <a:lnTo>
                  <a:pt x="30" y="2"/>
                </a:lnTo>
                <a:lnTo>
                  <a:pt x="34" y="2"/>
                </a:lnTo>
                <a:lnTo>
                  <a:pt x="40" y="0"/>
                </a:lnTo>
                <a:lnTo>
                  <a:pt x="48" y="2"/>
                </a:lnTo>
                <a:lnTo>
                  <a:pt x="55" y="2"/>
                </a:lnTo>
                <a:lnTo>
                  <a:pt x="65" y="4"/>
                </a:lnTo>
                <a:lnTo>
                  <a:pt x="75" y="6"/>
                </a:lnTo>
                <a:lnTo>
                  <a:pt x="86" y="10"/>
                </a:lnTo>
                <a:lnTo>
                  <a:pt x="98" y="12"/>
                </a:lnTo>
                <a:lnTo>
                  <a:pt x="111" y="15"/>
                </a:lnTo>
                <a:lnTo>
                  <a:pt x="125" y="21"/>
                </a:lnTo>
                <a:lnTo>
                  <a:pt x="140" y="27"/>
                </a:lnTo>
                <a:lnTo>
                  <a:pt x="155" y="33"/>
                </a:lnTo>
                <a:lnTo>
                  <a:pt x="173" y="40"/>
                </a:lnTo>
                <a:lnTo>
                  <a:pt x="190" y="48"/>
                </a:lnTo>
                <a:lnTo>
                  <a:pt x="188" y="92"/>
                </a:lnTo>
                <a:lnTo>
                  <a:pt x="188" y="134"/>
                </a:lnTo>
                <a:lnTo>
                  <a:pt x="186" y="177"/>
                </a:lnTo>
                <a:lnTo>
                  <a:pt x="186" y="217"/>
                </a:lnTo>
                <a:lnTo>
                  <a:pt x="184" y="255"/>
                </a:lnTo>
                <a:lnTo>
                  <a:pt x="184" y="294"/>
                </a:lnTo>
                <a:lnTo>
                  <a:pt x="182" y="330"/>
                </a:lnTo>
                <a:lnTo>
                  <a:pt x="182" y="367"/>
                </a:lnTo>
                <a:lnTo>
                  <a:pt x="182" y="401"/>
                </a:lnTo>
                <a:lnTo>
                  <a:pt x="182" y="434"/>
                </a:lnTo>
                <a:lnTo>
                  <a:pt x="180" y="465"/>
                </a:lnTo>
                <a:lnTo>
                  <a:pt x="180" y="495"/>
                </a:lnTo>
                <a:lnTo>
                  <a:pt x="180" y="526"/>
                </a:lnTo>
                <a:lnTo>
                  <a:pt x="180" y="553"/>
                </a:lnTo>
                <a:lnTo>
                  <a:pt x="180" y="580"/>
                </a:lnTo>
                <a:lnTo>
                  <a:pt x="180" y="607"/>
                </a:lnTo>
                <a:lnTo>
                  <a:pt x="180" y="630"/>
                </a:lnTo>
                <a:lnTo>
                  <a:pt x="180" y="653"/>
                </a:lnTo>
                <a:lnTo>
                  <a:pt x="180" y="676"/>
                </a:lnTo>
                <a:lnTo>
                  <a:pt x="180" y="695"/>
                </a:lnTo>
                <a:lnTo>
                  <a:pt x="180" y="714"/>
                </a:lnTo>
                <a:lnTo>
                  <a:pt x="182" y="731"/>
                </a:lnTo>
                <a:lnTo>
                  <a:pt x="182" y="749"/>
                </a:lnTo>
                <a:lnTo>
                  <a:pt x="182" y="764"/>
                </a:lnTo>
                <a:lnTo>
                  <a:pt x="182" y="777"/>
                </a:lnTo>
                <a:lnTo>
                  <a:pt x="184" y="791"/>
                </a:lnTo>
                <a:lnTo>
                  <a:pt x="184" y="802"/>
                </a:lnTo>
                <a:lnTo>
                  <a:pt x="186" y="812"/>
                </a:lnTo>
                <a:lnTo>
                  <a:pt x="186" y="820"/>
                </a:lnTo>
                <a:lnTo>
                  <a:pt x="188" y="827"/>
                </a:lnTo>
                <a:lnTo>
                  <a:pt x="188" y="833"/>
                </a:lnTo>
                <a:lnTo>
                  <a:pt x="190" y="837"/>
                </a:lnTo>
                <a:lnTo>
                  <a:pt x="196" y="858"/>
                </a:lnTo>
                <a:lnTo>
                  <a:pt x="201" y="875"/>
                </a:lnTo>
                <a:lnTo>
                  <a:pt x="207" y="895"/>
                </a:lnTo>
                <a:lnTo>
                  <a:pt x="215" y="910"/>
                </a:lnTo>
                <a:lnTo>
                  <a:pt x="222" y="927"/>
                </a:lnTo>
                <a:lnTo>
                  <a:pt x="228" y="935"/>
                </a:lnTo>
                <a:lnTo>
                  <a:pt x="234" y="943"/>
                </a:lnTo>
                <a:lnTo>
                  <a:pt x="240" y="950"/>
                </a:lnTo>
                <a:lnTo>
                  <a:pt x="245" y="958"/>
                </a:lnTo>
                <a:lnTo>
                  <a:pt x="253" y="966"/>
                </a:lnTo>
                <a:lnTo>
                  <a:pt x="261" y="973"/>
                </a:lnTo>
                <a:lnTo>
                  <a:pt x="265" y="981"/>
                </a:lnTo>
                <a:lnTo>
                  <a:pt x="272" y="989"/>
                </a:lnTo>
                <a:lnTo>
                  <a:pt x="278" y="996"/>
                </a:lnTo>
                <a:lnTo>
                  <a:pt x="286" y="1002"/>
                </a:lnTo>
                <a:lnTo>
                  <a:pt x="293" y="1008"/>
                </a:lnTo>
                <a:lnTo>
                  <a:pt x="301" y="1014"/>
                </a:lnTo>
                <a:lnTo>
                  <a:pt x="311" y="1019"/>
                </a:lnTo>
                <a:lnTo>
                  <a:pt x="320" y="1025"/>
                </a:lnTo>
                <a:lnTo>
                  <a:pt x="330" y="1031"/>
                </a:lnTo>
                <a:lnTo>
                  <a:pt x="341" y="1035"/>
                </a:lnTo>
                <a:lnTo>
                  <a:pt x="364" y="1042"/>
                </a:lnTo>
                <a:lnTo>
                  <a:pt x="387" y="1050"/>
                </a:lnTo>
                <a:lnTo>
                  <a:pt x="414" y="1056"/>
                </a:lnTo>
                <a:lnTo>
                  <a:pt x="439" y="1062"/>
                </a:lnTo>
                <a:lnTo>
                  <a:pt x="468" y="1065"/>
                </a:lnTo>
                <a:lnTo>
                  <a:pt x="497" y="1069"/>
                </a:lnTo>
                <a:lnTo>
                  <a:pt x="528" y="1073"/>
                </a:lnTo>
                <a:lnTo>
                  <a:pt x="560" y="1075"/>
                </a:lnTo>
                <a:lnTo>
                  <a:pt x="577" y="1075"/>
                </a:lnTo>
                <a:lnTo>
                  <a:pt x="595" y="1075"/>
                </a:lnTo>
                <a:lnTo>
                  <a:pt x="610" y="1075"/>
                </a:lnTo>
                <a:lnTo>
                  <a:pt x="629" y="1073"/>
                </a:lnTo>
                <a:lnTo>
                  <a:pt x="647" y="1071"/>
                </a:lnTo>
                <a:lnTo>
                  <a:pt x="664" y="1069"/>
                </a:lnTo>
                <a:lnTo>
                  <a:pt x="695" y="1063"/>
                </a:lnTo>
                <a:lnTo>
                  <a:pt x="725" y="1060"/>
                </a:lnTo>
                <a:lnTo>
                  <a:pt x="754" y="1054"/>
                </a:lnTo>
                <a:lnTo>
                  <a:pt x="781" y="1046"/>
                </a:lnTo>
                <a:lnTo>
                  <a:pt x="810" y="1040"/>
                </a:lnTo>
                <a:lnTo>
                  <a:pt x="835" y="1033"/>
                </a:lnTo>
                <a:lnTo>
                  <a:pt x="862" y="1025"/>
                </a:lnTo>
                <a:lnTo>
                  <a:pt x="888" y="1016"/>
                </a:lnTo>
                <a:lnTo>
                  <a:pt x="892" y="1014"/>
                </a:lnTo>
                <a:lnTo>
                  <a:pt x="898" y="1012"/>
                </a:lnTo>
                <a:lnTo>
                  <a:pt x="908" y="1006"/>
                </a:lnTo>
                <a:lnTo>
                  <a:pt x="917" y="998"/>
                </a:lnTo>
                <a:lnTo>
                  <a:pt x="927" y="989"/>
                </a:lnTo>
                <a:lnTo>
                  <a:pt x="936" y="979"/>
                </a:lnTo>
                <a:lnTo>
                  <a:pt x="944" y="966"/>
                </a:lnTo>
                <a:lnTo>
                  <a:pt x="954" y="952"/>
                </a:lnTo>
                <a:lnTo>
                  <a:pt x="961" y="937"/>
                </a:lnTo>
                <a:lnTo>
                  <a:pt x="969" y="920"/>
                </a:lnTo>
                <a:lnTo>
                  <a:pt x="977" y="900"/>
                </a:lnTo>
                <a:lnTo>
                  <a:pt x="982" y="879"/>
                </a:lnTo>
                <a:lnTo>
                  <a:pt x="990" y="858"/>
                </a:lnTo>
                <a:lnTo>
                  <a:pt x="996" y="835"/>
                </a:lnTo>
                <a:lnTo>
                  <a:pt x="1002" y="810"/>
                </a:lnTo>
                <a:lnTo>
                  <a:pt x="1007" y="783"/>
                </a:lnTo>
                <a:lnTo>
                  <a:pt x="1013" y="756"/>
                </a:lnTo>
                <a:lnTo>
                  <a:pt x="1015" y="743"/>
                </a:lnTo>
                <a:lnTo>
                  <a:pt x="1019" y="730"/>
                </a:lnTo>
                <a:lnTo>
                  <a:pt x="1023" y="703"/>
                </a:lnTo>
                <a:lnTo>
                  <a:pt x="1029" y="680"/>
                </a:lnTo>
                <a:lnTo>
                  <a:pt x="1034" y="658"/>
                </a:lnTo>
                <a:lnTo>
                  <a:pt x="1038" y="639"/>
                </a:lnTo>
                <a:lnTo>
                  <a:pt x="1044" y="620"/>
                </a:lnTo>
                <a:lnTo>
                  <a:pt x="1050" y="605"/>
                </a:lnTo>
                <a:lnTo>
                  <a:pt x="1053" y="591"/>
                </a:lnTo>
                <a:lnTo>
                  <a:pt x="1057" y="578"/>
                </a:lnTo>
                <a:lnTo>
                  <a:pt x="1063" y="566"/>
                </a:lnTo>
                <a:lnTo>
                  <a:pt x="1067" y="559"/>
                </a:lnTo>
                <a:lnTo>
                  <a:pt x="1071" y="551"/>
                </a:lnTo>
                <a:lnTo>
                  <a:pt x="1075" y="545"/>
                </a:lnTo>
                <a:lnTo>
                  <a:pt x="1077" y="541"/>
                </a:lnTo>
                <a:lnTo>
                  <a:pt x="1080" y="538"/>
                </a:lnTo>
                <a:lnTo>
                  <a:pt x="1084" y="538"/>
                </a:lnTo>
                <a:lnTo>
                  <a:pt x="1086" y="541"/>
                </a:lnTo>
                <a:lnTo>
                  <a:pt x="1090" y="545"/>
                </a:lnTo>
                <a:lnTo>
                  <a:pt x="1092" y="551"/>
                </a:lnTo>
                <a:lnTo>
                  <a:pt x="1096" y="559"/>
                </a:lnTo>
                <a:lnTo>
                  <a:pt x="1100" y="566"/>
                </a:lnTo>
                <a:lnTo>
                  <a:pt x="1103" y="576"/>
                </a:lnTo>
                <a:lnTo>
                  <a:pt x="1107" y="587"/>
                </a:lnTo>
                <a:lnTo>
                  <a:pt x="1111" y="601"/>
                </a:lnTo>
                <a:lnTo>
                  <a:pt x="1115" y="614"/>
                </a:lnTo>
                <a:lnTo>
                  <a:pt x="1119" y="630"/>
                </a:lnTo>
                <a:lnTo>
                  <a:pt x="1123" y="647"/>
                </a:lnTo>
                <a:lnTo>
                  <a:pt x="1126" y="666"/>
                </a:lnTo>
                <a:lnTo>
                  <a:pt x="1130" y="687"/>
                </a:lnTo>
                <a:lnTo>
                  <a:pt x="1134" y="708"/>
                </a:lnTo>
                <a:lnTo>
                  <a:pt x="1136" y="731"/>
                </a:lnTo>
                <a:lnTo>
                  <a:pt x="1140" y="756"/>
                </a:lnTo>
                <a:lnTo>
                  <a:pt x="1142" y="781"/>
                </a:lnTo>
                <a:lnTo>
                  <a:pt x="1146" y="804"/>
                </a:lnTo>
                <a:lnTo>
                  <a:pt x="1148" y="827"/>
                </a:lnTo>
                <a:lnTo>
                  <a:pt x="1151" y="850"/>
                </a:lnTo>
                <a:lnTo>
                  <a:pt x="1155" y="872"/>
                </a:lnTo>
                <a:lnTo>
                  <a:pt x="1159" y="891"/>
                </a:lnTo>
                <a:lnTo>
                  <a:pt x="1165" y="910"/>
                </a:lnTo>
                <a:lnTo>
                  <a:pt x="1169" y="927"/>
                </a:lnTo>
                <a:lnTo>
                  <a:pt x="1172" y="944"/>
                </a:lnTo>
                <a:lnTo>
                  <a:pt x="1178" y="960"/>
                </a:lnTo>
                <a:lnTo>
                  <a:pt x="1184" y="975"/>
                </a:lnTo>
                <a:lnTo>
                  <a:pt x="1188" y="987"/>
                </a:lnTo>
                <a:lnTo>
                  <a:pt x="1194" y="1000"/>
                </a:lnTo>
                <a:lnTo>
                  <a:pt x="1199" y="1010"/>
                </a:lnTo>
                <a:lnTo>
                  <a:pt x="1203" y="1019"/>
                </a:lnTo>
                <a:lnTo>
                  <a:pt x="1209" y="1029"/>
                </a:lnTo>
                <a:lnTo>
                  <a:pt x="1213" y="1039"/>
                </a:lnTo>
                <a:lnTo>
                  <a:pt x="1217" y="1048"/>
                </a:lnTo>
                <a:lnTo>
                  <a:pt x="1217" y="1060"/>
                </a:lnTo>
                <a:lnTo>
                  <a:pt x="1217" y="1069"/>
                </a:lnTo>
                <a:lnTo>
                  <a:pt x="1215" y="1079"/>
                </a:lnTo>
                <a:lnTo>
                  <a:pt x="1211" y="1088"/>
                </a:lnTo>
                <a:lnTo>
                  <a:pt x="1205" y="1098"/>
                </a:lnTo>
                <a:lnTo>
                  <a:pt x="1197" y="1108"/>
                </a:lnTo>
                <a:lnTo>
                  <a:pt x="1190" y="1117"/>
                </a:lnTo>
                <a:lnTo>
                  <a:pt x="1178" y="1127"/>
                </a:lnTo>
                <a:lnTo>
                  <a:pt x="1167" y="1136"/>
                </a:lnTo>
                <a:lnTo>
                  <a:pt x="1153" y="1144"/>
                </a:lnTo>
                <a:lnTo>
                  <a:pt x="1138" y="1154"/>
                </a:lnTo>
                <a:lnTo>
                  <a:pt x="1123" y="1161"/>
                </a:lnTo>
                <a:lnTo>
                  <a:pt x="1103" y="1171"/>
                </a:lnTo>
                <a:lnTo>
                  <a:pt x="1084" y="117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89"/>
          <p:cNvSpPr/>
          <p:nvPr/>
        </p:nvSpPr>
        <p:spPr>
          <a:xfrm>
            <a:off x="6723000" y="2909880"/>
            <a:ext cx="674640" cy="701640"/>
          </a:xfrm>
          <a:custGeom>
            <a:avLst/>
            <a:gdLst/>
            <a:ahLst/>
            <a:rect l="l" t="t" r="r" b="b"/>
            <a:pathLst>
              <a:path w="851" h="883">
                <a:moveTo>
                  <a:pt x="292" y="703"/>
                </a:moveTo>
                <a:lnTo>
                  <a:pt x="280" y="691"/>
                </a:lnTo>
                <a:lnTo>
                  <a:pt x="269" y="682"/>
                </a:lnTo>
                <a:lnTo>
                  <a:pt x="257" y="672"/>
                </a:lnTo>
                <a:lnTo>
                  <a:pt x="248" y="664"/>
                </a:lnTo>
                <a:lnTo>
                  <a:pt x="240" y="655"/>
                </a:lnTo>
                <a:lnTo>
                  <a:pt x="232" y="647"/>
                </a:lnTo>
                <a:lnTo>
                  <a:pt x="225" y="639"/>
                </a:lnTo>
                <a:lnTo>
                  <a:pt x="219" y="632"/>
                </a:lnTo>
                <a:lnTo>
                  <a:pt x="215" y="624"/>
                </a:lnTo>
                <a:lnTo>
                  <a:pt x="211" y="618"/>
                </a:lnTo>
                <a:lnTo>
                  <a:pt x="208" y="613"/>
                </a:lnTo>
                <a:lnTo>
                  <a:pt x="206" y="607"/>
                </a:lnTo>
                <a:lnTo>
                  <a:pt x="206" y="603"/>
                </a:lnTo>
                <a:lnTo>
                  <a:pt x="206" y="599"/>
                </a:lnTo>
                <a:lnTo>
                  <a:pt x="206" y="595"/>
                </a:lnTo>
                <a:lnTo>
                  <a:pt x="209" y="593"/>
                </a:lnTo>
                <a:lnTo>
                  <a:pt x="209" y="590"/>
                </a:lnTo>
                <a:lnTo>
                  <a:pt x="211" y="590"/>
                </a:lnTo>
                <a:lnTo>
                  <a:pt x="213" y="588"/>
                </a:lnTo>
                <a:lnTo>
                  <a:pt x="217" y="588"/>
                </a:lnTo>
                <a:lnTo>
                  <a:pt x="221" y="588"/>
                </a:lnTo>
                <a:lnTo>
                  <a:pt x="225" y="588"/>
                </a:lnTo>
                <a:lnTo>
                  <a:pt x="232" y="588"/>
                </a:lnTo>
                <a:lnTo>
                  <a:pt x="238" y="590"/>
                </a:lnTo>
                <a:lnTo>
                  <a:pt x="246" y="591"/>
                </a:lnTo>
                <a:lnTo>
                  <a:pt x="254" y="591"/>
                </a:lnTo>
                <a:lnTo>
                  <a:pt x="263" y="593"/>
                </a:lnTo>
                <a:lnTo>
                  <a:pt x="273" y="597"/>
                </a:lnTo>
                <a:lnTo>
                  <a:pt x="284" y="599"/>
                </a:lnTo>
                <a:lnTo>
                  <a:pt x="296" y="601"/>
                </a:lnTo>
                <a:lnTo>
                  <a:pt x="307" y="603"/>
                </a:lnTo>
                <a:lnTo>
                  <a:pt x="321" y="607"/>
                </a:lnTo>
                <a:lnTo>
                  <a:pt x="332" y="609"/>
                </a:lnTo>
                <a:lnTo>
                  <a:pt x="346" y="611"/>
                </a:lnTo>
                <a:lnTo>
                  <a:pt x="357" y="613"/>
                </a:lnTo>
                <a:lnTo>
                  <a:pt x="367" y="614"/>
                </a:lnTo>
                <a:lnTo>
                  <a:pt x="378" y="614"/>
                </a:lnTo>
                <a:lnTo>
                  <a:pt x="388" y="616"/>
                </a:lnTo>
                <a:lnTo>
                  <a:pt x="398" y="616"/>
                </a:lnTo>
                <a:lnTo>
                  <a:pt x="405" y="616"/>
                </a:lnTo>
                <a:lnTo>
                  <a:pt x="415" y="616"/>
                </a:lnTo>
                <a:lnTo>
                  <a:pt x="423" y="616"/>
                </a:lnTo>
                <a:lnTo>
                  <a:pt x="436" y="614"/>
                </a:lnTo>
                <a:lnTo>
                  <a:pt x="449" y="611"/>
                </a:lnTo>
                <a:lnTo>
                  <a:pt x="461" y="607"/>
                </a:lnTo>
                <a:lnTo>
                  <a:pt x="463" y="603"/>
                </a:lnTo>
                <a:lnTo>
                  <a:pt x="467" y="599"/>
                </a:lnTo>
                <a:lnTo>
                  <a:pt x="469" y="593"/>
                </a:lnTo>
                <a:lnTo>
                  <a:pt x="472" y="586"/>
                </a:lnTo>
                <a:lnTo>
                  <a:pt x="478" y="578"/>
                </a:lnTo>
                <a:lnTo>
                  <a:pt x="482" y="568"/>
                </a:lnTo>
                <a:lnTo>
                  <a:pt x="486" y="559"/>
                </a:lnTo>
                <a:lnTo>
                  <a:pt x="492" y="547"/>
                </a:lnTo>
                <a:lnTo>
                  <a:pt x="497" y="534"/>
                </a:lnTo>
                <a:lnTo>
                  <a:pt x="503" y="520"/>
                </a:lnTo>
                <a:lnTo>
                  <a:pt x="509" y="505"/>
                </a:lnTo>
                <a:lnTo>
                  <a:pt x="515" y="490"/>
                </a:lnTo>
                <a:lnTo>
                  <a:pt x="522" y="472"/>
                </a:lnTo>
                <a:lnTo>
                  <a:pt x="528" y="455"/>
                </a:lnTo>
                <a:lnTo>
                  <a:pt x="536" y="436"/>
                </a:lnTo>
                <a:lnTo>
                  <a:pt x="543" y="415"/>
                </a:lnTo>
                <a:lnTo>
                  <a:pt x="549" y="396"/>
                </a:lnTo>
                <a:lnTo>
                  <a:pt x="553" y="376"/>
                </a:lnTo>
                <a:lnTo>
                  <a:pt x="557" y="359"/>
                </a:lnTo>
                <a:lnTo>
                  <a:pt x="559" y="342"/>
                </a:lnTo>
                <a:lnTo>
                  <a:pt x="561" y="327"/>
                </a:lnTo>
                <a:lnTo>
                  <a:pt x="563" y="311"/>
                </a:lnTo>
                <a:lnTo>
                  <a:pt x="565" y="298"/>
                </a:lnTo>
                <a:lnTo>
                  <a:pt x="566" y="284"/>
                </a:lnTo>
                <a:lnTo>
                  <a:pt x="566" y="273"/>
                </a:lnTo>
                <a:lnTo>
                  <a:pt x="566" y="263"/>
                </a:lnTo>
                <a:lnTo>
                  <a:pt x="566" y="254"/>
                </a:lnTo>
                <a:lnTo>
                  <a:pt x="565" y="246"/>
                </a:lnTo>
                <a:lnTo>
                  <a:pt x="565" y="238"/>
                </a:lnTo>
                <a:lnTo>
                  <a:pt x="563" y="233"/>
                </a:lnTo>
                <a:lnTo>
                  <a:pt x="561" y="229"/>
                </a:lnTo>
                <a:lnTo>
                  <a:pt x="557" y="225"/>
                </a:lnTo>
                <a:lnTo>
                  <a:pt x="551" y="223"/>
                </a:lnTo>
                <a:lnTo>
                  <a:pt x="543" y="221"/>
                </a:lnTo>
                <a:lnTo>
                  <a:pt x="536" y="219"/>
                </a:lnTo>
                <a:lnTo>
                  <a:pt x="526" y="217"/>
                </a:lnTo>
                <a:lnTo>
                  <a:pt x="515" y="217"/>
                </a:lnTo>
                <a:lnTo>
                  <a:pt x="503" y="215"/>
                </a:lnTo>
                <a:lnTo>
                  <a:pt x="490" y="215"/>
                </a:lnTo>
                <a:lnTo>
                  <a:pt x="476" y="215"/>
                </a:lnTo>
                <a:lnTo>
                  <a:pt x="459" y="217"/>
                </a:lnTo>
                <a:lnTo>
                  <a:pt x="444" y="219"/>
                </a:lnTo>
                <a:lnTo>
                  <a:pt x="424" y="221"/>
                </a:lnTo>
                <a:lnTo>
                  <a:pt x="407" y="223"/>
                </a:lnTo>
                <a:lnTo>
                  <a:pt x="386" y="225"/>
                </a:lnTo>
                <a:lnTo>
                  <a:pt x="365" y="229"/>
                </a:lnTo>
                <a:lnTo>
                  <a:pt x="344" y="233"/>
                </a:lnTo>
                <a:lnTo>
                  <a:pt x="321" y="238"/>
                </a:lnTo>
                <a:lnTo>
                  <a:pt x="294" y="246"/>
                </a:lnTo>
                <a:lnTo>
                  <a:pt x="269" y="252"/>
                </a:lnTo>
                <a:lnTo>
                  <a:pt x="244" y="259"/>
                </a:lnTo>
                <a:lnTo>
                  <a:pt x="221" y="265"/>
                </a:lnTo>
                <a:lnTo>
                  <a:pt x="198" y="269"/>
                </a:lnTo>
                <a:lnTo>
                  <a:pt x="175" y="275"/>
                </a:lnTo>
                <a:lnTo>
                  <a:pt x="154" y="279"/>
                </a:lnTo>
                <a:lnTo>
                  <a:pt x="133" y="280"/>
                </a:lnTo>
                <a:lnTo>
                  <a:pt x="113" y="284"/>
                </a:lnTo>
                <a:lnTo>
                  <a:pt x="94" y="286"/>
                </a:lnTo>
                <a:lnTo>
                  <a:pt x="77" y="288"/>
                </a:lnTo>
                <a:lnTo>
                  <a:pt x="60" y="290"/>
                </a:lnTo>
                <a:lnTo>
                  <a:pt x="42" y="292"/>
                </a:lnTo>
                <a:lnTo>
                  <a:pt x="27" y="292"/>
                </a:lnTo>
                <a:lnTo>
                  <a:pt x="14" y="292"/>
                </a:lnTo>
                <a:lnTo>
                  <a:pt x="0" y="294"/>
                </a:lnTo>
                <a:lnTo>
                  <a:pt x="0" y="231"/>
                </a:lnTo>
                <a:lnTo>
                  <a:pt x="0" y="171"/>
                </a:lnTo>
                <a:lnTo>
                  <a:pt x="27" y="169"/>
                </a:lnTo>
                <a:lnTo>
                  <a:pt x="56" y="169"/>
                </a:lnTo>
                <a:lnTo>
                  <a:pt x="83" y="169"/>
                </a:lnTo>
                <a:lnTo>
                  <a:pt x="110" y="167"/>
                </a:lnTo>
                <a:lnTo>
                  <a:pt x="135" y="165"/>
                </a:lnTo>
                <a:lnTo>
                  <a:pt x="160" y="163"/>
                </a:lnTo>
                <a:lnTo>
                  <a:pt x="185" y="161"/>
                </a:lnTo>
                <a:lnTo>
                  <a:pt x="209" y="158"/>
                </a:lnTo>
                <a:lnTo>
                  <a:pt x="232" y="156"/>
                </a:lnTo>
                <a:lnTo>
                  <a:pt x="254" y="152"/>
                </a:lnTo>
                <a:lnTo>
                  <a:pt x="277" y="146"/>
                </a:lnTo>
                <a:lnTo>
                  <a:pt x="298" y="142"/>
                </a:lnTo>
                <a:lnTo>
                  <a:pt x="319" y="137"/>
                </a:lnTo>
                <a:lnTo>
                  <a:pt x="338" y="129"/>
                </a:lnTo>
                <a:lnTo>
                  <a:pt x="357" y="123"/>
                </a:lnTo>
                <a:lnTo>
                  <a:pt x="376" y="115"/>
                </a:lnTo>
                <a:lnTo>
                  <a:pt x="394" y="110"/>
                </a:lnTo>
                <a:lnTo>
                  <a:pt x="411" y="106"/>
                </a:lnTo>
                <a:lnTo>
                  <a:pt x="426" y="100"/>
                </a:lnTo>
                <a:lnTo>
                  <a:pt x="442" y="94"/>
                </a:lnTo>
                <a:lnTo>
                  <a:pt x="455" y="90"/>
                </a:lnTo>
                <a:lnTo>
                  <a:pt x="469" y="85"/>
                </a:lnTo>
                <a:lnTo>
                  <a:pt x="480" y="79"/>
                </a:lnTo>
                <a:lnTo>
                  <a:pt x="492" y="75"/>
                </a:lnTo>
                <a:lnTo>
                  <a:pt x="501" y="69"/>
                </a:lnTo>
                <a:lnTo>
                  <a:pt x="511" y="64"/>
                </a:lnTo>
                <a:lnTo>
                  <a:pt x="518" y="60"/>
                </a:lnTo>
                <a:lnTo>
                  <a:pt x="526" y="54"/>
                </a:lnTo>
                <a:lnTo>
                  <a:pt x="532" y="50"/>
                </a:lnTo>
                <a:lnTo>
                  <a:pt x="536" y="44"/>
                </a:lnTo>
                <a:lnTo>
                  <a:pt x="540" y="39"/>
                </a:lnTo>
                <a:lnTo>
                  <a:pt x="543" y="35"/>
                </a:lnTo>
                <a:lnTo>
                  <a:pt x="549" y="25"/>
                </a:lnTo>
                <a:lnTo>
                  <a:pt x="555" y="16"/>
                </a:lnTo>
                <a:lnTo>
                  <a:pt x="561" y="10"/>
                </a:lnTo>
                <a:lnTo>
                  <a:pt x="565" y="6"/>
                </a:lnTo>
                <a:lnTo>
                  <a:pt x="568" y="4"/>
                </a:lnTo>
                <a:lnTo>
                  <a:pt x="572" y="2"/>
                </a:lnTo>
                <a:lnTo>
                  <a:pt x="576" y="2"/>
                </a:lnTo>
                <a:lnTo>
                  <a:pt x="582" y="0"/>
                </a:lnTo>
                <a:lnTo>
                  <a:pt x="588" y="0"/>
                </a:lnTo>
                <a:lnTo>
                  <a:pt x="593" y="2"/>
                </a:lnTo>
                <a:lnTo>
                  <a:pt x="599" y="2"/>
                </a:lnTo>
                <a:lnTo>
                  <a:pt x="607" y="4"/>
                </a:lnTo>
                <a:lnTo>
                  <a:pt x="614" y="6"/>
                </a:lnTo>
                <a:lnTo>
                  <a:pt x="630" y="12"/>
                </a:lnTo>
                <a:lnTo>
                  <a:pt x="645" y="19"/>
                </a:lnTo>
                <a:lnTo>
                  <a:pt x="662" y="27"/>
                </a:lnTo>
                <a:lnTo>
                  <a:pt x="680" y="37"/>
                </a:lnTo>
                <a:lnTo>
                  <a:pt x="699" y="48"/>
                </a:lnTo>
                <a:lnTo>
                  <a:pt x="708" y="54"/>
                </a:lnTo>
                <a:lnTo>
                  <a:pt x="720" y="60"/>
                </a:lnTo>
                <a:lnTo>
                  <a:pt x="732" y="67"/>
                </a:lnTo>
                <a:lnTo>
                  <a:pt x="743" y="73"/>
                </a:lnTo>
                <a:lnTo>
                  <a:pt x="755" y="81"/>
                </a:lnTo>
                <a:lnTo>
                  <a:pt x="768" y="89"/>
                </a:lnTo>
                <a:lnTo>
                  <a:pt x="778" y="96"/>
                </a:lnTo>
                <a:lnTo>
                  <a:pt x="787" y="104"/>
                </a:lnTo>
                <a:lnTo>
                  <a:pt x="795" y="110"/>
                </a:lnTo>
                <a:lnTo>
                  <a:pt x="803" y="117"/>
                </a:lnTo>
                <a:lnTo>
                  <a:pt x="810" y="123"/>
                </a:lnTo>
                <a:lnTo>
                  <a:pt x="818" y="129"/>
                </a:lnTo>
                <a:lnTo>
                  <a:pt x="824" y="135"/>
                </a:lnTo>
                <a:lnTo>
                  <a:pt x="829" y="140"/>
                </a:lnTo>
                <a:lnTo>
                  <a:pt x="835" y="144"/>
                </a:lnTo>
                <a:lnTo>
                  <a:pt x="839" y="150"/>
                </a:lnTo>
                <a:lnTo>
                  <a:pt x="843" y="154"/>
                </a:lnTo>
                <a:lnTo>
                  <a:pt x="845" y="158"/>
                </a:lnTo>
                <a:lnTo>
                  <a:pt x="847" y="161"/>
                </a:lnTo>
                <a:lnTo>
                  <a:pt x="849" y="165"/>
                </a:lnTo>
                <a:lnTo>
                  <a:pt x="851" y="167"/>
                </a:lnTo>
                <a:lnTo>
                  <a:pt x="851" y="171"/>
                </a:lnTo>
                <a:lnTo>
                  <a:pt x="851" y="181"/>
                </a:lnTo>
                <a:lnTo>
                  <a:pt x="849" y="188"/>
                </a:lnTo>
                <a:lnTo>
                  <a:pt x="845" y="196"/>
                </a:lnTo>
                <a:lnTo>
                  <a:pt x="841" y="202"/>
                </a:lnTo>
                <a:lnTo>
                  <a:pt x="837" y="209"/>
                </a:lnTo>
                <a:lnTo>
                  <a:pt x="833" y="215"/>
                </a:lnTo>
                <a:lnTo>
                  <a:pt x="824" y="225"/>
                </a:lnTo>
                <a:lnTo>
                  <a:pt x="820" y="229"/>
                </a:lnTo>
                <a:lnTo>
                  <a:pt x="816" y="233"/>
                </a:lnTo>
                <a:lnTo>
                  <a:pt x="814" y="236"/>
                </a:lnTo>
                <a:lnTo>
                  <a:pt x="810" y="242"/>
                </a:lnTo>
                <a:lnTo>
                  <a:pt x="806" y="248"/>
                </a:lnTo>
                <a:lnTo>
                  <a:pt x="803" y="256"/>
                </a:lnTo>
                <a:lnTo>
                  <a:pt x="799" y="263"/>
                </a:lnTo>
                <a:lnTo>
                  <a:pt x="795" y="273"/>
                </a:lnTo>
                <a:lnTo>
                  <a:pt x="791" y="282"/>
                </a:lnTo>
                <a:lnTo>
                  <a:pt x="787" y="292"/>
                </a:lnTo>
                <a:lnTo>
                  <a:pt x="783" y="302"/>
                </a:lnTo>
                <a:lnTo>
                  <a:pt x="780" y="313"/>
                </a:lnTo>
                <a:lnTo>
                  <a:pt x="776" y="325"/>
                </a:lnTo>
                <a:lnTo>
                  <a:pt x="772" y="336"/>
                </a:lnTo>
                <a:lnTo>
                  <a:pt x="768" y="361"/>
                </a:lnTo>
                <a:lnTo>
                  <a:pt x="764" y="375"/>
                </a:lnTo>
                <a:lnTo>
                  <a:pt x="760" y="388"/>
                </a:lnTo>
                <a:lnTo>
                  <a:pt x="756" y="401"/>
                </a:lnTo>
                <a:lnTo>
                  <a:pt x="753" y="417"/>
                </a:lnTo>
                <a:lnTo>
                  <a:pt x="747" y="432"/>
                </a:lnTo>
                <a:lnTo>
                  <a:pt x="741" y="447"/>
                </a:lnTo>
                <a:lnTo>
                  <a:pt x="728" y="480"/>
                </a:lnTo>
                <a:lnTo>
                  <a:pt x="714" y="515"/>
                </a:lnTo>
                <a:lnTo>
                  <a:pt x="701" y="549"/>
                </a:lnTo>
                <a:lnTo>
                  <a:pt x="685" y="584"/>
                </a:lnTo>
                <a:lnTo>
                  <a:pt x="670" y="620"/>
                </a:lnTo>
                <a:lnTo>
                  <a:pt x="661" y="638"/>
                </a:lnTo>
                <a:lnTo>
                  <a:pt x="653" y="655"/>
                </a:lnTo>
                <a:lnTo>
                  <a:pt x="645" y="670"/>
                </a:lnTo>
                <a:lnTo>
                  <a:pt x="637" y="686"/>
                </a:lnTo>
                <a:lnTo>
                  <a:pt x="630" y="701"/>
                </a:lnTo>
                <a:lnTo>
                  <a:pt x="622" y="716"/>
                </a:lnTo>
                <a:lnTo>
                  <a:pt x="614" y="730"/>
                </a:lnTo>
                <a:lnTo>
                  <a:pt x="607" y="743"/>
                </a:lnTo>
                <a:lnTo>
                  <a:pt x="599" y="755"/>
                </a:lnTo>
                <a:lnTo>
                  <a:pt x="591" y="766"/>
                </a:lnTo>
                <a:lnTo>
                  <a:pt x="584" y="778"/>
                </a:lnTo>
                <a:lnTo>
                  <a:pt x="574" y="789"/>
                </a:lnTo>
                <a:lnTo>
                  <a:pt x="566" y="799"/>
                </a:lnTo>
                <a:lnTo>
                  <a:pt x="559" y="808"/>
                </a:lnTo>
                <a:lnTo>
                  <a:pt x="551" y="816"/>
                </a:lnTo>
                <a:lnTo>
                  <a:pt x="543" y="824"/>
                </a:lnTo>
                <a:lnTo>
                  <a:pt x="528" y="839"/>
                </a:lnTo>
                <a:lnTo>
                  <a:pt x="520" y="847"/>
                </a:lnTo>
                <a:lnTo>
                  <a:pt x="513" y="853"/>
                </a:lnTo>
                <a:lnTo>
                  <a:pt x="505" y="858"/>
                </a:lnTo>
                <a:lnTo>
                  <a:pt x="497" y="864"/>
                </a:lnTo>
                <a:lnTo>
                  <a:pt x="490" y="868"/>
                </a:lnTo>
                <a:lnTo>
                  <a:pt x="482" y="872"/>
                </a:lnTo>
                <a:lnTo>
                  <a:pt x="476" y="876"/>
                </a:lnTo>
                <a:lnTo>
                  <a:pt x="469" y="879"/>
                </a:lnTo>
                <a:lnTo>
                  <a:pt x="463" y="881"/>
                </a:lnTo>
                <a:lnTo>
                  <a:pt x="455" y="881"/>
                </a:lnTo>
                <a:lnTo>
                  <a:pt x="449" y="883"/>
                </a:lnTo>
                <a:lnTo>
                  <a:pt x="444" y="883"/>
                </a:lnTo>
                <a:lnTo>
                  <a:pt x="438" y="881"/>
                </a:lnTo>
                <a:lnTo>
                  <a:pt x="432" y="879"/>
                </a:lnTo>
                <a:lnTo>
                  <a:pt x="423" y="877"/>
                </a:lnTo>
                <a:lnTo>
                  <a:pt x="413" y="876"/>
                </a:lnTo>
                <a:lnTo>
                  <a:pt x="407" y="872"/>
                </a:lnTo>
                <a:lnTo>
                  <a:pt x="399" y="866"/>
                </a:lnTo>
                <a:lnTo>
                  <a:pt x="398" y="864"/>
                </a:lnTo>
                <a:lnTo>
                  <a:pt x="396" y="860"/>
                </a:lnTo>
                <a:lnTo>
                  <a:pt x="394" y="854"/>
                </a:lnTo>
                <a:lnTo>
                  <a:pt x="392" y="851"/>
                </a:lnTo>
                <a:lnTo>
                  <a:pt x="392" y="845"/>
                </a:lnTo>
                <a:lnTo>
                  <a:pt x="390" y="839"/>
                </a:lnTo>
                <a:lnTo>
                  <a:pt x="390" y="831"/>
                </a:lnTo>
                <a:lnTo>
                  <a:pt x="390" y="824"/>
                </a:lnTo>
                <a:lnTo>
                  <a:pt x="390" y="816"/>
                </a:lnTo>
                <a:lnTo>
                  <a:pt x="388" y="808"/>
                </a:lnTo>
                <a:lnTo>
                  <a:pt x="386" y="801"/>
                </a:lnTo>
                <a:lnTo>
                  <a:pt x="384" y="793"/>
                </a:lnTo>
                <a:lnTo>
                  <a:pt x="382" y="785"/>
                </a:lnTo>
                <a:lnTo>
                  <a:pt x="376" y="778"/>
                </a:lnTo>
                <a:lnTo>
                  <a:pt x="373" y="770"/>
                </a:lnTo>
                <a:lnTo>
                  <a:pt x="367" y="762"/>
                </a:lnTo>
                <a:lnTo>
                  <a:pt x="361" y="757"/>
                </a:lnTo>
                <a:lnTo>
                  <a:pt x="353" y="749"/>
                </a:lnTo>
                <a:lnTo>
                  <a:pt x="346" y="741"/>
                </a:lnTo>
                <a:lnTo>
                  <a:pt x="336" y="733"/>
                </a:lnTo>
                <a:lnTo>
                  <a:pt x="327" y="726"/>
                </a:lnTo>
                <a:lnTo>
                  <a:pt x="317" y="718"/>
                </a:lnTo>
                <a:lnTo>
                  <a:pt x="305" y="710"/>
                </a:lnTo>
                <a:lnTo>
                  <a:pt x="292" y="70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90"/>
          <p:cNvSpPr/>
          <p:nvPr/>
        </p:nvSpPr>
        <p:spPr>
          <a:xfrm>
            <a:off x="5546880" y="3078000"/>
            <a:ext cx="1009440" cy="1235160"/>
          </a:xfrm>
          <a:custGeom>
            <a:avLst/>
            <a:gdLst/>
            <a:ahLst/>
            <a:rect l="l" t="t" r="r" b="b"/>
            <a:pathLst>
              <a:path w="1272" h="1557">
                <a:moveTo>
                  <a:pt x="309" y="1417"/>
                </a:moveTo>
                <a:lnTo>
                  <a:pt x="289" y="1428"/>
                </a:lnTo>
                <a:lnTo>
                  <a:pt x="272" y="1438"/>
                </a:lnTo>
                <a:lnTo>
                  <a:pt x="257" y="1448"/>
                </a:lnTo>
                <a:lnTo>
                  <a:pt x="239" y="1455"/>
                </a:lnTo>
                <a:lnTo>
                  <a:pt x="224" y="1465"/>
                </a:lnTo>
                <a:lnTo>
                  <a:pt x="209" y="1473"/>
                </a:lnTo>
                <a:lnTo>
                  <a:pt x="193" y="1480"/>
                </a:lnTo>
                <a:lnTo>
                  <a:pt x="180" y="1488"/>
                </a:lnTo>
                <a:lnTo>
                  <a:pt x="166" y="1494"/>
                </a:lnTo>
                <a:lnTo>
                  <a:pt x="153" y="1501"/>
                </a:lnTo>
                <a:lnTo>
                  <a:pt x="142" y="1507"/>
                </a:lnTo>
                <a:lnTo>
                  <a:pt x="128" y="1513"/>
                </a:lnTo>
                <a:lnTo>
                  <a:pt x="119" y="1519"/>
                </a:lnTo>
                <a:lnTo>
                  <a:pt x="107" y="1523"/>
                </a:lnTo>
                <a:lnTo>
                  <a:pt x="97" y="1528"/>
                </a:lnTo>
                <a:lnTo>
                  <a:pt x="86" y="1532"/>
                </a:lnTo>
                <a:lnTo>
                  <a:pt x="78" y="1536"/>
                </a:lnTo>
                <a:lnTo>
                  <a:pt x="69" y="1540"/>
                </a:lnTo>
                <a:lnTo>
                  <a:pt x="61" y="1544"/>
                </a:lnTo>
                <a:lnTo>
                  <a:pt x="53" y="1546"/>
                </a:lnTo>
                <a:lnTo>
                  <a:pt x="46" y="1549"/>
                </a:lnTo>
                <a:lnTo>
                  <a:pt x="40" y="1551"/>
                </a:lnTo>
                <a:lnTo>
                  <a:pt x="32" y="1553"/>
                </a:lnTo>
                <a:lnTo>
                  <a:pt x="28" y="1553"/>
                </a:lnTo>
                <a:lnTo>
                  <a:pt x="23" y="1555"/>
                </a:lnTo>
                <a:lnTo>
                  <a:pt x="19" y="1555"/>
                </a:lnTo>
                <a:lnTo>
                  <a:pt x="13" y="1557"/>
                </a:lnTo>
                <a:lnTo>
                  <a:pt x="11" y="1557"/>
                </a:lnTo>
                <a:lnTo>
                  <a:pt x="7" y="1557"/>
                </a:lnTo>
                <a:lnTo>
                  <a:pt x="5" y="1555"/>
                </a:lnTo>
                <a:lnTo>
                  <a:pt x="3" y="1555"/>
                </a:lnTo>
                <a:lnTo>
                  <a:pt x="1" y="1553"/>
                </a:lnTo>
                <a:lnTo>
                  <a:pt x="0" y="1551"/>
                </a:lnTo>
                <a:lnTo>
                  <a:pt x="0" y="1547"/>
                </a:lnTo>
                <a:lnTo>
                  <a:pt x="1" y="1542"/>
                </a:lnTo>
                <a:lnTo>
                  <a:pt x="3" y="1536"/>
                </a:lnTo>
                <a:lnTo>
                  <a:pt x="9" y="1528"/>
                </a:lnTo>
                <a:lnTo>
                  <a:pt x="15" y="1521"/>
                </a:lnTo>
                <a:lnTo>
                  <a:pt x="23" y="1513"/>
                </a:lnTo>
                <a:lnTo>
                  <a:pt x="32" y="1503"/>
                </a:lnTo>
                <a:lnTo>
                  <a:pt x="44" y="1492"/>
                </a:lnTo>
                <a:lnTo>
                  <a:pt x="57" y="1480"/>
                </a:lnTo>
                <a:lnTo>
                  <a:pt x="72" y="1469"/>
                </a:lnTo>
                <a:lnTo>
                  <a:pt x="88" y="1455"/>
                </a:lnTo>
                <a:lnTo>
                  <a:pt x="105" y="1440"/>
                </a:lnTo>
                <a:lnTo>
                  <a:pt x="124" y="1425"/>
                </a:lnTo>
                <a:lnTo>
                  <a:pt x="145" y="1407"/>
                </a:lnTo>
                <a:lnTo>
                  <a:pt x="168" y="1390"/>
                </a:lnTo>
                <a:lnTo>
                  <a:pt x="191" y="1371"/>
                </a:lnTo>
                <a:lnTo>
                  <a:pt x="214" y="1354"/>
                </a:lnTo>
                <a:lnTo>
                  <a:pt x="239" y="1333"/>
                </a:lnTo>
                <a:lnTo>
                  <a:pt x="262" y="1313"/>
                </a:lnTo>
                <a:lnTo>
                  <a:pt x="287" y="1292"/>
                </a:lnTo>
                <a:lnTo>
                  <a:pt x="310" y="1269"/>
                </a:lnTo>
                <a:lnTo>
                  <a:pt x="335" y="1246"/>
                </a:lnTo>
                <a:lnTo>
                  <a:pt x="358" y="1223"/>
                </a:lnTo>
                <a:lnTo>
                  <a:pt x="383" y="1198"/>
                </a:lnTo>
                <a:lnTo>
                  <a:pt x="408" y="1173"/>
                </a:lnTo>
                <a:lnTo>
                  <a:pt x="433" y="1146"/>
                </a:lnTo>
                <a:lnTo>
                  <a:pt x="458" y="1118"/>
                </a:lnTo>
                <a:lnTo>
                  <a:pt x="483" y="1089"/>
                </a:lnTo>
                <a:lnTo>
                  <a:pt x="508" y="1060"/>
                </a:lnTo>
                <a:lnTo>
                  <a:pt x="533" y="1027"/>
                </a:lnTo>
                <a:lnTo>
                  <a:pt x="560" y="995"/>
                </a:lnTo>
                <a:lnTo>
                  <a:pt x="581" y="962"/>
                </a:lnTo>
                <a:lnTo>
                  <a:pt x="604" y="929"/>
                </a:lnTo>
                <a:lnTo>
                  <a:pt x="627" y="897"/>
                </a:lnTo>
                <a:lnTo>
                  <a:pt x="648" y="864"/>
                </a:lnTo>
                <a:lnTo>
                  <a:pt x="667" y="832"/>
                </a:lnTo>
                <a:lnTo>
                  <a:pt x="689" y="799"/>
                </a:lnTo>
                <a:lnTo>
                  <a:pt x="708" y="768"/>
                </a:lnTo>
                <a:lnTo>
                  <a:pt x="727" y="736"/>
                </a:lnTo>
                <a:lnTo>
                  <a:pt x="744" y="703"/>
                </a:lnTo>
                <a:lnTo>
                  <a:pt x="761" y="672"/>
                </a:lnTo>
                <a:lnTo>
                  <a:pt x="779" y="640"/>
                </a:lnTo>
                <a:lnTo>
                  <a:pt x="794" y="607"/>
                </a:lnTo>
                <a:lnTo>
                  <a:pt x="809" y="576"/>
                </a:lnTo>
                <a:lnTo>
                  <a:pt x="825" y="544"/>
                </a:lnTo>
                <a:lnTo>
                  <a:pt x="838" y="511"/>
                </a:lnTo>
                <a:lnTo>
                  <a:pt x="852" y="476"/>
                </a:lnTo>
                <a:lnTo>
                  <a:pt x="859" y="461"/>
                </a:lnTo>
                <a:lnTo>
                  <a:pt x="865" y="444"/>
                </a:lnTo>
                <a:lnTo>
                  <a:pt x="871" y="428"/>
                </a:lnTo>
                <a:lnTo>
                  <a:pt x="877" y="415"/>
                </a:lnTo>
                <a:lnTo>
                  <a:pt x="882" y="400"/>
                </a:lnTo>
                <a:lnTo>
                  <a:pt x="886" y="386"/>
                </a:lnTo>
                <a:lnTo>
                  <a:pt x="892" y="373"/>
                </a:lnTo>
                <a:lnTo>
                  <a:pt x="896" y="359"/>
                </a:lnTo>
                <a:lnTo>
                  <a:pt x="900" y="346"/>
                </a:lnTo>
                <a:lnTo>
                  <a:pt x="905" y="334"/>
                </a:lnTo>
                <a:lnTo>
                  <a:pt x="909" y="323"/>
                </a:lnTo>
                <a:lnTo>
                  <a:pt x="913" y="311"/>
                </a:lnTo>
                <a:lnTo>
                  <a:pt x="915" y="302"/>
                </a:lnTo>
                <a:lnTo>
                  <a:pt x="919" y="292"/>
                </a:lnTo>
                <a:lnTo>
                  <a:pt x="923" y="283"/>
                </a:lnTo>
                <a:lnTo>
                  <a:pt x="925" y="273"/>
                </a:lnTo>
                <a:lnTo>
                  <a:pt x="930" y="256"/>
                </a:lnTo>
                <a:lnTo>
                  <a:pt x="934" y="240"/>
                </a:lnTo>
                <a:lnTo>
                  <a:pt x="936" y="227"/>
                </a:lnTo>
                <a:lnTo>
                  <a:pt x="938" y="217"/>
                </a:lnTo>
                <a:lnTo>
                  <a:pt x="940" y="208"/>
                </a:lnTo>
                <a:lnTo>
                  <a:pt x="940" y="200"/>
                </a:lnTo>
                <a:lnTo>
                  <a:pt x="938" y="194"/>
                </a:lnTo>
                <a:lnTo>
                  <a:pt x="936" y="190"/>
                </a:lnTo>
                <a:lnTo>
                  <a:pt x="930" y="187"/>
                </a:lnTo>
                <a:lnTo>
                  <a:pt x="925" y="183"/>
                </a:lnTo>
                <a:lnTo>
                  <a:pt x="919" y="181"/>
                </a:lnTo>
                <a:lnTo>
                  <a:pt x="913" y="181"/>
                </a:lnTo>
                <a:lnTo>
                  <a:pt x="905" y="181"/>
                </a:lnTo>
                <a:lnTo>
                  <a:pt x="898" y="183"/>
                </a:lnTo>
                <a:lnTo>
                  <a:pt x="890" y="187"/>
                </a:lnTo>
                <a:lnTo>
                  <a:pt x="880" y="190"/>
                </a:lnTo>
                <a:lnTo>
                  <a:pt x="877" y="192"/>
                </a:lnTo>
                <a:lnTo>
                  <a:pt x="873" y="194"/>
                </a:lnTo>
                <a:lnTo>
                  <a:pt x="869" y="194"/>
                </a:lnTo>
                <a:lnTo>
                  <a:pt x="865" y="196"/>
                </a:lnTo>
                <a:lnTo>
                  <a:pt x="859" y="198"/>
                </a:lnTo>
                <a:lnTo>
                  <a:pt x="854" y="198"/>
                </a:lnTo>
                <a:lnTo>
                  <a:pt x="846" y="200"/>
                </a:lnTo>
                <a:lnTo>
                  <a:pt x="838" y="202"/>
                </a:lnTo>
                <a:lnTo>
                  <a:pt x="831" y="202"/>
                </a:lnTo>
                <a:lnTo>
                  <a:pt x="821" y="204"/>
                </a:lnTo>
                <a:lnTo>
                  <a:pt x="811" y="204"/>
                </a:lnTo>
                <a:lnTo>
                  <a:pt x="802" y="206"/>
                </a:lnTo>
                <a:lnTo>
                  <a:pt x="792" y="208"/>
                </a:lnTo>
                <a:lnTo>
                  <a:pt x="781" y="208"/>
                </a:lnTo>
                <a:lnTo>
                  <a:pt x="769" y="210"/>
                </a:lnTo>
                <a:lnTo>
                  <a:pt x="756" y="210"/>
                </a:lnTo>
                <a:lnTo>
                  <a:pt x="742" y="212"/>
                </a:lnTo>
                <a:lnTo>
                  <a:pt x="729" y="212"/>
                </a:lnTo>
                <a:lnTo>
                  <a:pt x="715" y="213"/>
                </a:lnTo>
                <a:lnTo>
                  <a:pt x="700" y="213"/>
                </a:lnTo>
                <a:lnTo>
                  <a:pt x="685" y="213"/>
                </a:lnTo>
                <a:lnTo>
                  <a:pt x="669" y="215"/>
                </a:lnTo>
                <a:lnTo>
                  <a:pt x="652" y="215"/>
                </a:lnTo>
                <a:lnTo>
                  <a:pt x="635" y="215"/>
                </a:lnTo>
                <a:lnTo>
                  <a:pt x="618" y="217"/>
                </a:lnTo>
                <a:lnTo>
                  <a:pt x="598" y="217"/>
                </a:lnTo>
                <a:lnTo>
                  <a:pt x="579" y="217"/>
                </a:lnTo>
                <a:lnTo>
                  <a:pt x="560" y="217"/>
                </a:lnTo>
                <a:lnTo>
                  <a:pt x="539" y="217"/>
                </a:lnTo>
                <a:lnTo>
                  <a:pt x="520" y="217"/>
                </a:lnTo>
                <a:lnTo>
                  <a:pt x="497" y="219"/>
                </a:lnTo>
                <a:lnTo>
                  <a:pt x="476" y="219"/>
                </a:lnTo>
                <a:lnTo>
                  <a:pt x="476" y="137"/>
                </a:lnTo>
                <a:lnTo>
                  <a:pt x="512" y="131"/>
                </a:lnTo>
                <a:lnTo>
                  <a:pt x="550" y="125"/>
                </a:lnTo>
                <a:lnTo>
                  <a:pt x="591" y="121"/>
                </a:lnTo>
                <a:lnTo>
                  <a:pt x="629" y="116"/>
                </a:lnTo>
                <a:lnTo>
                  <a:pt x="667" y="112"/>
                </a:lnTo>
                <a:lnTo>
                  <a:pt x="708" y="106"/>
                </a:lnTo>
                <a:lnTo>
                  <a:pt x="746" y="100"/>
                </a:lnTo>
                <a:lnTo>
                  <a:pt x="783" y="96"/>
                </a:lnTo>
                <a:lnTo>
                  <a:pt x="800" y="93"/>
                </a:lnTo>
                <a:lnTo>
                  <a:pt x="817" y="89"/>
                </a:lnTo>
                <a:lnTo>
                  <a:pt x="833" y="87"/>
                </a:lnTo>
                <a:lnTo>
                  <a:pt x="848" y="83"/>
                </a:lnTo>
                <a:lnTo>
                  <a:pt x="863" y="79"/>
                </a:lnTo>
                <a:lnTo>
                  <a:pt x="875" y="75"/>
                </a:lnTo>
                <a:lnTo>
                  <a:pt x="888" y="71"/>
                </a:lnTo>
                <a:lnTo>
                  <a:pt x="900" y="66"/>
                </a:lnTo>
                <a:lnTo>
                  <a:pt x="909" y="62"/>
                </a:lnTo>
                <a:lnTo>
                  <a:pt x="921" y="58"/>
                </a:lnTo>
                <a:lnTo>
                  <a:pt x="928" y="52"/>
                </a:lnTo>
                <a:lnTo>
                  <a:pt x="938" y="48"/>
                </a:lnTo>
                <a:lnTo>
                  <a:pt x="946" y="43"/>
                </a:lnTo>
                <a:lnTo>
                  <a:pt x="952" y="37"/>
                </a:lnTo>
                <a:lnTo>
                  <a:pt x="959" y="33"/>
                </a:lnTo>
                <a:lnTo>
                  <a:pt x="965" y="27"/>
                </a:lnTo>
                <a:lnTo>
                  <a:pt x="971" y="22"/>
                </a:lnTo>
                <a:lnTo>
                  <a:pt x="976" y="18"/>
                </a:lnTo>
                <a:lnTo>
                  <a:pt x="984" y="12"/>
                </a:lnTo>
                <a:lnTo>
                  <a:pt x="994" y="8"/>
                </a:lnTo>
                <a:lnTo>
                  <a:pt x="1003" y="4"/>
                </a:lnTo>
                <a:lnTo>
                  <a:pt x="1013" y="2"/>
                </a:lnTo>
                <a:lnTo>
                  <a:pt x="1023" y="0"/>
                </a:lnTo>
                <a:lnTo>
                  <a:pt x="1034" y="0"/>
                </a:lnTo>
                <a:lnTo>
                  <a:pt x="1036" y="0"/>
                </a:lnTo>
                <a:lnTo>
                  <a:pt x="1040" y="0"/>
                </a:lnTo>
                <a:lnTo>
                  <a:pt x="1044" y="2"/>
                </a:lnTo>
                <a:lnTo>
                  <a:pt x="1049" y="4"/>
                </a:lnTo>
                <a:lnTo>
                  <a:pt x="1055" y="8"/>
                </a:lnTo>
                <a:lnTo>
                  <a:pt x="1061" y="10"/>
                </a:lnTo>
                <a:lnTo>
                  <a:pt x="1069" y="14"/>
                </a:lnTo>
                <a:lnTo>
                  <a:pt x="1076" y="18"/>
                </a:lnTo>
                <a:lnTo>
                  <a:pt x="1084" y="23"/>
                </a:lnTo>
                <a:lnTo>
                  <a:pt x="1094" y="29"/>
                </a:lnTo>
                <a:lnTo>
                  <a:pt x="1101" y="35"/>
                </a:lnTo>
                <a:lnTo>
                  <a:pt x="1113" y="41"/>
                </a:lnTo>
                <a:lnTo>
                  <a:pt x="1122" y="46"/>
                </a:lnTo>
                <a:lnTo>
                  <a:pt x="1134" y="54"/>
                </a:lnTo>
                <a:lnTo>
                  <a:pt x="1147" y="60"/>
                </a:lnTo>
                <a:lnTo>
                  <a:pt x="1159" y="68"/>
                </a:lnTo>
                <a:lnTo>
                  <a:pt x="1172" y="79"/>
                </a:lnTo>
                <a:lnTo>
                  <a:pt x="1184" y="89"/>
                </a:lnTo>
                <a:lnTo>
                  <a:pt x="1193" y="98"/>
                </a:lnTo>
                <a:lnTo>
                  <a:pt x="1205" y="106"/>
                </a:lnTo>
                <a:lnTo>
                  <a:pt x="1213" y="116"/>
                </a:lnTo>
                <a:lnTo>
                  <a:pt x="1222" y="123"/>
                </a:lnTo>
                <a:lnTo>
                  <a:pt x="1230" y="131"/>
                </a:lnTo>
                <a:lnTo>
                  <a:pt x="1236" y="139"/>
                </a:lnTo>
                <a:lnTo>
                  <a:pt x="1241" y="144"/>
                </a:lnTo>
                <a:lnTo>
                  <a:pt x="1247" y="152"/>
                </a:lnTo>
                <a:lnTo>
                  <a:pt x="1253" y="158"/>
                </a:lnTo>
                <a:lnTo>
                  <a:pt x="1257" y="162"/>
                </a:lnTo>
                <a:lnTo>
                  <a:pt x="1262" y="167"/>
                </a:lnTo>
                <a:lnTo>
                  <a:pt x="1264" y="171"/>
                </a:lnTo>
                <a:lnTo>
                  <a:pt x="1268" y="175"/>
                </a:lnTo>
                <a:lnTo>
                  <a:pt x="1272" y="177"/>
                </a:lnTo>
                <a:lnTo>
                  <a:pt x="1270" y="187"/>
                </a:lnTo>
                <a:lnTo>
                  <a:pt x="1268" y="194"/>
                </a:lnTo>
                <a:lnTo>
                  <a:pt x="1264" y="202"/>
                </a:lnTo>
                <a:lnTo>
                  <a:pt x="1261" y="210"/>
                </a:lnTo>
                <a:lnTo>
                  <a:pt x="1255" y="215"/>
                </a:lnTo>
                <a:lnTo>
                  <a:pt x="1247" y="221"/>
                </a:lnTo>
                <a:lnTo>
                  <a:pt x="1239" y="227"/>
                </a:lnTo>
                <a:lnTo>
                  <a:pt x="1230" y="233"/>
                </a:lnTo>
                <a:lnTo>
                  <a:pt x="1220" y="235"/>
                </a:lnTo>
                <a:lnTo>
                  <a:pt x="1213" y="240"/>
                </a:lnTo>
                <a:lnTo>
                  <a:pt x="1205" y="246"/>
                </a:lnTo>
                <a:lnTo>
                  <a:pt x="1197" y="254"/>
                </a:lnTo>
                <a:lnTo>
                  <a:pt x="1190" y="263"/>
                </a:lnTo>
                <a:lnTo>
                  <a:pt x="1182" y="275"/>
                </a:lnTo>
                <a:lnTo>
                  <a:pt x="1174" y="286"/>
                </a:lnTo>
                <a:lnTo>
                  <a:pt x="1166" y="300"/>
                </a:lnTo>
                <a:lnTo>
                  <a:pt x="1159" y="315"/>
                </a:lnTo>
                <a:lnTo>
                  <a:pt x="1151" y="331"/>
                </a:lnTo>
                <a:lnTo>
                  <a:pt x="1142" y="348"/>
                </a:lnTo>
                <a:lnTo>
                  <a:pt x="1134" y="365"/>
                </a:lnTo>
                <a:lnTo>
                  <a:pt x="1126" y="384"/>
                </a:lnTo>
                <a:lnTo>
                  <a:pt x="1118" y="405"/>
                </a:lnTo>
                <a:lnTo>
                  <a:pt x="1111" y="427"/>
                </a:lnTo>
                <a:lnTo>
                  <a:pt x="1103" y="450"/>
                </a:lnTo>
                <a:lnTo>
                  <a:pt x="1094" y="473"/>
                </a:lnTo>
                <a:lnTo>
                  <a:pt x="1080" y="498"/>
                </a:lnTo>
                <a:lnTo>
                  <a:pt x="1069" y="522"/>
                </a:lnTo>
                <a:lnTo>
                  <a:pt x="1053" y="549"/>
                </a:lnTo>
                <a:lnTo>
                  <a:pt x="1040" y="576"/>
                </a:lnTo>
                <a:lnTo>
                  <a:pt x="1023" y="605"/>
                </a:lnTo>
                <a:lnTo>
                  <a:pt x="1005" y="634"/>
                </a:lnTo>
                <a:lnTo>
                  <a:pt x="988" y="665"/>
                </a:lnTo>
                <a:lnTo>
                  <a:pt x="969" y="695"/>
                </a:lnTo>
                <a:lnTo>
                  <a:pt x="950" y="728"/>
                </a:lnTo>
                <a:lnTo>
                  <a:pt x="928" y="761"/>
                </a:lnTo>
                <a:lnTo>
                  <a:pt x="907" y="795"/>
                </a:lnTo>
                <a:lnTo>
                  <a:pt x="884" y="830"/>
                </a:lnTo>
                <a:lnTo>
                  <a:pt x="861" y="866"/>
                </a:lnTo>
                <a:lnTo>
                  <a:pt x="836" y="903"/>
                </a:lnTo>
                <a:lnTo>
                  <a:pt x="811" y="941"/>
                </a:lnTo>
                <a:lnTo>
                  <a:pt x="785" y="979"/>
                </a:lnTo>
                <a:lnTo>
                  <a:pt x="758" y="1016"/>
                </a:lnTo>
                <a:lnTo>
                  <a:pt x="729" y="1052"/>
                </a:lnTo>
                <a:lnTo>
                  <a:pt x="702" y="1087"/>
                </a:lnTo>
                <a:lnTo>
                  <a:pt x="671" y="1119"/>
                </a:lnTo>
                <a:lnTo>
                  <a:pt x="642" y="1152"/>
                </a:lnTo>
                <a:lnTo>
                  <a:pt x="612" y="1185"/>
                </a:lnTo>
                <a:lnTo>
                  <a:pt x="581" y="1215"/>
                </a:lnTo>
                <a:lnTo>
                  <a:pt x="548" y="1244"/>
                </a:lnTo>
                <a:lnTo>
                  <a:pt x="516" y="1273"/>
                </a:lnTo>
                <a:lnTo>
                  <a:pt x="483" y="1300"/>
                </a:lnTo>
                <a:lnTo>
                  <a:pt x="449" y="1325"/>
                </a:lnTo>
                <a:lnTo>
                  <a:pt x="414" y="1350"/>
                </a:lnTo>
                <a:lnTo>
                  <a:pt x="380" y="1373"/>
                </a:lnTo>
                <a:lnTo>
                  <a:pt x="345" y="1396"/>
                </a:lnTo>
                <a:lnTo>
                  <a:pt x="309" y="14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91"/>
          <p:cNvSpPr/>
          <p:nvPr/>
        </p:nvSpPr>
        <p:spPr>
          <a:xfrm>
            <a:off x="5769000" y="3510000"/>
            <a:ext cx="247680" cy="258840"/>
          </a:xfrm>
          <a:custGeom>
            <a:avLst/>
            <a:gdLst/>
            <a:ahLst/>
            <a:rect l="l" t="t" r="r" b="b"/>
            <a:pathLst>
              <a:path w="313" h="326">
                <a:moveTo>
                  <a:pt x="307" y="259"/>
                </a:moveTo>
                <a:lnTo>
                  <a:pt x="301" y="272"/>
                </a:lnTo>
                <a:lnTo>
                  <a:pt x="297" y="286"/>
                </a:lnTo>
                <a:lnTo>
                  <a:pt x="291" y="297"/>
                </a:lnTo>
                <a:lnTo>
                  <a:pt x="286" y="307"/>
                </a:lnTo>
                <a:lnTo>
                  <a:pt x="284" y="312"/>
                </a:lnTo>
                <a:lnTo>
                  <a:pt x="280" y="316"/>
                </a:lnTo>
                <a:lnTo>
                  <a:pt x="278" y="318"/>
                </a:lnTo>
                <a:lnTo>
                  <a:pt x="276" y="322"/>
                </a:lnTo>
                <a:lnTo>
                  <a:pt x="272" y="324"/>
                </a:lnTo>
                <a:lnTo>
                  <a:pt x="270" y="326"/>
                </a:lnTo>
                <a:lnTo>
                  <a:pt x="268" y="326"/>
                </a:lnTo>
                <a:lnTo>
                  <a:pt x="265" y="326"/>
                </a:lnTo>
                <a:lnTo>
                  <a:pt x="259" y="326"/>
                </a:lnTo>
                <a:lnTo>
                  <a:pt x="253" y="326"/>
                </a:lnTo>
                <a:lnTo>
                  <a:pt x="247" y="324"/>
                </a:lnTo>
                <a:lnTo>
                  <a:pt x="242" y="322"/>
                </a:lnTo>
                <a:lnTo>
                  <a:pt x="236" y="318"/>
                </a:lnTo>
                <a:lnTo>
                  <a:pt x="228" y="314"/>
                </a:lnTo>
                <a:lnTo>
                  <a:pt x="222" y="310"/>
                </a:lnTo>
                <a:lnTo>
                  <a:pt x="215" y="307"/>
                </a:lnTo>
                <a:lnTo>
                  <a:pt x="207" y="301"/>
                </a:lnTo>
                <a:lnTo>
                  <a:pt x="199" y="295"/>
                </a:lnTo>
                <a:lnTo>
                  <a:pt x="192" y="287"/>
                </a:lnTo>
                <a:lnTo>
                  <a:pt x="184" y="280"/>
                </a:lnTo>
                <a:lnTo>
                  <a:pt x="176" y="272"/>
                </a:lnTo>
                <a:lnTo>
                  <a:pt x="169" y="264"/>
                </a:lnTo>
                <a:lnTo>
                  <a:pt x="161" y="255"/>
                </a:lnTo>
                <a:lnTo>
                  <a:pt x="153" y="245"/>
                </a:lnTo>
                <a:lnTo>
                  <a:pt x="144" y="236"/>
                </a:lnTo>
                <a:lnTo>
                  <a:pt x="132" y="226"/>
                </a:lnTo>
                <a:lnTo>
                  <a:pt x="123" y="216"/>
                </a:lnTo>
                <a:lnTo>
                  <a:pt x="111" y="205"/>
                </a:lnTo>
                <a:lnTo>
                  <a:pt x="101" y="193"/>
                </a:lnTo>
                <a:lnTo>
                  <a:pt x="92" y="182"/>
                </a:lnTo>
                <a:lnTo>
                  <a:pt x="82" y="167"/>
                </a:lnTo>
                <a:lnTo>
                  <a:pt x="71" y="153"/>
                </a:lnTo>
                <a:lnTo>
                  <a:pt x="61" y="136"/>
                </a:lnTo>
                <a:lnTo>
                  <a:pt x="52" y="120"/>
                </a:lnTo>
                <a:lnTo>
                  <a:pt x="42" y="101"/>
                </a:lnTo>
                <a:lnTo>
                  <a:pt x="34" y="84"/>
                </a:lnTo>
                <a:lnTo>
                  <a:pt x="25" y="63"/>
                </a:lnTo>
                <a:lnTo>
                  <a:pt x="17" y="44"/>
                </a:lnTo>
                <a:lnTo>
                  <a:pt x="7" y="23"/>
                </a:lnTo>
                <a:lnTo>
                  <a:pt x="0" y="0"/>
                </a:lnTo>
                <a:lnTo>
                  <a:pt x="23" y="1"/>
                </a:lnTo>
                <a:lnTo>
                  <a:pt x="46" y="5"/>
                </a:lnTo>
                <a:lnTo>
                  <a:pt x="67" y="9"/>
                </a:lnTo>
                <a:lnTo>
                  <a:pt x="88" y="15"/>
                </a:lnTo>
                <a:lnTo>
                  <a:pt x="109" y="19"/>
                </a:lnTo>
                <a:lnTo>
                  <a:pt x="128" y="24"/>
                </a:lnTo>
                <a:lnTo>
                  <a:pt x="148" y="30"/>
                </a:lnTo>
                <a:lnTo>
                  <a:pt x="165" y="36"/>
                </a:lnTo>
                <a:lnTo>
                  <a:pt x="180" y="44"/>
                </a:lnTo>
                <a:lnTo>
                  <a:pt x="196" y="49"/>
                </a:lnTo>
                <a:lnTo>
                  <a:pt x="211" y="57"/>
                </a:lnTo>
                <a:lnTo>
                  <a:pt x="224" y="65"/>
                </a:lnTo>
                <a:lnTo>
                  <a:pt x="236" y="72"/>
                </a:lnTo>
                <a:lnTo>
                  <a:pt x="247" y="80"/>
                </a:lnTo>
                <a:lnTo>
                  <a:pt x="257" y="86"/>
                </a:lnTo>
                <a:lnTo>
                  <a:pt x="265" y="96"/>
                </a:lnTo>
                <a:lnTo>
                  <a:pt x="272" y="105"/>
                </a:lnTo>
                <a:lnTo>
                  <a:pt x="280" y="115"/>
                </a:lnTo>
                <a:lnTo>
                  <a:pt x="286" y="126"/>
                </a:lnTo>
                <a:lnTo>
                  <a:pt x="291" y="136"/>
                </a:lnTo>
                <a:lnTo>
                  <a:pt x="295" y="145"/>
                </a:lnTo>
                <a:lnTo>
                  <a:pt x="301" y="157"/>
                </a:lnTo>
                <a:lnTo>
                  <a:pt x="303" y="167"/>
                </a:lnTo>
                <a:lnTo>
                  <a:pt x="307" y="176"/>
                </a:lnTo>
                <a:lnTo>
                  <a:pt x="309" y="188"/>
                </a:lnTo>
                <a:lnTo>
                  <a:pt x="311" y="197"/>
                </a:lnTo>
                <a:lnTo>
                  <a:pt x="313" y="207"/>
                </a:lnTo>
                <a:lnTo>
                  <a:pt x="313" y="216"/>
                </a:lnTo>
                <a:lnTo>
                  <a:pt x="313" y="228"/>
                </a:lnTo>
                <a:lnTo>
                  <a:pt x="311" y="238"/>
                </a:lnTo>
                <a:lnTo>
                  <a:pt x="309" y="247"/>
                </a:lnTo>
                <a:lnTo>
                  <a:pt x="307" y="25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92"/>
          <p:cNvSpPr/>
          <p:nvPr/>
        </p:nvSpPr>
        <p:spPr>
          <a:xfrm>
            <a:off x="5513400" y="2732040"/>
            <a:ext cx="695160" cy="1028880"/>
          </a:xfrm>
          <a:custGeom>
            <a:avLst/>
            <a:gdLst/>
            <a:ahLst/>
            <a:rect l="l" t="t" r="r" b="b"/>
            <a:pathLst>
              <a:path w="877" h="1295">
                <a:moveTo>
                  <a:pt x="2" y="1293"/>
                </a:moveTo>
                <a:lnTo>
                  <a:pt x="0" y="1290"/>
                </a:lnTo>
                <a:lnTo>
                  <a:pt x="0" y="1286"/>
                </a:lnTo>
                <a:lnTo>
                  <a:pt x="0" y="1280"/>
                </a:lnTo>
                <a:lnTo>
                  <a:pt x="2" y="1272"/>
                </a:lnTo>
                <a:lnTo>
                  <a:pt x="6" y="1265"/>
                </a:lnTo>
                <a:lnTo>
                  <a:pt x="10" y="1255"/>
                </a:lnTo>
                <a:lnTo>
                  <a:pt x="16" y="1245"/>
                </a:lnTo>
                <a:lnTo>
                  <a:pt x="23" y="1232"/>
                </a:lnTo>
                <a:lnTo>
                  <a:pt x="33" y="1219"/>
                </a:lnTo>
                <a:lnTo>
                  <a:pt x="43" y="1205"/>
                </a:lnTo>
                <a:lnTo>
                  <a:pt x="52" y="1188"/>
                </a:lnTo>
                <a:lnTo>
                  <a:pt x="66" y="1171"/>
                </a:lnTo>
                <a:lnTo>
                  <a:pt x="79" y="1153"/>
                </a:lnTo>
                <a:lnTo>
                  <a:pt x="94" y="1132"/>
                </a:lnTo>
                <a:lnTo>
                  <a:pt x="110" y="1111"/>
                </a:lnTo>
                <a:lnTo>
                  <a:pt x="127" y="1090"/>
                </a:lnTo>
                <a:lnTo>
                  <a:pt x="158" y="1048"/>
                </a:lnTo>
                <a:lnTo>
                  <a:pt x="188" y="1007"/>
                </a:lnTo>
                <a:lnTo>
                  <a:pt x="215" y="967"/>
                </a:lnTo>
                <a:lnTo>
                  <a:pt x="242" y="927"/>
                </a:lnTo>
                <a:lnTo>
                  <a:pt x="269" y="888"/>
                </a:lnTo>
                <a:lnTo>
                  <a:pt x="292" y="850"/>
                </a:lnTo>
                <a:lnTo>
                  <a:pt x="315" y="812"/>
                </a:lnTo>
                <a:lnTo>
                  <a:pt x="338" y="775"/>
                </a:lnTo>
                <a:lnTo>
                  <a:pt x="348" y="758"/>
                </a:lnTo>
                <a:lnTo>
                  <a:pt x="359" y="739"/>
                </a:lnTo>
                <a:lnTo>
                  <a:pt x="369" y="718"/>
                </a:lnTo>
                <a:lnTo>
                  <a:pt x="382" y="696"/>
                </a:lnTo>
                <a:lnTo>
                  <a:pt x="394" y="673"/>
                </a:lnTo>
                <a:lnTo>
                  <a:pt x="405" y="650"/>
                </a:lnTo>
                <a:lnTo>
                  <a:pt x="419" y="627"/>
                </a:lnTo>
                <a:lnTo>
                  <a:pt x="432" y="602"/>
                </a:lnTo>
                <a:lnTo>
                  <a:pt x="446" y="576"/>
                </a:lnTo>
                <a:lnTo>
                  <a:pt x="459" y="549"/>
                </a:lnTo>
                <a:lnTo>
                  <a:pt x="472" y="522"/>
                </a:lnTo>
                <a:lnTo>
                  <a:pt x="486" y="493"/>
                </a:lnTo>
                <a:lnTo>
                  <a:pt x="501" y="462"/>
                </a:lnTo>
                <a:lnTo>
                  <a:pt x="517" y="432"/>
                </a:lnTo>
                <a:lnTo>
                  <a:pt x="532" y="399"/>
                </a:lnTo>
                <a:lnTo>
                  <a:pt x="547" y="366"/>
                </a:lnTo>
                <a:lnTo>
                  <a:pt x="559" y="338"/>
                </a:lnTo>
                <a:lnTo>
                  <a:pt x="570" y="309"/>
                </a:lnTo>
                <a:lnTo>
                  <a:pt x="580" y="282"/>
                </a:lnTo>
                <a:lnTo>
                  <a:pt x="590" y="257"/>
                </a:lnTo>
                <a:lnTo>
                  <a:pt x="599" y="234"/>
                </a:lnTo>
                <a:lnTo>
                  <a:pt x="607" y="211"/>
                </a:lnTo>
                <a:lnTo>
                  <a:pt x="613" y="192"/>
                </a:lnTo>
                <a:lnTo>
                  <a:pt x="616" y="172"/>
                </a:lnTo>
                <a:lnTo>
                  <a:pt x="622" y="155"/>
                </a:lnTo>
                <a:lnTo>
                  <a:pt x="624" y="140"/>
                </a:lnTo>
                <a:lnTo>
                  <a:pt x="626" y="126"/>
                </a:lnTo>
                <a:lnTo>
                  <a:pt x="626" y="115"/>
                </a:lnTo>
                <a:lnTo>
                  <a:pt x="626" y="103"/>
                </a:lnTo>
                <a:lnTo>
                  <a:pt x="624" y="94"/>
                </a:lnTo>
                <a:lnTo>
                  <a:pt x="620" y="86"/>
                </a:lnTo>
                <a:lnTo>
                  <a:pt x="616" y="80"/>
                </a:lnTo>
                <a:lnTo>
                  <a:pt x="611" y="76"/>
                </a:lnTo>
                <a:lnTo>
                  <a:pt x="607" y="71"/>
                </a:lnTo>
                <a:lnTo>
                  <a:pt x="603" y="65"/>
                </a:lnTo>
                <a:lnTo>
                  <a:pt x="601" y="61"/>
                </a:lnTo>
                <a:lnTo>
                  <a:pt x="597" y="55"/>
                </a:lnTo>
                <a:lnTo>
                  <a:pt x="595" y="52"/>
                </a:lnTo>
                <a:lnTo>
                  <a:pt x="595" y="46"/>
                </a:lnTo>
                <a:lnTo>
                  <a:pt x="593" y="42"/>
                </a:lnTo>
                <a:lnTo>
                  <a:pt x="593" y="38"/>
                </a:lnTo>
                <a:lnTo>
                  <a:pt x="593" y="32"/>
                </a:lnTo>
                <a:lnTo>
                  <a:pt x="595" y="25"/>
                </a:lnTo>
                <a:lnTo>
                  <a:pt x="597" y="19"/>
                </a:lnTo>
                <a:lnTo>
                  <a:pt x="603" y="13"/>
                </a:lnTo>
                <a:lnTo>
                  <a:pt x="607" y="7"/>
                </a:lnTo>
                <a:lnTo>
                  <a:pt x="613" y="5"/>
                </a:lnTo>
                <a:lnTo>
                  <a:pt x="618" y="2"/>
                </a:lnTo>
                <a:lnTo>
                  <a:pt x="626" y="0"/>
                </a:lnTo>
                <a:lnTo>
                  <a:pt x="636" y="0"/>
                </a:lnTo>
                <a:lnTo>
                  <a:pt x="639" y="0"/>
                </a:lnTo>
                <a:lnTo>
                  <a:pt x="645" y="0"/>
                </a:lnTo>
                <a:lnTo>
                  <a:pt x="651" y="0"/>
                </a:lnTo>
                <a:lnTo>
                  <a:pt x="657" y="0"/>
                </a:lnTo>
                <a:lnTo>
                  <a:pt x="664" y="0"/>
                </a:lnTo>
                <a:lnTo>
                  <a:pt x="672" y="0"/>
                </a:lnTo>
                <a:lnTo>
                  <a:pt x="680" y="0"/>
                </a:lnTo>
                <a:lnTo>
                  <a:pt x="687" y="0"/>
                </a:lnTo>
                <a:lnTo>
                  <a:pt x="695" y="2"/>
                </a:lnTo>
                <a:lnTo>
                  <a:pt x="705" y="4"/>
                </a:lnTo>
                <a:lnTo>
                  <a:pt x="712" y="5"/>
                </a:lnTo>
                <a:lnTo>
                  <a:pt x="720" y="9"/>
                </a:lnTo>
                <a:lnTo>
                  <a:pt x="730" y="13"/>
                </a:lnTo>
                <a:lnTo>
                  <a:pt x="739" y="17"/>
                </a:lnTo>
                <a:lnTo>
                  <a:pt x="747" y="23"/>
                </a:lnTo>
                <a:lnTo>
                  <a:pt x="758" y="27"/>
                </a:lnTo>
                <a:lnTo>
                  <a:pt x="768" y="32"/>
                </a:lnTo>
                <a:lnTo>
                  <a:pt x="778" y="38"/>
                </a:lnTo>
                <a:lnTo>
                  <a:pt x="789" y="46"/>
                </a:lnTo>
                <a:lnTo>
                  <a:pt x="801" y="52"/>
                </a:lnTo>
                <a:lnTo>
                  <a:pt x="812" y="59"/>
                </a:lnTo>
                <a:lnTo>
                  <a:pt x="826" y="67"/>
                </a:lnTo>
                <a:lnTo>
                  <a:pt x="837" y="76"/>
                </a:lnTo>
                <a:lnTo>
                  <a:pt x="849" y="88"/>
                </a:lnTo>
                <a:lnTo>
                  <a:pt x="856" y="99"/>
                </a:lnTo>
                <a:lnTo>
                  <a:pt x="864" y="111"/>
                </a:lnTo>
                <a:lnTo>
                  <a:pt x="870" y="123"/>
                </a:lnTo>
                <a:lnTo>
                  <a:pt x="874" y="134"/>
                </a:lnTo>
                <a:lnTo>
                  <a:pt x="877" y="147"/>
                </a:lnTo>
                <a:lnTo>
                  <a:pt x="877" y="161"/>
                </a:lnTo>
                <a:lnTo>
                  <a:pt x="876" y="174"/>
                </a:lnTo>
                <a:lnTo>
                  <a:pt x="874" y="188"/>
                </a:lnTo>
                <a:lnTo>
                  <a:pt x="870" y="203"/>
                </a:lnTo>
                <a:lnTo>
                  <a:pt x="864" y="218"/>
                </a:lnTo>
                <a:lnTo>
                  <a:pt x="856" y="234"/>
                </a:lnTo>
                <a:lnTo>
                  <a:pt x="849" y="251"/>
                </a:lnTo>
                <a:lnTo>
                  <a:pt x="837" y="268"/>
                </a:lnTo>
                <a:lnTo>
                  <a:pt x="826" y="286"/>
                </a:lnTo>
                <a:lnTo>
                  <a:pt x="812" y="303"/>
                </a:lnTo>
                <a:lnTo>
                  <a:pt x="799" y="324"/>
                </a:lnTo>
                <a:lnTo>
                  <a:pt x="783" y="345"/>
                </a:lnTo>
                <a:lnTo>
                  <a:pt x="768" y="366"/>
                </a:lnTo>
                <a:lnTo>
                  <a:pt x="753" y="389"/>
                </a:lnTo>
                <a:lnTo>
                  <a:pt x="735" y="414"/>
                </a:lnTo>
                <a:lnTo>
                  <a:pt x="718" y="441"/>
                </a:lnTo>
                <a:lnTo>
                  <a:pt x="699" y="468"/>
                </a:lnTo>
                <a:lnTo>
                  <a:pt x="682" y="495"/>
                </a:lnTo>
                <a:lnTo>
                  <a:pt x="661" y="524"/>
                </a:lnTo>
                <a:lnTo>
                  <a:pt x="641" y="554"/>
                </a:lnTo>
                <a:lnTo>
                  <a:pt x="620" y="585"/>
                </a:lnTo>
                <a:lnTo>
                  <a:pt x="599" y="618"/>
                </a:lnTo>
                <a:lnTo>
                  <a:pt x="578" y="652"/>
                </a:lnTo>
                <a:lnTo>
                  <a:pt x="555" y="687"/>
                </a:lnTo>
                <a:lnTo>
                  <a:pt x="532" y="721"/>
                </a:lnTo>
                <a:lnTo>
                  <a:pt x="509" y="760"/>
                </a:lnTo>
                <a:lnTo>
                  <a:pt x="486" y="794"/>
                </a:lnTo>
                <a:lnTo>
                  <a:pt x="463" y="829"/>
                </a:lnTo>
                <a:lnTo>
                  <a:pt x="440" y="863"/>
                </a:lnTo>
                <a:lnTo>
                  <a:pt x="417" y="894"/>
                </a:lnTo>
                <a:lnTo>
                  <a:pt x="394" y="925"/>
                </a:lnTo>
                <a:lnTo>
                  <a:pt x="371" y="954"/>
                </a:lnTo>
                <a:lnTo>
                  <a:pt x="348" y="981"/>
                </a:lnTo>
                <a:lnTo>
                  <a:pt x="325" y="1005"/>
                </a:lnTo>
                <a:lnTo>
                  <a:pt x="304" y="1030"/>
                </a:lnTo>
                <a:lnTo>
                  <a:pt x="282" y="1055"/>
                </a:lnTo>
                <a:lnTo>
                  <a:pt x="261" y="1078"/>
                </a:lnTo>
                <a:lnTo>
                  <a:pt x="240" y="1100"/>
                </a:lnTo>
                <a:lnTo>
                  <a:pt x="221" y="1119"/>
                </a:lnTo>
                <a:lnTo>
                  <a:pt x="202" y="1138"/>
                </a:lnTo>
                <a:lnTo>
                  <a:pt x="185" y="1157"/>
                </a:lnTo>
                <a:lnTo>
                  <a:pt x="165" y="1174"/>
                </a:lnTo>
                <a:lnTo>
                  <a:pt x="148" y="1192"/>
                </a:lnTo>
                <a:lnTo>
                  <a:pt x="133" y="1207"/>
                </a:lnTo>
                <a:lnTo>
                  <a:pt x="115" y="1220"/>
                </a:lnTo>
                <a:lnTo>
                  <a:pt x="102" y="1234"/>
                </a:lnTo>
                <a:lnTo>
                  <a:pt x="87" y="1245"/>
                </a:lnTo>
                <a:lnTo>
                  <a:pt x="73" y="1257"/>
                </a:lnTo>
                <a:lnTo>
                  <a:pt x="62" y="1267"/>
                </a:lnTo>
                <a:lnTo>
                  <a:pt x="50" y="1274"/>
                </a:lnTo>
                <a:lnTo>
                  <a:pt x="41" y="1282"/>
                </a:lnTo>
                <a:lnTo>
                  <a:pt x="31" y="1288"/>
                </a:lnTo>
                <a:lnTo>
                  <a:pt x="23" y="1291"/>
                </a:lnTo>
                <a:lnTo>
                  <a:pt x="16" y="1293"/>
                </a:lnTo>
                <a:lnTo>
                  <a:pt x="10" y="1295"/>
                </a:lnTo>
                <a:lnTo>
                  <a:pt x="6" y="1295"/>
                </a:lnTo>
                <a:lnTo>
                  <a:pt x="2" y="129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4"/>
          <p:cNvSpPr/>
          <p:nvPr/>
        </p:nvSpPr>
        <p:spPr>
          <a:xfrm>
            <a:off x="2224080" y="253224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截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114880" y="2382840"/>
          <a:ext cx="2941560" cy="3040200"/>
        </p:xfrm>
        <a:graphic>
          <a:graphicData uri="http://schemas.openxmlformats.org/drawingml/2006/table">
            <a:tbl>
              <a:tblPr/>
              <a:tblGrid>
                <a:gridCol w="1471680"/>
                <a:gridCol w="146988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1" name="组合 3"/>
          <p:cNvGrpSpPr/>
          <p:nvPr/>
        </p:nvGrpSpPr>
        <p:grpSpPr>
          <a:xfrm>
            <a:off x="1400040" y="3975120"/>
            <a:ext cx="3049560" cy="1616400"/>
            <a:chOff x="1400040" y="3975120"/>
            <a:chExt cx="3049560" cy="1616400"/>
          </a:xfrm>
        </p:grpSpPr>
        <p:pic>
          <p:nvPicPr>
            <p:cNvPr id="142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304956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矩形 2"/>
            <p:cNvSpPr/>
            <p:nvPr/>
          </p:nvSpPr>
          <p:spPr>
            <a:xfrm>
              <a:off x="1410120" y="4583160"/>
              <a:ext cx="302724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隹”笔画紧凑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矩形 2"/>
          <p:cNvSpPr/>
          <p:nvPr/>
        </p:nvSpPr>
        <p:spPr>
          <a:xfrm>
            <a:off x="2189160" y="1855800"/>
            <a:ext cx="164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149"/>
          <p:cNvSpPr/>
          <p:nvPr/>
        </p:nvSpPr>
        <p:spPr>
          <a:xfrm>
            <a:off x="7085160" y="2946240"/>
            <a:ext cx="276120" cy="230400"/>
          </a:xfrm>
          <a:custGeom>
            <a:avLst/>
            <a:gdLst/>
            <a:ahLst/>
            <a:rect l="l" t="t" r="r" b="b"/>
            <a:pathLst>
              <a:path w="347" h="289">
                <a:moveTo>
                  <a:pt x="0" y="23"/>
                </a:moveTo>
                <a:lnTo>
                  <a:pt x="4" y="19"/>
                </a:lnTo>
                <a:lnTo>
                  <a:pt x="11" y="15"/>
                </a:lnTo>
                <a:lnTo>
                  <a:pt x="15" y="13"/>
                </a:lnTo>
                <a:lnTo>
                  <a:pt x="19" y="11"/>
                </a:lnTo>
                <a:lnTo>
                  <a:pt x="25" y="9"/>
                </a:lnTo>
                <a:lnTo>
                  <a:pt x="31" y="7"/>
                </a:lnTo>
                <a:lnTo>
                  <a:pt x="36" y="5"/>
                </a:lnTo>
                <a:lnTo>
                  <a:pt x="42" y="3"/>
                </a:lnTo>
                <a:lnTo>
                  <a:pt x="50" y="1"/>
                </a:lnTo>
                <a:lnTo>
                  <a:pt x="59" y="1"/>
                </a:lnTo>
                <a:lnTo>
                  <a:pt x="67" y="0"/>
                </a:lnTo>
                <a:lnTo>
                  <a:pt x="77" y="0"/>
                </a:lnTo>
                <a:lnTo>
                  <a:pt x="88" y="0"/>
                </a:lnTo>
                <a:lnTo>
                  <a:pt x="100" y="0"/>
                </a:lnTo>
                <a:lnTo>
                  <a:pt x="117" y="0"/>
                </a:lnTo>
                <a:lnTo>
                  <a:pt x="136" y="1"/>
                </a:lnTo>
                <a:lnTo>
                  <a:pt x="155" y="3"/>
                </a:lnTo>
                <a:lnTo>
                  <a:pt x="173" y="7"/>
                </a:lnTo>
                <a:lnTo>
                  <a:pt x="192" y="11"/>
                </a:lnTo>
                <a:lnTo>
                  <a:pt x="211" y="15"/>
                </a:lnTo>
                <a:lnTo>
                  <a:pt x="248" y="23"/>
                </a:lnTo>
                <a:lnTo>
                  <a:pt x="263" y="28"/>
                </a:lnTo>
                <a:lnTo>
                  <a:pt x="276" y="34"/>
                </a:lnTo>
                <a:lnTo>
                  <a:pt x="290" y="42"/>
                </a:lnTo>
                <a:lnTo>
                  <a:pt x="301" y="49"/>
                </a:lnTo>
                <a:lnTo>
                  <a:pt x="313" y="57"/>
                </a:lnTo>
                <a:lnTo>
                  <a:pt x="322" y="65"/>
                </a:lnTo>
                <a:lnTo>
                  <a:pt x="326" y="71"/>
                </a:lnTo>
                <a:lnTo>
                  <a:pt x="330" y="74"/>
                </a:lnTo>
                <a:lnTo>
                  <a:pt x="332" y="78"/>
                </a:lnTo>
                <a:lnTo>
                  <a:pt x="336" y="84"/>
                </a:lnTo>
                <a:lnTo>
                  <a:pt x="340" y="97"/>
                </a:lnTo>
                <a:lnTo>
                  <a:pt x="344" y="111"/>
                </a:lnTo>
                <a:lnTo>
                  <a:pt x="345" y="124"/>
                </a:lnTo>
                <a:lnTo>
                  <a:pt x="345" y="140"/>
                </a:lnTo>
                <a:lnTo>
                  <a:pt x="347" y="155"/>
                </a:lnTo>
                <a:lnTo>
                  <a:pt x="347" y="170"/>
                </a:lnTo>
                <a:lnTo>
                  <a:pt x="347" y="188"/>
                </a:lnTo>
                <a:lnTo>
                  <a:pt x="347" y="205"/>
                </a:lnTo>
                <a:lnTo>
                  <a:pt x="347" y="215"/>
                </a:lnTo>
                <a:lnTo>
                  <a:pt x="347" y="226"/>
                </a:lnTo>
                <a:lnTo>
                  <a:pt x="347" y="236"/>
                </a:lnTo>
                <a:lnTo>
                  <a:pt x="345" y="243"/>
                </a:lnTo>
                <a:lnTo>
                  <a:pt x="344" y="251"/>
                </a:lnTo>
                <a:lnTo>
                  <a:pt x="344" y="259"/>
                </a:lnTo>
                <a:lnTo>
                  <a:pt x="342" y="264"/>
                </a:lnTo>
                <a:lnTo>
                  <a:pt x="338" y="270"/>
                </a:lnTo>
                <a:lnTo>
                  <a:pt x="336" y="274"/>
                </a:lnTo>
                <a:lnTo>
                  <a:pt x="334" y="278"/>
                </a:lnTo>
                <a:lnTo>
                  <a:pt x="330" y="282"/>
                </a:lnTo>
                <a:lnTo>
                  <a:pt x="326" y="286"/>
                </a:lnTo>
                <a:lnTo>
                  <a:pt x="322" y="287"/>
                </a:lnTo>
                <a:lnTo>
                  <a:pt x="319" y="287"/>
                </a:lnTo>
                <a:lnTo>
                  <a:pt x="315" y="289"/>
                </a:lnTo>
                <a:lnTo>
                  <a:pt x="311" y="289"/>
                </a:lnTo>
                <a:lnTo>
                  <a:pt x="305" y="289"/>
                </a:lnTo>
                <a:lnTo>
                  <a:pt x="301" y="287"/>
                </a:lnTo>
                <a:lnTo>
                  <a:pt x="296" y="287"/>
                </a:lnTo>
                <a:lnTo>
                  <a:pt x="290" y="286"/>
                </a:lnTo>
                <a:lnTo>
                  <a:pt x="282" y="282"/>
                </a:lnTo>
                <a:lnTo>
                  <a:pt x="276" y="278"/>
                </a:lnTo>
                <a:lnTo>
                  <a:pt x="269" y="274"/>
                </a:lnTo>
                <a:lnTo>
                  <a:pt x="263" y="270"/>
                </a:lnTo>
                <a:lnTo>
                  <a:pt x="253" y="264"/>
                </a:lnTo>
                <a:lnTo>
                  <a:pt x="246" y="259"/>
                </a:lnTo>
                <a:lnTo>
                  <a:pt x="238" y="251"/>
                </a:lnTo>
                <a:lnTo>
                  <a:pt x="228" y="243"/>
                </a:lnTo>
                <a:lnTo>
                  <a:pt x="219" y="236"/>
                </a:lnTo>
                <a:lnTo>
                  <a:pt x="207" y="226"/>
                </a:lnTo>
                <a:lnTo>
                  <a:pt x="198" y="216"/>
                </a:lnTo>
                <a:lnTo>
                  <a:pt x="186" y="205"/>
                </a:lnTo>
                <a:lnTo>
                  <a:pt x="175" y="193"/>
                </a:lnTo>
                <a:lnTo>
                  <a:pt x="163" y="182"/>
                </a:lnTo>
                <a:lnTo>
                  <a:pt x="153" y="172"/>
                </a:lnTo>
                <a:lnTo>
                  <a:pt x="142" y="163"/>
                </a:lnTo>
                <a:lnTo>
                  <a:pt x="123" y="145"/>
                </a:lnTo>
                <a:lnTo>
                  <a:pt x="104" y="128"/>
                </a:lnTo>
                <a:lnTo>
                  <a:pt x="94" y="120"/>
                </a:lnTo>
                <a:lnTo>
                  <a:pt x="86" y="113"/>
                </a:lnTo>
                <a:lnTo>
                  <a:pt x="79" y="107"/>
                </a:lnTo>
                <a:lnTo>
                  <a:pt x="73" y="99"/>
                </a:lnTo>
                <a:lnTo>
                  <a:pt x="65" y="92"/>
                </a:lnTo>
                <a:lnTo>
                  <a:pt x="59" y="86"/>
                </a:lnTo>
                <a:lnTo>
                  <a:pt x="54" y="78"/>
                </a:lnTo>
                <a:lnTo>
                  <a:pt x="50" y="72"/>
                </a:lnTo>
                <a:lnTo>
                  <a:pt x="42" y="67"/>
                </a:lnTo>
                <a:lnTo>
                  <a:pt x="36" y="63"/>
                </a:lnTo>
                <a:lnTo>
                  <a:pt x="31" y="59"/>
                </a:lnTo>
                <a:lnTo>
                  <a:pt x="25" y="55"/>
                </a:lnTo>
                <a:lnTo>
                  <a:pt x="21" y="51"/>
                </a:lnTo>
                <a:lnTo>
                  <a:pt x="17" y="49"/>
                </a:lnTo>
                <a:lnTo>
                  <a:pt x="10" y="44"/>
                </a:lnTo>
                <a:lnTo>
                  <a:pt x="6" y="38"/>
                </a:lnTo>
                <a:lnTo>
                  <a:pt x="2" y="32"/>
                </a:lnTo>
                <a:lnTo>
                  <a:pt x="0" y="28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150"/>
          <p:cNvSpPr/>
          <p:nvPr/>
        </p:nvSpPr>
        <p:spPr>
          <a:xfrm>
            <a:off x="6529320" y="3600360"/>
            <a:ext cx="881280" cy="1136880"/>
          </a:xfrm>
          <a:custGeom>
            <a:avLst/>
            <a:gdLst/>
            <a:ahLst/>
            <a:rect l="l" t="t" r="r" b="b"/>
            <a:pathLst>
              <a:path w="1112" h="1432">
                <a:moveTo>
                  <a:pt x="862" y="81"/>
                </a:moveTo>
                <a:lnTo>
                  <a:pt x="856" y="75"/>
                </a:lnTo>
                <a:lnTo>
                  <a:pt x="851" y="67"/>
                </a:lnTo>
                <a:lnTo>
                  <a:pt x="845" y="61"/>
                </a:lnTo>
                <a:lnTo>
                  <a:pt x="841" y="56"/>
                </a:lnTo>
                <a:lnTo>
                  <a:pt x="837" y="50"/>
                </a:lnTo>
                <a:lnTo>
                  <a:pt x="835" y="44"/>
                </a:lnTo>
                <a:lnTo>
                  <a:pt x="833" y="40"/>
                </a:lnTo>
                <a:lnTo>
                  <a:pt x="833" y="34"/>
                </a:lnTo>
                <a:lnTo>
                  <a:pt x="833" y="31"/>
                </a:lnTo>
                <a:lnTo>
                  <a:pt x="833" y="27"/>
                </a:lnTo>
                <a:lnTo>
                  <a:pt x="833" y="23"/>
                </a:lnTo>
                <a:lnTo>
                  <a:pt x="835" y="19"/>
                </a:lnTo>
                <a:lnTo>
                  <a:pt x="839" y="17"/>
                </a:lnTo>
                <a:lnTo>
                  <a:pt x="841" y="13"/>
                </a:lnTo>
                <a:lnTo>
                  <a:pt x="845" y="11"/>
                </a:lnTo>
                <a:lnTo>
                  <a:pt x="851" y="8"/>
                </a:lnTo>
                <a:lnTo>
                  <a:pt x="853" y="6"/>
                </a:lnTo>
                <a:lnTo>
                  <a:pt x="854" y="4"/>
                </a:lnTo>
                <a:lnTo>
                  <a:pt x="858" y="2"/>
                </a:lnTo>
                <a:lnTo>
                  <a:pt x="864" y="2"/>
                </a:lnTo>
                <a:lnTo>
                  <a:pt x="868" y="0"/>
                </a:lnTo>
                <a:lnTo>
                  <a:pt x="874" y="0"/>
                </a:lnTo>
                <a:lnTo>
                  <a:pt x="879" y="0"/>
                </a:lnTo>
                <a:lnTo>
                  <a:pt x="885" y="0"/>
                </a:lnTo>
                <a:lnTo>
                  <a:pt x="899" y="0"/>
                </a:lnTo>
                <a:lnTo>
                  <a:pt x="914" y="2"/>
                </a:lnTo>
                <a:lnTo>
                  <a:pt x="931" y="4"/>
                </a:lnTo>
                <a:lnTo>
                  <a:pt x="949" y="8"/>
                </a:lnTo>
                <a:lnTo>
                  <a:pt x="968" y="13"/>
                </a:lnTo>
                <a:lnTo>
                  <a:pt x="985" y="19"/>
                </a:lnTo>
                <a:lnTo>
                  <a:pt x="1000" y="27"/>
                </a:lnTo>
                <a:lnTo>
                  <a:pt x="1016" y="34"/>
                </a:lnTo>
                <a:lnTo>
                  <a:pt x="1031" y="42"/>
                </a:lnTo>
                <a:lnTo>
                  <a:pt x="1046" y="50"/>
                </a:lnTo>
                <a:lnTo>
                  <a:pt x="1073" y="69"/>
                </a:lnTo>
                <a:lnTo>
                  <a:pt x="1083" y="82"/>
                </a:lnTo>
                <a:lnTo>
                  <a:pt x="1091" y="94"/>
                </a:lnTo>
                <a:lnTo>
                  <a:pt x="1096" y="105"/>
                </a:lnTo>
                <a:lnTo>
                  <a:pt x="1102" y="115"/>
                </a:lnTo>
                <a:lnTo>
                  <a:pt x="1106" y="125"/>
                </a:lnTo>
                <a:lnTo>
                  <a:pt x="1110" y="134"/>
                </a:lnTo>
                <a:lnTo>
                  <a:pt x="1110" y="144"/>
                </a:lnTo>
                <a:lnTo>
                  <a:pt x="1112" y="153"/>
                </a:lnTo>
                <a:lnTo>
                  <a:pt x="1112" y="155"/>
                </a:lnTo>
                <a:lnTo>
                  <a:pt x="1110" y="159"/>
                </a:lnTo>
                <a:lnTo>
                  <a:pt x="1110" y="163"/>
                </a:lnTo>
                <a:lnTo>
                  <a:pt x="1108" y="167"/>
                </a:lnTo>
                <a:lnTo>
                  <a:pt x="1106" y="173"/>
                </a:lnTo>
                <a:lnTo>
                  <a:pt x="1104" y="177"/>
                </a:lnTo>
                <a:lnTo>
                  <a:pt x="1102" y="182"/>
                </a:lnTo>
                <a:lnTo>
                  <a:pt x="1100" y="190"/>
                </a:lnTo>
                <a:lnTo>
                  <a:pt x="1096" y="196"/>
                </a:lnTo>
                <a:lnTo>
                  <a:pt x="1092" y="203"/>
                </a:lnTo>
                <a:lnTo>
                  <a:pt x="1089" y="213"/>
                </a:lnTo>
                <a:lnTo>
                  <a:pt x="1085" y="221"/>
                </a:lnTo>
                <a:lnTo>
                  <a:pt x="1081" y="230"/>
                </a:lnTo>
                <a:lnTo>
                  <a:pt x="1075" y="240"/>
                </a:lnTo>
                <a:lnTo>
                  <a:pt x="1071" y="251"/>
                </a:lnTo>
                <a:lnTo>
                  <a:pt x="1066" y="261"/>
                </a:lnTo>
                <a:lnTo>
                  <a:pt x="1060" y="272"/>
                </a:lnTo>
                <a:lnTo>
                  <a:pt x="1054" y="286"/>
                </a:lnTo>
                <a:lnTo>
                  <a:pt x="1046" y="297"/>
                </a:lnTo>
                <a:lnTo>
                  <a:pt x="1041" y="311"/>
                </a:lnTo>
                <a:lnTo>
                  <a:pt x="1033" y="326"/>
                </a:lnTo>
                <a:lnTo>
                  <a:pt x="1025" y="340"/>
                </a:lnTo>
                <a:lnTo>
                  <a:pt x="1018" y="355"/>
                </a:lnTo>
                <a:lnTo>
                  <a:pt x="1010" y="370"/>
                </a:lnTo>
                <a:lnTo>
                  <a:pt x="1002" y="386"/>
                </a:lnTo>
                <a:lnTo>
                  <a:pt x="995" y="403"/>
                </a:lnTo>
                <a:lnTo>
                  <a:pt x="985" y="420"/>
                </a:lnTo>
                <a:lnTo>
                  <a:pt x="975" y="439"/>
                </a:lnTo>
                <a:lnTo>
                  <a:pt x="966" y="457"/>
                </a:lnTo>
                <a:lnTo>
                  <a:pt x="956" y="476"/>
                </a:lnTo>
                <a:lnTo>
                  <a:pt x="947" y="495"/>
                </a:lnTo>
                <a:lnTo>
                  <a:pt x="937" y="516"/>
                </a:lnTo>
                <a:lnTo>
                  <a:pt x="914" y="559"/>
                </a:lnTo>
                <a:lnTo>
                  <a:pt x="891" y="599"/>
                </a:lnTo>
                <a:lnTo>
                  <a:pt x="868" y="639"/>
                </a:lnTo>
                <a:lnTo>
                  <a:pt x="847" y="678"/>
                </a:lnTo>
                <a:lnTo>
                  <a:pt x="824" y="714"/>
                </a:lnTo>
                <a:lnTo>
                  <a:pt x="803" y="750"/>
                </a:lnTo>
                <a:lnTo>
                  <a:pt x="780" y="783"/>
                </a:lnTo>
                <a:lnTo>
                  <a:pt x="759" y="816"/>
                </a:lnTo>
                <a:lnTo>
                  <a:pt x="735" y="848"/>
                </a:lnTo>
                <a:lnTo>
                  <a:pt x="714" y="879"/>
                </a:lnTo>
                <a:lnTo>
                  <a:pt x="693" y="908"/>
                </a:lnTo>
                <a:lnTo>
                  <a:pt x="672" y="935"/>
                </a:lnTo>
                <a:lnTo>
                  <a:pt x="651" y="962"/>
                </a:lnTo>
                <a:lnTo>
                  <a:pt x="630" y="988"/>
                </a:lnTo>
                <a:lnTo>
                  <a:pt x="609" y="1013"/>
                </a:lnTo>
                <a:lnTo>
                  <a:pt x="588" y="1036"/>
                </a:lnTo>
                <a:lnTo>
                  <a:pt x="567" y="1060"/>
                </a:lnTo>
                <a:lnTo>
                  <a:pt x="545" y="1081"/>
                </a:lnTo>
                <a:lnTo>
                  <a:pt x="524" y="1102"/>
                </a:lnTo>
                <a:lnTo>
                  <a:pt x="501" y="1123"/>
                </a:lnTo>
                <a:lnTo>
                  <a:pt x="480" y="1142"/>
                </a:lnTo>
                <a:lnTo>
                  <a:pt x="457" y="1163"/>
                </a:lnTo>
                <a:lnTo>
                  <a:pt x="411" y="1200"/>
                </a:lnTo>
                <a:lnTo>
                  <a:pt x="363" y="1236"/>
                </a:lnTo>
                <a:lnTo>
                  <a:pt x="315" y="1273"/>
                </a:lnTo>
                <a:lnTo>
                  <a:pt x="265" y="1305"/>
                </a:lnTo>
                <a:lnTo>
                  <a:pt x="215" y="1338"/>
                </a:lnTo>
                <a:lnTo>
                  <a:pt x="190" y="1353"/>
                </a:lnTo>
                <a:lnTo>
                  <a:pt x="167" y="1367"/>
                </a:lnTo>
                <a:lnTo>
                  <a:pt x="146" y="1380"/>
                </a:lnTo>
                <a:lnTo>
                  <a:pt x="125" y="1392"/>
                </a:lnTo>
                <a:lnTo>
                  <a:pt x="108" y="1401"/>
                </a:lnTo>
                <a:lnTo>
                  <a:pt x="91" y="1409"/>
                </a:lnTo>
                <a:lnTo>
                  <a:pt x="75" y="1417"/>
                </a:lnTo>
                <a:lnTo>
                  <a:pt x="62" y="1422"/>
                </a:lnTo>
                <a:lnTo>
                  <a:pt x="50" y="1426"/>
                </a:lnTo>
                <a:lnTo>
                  <a:pt x="39" y="1430"/>
                </a:lnTo>
                <a:lnTo>
                  <a:pt x="29" y="1432"/>
                </a:lnTo>
                <a:lnTo>
                  <a:pt x="21" y="1432"/>
                </a:lnTo>
                <a:lnTo>
                  <a:pt x="16" y="1432"/>
                </a:lnTo>
                <a:lnTo>
                  <a:pt x="10" y="1430"/>
                </a:lnTo>
                <a:lnTo>
                  <a:pt x="6" y="1426"/>
                </a:lnTo>
                <a:lnTo>
                  <a:pt x="2" y="1422"/>
                </a:lnTo>
                <a:lnTo>
                  <a:pt x="0" y="1420"/>
                </a:lnTo>
                <a:lnTo>
                  <a:pt x="0" y="1417"/>
                </a:lnTo>
                <a:lnTo>
                  <a:pt x="2" y="1413"/>
                </a:lnTo>
                <a:lnTo>
                  <a:pt x="4" y="1407"/>
                </a:lnTo>
                <a:lnTo>
                  <a:pt x="8" y="1401"/>
                </a:lnTo>
                <a:lnTo>
                  <a:pt x="14" y="1395"/>
                </a:lnTo>
                <a:lnTo>
                  <a:pt x="20" y="1388"/>
                </a:lnTo>
                <a:lnTo>
                  <a:pt x="27" y="1380"/>
                </a:lnTo>
                <a:lnTo>
                  <a:pt x="37" y="1372"/>
                </a:lnTo>
                <a:lnTo>
                  <a:pt x="46" y="1363"/>
                </a:lnTo>
                <a:lnTo>
                  <a:pt x="58" y="1355"/>
                </a:lnTo>
                <a:lnTo>
                  <a:pt x="69" y="1346"/>
                </a:lnTo>
                <a:lnTo>
                  <a:pt x="83" y="1334"/>
                </a:lnTo>
                <a:lnTo>
                  <a:pt x="96" y="1324"/>
                </a:lnTo>
                <a:lnTo>
                  <a:pt x="112" y="1313"/>
                </a:lnTo>
                <a:lnTo>
                  <a:pt x="127" y="1301"/>
                </a:lnTo>
                <a:lnTo>
                  <a:pt x="144" y="1290"/>
                </a:lnTo>
                <a:lnTo>
                  <a:pt x="162" y="1276"/>
                </a:lnTo>
                <a:lnTo>
                  <a:pt x="177" y="1263"/>
                </a:lnTo>
                <a:lnTo>
                  <a:pt x="196" y="1250"/>
                </a:lnTo>
                <a:lnTo>
                  <a:pt x="213" y="1234"/>
                </a:lnTo>
                <a:lnTo>
                  <a:pt x="231" y="1219"/>
                </a:lnTo>
                <a:lnTo>
                  <a:pt x="250" y="1202"/>
                </a:lnTo>
                <a:lnTo>
                  <a:pt x="269" y="1184"/>
                </a:lnTo>
                <a:lnTo>
                  <a:pt x="288" y="1165"/>
                </a:lnTo>
                <a:lnTo>
                  <a:pt x="309" y="1146"/>
                </a:lnTo>
                <a:lnTo>
                  <a:pt x="329" y="1127"/>
                </a:lnTo>
                <a:lnTo>
                  <a:pt x="350" y="1106"/>
                </a:lnTo>
                <a:lnTo>
                  <a:pt x="371" y="1083"/>
                </a:lnTo>
                <a:lnTo>
                  <a:pt x="394" y="1060"/>
                </a:lnTo>
                <a:lnTo>
                  <a:pt x="415" y="1036"/>
                </a:lnTo>
                <a:lnTo>
                  <a:pt x="438" y="1012"/>
                </a:lnTo>
                <a:lnTo>
                  <a:pt x="459" y="987"/>
                </a:lnTo>
                <a:lnTo>
                  <a:pt x="480" y="960"/>
                </a:lnTo>
                <a:lnTo>
                  <a:pt x="501" y="931"/>
                </a:lnTo>
                <a:lnTo>
                  <a:pt x="522" y="902"/>
                </a:lnTo>
                <a:lnTo>
                  <a:pt x="544" y="873"/>
                </a:lnTo>
                <a:lnTo>
                  <a:pt x="565" y="841"/>
                </a:lnTo>
                <a:lnTo>
                  <a:pt x="584" y="810"/>
                </a:lnTo>
                <a:lnTo>
                  <a:pt x="605" y="775"/>
                </a:lnTo>
                <a:lnTo>
                  <a:pt x="626" y="741"/>
                </a:lnTo>
                <a:lnTo>
                  <a:pt x="645" y="706"/>
                </a:lnTo>
                <a:lnTo>
                  <a:pt x="666" y="670"/>
                </a:lnTo>
                <a:lnTo>
                  <a:pt x="686" y="631"/>
                </a:lnTo>
                <a:lnTo>
                  <a:pt x="705" y="591"/>
                </a:lnTo>
                <a:lnTo>
                  <a:pt x="724" y="553"/>
                </a:lnTo>
                <a:lnTo>
                  <a:pt x="743" y="511"/>
                </a:lnTo>
                <a:lnTo>
                  <a:pt x="762" y="468"/>
                </a:lnTo>
                <a:lnTo>
                  <a:pt x="772" y="447"/>
                </a:lnTo>
                <a:lnTo>
                  <a:pt x="780" y="426"/>
                </a:lnTo>
                <a:lnTo>
                  <a:pt x="789" y="405"/>
                </a:lnTo>
                <a:lnTo>
                  <a:pt x="797" y="386"/>
                </a:lnTo>
                <a:lnTo>
                  <a:pt x="805" y="367"/>
                </a:lnTo>
                <a:lnTo>
                  <a:pt x="810" y="349"/>
                </a:lnTo>
                <a:lnTo>
                  <a:pt x="818" y="330"/>
                </a:lnTo>
                <a:lnTo>
                  <a:pt x="824" y="313"/>
                </a:lnTo>
                <a:lnTo>
                  <a:pt x="831" y="297"/>
                </a:lnTo>
                <a:lnTo>
                  <a:pt x="837" y="280"/>
                </a:lnTo>
                <a:lnTo>
                  <a:pt x="841" y="265"/>
                </a:lnTo>
                <a:lnTo>
                  <a:pt x="847" y="249"/>
                </a:lnTo>
                <a:lnTo>
                  <a:pt x="851" y="236"/>
                </a:lnTo>
                <a:lnTo>
                  <a:pt x="856" y="223"/>
                </a:lnTo>
                <a:lnTo>
                  <a:pt x="860" y="209"/>
                </a:lnTo>
                <a:lnTo>
                  <a:pt x="862" y="198"/>
                </a:lnTo>
                <a:lnTo>
                  <a:pt x="866" y="184"/>
                </a:lnTo>
                <a:lnTo>
                  <a:pt x="868" y="175"/>
                </a:lnTo>
                <a:lnTo>
                  <a:pt x="872" y="163"/>
                </a:lnTo>
                <a:lnTo>
                  <a:pt x="872" y="153"/>
                </a:lnTo>
                <a:lnTo>
                  <a:pt x="874" y="144"/>
                </a:lnTo>
                <a:lnTo>
                  <a:pt x="876" y="134"/>
                </a:lnTo>
                <a:lnTo>
                  <a:pt x="876" y="127"/>
                </a:lnTo>
                <a:lnTo>
                  <a:pt x="876" y="119"/>
                </a:lnTo>
                <a:lnTo>
                  <a:pt x="876" y="111"/>
                </a:lnTo>
                <a:lnTo>
                  <a:pt x="876" y="105"/>
                </a:lnTo>
                <a:lnTo>
                  <a:pt x="874" y="100"/>
                </a:lnTo>
                <a:lnTo>
                  <a:pt x="872" y="94"/>
                </a:lnTo>
                <a:lnTo>
                  <a:pt x="870" y="90"/>
                </a:lnTo>
                <a:lnTo>
                  <a:pt x="868" y="86"/>
                </a:lnTo>
                <a:lnTo>
                  <a:pt x="866" y="82"/>
                </a:lnTo>
                <a:lnTo>
                  <a:pt x="862" y="8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151"/>
          <p:cNvSpPr/>
          <p:nvPr/>
        </p:nvSpPr>
        <p:spPr>
          <a:xfrm>
            <a:off x="6669000" y="2720880"/>
            <a:ext cx="1032120" cy="2276640"/>
          </a:xfrm>
          <a:custGeom>
            <a:avLst/>
            <a:gdLst/>
            <a:ahLst/>
            <a:rect l="l" t="t" r="r" b="b"/>
            <a:pathLst>
              <a:path w="1299" h="2868">
                <a:moveTo>
                  <a:pt x="38" y="91"/>
                </a:moveTo>
                <a:lnTo>
                  <a:pt x="29" y="81"/>
                </a:lnTo>
                <a:lnTo>
                  <a:pt x="21" y="73"/>
                </a:lnTo>
                <a:lnTo>
                  <a:pt x="15" y="64"/>
                </a:lnTo>
                <a:lnTo>
                  <a:pt x="10" y="54"/>
                </a:lnTo>
                <a:lnTo>
                  <a:pt x="6" y="45"/>
                </a:lnTo>
                <a:lnTo>
                  <a:pt x="2" y="37"/>
                </a:lnTo>
                <a:lnTo>
                  <a:pt x="0" y="27"/>
                </a:lnTo>
                <a:lnTo>
                  <a:pt x="0" y="18"/>
                </a:lnTo>
                <a:lnTo>
                  <a:pt x="0" y="16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8" y="8"/>
                </a:lnTo>
                <a:lnTo>
                  <a:pt x="11" y="6"/>
                </a:lnTo>
                <a:lnTo>
                  <a:pt x="13" y="4"/>
                </a:lnTo>
                <a:lnTo>
                  <a:pt x="19" y="2"/>
                </a:lnTo>
                <a:lnTo>
                  <a:pt x="23" y="2"/>
                </a:lnTo>
                <a:lnTo>
                  <a:pt x="29" y="0"/>
                </a:lnTo>
                <a:lnTo>
                  <a:pt x="34" y="0"/>
                </a:lnTo>
                <a:lnTo>
                  <a:pt x="42" y="0"/>
                </a:lnTo>
                <a:lnTo>
                  <a:pt x="50" y="2"/>
                </a:lnTo>
                <a:lnTo>
                  <a:pt x="58" y="2"/>
                </a:lnTo>
                <a:lnTo>
                  <a:pt x="65" y="4"/>
                </a:lnTo>
                <a:lnTo>
                  <a:pt x="75" y="6"/>
                </a:lnTo>
                <a:lnTo>
                  <a:pt x="94" y="12"/>
                </a:lnTo>
                <a:lnTo>
                  <a:pt x="111" y="18"/>
                </a:lnTo>
                <a:lnTo>
                  <a:pt x="130" y="23"/>
                </a:lnTo>
                <a:lnTo>
                  <a:pt x="148" y="31"/>
                </a:lnTo>
                <a:lnTo>
                  <a:pt x="165" y="37"/>
                </a:lnTo>
                <a:lnTo>
                  <a:pt x="182" y="43"/>
                </a:lnTo>
                <a:lnTo>
                  <a:pt x="198" y="48"/>
                </a:lnTo>
                <a:lnTo>
                  <a:pt x="213" y="54"/>
                </a:lnTo>
                <a:lnTo>
                  <a:pt x="219" y="56"/>
                </a:lnTo>
                <a:lnTo>
                  <a:pt x="224" y="60"/>
                </a:lnTo>
                <a:lnTo>
                  <a:pt x="230" y="62"/>
                </a:lnTo>
                <a:lnTo>
                  <a:pt x="236" y="66"/>
                </a:lnTo>
                <a:lnTo>
                  <a:pt x="246" y="71"/>
                </a:lnTo>
                <a:lnTo>
                  <a:pt x="253" y="79"/>
                </a:lnTo>
                <a:lnTo>
                  <a:pt x="259" y="85"/>
                </a:lnTo>
                <a:lnTo>
                  <a:pt x="265" y="93"/>
                </a:lnTo>
                <a:lnTo>
                  <a:pt x="269" y="98"/>
                </a:lnTo>
                <a:lnTo>
                  <a:pt x="274" y="102"/>
                </a:lnTo>
                <a:lnTo>
                  <a:pt x="276" y="106"/>
                </a:lnTo>
                <a:lnTo>
                  <a:pt x="278" y="110"/>
                </a:lnTo>
                <a:lnTo>
                  <a:pt x="280" y="114"/>
                </a:lnTo>
                <a:lnTo>
                  <a:pt x="280" y="118"/>
                </a:lnTo>
                <a:lnTo>
                  <a:pt x="282" y="123"/>
                </a:lnTo>
                <a:lnTo>
                  <a:pt x="282" y="131"/>
                </a:lnTo>
                <a:lnTo>
                  <a:pt x="284" y="137"/>
                </a:lnTo>
                <a:lnTo>
                  <a:pt x="284" y="144"/>
                </a:lnTo>
                <a:lnTo>
                  <a:pt x="284" y="154"/>
                </a:lnTo>
                <a:lnTo>
                  <a:pt x="282" y="162"/>
                </a:lnTo>
                <a:lnTo>
                  <a:pt x="282" y="171"/>
                </a:lnTo>
                <a:lnTo>
                  <a:pt x="280" y="181"/>
                </a:lnTo>
                <a:lnTo>
                  <a:pt x="278" y="202"/>
                </a:lnTo>
                <a:lnTo>
                  <a:pt x="274" y="223"/>
                </a:lnTo>
                <a:lnTo>
                  <a:pt x="272" y="235"/>
                </a:lnTo>
                <a:lnTo>
                  <a:pt x="271" y="248"/>
                </a:lnTo>
                <a:lnTo>
                  <a:pt x="269" y="261"/>
                </a:lnTo>
                <a:lnTo>
                  <a:pt x="267" y="275"/>
                </a:lnTo>
                <a:lnTo>
                  <a:pt x="265" y="290"/>
                </a:lnTo>
                <a:lnTo>
                  <a:pt x="265" y="308"/>
                </a:lnTo>
                <a:lnTo>
                  <a:pt x="265" y="325"/>
                </a:lnTo>
                <a:lnTo>
                  <a:pt x="263" y="342"/>
                </a:lnTo>
                <a:lnTo>
                  <a:pt x="263" y="359"/>
                </a:lnTo>
                <a:lnTo>
                  <a:pt x="263" y="381"/>
                </a:lnTo>
                <a:lnTo>
                  <a:pt x="263" y="400"/>
                </a:lnTo>
                <a:lnTo>
                  <a:pt x="261" y="421"/>
                </a:lnTo>
                <a:lnTo>
                  <a:pt x="261" y="444"/>
                </a:lnTo>
                <a:lnTo>
                  <a:pt x="261" y="465"/>
                </a:lnTo>
                <a:lnTo>
                  <a:pt x="261" y="490"/>
                </a:lnTo>
                <a:lnTo>
                  <a:pt x="261" y="515"/>
                </a:lnTo>
                <a:lnTo>
                  <a:pt x="261" y="540"/>
                </a:lnTo>
                <a:lnTo>
                  <a:pt x="263" y="565"/>
                </a:lnTo>
                <a:lnTo>
                  <a:pt x="265" y="594"/>
                </a:lnTo>
                <a:lnTo>
                  <a:pt x="267" y="620"/>
                </a:lnTo>
                <a:lnTo>
                  <a:pt x="269" y="649"/>
                </a:lnTo>
                <a:lnTo>
                  <a:pt x="272" y="680"/>
                </a:lnTo>
                <a:lnTo>
                  <a:pt x="276" y="711"/>
                </a:lnTo>
                <a:lnTo>
                  <a:pt x="280" y="743"/>
                </a:lnTo>
                <a:lnTo>
                  <a:pt x="286" y="776"/>
                </a:lnTo>
                <a:lnTo>
                  <a:pt x="292" y="812"/>
                </a:lnTo>
                <a:lnTo>
                  <a:pt x="297" y="847"/>
                </a:lnTo>
                <a:lnTo>
                  <a:pt x="303" y="883"/>
                </a:lnTo>
                <a:lnTo>
                  <a:pt x="311" y="922"/>
                </a:lnTo>
                <a:lnTo>
                  <a:pt x="319" y="962"/>
                </a:lnTo>
                <a:lnTo>
                  <a:pt x="328" y="1002"/>
                </a:lnTo>
                <a:lnTo>
                  <a:pt x="336" y="1047"/>
                </a:lnTo>
                <a:lnTo>
                  <a:pt x="343" y="1089"/>
                </a:lnTo>
                <a:lnTo>
                  <a:pt x="351" y="1133"/>
                </a:lnTo>
                <a:lnTo>
                  <a:pt x="361" y="1177"/>
                </a:lnTo>
                <a:lnTo>
                  <a:pt x="370" y="1221"/>
                </a:lnTo>
                <a:lnTo>
                  <a:pt x="382" y="1265"/>
                </a:lnTo>
                <a:lnTo>
                  <a:pt x="393" y="1310"/>
                </a:lnTo>
                <a:lnTo>
                  <a:pt x="407" y="1356"/>
                </a:lnTo>
                <a:lnTo>
                  <a:pt x="418" y="1400"/>
                </a:lnTo>
                <a:lnTo>
                  <a:pt x="434" y="1446"/>
                </a:lnTo>
                <a:lnTo>
                  <a:pt x="447" y="1494"/>
                </a:lnTo>
                <a:lnTo>
                  <a:pt x="463" y="1540"/>
                </a:lnTo>
                <a:lnTo>
                  <a:pt x="478" y="1588"/>
                </a:lnTo>
                <a:lnTo>
                  <a:pt x="495" y="1636"/>
                </a:lnTo>
                <a:lnTo>
                  <a:pt x="512" y="1684"/>
                </a:lnTo>
                <a:lnTo>
                  <a:pt x="530" y="1734"/>
                </a:lnTo>
                <a:lnTo>
                  <a:pt x="549" y="1784"/>
                </a:lnTo>
                <a:lnTo>
                  <a:pt x="566" y="1832"/>
                </a:lnTo>
                <a:lnTo>
                  <a:pt x="585" y="1880"/>
                </a:lnTo>
                <a:lnTo>
                  <a:pt x="605" y="1926"/>
                </a:lnTo>
                <a:lnTo>
                  <a:pt x="624" y="1970"/>
                </a:lnTo>
                <a:lnTo>
                  <a:pt x="645" y="2012"/>
                </a:lnTo>
                <a:lnTo>
                  <a:pt x="664" y="2052"/>
                </a:lnTo>
                <a:lnTo>
                  <a:pt x="685" y="2091"/>
                </a:lnTo>
                <a:lnTo>
                  <a:pt x="704" y="2127"/>
                </a:lnTo>
                <a:lnTo>
                  <a:pt x="725" y="2164"/>
                </a:lnTo>
                <a:lnTo>
                  <a:pt x="747" y="2196"/>
                </a:lnTo>
                <a:lnTo>
                  <a:pt x="768" y="2229"/>
                </a:lnTo>
                <a:lnTo>
                  <a:pt x="789" y="2260"/>
                </a:lnTo>
                <a:lnTo>
                  <a:pt x="810" y="2287"/>
                </a:lnTo>
                <a:lnTo>
                  <a:pt x="831" y="2313"/>
                </a:lnTo>
                <a:lnTo>
                  <a:pt x="850" y="2340"/>
                </a:lnTo>
                <a:lnTo>
                  <a:pt x="871" y="2363"/>
                </a:lnTo>
                <a:lnTo>
                  <a:pt x="892" y="2386"/>
                </a:lnTo>
                <a:lnTo>
                  <a:pt x="912" y="2406"/>
                </a:lnTo>
                <a:lnTo>
                  <a:pt x="929" y="2425"/>
                </a:lnTo>
                <a:lnTo>
                  <a:pt x="946" y="2444"/>
                </a:lnTo>
                <a:lnTo>
                  <a:pt x="962" y="2459"/>
                </a:lnTo>
                <a:lnTo>
                  <a:pt x="977" y="2475"/>
                </a:lnTo>
                <a:lnTo>
                  <a:pt x="990" y="2488"/>
                </a:lnTo>
                <a:lnTo>
                  <a:pt x="1004" y="2500"/>
                </a:lnTo>
                <a:lnTo>
                  <a:pt x="1015" y="2511"/>
                </a:lnTo>
                <a:lnTo>
                  <a:pt x="1027" y="2519"/>
                </a:lnTo>
                <a:lnTo>
                  <a:pt x="1036" y="2527"/>
                </a:lnTo>
                <a:lnTo>
                  <a:pt x="1044" y="2534"/>
                </a:lnTo>
                <a:lnTo>
                  <a:pt x="1054" y="2538"/>
                </a:lnTo>
                <a:lnTo>
                  <a:pt x="1059" y="2542"/>
                </a:lnTo>
                <a:lnTo>
                  <a:pt x="1065" y="2544"/>
                </a:lnTo>
                <a:lnTo>
                  <a:pt x="1071" y="2546"/>
                </a:lnTo>
                <a:lnTo>
                  <a:pt x="1073" y="2544"/>
                </a:lnTo>
                <a:lnTo>
                  <a:pt x="1077" y="2542"/>
                </a:lnTo>
                <a:lnTo>
                  <a:pt x="1081" y="2538"/>
                </a:lnTo>
                <a:lnTo>
                  <a:pt x="1084" y="2532"/>
                </a:lnTo>
                <a:lnTo>
                  <a:pt x="1090" y="2525"/>
                </a:lnTo>
                <a:lnTo>
                  <a:pt x="1094" y="2515"/>
                </a:lnTo>
                <a:lnTo>
                  <a:pt x="1100" y="2503"/>
                </a:lnTo>
                <a:lnTo>
                  <a:pt x="1106" y="2492"/>
                </a:lnTo>
                <a:lnTo>
                  <a:pt x="1111" y="2479"/>
                </a:lnTo>
                <a:lnTo>
                  <a:pt x="1117" y="2463"/>
                </a:lnTo>
                <a:lnTo>
                  <a:pt x="1125" y="2446"/>
                </a:lnTo>
                <a:lnTo>
                  <a:pt x="1130" y="2427"/>
                </a:lnTo>
                <a:lnTo>
                  <a:pt x="1138" y="2408"/>
                </a:lnTo>
                <a:lnTo>
                  <a:pt x="1144" y="2386"/>
                </a:lnTo>
                <a:lnTo>
                  <a:pt x="1152" y="2363"/>
                </a:lnTo>
                <a:lnTo>
                  <a:pt x="1159" y="2340"/>
                </a:lnTo>
                <a:lnTo>
                  <a:pt x="1165" y="2315"/>
                </a:lnTo>
                <a:lnTo>
                  <a:pt x="1173" y="2292"/>
                </a:lnTo>
                <a:lnTo>
                  <a:pt x="1178" y="2271"/>
                </a:lnTo>
                <a:lnTo>
                  <a:pt x="1186" y="2252"/>
                </a:lnTo>
                <a:lnTo>
                  <a:pt x="1192" y="2233"/>
                </a:lnTo>
                <a:lnTo>
                  <a:pt x="1200" y="2216"/>
                </a:lnTo>
                <a:lnTo>
                  <a:pt x="1205" y="2202"/>
                </a:lnTo>
                <a:lnTo>
                  <a:pt x="1213" y="2189"/>
                </a:lnTo>
                <a:lnTo>
                  <a:pt x="1219" y="2177"/>
                </a:lnTo>
                <a:lnTo>
                  <a:pt x="1225" y="2166"/>
                </a:lnTo>
                <a:lnTo>
                  <a:pt x="1230" y="2158"/>
                </a:lnTo>
                <a:lnTo>
                  <a:pt x="1236" y="2152"/>
                </a:lnTo>
                <a:lnTo>
                  <a:pt x="1242" y="2148"/>
                </a:lnTo>
                <a:lnTo>
                  <a:pt x="1246" y="2146"/>
                </a:lnTo>
                <a:lnTo>
                  <a:pt x="1248" y="2145"/>
                </a:lnTo>
                <a:lnTo>
                  <a:pt x="1251" y="2145"/>
                </a:lnTo>
                <a:lnTo>
                  <a:pt x="1253" y="2145"/>
                </a:lnTo>
                <a:lnTo>
                  <a:pt x="1255" y="2145"/>
                </a:lnTo>
                <a:lnTo>
                  <a:pt x="1257" y="2146"/>
                </a:lnTo>
                <a:lnTo>
                  <a:pt x="1259" y="2148"/>
                </a:lnTo>
                <a:lnTo>
                  <a:pt x="1263" y="2154"/>
                </a:lnTo>
                <a:lnTo>
                  <a:pt x="1265" y="2160"/>
                </a:lnTo>
                <a:lnTo>
                  <a:pt x="1267" y="2166"/>
                </a:lnTo>
                <a:lnTo>
                  <a:pt x="1269" y="2175"/>
                </a:lnTo>
                <a:lnTo>
                  <a:pt x="1271" y="2185"/>
                </a:lnTo>
                <a:lnTo>
                  <a:pt x="1272" y="2196"/>
                </a:lnTo>
                <a:lnTo>
                  <a:pt x="1272" y="2210"/>
                </a:lnTo>
                <a:lnTo>
                  <a:pt x="1274" y="2223"/>
                </a:lnTo>
                <a:lnTo>
                  <a:pt x="1274" y="2239"/>
                </a:lnTo>
                <a:lnTo>
                  <a:pt x="1274" y="2256"/>
                </a:lnTo>
                <a:lnTo>
                  <a:pt x="1274" y="2275"/>
                </a:lnTo>
                <a:lnTo>
                  <a:pt x="1274" y="2294"/>
                </a:lnTo>
                <a:lnTo>
                  <a:pt x="1274" y="2317"/>
                </a:lnTo>
                <a:lnTo>
                  <a:pt x="1272" y="2338"/>
                </a:lnTo>
                <a:lnTo>
                  <a:pt x="1271" y="2363"/>
                </a:lnTo>
                <a:lnTo>
                  <a:pt x="1269" y="2390"/>
                </a:lnTo>
                <a:lnTo>
                  <a:pt x="1267" y="2417"/>
                </a:lnTo>
                <a:lnTo>
                  <a:pt x="1267" y="2442"/>
                </a:lnTo>
                <a:lnTo>
                  <a:pt x="1265" y="2467"/>
                </a:lnTo>
                <a:lnTo>
                  <a:pt x="1265" y="2492"/>
                </a:lnTo>
                <a:lnTo>
                  <a:pt x="1265" y="2515"/>
                </a:lnTo>
                <a:lnTo>
                  <a:pt x="1267" y="2538"/>
                </a:lnTo>
                <a:lnTo>
                  <a:pt x="1267" y="2561"/>
                </a:lnTo>
                <a:lnTo>
                  <a:pt x="1269" y="2582"/>
                </a:lnTo>
                <a:lnTo>
                  <a:pt x="1271" y="2603"/>
                </a:lnTo>
                <a:lnTo>
                  <a:pt x="1272" y="2624"/>
                </a:lnTo>
                <a:lnTo>
                  <a:pt x="1274" y="2644"/>
                </a:lnTo>
                <a:lnTo>
                  <a:pt x="1276" y="2663"/>
                </a:lnTo>
                <a:lnTo>
                  <a:pt x="1278" y="2680"/>
                </a:lnTo>
                <a:lnTo>
                  <a:pt x="1280" y="2697"/>
                </a:lnTo>
                <a:lnTo>
                  <a:pt x="1282" y="2715"/>
                </a:lnTo>
                <a:lnTo>
                  <a:pt x="1284" y="2730"/>
                </a:lnTo>
                <a:lnTo>
                  <a:pt x="1288" y="2743"/>
                </a:lnTo>
                <a:lnTo>
                  <a:pt x="1290" y="2759"/>
                </a:lnTo>
                <a:lnTo>
                  <a:pt x="1292" y="2770"/>
                </a:lnTo>
                <a:lnTo>
                  <a:pt x="1294" y="2782"/>
                </a:lnTo>
                <a:lnTo>
                  <a:pt x="1296" y="2793"/>
                </a:lnTo>
                <a:lnTo>
                  <a:pt x="1297" y="2805"/>
                </a:lnTo>
                <a:lnTo>
                  <a:pt x="1297" y="2814"/>
                </a:lnTo>
                <a:lnTo>
                  <a:pt x="1299" y="2822"/>
                </a:lnTo>
                <a:lnTo>
                  <a:pt x="1299" y="2830"/>
                </a:lnTo>
                <a:lnTo>
                  <a:pt x="1299" y="2837"/>
                </a:lnTo>
                <a:lnTo>
                  <a:pt x="1299" y="2843"/>
                </a:lnTo>
                <a:lnTo>
                  <a:pt x="1299" y="2849"/>
                </a:lnTo>
                <a:lnTo>
                  <a:pt x="1299" y="2853"/>
                </a:lnTo>
                <a:lnTo>
                  <a:pt x="1297" y="2857"/>
                </a:lnTo>
                <a:lnTo>
                  <a:pt x="1296" y="2859"/>
                </a:lnTo>
                <a:lnTo>
                  <a:pt x="1292" y="2861"/>
                </a:lnTo>
                <a:lnTo>
                  <a:pt x="1290" y="2862"/>
                </a:lnTo>
                <a:lnTo>
                  <a:pt x="1286" y="2864"/>
                </a:lnTo>
                <a:lnTo>
                  <a:pt x="1282" y="2866"/>
                </a:lnTo>
                <a:lnTo>
                  <a:pt x="1276" y="2866"/>
                </a:lnTo>
                <a:lnTo>
                  <a:pt x="1271" y="2868"/>
                </a:lnTo>
                <a:lnTo>
                  <a:pt x="1265" y="2868"/>
                </a:lnTo>
                <a:lnTo>
                  <a:pt x="1257" y="2868"/>
                </a:lnTo>
                <a:lnTo>
                  <a:pt x="1251" y="2868"/>
                </a:lnTo>
                <a:lnTo>
                  <a:pt x="1242" y="2868"/>
                </a:lnTo>
                <a:lnTo>
                  <a:pt x="1234" y="2866"/>
                </a:lnTo>
                <a:lnTo>
                  <a:pt x="1225" y="2866"/>
                </a:lnTo>
                <a:lnTo>
                  <a:pt x="1215" y="2864"/>
                </a:lnTo>
                <a:lnTo>
                  <a:pt x="1205" y="2862"/>
                </a:lnTo>
                <a:lnTo>
                  <a:pt x="1194" y="2861"/>
                </a:lnTo>
                <a:lnTo>
                  <a:pt x="1184" y="2859"/>
                </a:lnTo>
                <a:lnTo>
                  <a:pt x="1171" y="2857"/>
                </a:lnTo>
                <a:lnTo>
                  <a:pt x="1157" y="2851"/>
                </a:lnTo>
                <a:lnTo>
                  <a:pt x="1144" y="2845"/>
                </a:lnTo>
                <a:lnTo>
                  <a:pt x="1130" y="2839"/>
                </a:lnTo>
                <a:lnTo>
                  <a:pt x="1113" y="2830"/>
                </a:lnTo>
                <a:lnTo>
                  <a:pt x="1098" y="2820"/>
                </a:lnTo>
                <a:lnTo>
                  <a:pt x="1081" y="2811"/>
                </a:lnTo>
                <a:lnTo>
                  <a:pt x="1063" y="2797"/>
                </a:lnTo>
                <a:lnTo>
                  <a:pt x="1044" y="2784"/>
                </a:lnTo>
                <a:lnTo>
                  <a:pt x="1025" y="2768"/>
                </a:lnTo>
                <a:lnTo>
                  <a:pt x="1006" y="2753"/>
                </a:lnTo>
                <a:lnTo>
                  <a:pt x="985" y="2736"/>
                </a:lnTo>
                <a:lnTo>
                  <a:pt x="963" y="2717"/>
                </a:lnTo>
                <a:lnTo>
                  <a:pt x="942" y="2697"/>
                </a:lnTo>
                <a:lnTo>
                  <a:pt x="919" y="2676"/>
                </a:lnTo>
                <a:lnTo>
                  <a:pt x="896" y="2653"/>
                </a:lnTo>
                <a:lnTo>
                  <a:pt x="871" y="2628"/>
                </a:lnTo>
                <a:lnTo>
                  <a:pt x="848" y="2603"/>
                </a:lnTo>
                <a:lnTo>
                  <a:pt x="823" y="2576"/>
                </a:lnTo>
                <a:lnTo>
                  <a:pt x="800" y="2551"/>
                </a:lnTo>
                <a:lnTo>
                  <a:pt x="779" y="2525"/>
                </a:lnTo>
                <a:lnTo>
                  <a:pt x="758" y="2498"/>
                </a:lnTo>
                <a:lnTo>
                  <a:pt x="737" y="2471"/>
                </a:lnTo>
                <a:lnTo>
                  <a:pt x="718" y="2444"/>
                </a:lnTo>
                <a:lnTo>
                  <a:pt x="699" y="2417"/>
                </a:lnTo>
                <a:lnTo>
                  <a:pt x="681" y="2390"/>
                </a:lnTo>
                <a:lnTo>
                  <a:pt x="662" y="2361"/>
                </a:lnTo>
                <a:lnTo>
                  <a:pt x="647" y="2335"/>
                </a:lnTo>
                <a:lnTo>
                  <a:pt x="629" y="2306"/>
                </a:lnTo>
                <a:lnTo>
                  <a:pt x="614" y="2277"/>
                </a:lnTo>
                <a:lnTo>
                  <a:pt x="599" y="2248"/>
                </a:lnTo>
                <a:lnTo>
                  <a:pt x="585" y="2219"/>
                </a:lnTo>
                <a:lnTo>
                  <a:pt x="570" y="2189"/>
                </a:lnTo>
                <a:lnTo>
                  <a:pt x="553" y="2158"/>
                </a:lnTo>
                <a:lnTo>
                  <a:pt x="537" y="2127"/>
                </a:lnTo>
                <a:lnTo>
                  <a:pt x="522" y="2097"/>
                </a:lnTo>
                <a:lnTo>
                  <a:pt x="507" y="2064"/>
                </a:lnTo>
                <a:lnTo>
                  <a:pt x="491" y="2031"/>
                </a:lnTo>
                <a:lnTo>
                  <a:pt x="478" y="1997"/>
                </a:lnTo>
                <a:lnTo>
                  <a:pt x="463" y="1962"/>
                </a:lnTo>
                <a:lnTo>
                  <a:pt x="447" y="1928"/>
                </a:lnTo>
                <a:lnTo>
                  <a:pt x="434" y="1893"/>
                </a:lnTo>
                <a:lnTo>
                  <a:pt x="418" y="1857"/>
                </a:lnTo>
                <a:lnTo>
                  <a:pt x="405" y="1818"/>
                </a:lnTo>
                <a:lnTo>
                  <a:pt x="391" y="1782"/>
                </a:lnTo>
                <a:lnTo>
                  <a:pt x="376" y="1741"/>
                </a:lnTo>
                <a:lnTo>
                  <a:pt x="363" y="1703"/>
                </a:lnTo>
                <a:lnTo>
                  <a:pt x="349" y="1663"/>
                </a:lnTo>
                <a:lnTo>
                  <a:pt x="334" y="1624"/>
                </a:lnTo>
                <a:lnTo>
                  <a:pt x="319" y="1586"/>
                </a:lnTo>
                <a:lnTo>
                  <a:pt x="303" y="1548"/>
                </a:lnTo>
                <a:lnTo>
                  <a:pt x="290" y="1509"/>
                </a:lnTo>
                <a:lnTo>
                  <a:pt x="278" y="1473"/>
                </a:lnTo>
                <a:lnTo>
                  <a:pt x="265" y="1436"/>
                </a:lnTo>
                <a:lnTo>
                  <a:pt x="253" y="1400"/>
                </a:lnTo>
                <a:lnTo>
                  <a:pt x="244" y="1363"/>
                </a:lnTo>
                <a:lnTo>
                  <a:pt x="232" y="1327"/>
                </a:lnTo>
                <a:lnTo>
                  <a:pt x="223" y="1290"/>
                </a:lnTo>
                <a:lnTo>
                  <a:pt x="213" y="1256"/>
                </a:lnTo>
                <a:lnTo>
                  <a:pt x="205" y="1219"/>
                </a:lnTo>
                <a:lnTo>
                  <a:pt x="190" y="1150"/>
                </a:lnTo>
                <a:lnTo>
                  <a:pt x="175" y="1083"/>
                </a:lnTo>
                <a:lnTo>
                  <a:pt x="167" y="1048"/>
                </a:lnTo>
                <a:lnTo>
                  <a:pt x="161" y="1012"/>
                </a:lnTo>
                <a:lnTo>
                  <a:pt x="155" y="977"/>
                </a:lnTo>
                <a:lnTo>
                  <a:pt x="150" y="941"/>
                </a:lnTo>
                <a:lnTo>
                  <a:pt x="144" y="905"/>
                </a:lnTo>
                <a:lnTo>
                  <a:pt x="138" y="868"/>
                </a:lnTo>
                <a:lnTo>
                  <a:pt x="132" y="830"/>
                </a:lnTo>
                <a:lnTo>
                  <a:pt x="129" y="791"/>
                </a:lnTo>
                <a:lnTo>
                  <a:pt x="123" y="753"/>
                </a:lnTo>
                <a:lnTo>
                  <a:pt x="119" y="715"/>
                </a:lnTo>
                <a:lnTo>
                  <a:pt x="115" y="674"/>
                </a:lnTo>
                <a:lnTo>
                  <a:pt x="111" y="634"/>
                </a:lnTo>
                <a:lnTo>
                  <a:pt x="107" y="592"/>
                </a:lnTo>
                <a:lnTo>
                  <a:pt x="105" y="551"/>
                </a:lnTo>
                <a:lnTo>
                  <a:pt x="102" y="509"/>
                </a:lnTo>
                <a:lnTo>
                  <a:pt x="100" y="465"/>
                </a:lnTo>
                <a:lnTo>
                  <a:pt x="98" y="444"/>
                </a:lnTo>
                <a:lnTo>
                  <a:pt x="98" y="423"/>
                </a:lnTo>
                <a:lnTo>
                  <a:pt x="96" y="404"/>
                </a:lnTo>
                <a:lnTo>
                  <a:pt x="94" y="384"/>
                </a:lnTo>
                <a:lnTo>
                  <a:pt x="94" y="365"/>
                </a:lnTo>
                <a:lnTo>
                  <a:pt x="92" y="346"/>
                </a:lnTo>
                <a:lnTo>
                  <a:pt x="90" y="329"/>
                </a:lnTo>
                <a:lnTo>
                  <a:pt x="88" y="311"/>
                </a:lnTo>
                <a:lnTo>
                  <a:pt x="86" y="296"/>
                </a:lnTo>
                <a:lnTo>
                  <a:pt x="84" y="279"/>
                </a:lnTo>
                <a:lnTo>
                  <a:pt x="82" y="263"/>
                </a:lnTo>
                <a:lnTo>
                  <a:pt x="81" y="250"/>
                </a:lnTo>
                <a:lnTo>
                  <a:pt x="79" y="235"/>
                </a:lnTo>
                <a:lnTo>
                  <a:pt x="77" y="221"/>
                </a:lnTo>
                <a:lnTo>
                  <a:pt x="75" y="210"/>
                </a:lnTo>
                <a:lnTo>
                  <a:pt x="73" y="196"/>
                </a:lnTo>
                <a:lnTo>
                  <a:pt x="71" y="185"/>
                </a:lnTo>
                <a:lnTo>
                  <a:pt x="69" y="173"/>
                </a:lnTo>
                <a:lnTo>
                  <a:pt x="67" y="164"/>
                </a:lnTo>
                <a:lnTo>
                  <a:pt x="65" y="154"/>
                </a:lnTo>
                <a:lnTo>
                  <a:pt x="63" y="144"/>
                </a:lnTo>
                <a:lnTo>
                  <a:pt x="61" y="137"/>
                </a:lnTo>
                <a:lnTo>
                  <a:pt x="58" y="129"/>
                </a:lnTo>
                <a:lnTo>
                  <a:pt x="56" y="121"/>
                </a:lnTo>
                <a:lnTo>
                  <a:pt x="54" y="116"/>
                </a:lnTo>
                <a:lnTo>
                  <a:pt x="52" y="110"/>
                </a:lnTo>
                <a:lnTo>
                  <a:pt x="50" y="106"/>
                </a:lnTo>
                <a:lnTo>
                  <a:pt x="46" y="100"/>
                </a:lnTo>
                <a:lnTo>
                  <a:pt x="44" y="96"/>
                </a:lnTo>
                <a:lnTo>
                  <a:pt x="42" y="94"/>
                </a:lnTo>
                <a:lnTo>
                  <a:pt x="40" y="93"/>
                </a:lnTo>
                <a:lnTo>
                  <a:pt x="38" y="9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152"/>
          <p:cNvSpPr/>
          <p:nvPr/>
        </p:nvSpPr>
        <p:spPr>
          <a:xfrm>
            <a:off x="5987880" y="4411800"/>
            <a:ext cx="790920" cy="222120"/>
          </a:xfrm>
          <a:custGeom>
            <a:avLst/>
            <a:gdLst/>
            <a:ahLst/>
            <a:rect l="l" t="t" r="r" b="b"/>
            <a:pathLst>
              <a:path w="996" h="280">
                <a:moveTo>
                  <a:pt x="0" y="184"/>
                </a:moveTo>
                <a:lnTo>
                  <a:pt x="52" y="171"/>
                </a:lnTo>
                <a:lnTo>
                  <a:pt x="104" y="159"/>
                </a:lnTo>
                <a:lnTo>
                  <a:pt x="153" y="148"/>
                </a:lnTo>
                <a:lnTo>
                  <a:pt x="201" y="136"/>
                </a:lnTo>
                <a:lnTo>
                  <a:pt x="248" y="127"/>
                </a:lnTo>
                <a:lnTo>
                  <a:pt x="294" y="115"/>
                </a:lnTo>
                <a:lnTo>
                  <a:pt x="338" y="106"/>
                </a:lnTo>
                <a:lnTo>
                  <a:pt x="380" y="96"/>
                </a:lnTo>
                <a:lnTo>
                  <a:pt x="420" y="88"/>
                </a:lnTo>
                <a:lnTo>
                  <a:pt x="459" y="79"/>
                </a:lnTo>
                <a:lnTo>
                  <a:pt x="497" y="71"/>
                </a:lnTo>
                <a:lnTo>
                  <a:pt x="534" y="63"/>
                </a:lnTo>
                <a:lnTo>
                  <a:pt x="568" y="58"/>
                </a:lnTo>
                <a:lnTo>
                  <a:pt x="601" y="50"/>
                </a:lnTo>
                <a:lnTo>
                  <a:pt x="631" y="44"/>
                </a:lnTo>
                <a:lnTo>
                  <a:pt x="662" y="39"/>
                </a:lnTo>
                <a:lnTo>
                  <a:pt x="691" y="33"/>
                </a:lnTo>
                <a:lnTo>
                  <a:pt x="718" y="27"/>
                </a:lnTo>
                <a:lnTo>
                  <a:pt x="743" y="23"/>
                </a:lnTo>
                <a:lnTo>
                  <a:pt x="766" y="19"/>
                </a:lnTo>
                <a:lnTo>
                  <a:pt x="789" y="15"/>
                </a:lnTo>
                <a:lnTo>
                  <a:pt x="810" y="12"/>
                </a:lnTo>
                <a:lnTo>
                  <a:pt x="829" y="10"/>
                </a:lnTo>
                <a:lnTo>
                  <a:pt x="846" y="6"/>
                </a:lnTo>
                <a:lnTo>
                  <a:pt x="862" y="4"/>
                </a:lnTo>
                <a:lnTo>
                  <a:pt x="877" y="4"/>
                </a:lnTo>
                <a:lnTo>
                  <a:pt x="891" y="2"/>
                </a:lnTo>
                <a:lnTo>
                  <a:pt x="902" y="2"/>
                </a:lnTo>
                <a:lnTo>
                  <a:pt x="912" y="0"/>
                </a:lnTo>
                <a:lnTo>
                  <a:pt x="921" y="2"/>
                </a:lnTo>
                <a:lnTo>
                  <a:pt x="927" y="2"/>
                </a:lnTo>
                <a:lnTo>
                  <a:pt x="933" y="2"/>
                </a:lnTo>
                <a:lnTo>
                  <a:pt x="946" y="8"/>
                </a:lnTo>
                <a:lnTo>
                  <a:pt x="958" y="12"/>
                </a:lnTo>
                <a:lnTo>
                  <a:pt x="969" y="15"/>
                </a:lnTo>
                <a:lnTo>
                  <a:pt x="979" y="21"/>
                </a:lnTo>
                <a:lnTo>
                  <a:pt x="985" y="25"/>
                </a:lnTo>
                <a:lnTo>
                  <a:pt x="988" y="27"/>
                </a:lnTo>
                <a:lnTo>
                  <a:pt x="990" y="31"/>
                </a:lnTo>
                <a:lnTo>
                  <a:pt x="992" y="33"/>
                </a:lnTo>
                <a:lnTo>
                  <a:pt x="994" y="35"/>
                </a:lnTo>
                <a:lnTo>
                  <a:pt x="994" y="37"/>
                </a:lnTo>
                <a:lnTo>
                  <a:pt x="996" y="39"/>
                </a:lnTo>
                <a:lnTo>
                  <a:pt x="994" y="40"/>
                </a:lnTo>
                <a:lnTo>
                  <a:pt x="994" y="44"/>
                </a:lnTo>
                <a:lnTo>
                  <a:pt x="992" y="46"/>
                </a:lnTo>
                <a:lnTo>
                  <a:pt x="990" y="48"/>
                </a:lnTo>
                <a:lnTo>
                  <a:pt x="988" y="50"/>
                </a:lnTo>
                <a:lnTo>
                  <a:pt x="985" y="54"/>
                </a:lnTo>
                <a:lnTo>
                  <a:pt x="981" y="56"/>
                </a:lnTo>
                <a:lnTo>
                  <a:pt x="977" y="58"/>
                </a:lnTo>
                <a:lnTo>
                  <a:pt x="971" y="62"/>
                </a:lnTo>
                <a:lnTo>
                  <a:pt x="965" y="65"/>
                </a:lnTo>
                <a:lnTo>
                  <a:pt x="960" y="67"/>
                </a:lnTo>
                <a:lnTo>
                  <a:pt x="952" y="71"/>
                </a:lnTo>
                <a:lnTo>
                  <a:pt x="946" y="75"/>
                </a:lnTo>
                <a:lnTo>
                  <a:pt x="939" y="79"/>
                </a:lnTo>
                <a:lnTo>
                  <a:pt x="929" y="83"/>
                </a:lnTo>
                <a:lnTo>
                  <a:pt x="921" y="88"/>
                </a:lnTo>
                <a:lnTo>
                  <a:pt x="910" y="92"/>
                </a:lnTo>
                <a:lnTo>
                  <a:pt x="898" y="96"/>
                </a:lnTo>
                <a:lnTo>
                  <a:pt x="889" y="100"/>
                </a:lnTo>
                <a:lnTo>
                  <a:pt x="879" y="104"/>
                </a:lnTo>
                <a:lnTo>
                  <a:pt x="869" y="108"/>
                </a:lnTo>
                <a:lnTo>
                  <a:pt x="860" y="110"/>
                </a:lnTo>
                <a:lnTo>
                  <a:pt x="844" y="115"/>
                </a:lnTo>
                <a:lnTo>
                  <a:pt x="829" y="119"/>
                </a:lnTo>
                <a:lnTo>
                  <a:pt x="818" y="121"/>
                </a:lnTo>
                <a:lnTo>
                  <a:pt x="806" y="123"/>
                </a:lnTo>
                <a:lnTo>
                  <a:pt x="797" y="123"/>
                </a:lnTo>
                <a:lnTo>
                  <a:pt x="793" y="123"/>
                </a:lnTo>
                <a:lnTo>
                  <a:pt x="789" y="125"/>
                </a:lnTo>
                <a:lnTo>
                  <a:pt x="783" y="125"/>
                </a:lnTo>
                <a:lnTo>
                  <a:pt x="775" y="125"/>
                </a:lnTo>
                <a:lnTo>
                  <a:pt x="768" y="127"/>
                </a:lnTo>
                <a:lnTo>
                  <a:pt x="756" y="129"/>
                </a:lnTo>
                <a:lnTo>
                  <a:pt x="745" y="131"/>
                </a:lnTo>
                <a:lnTo>
                  <a:pt x="733" y="133"/>
                </a:lnTo>
                <a:lnTo>
                  <a:pt x="718" y="134"/>
                </a:lnTo>
                <a:lnTo>
                  <a:pt x="702" y="138"/>
                </a:lnTo>
                <a:lnTo>
                  <a:pt x="685" y="140"/>
                </a:lnTo>
                <a:lnTo>
                  <a:pt x="668" y="144"/>
                </a:lnTo>
                <a:lnTo>
                  <a:pt x="647" y="148"/>
                </a:lnTo>
                <a:lnTo>
                  <a:pt x="626" y="152"/>
                </a:lnTo>
                <a:lnTo>
                  <a:pt x="603" y="156"/>
                </a:lnTo>
                <a:lnTo>
                  <a:pt x="580" y="161"/>
                </a:lnTo>
                <a:lnTo>
                  <a:pt x="555" y="165"/>
                </a:lnTo>
                <a:lnTo>
                  <a:pt x="528" y="171"/>
                </a:lnTo>
                <a:lnTo>
                  <a:pt x="499" y="177"/>
                </a:lnTo>
                <a:lnTo>
                  <a:pt x="468" y="182"/>
                </a:lnTo>
                <a:lnTo>
                  <a:pt x="438" y="188"/>
                </a:lnTo>
                <a:lnTo>
                  <a:pt x="405" y="196"/>
                </a:lnTo>
                <a:lnTo>
                  <a:pt x="370" y="202"/>
                </a:lnTo>
                <a:lnTo>
                  <a:pt x="336" y="209"/>
                </a:lnTo>
                <a:lnTo>
                  <a:pt x="297" y="217"/>
                </a:lnTo>
                <a:lnTo>
                  <a:pt x="259" y="225"/>
                </a:lnTo>
                <a:lnTo>
                  <a:pt x="221" y="234"/>
                </a:lnTo>
                <a:lnTo>
                  <a:pt x="178" y="242"/>
                </a:lnTo>
                <a:lnTo>
                  <a:pt x="136" y="252"/>
                </a:lnTo>
                <a:lnTo>
                  <a:pt x="92" y="261"/>
                </a:lnTo>
                <a:lnTo>
                  <a:pt x="46" y="271"/>
                </a:lnTo>
                <a:lnTo>
                  <a:pt x="0" y="280"/>
                </a:lnTo>
                <a:lnTo>
                  <a:pt x="0" y="232"/>
                </a:lnTo>
                <a:lnTo>
                  <a:pt x="0" y="18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153"/>
          <p:cNvSpPr/>
          <p:nvPr/>
        </p:nvSpPr>
        <p:spPr>
          <a:xfrm>
            <a:off x="6353280" y="3819600"/>
            <a:ext cx="108000" cy="689040"/>
          </a:xfrm>
          <a:custGeom>
            <a:avLst/>
            <a:gdLst/>
            <a:ahLst/>
            <a:rect l="l" t="t" r="r" b="b"/>
            <a:pathLst>
              <a:path w="136" h="870">
                <a:moveTo>
                  <a:pt x="136" y="0"/>
                </a:moveTo>
                <a:lnTo>
                  <a:pt x="136" y="436"/>
                </a:lnTo>
                <a:lnTo>
                  <a:pt x="136" y="870"/>
                </a:lnTo>
                <a:lnTo>
                  <a:pt x="73" y="870"/>
                </a:lnTo>
                <a:lnTo>
                  <a:pt x="11" y="870"/>
                </a:lnTo>
                <a:lnTo>
                  <a:pt x="11" y="805"/>
                </a:lnTo>
                <a:lnTo>
                  <a:pt x="11" y="743"/>
                </a:lnTo>
                <a:lnTo>
                  <a:pt x="11" y="680"/>
                </a:lnTo>
                <a:lnTo>
                  <a:pt x="11" y="620"/>
                </a:lnTo>
                <a:lnTo>
                  <a:pt x="11" y="563"/>
                </a:lnTo>
                <a:lnTo>
                  <a:pt x="11" y="505"/>
                </a:lnTo>
                <a:lnTo>
                  <a:pt x="9" y="450"/>
                </a:lnTo>
                <a:lnTo>
                  <a:pt x="9" y="396"/>
                </a:lnTo>
                <a:lnTo>
                  <a:pt x="9" y="344"/>
                </a:lnTo>
                <a:lnTo>
                  <a:pt x="7" y="292"/>
                </a:lnTo>
                <a:lnTo>
                  <a:pt x="7" y="242"/>
                </a:lnTo>
                <a:lnTo>
                  <a:pt x="5" y="194"/>
                </a:lnTo>
                <a:lnTo>
                  <a:pt x="3" y="146"/>
                </a:lnTo>
                <a:lnTo>
                  <a:pt x="3" y="100"/>
                </a:lnTo>
                <a:lnTo>
                  <a:pt x="2" y="56"/>
                </a:lnTo>
                <a:lnTo>
                  <a:pt x="0" y="12"/>
                </a:lnTo>
                <a:lnTo>
                  <a:pt x="67" y="6"/>
                </a:lnTo>
                <a:lnTo>
                  <a:pt x="136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154"/>
          <p:cNvSpPr/>
          <p:nvPr/>
        </p:nvSpPr>
        <p:spPr>
          <a:xfrm>
            <a:off x="6116760" y="4203720"/>
            <a:ext cx="595080" cy="133200"/>
          </a:xfrm>
          <a:custGeom>
            <a:avLst/>
            <a:gdLst/>
            <a:ahLst/>
            <a:rect l="l" t="t" r="r" b="b"/>
            <a:pathLst>
              <a:path w="751" h="169">
                <a:moveTo>
                  <a:pt x="0" y="121"/>
                </a:moveTo>
                <a:lnTo>
                  <a:pt x="35" y="113"/>
                </a:lnTo>
                <a:lnTo>
                  <a:pt x="67" y="106"/>
                </a:lnTo>
                <a:lnTo>
                  <a:pt x="100" y="98"/>
                </a:lnTo>
                <a:lnTo>
                  <a:pt x="131" y="90"/>
                </a:lnTo>
                <a:lnTo>
                  <a:pt x="161" y="85"/>
                </a:lnTo>
                <a:lnTo>
                  <a:pt x="192" y="77"/>
                </a:lnTo>
                <a:lnTo>
                  <a:pt x="219" y="71"/>
                </a:lnTo>
                <a:lnTo>
                  <a:pt x="248" y="65"/>
                </a:lnTo>
                <a:lnTo>
                  <a:pt x="275" y="60"/>
                </a:lnTo>
                <a:lnTo>
                  <a:pt x="300" y="54"/>
                </a:lnTo>
                <a:lnTo>
                  <a:pt x="325" y="50"/>
                </a:lnTo>
                <a:lnTo>
                  <a:pt x="348" y="44"/>
                </a:lnTo>
                <a:lnTo>
                  <a:pt x="369" y="40"/>
                </a:lnTo>
                <a:lnTo>
                  <a:pt x="392" y="35"/>
                </a:lnTo>
                <a:lnTo>
                  <a:pt x="411" y="31"/>
                </a:lnTo>
                <a:lnTo>
                  <a:pt x="430" y="27"/>
                </a:lnTo>
                <a:lnTo>
                  <a:pt x="449" y="25"/>
                </a:lnTo>
                <a:lnTo>
                  <a:pt x="467" y="21"/>
                </a:lnTo>
                <a:lnTo>
                  <a:pt x="484" y="17"/>
                </a:lnTo>
                <a:lnTo>
                  <a:pt x="499" y="15"/>
                </a:lnTo>
                <a:lnTo>
                  <a:pt x="513" y="14"/>
                </a:lnTo>
                <a:lnTo>
                  <a:pt x="528" y="10"/>
                </a:lnTo>
                <a:lnTo>
                  <a:pt x="540" y="8"/>
                </a:lnTo>
                <a:lnTo>
                  <a:pt x="551" y="6"/>
                </a:lnTo>
                <a:lnTo>
                  <a:pt x="563" y="4"/>
                </a:lnTo>
                <a:lnTo>
                  <a:pt x="572" y="4"/>
                </a:lnTo>
                <a:lnTo>
                  <a:pt x="580" y="2"/>
                </a:lnTo>
                <a:lnTo>
                  <a:pt x="588" y="2"/>
                </a:lnTo>
                <a:lnTo>
                  <a:pt x="595" y="0"/>
                </a:lnTo>
                <a:lnTo>
                  <a:pt x="601" y="0"/>
                </a:lnTo>
                <a:lnTo>
                  <a:pt x="607" y="0"/>
                </a:lnTo>
                <a:lnTo>
                  <a:pt x="611" y="0"/>
                </a:lnTo>
                <a:lnTo>
                  <a:pt x="624" y="0"/>
                </a:lnTo>
                <a:lnTo>
                  <a:pt x="636" y="2"/>
                </a:lnTo>
                <a:lnTo>
                  <a:pt x="649" y="4"/>
                </a:lnTo>
                <a:lnTo>
                  <a:pt x="660" y="8"/>
                </a:lnTo>
                <a:lnTo>
                  <a:pt x="672" y="12"/>
                </a:lnTo>
                <a:lnTo>
                  <a:pt x="683" y="15"/>
                </a:lnTo>
                <a:lnTo>
                  <a:pt x="697" y="19"/>
                </a:lnTo>
                <a:lnTo>
                  <a:pt x="710" y="23"/>
                </a:lnTo>
                <a:lnTo>
                  <a:pt x="716" y="25"/>
                </a:lnTo>
                <a:lnTo>
                  <a:pt x="722" y="29"/>
                </a:lnTo>
                <a:lnTo>
                  <a:pt x="728" y="31"/>
                </a:lnTo>
                <a:lnTo>
                  <a:pt x="733" y="33"/>
                </a:lnTo>
                <a:lnTo>
                  <a:pt x="737" y="35"/>
                </a:lnTo>
                <a:lnTo>
                  <a:pt x="741" y="37"/>
                </a:lnTo>
                <a:lnTo>
                  <a:pt x="745" y="40"/>
                </a:lnTo>
                <a:lnTo>
                  <a:pt x="747" y="42"/>
                </a:lnTo>
                <a:lnTo>
                  <a:pt x="749" y="44"/>
                </a:lnTo>
                <a:lnTo>
                  <a:pt x="751" y="46"/>
                </a:lnTo>
                <a:lnTo>
                  <a:pt x="751" y="48"/>
                </a:lnTo>
                <a:lnTo>
                  <a:pt x="751" y="52"/>
                </a:lnTo>
                <a:lnTo>
                  <a:pt x="751" y="54"/>
                </a:lnTo>
                <a:lnTo>
                  <a:pt x="751" y="56"/>
                </a:lnTo>
                <a:lnTo>
                  <a:pt x="749" y="58"/>
                </a:lnTo>
                <a:lnTo>
                  <a:pt x="747" y="60"/>
                </a:lnTo>
                <a:lnTo>
                  <a:pt x="743" y="62"/>
                </a:lnTo>
                <a:lnTo>
                  <a:pt x="739" y="65"/>
                </a:lnTo>
                <a:lnTo>
                  <a:pt x="731" y="67"/>
                </a:lnTo>
                <a:lnTo>
                  <a:pt x="724" y="69"/>
                </a:lnTo>
                <a:lnTo>
                  <a:pt x="712" y="73"/>
                </a:lnTo>
                <a:lnTo>
                  <a:pt x="701" y="75"/>
                </a:lnTo>
                <a:lnTo>
                  <a:pt x="687" y="79"/>
                </a:lnTo>
                <a:lnTo>
                  <a:pt x="670" y="81"/>
                </a:lnTo>
                <a:lnTo>
                  <a:pt x="653" y="85"/>
                </a:lnTo>
                <a:lnTo>
                  <a:pt x="643" y="87"/>
                </a:lnTo>
                <a:lnTo>
                  <a:pt x="634" y="88"/>
                </a:lnTo>
                <a:lnTo>
                  <a:pt x="622" y="90"/>
                </a:lnTo>
                <a:lnTo>
                  <a:pt x="611" y="92"/>
                </a:lnTo>
                <a:lnTo>
                  <a:pt x="599" y="94"/>
                </a:lnTo>
                <a:lnTo>
                  <a:pt x="588" y="98"/>
                </a:lnTo>
                <a:lnTo>
                  <a:pt x="574" y="100"/>
                </a:lnTo>
                <a:lnTo>
                  <a:pt x="563" y="102"/>
                </a:lnTo>
                <a:lnTo>
                  <a:pt x="549" y="106"/>
                </a:lnTo>
                <a:lnTo>
                  <a:pt x="534" y="108"/>
                </a:lnTo>
                <a:lnTo>
                  <a:pt x="520" y="111"/>
                </a:lnTo>
                <a:lnTo>
                  <a:pt x="505" y="113"/>
                </a:lnTo>
                <a:lnTo>
                  <a:pt x="490" y="117"/>
                </a:lnTo>
                <a:lnTo>
                  <a:pt x="472" y="121"/>
                </a:lnTo>
                <a:lnTo>
                  <a:pt x="455" y="125"/>
                </a:lnTo>
                <a:lnTo>
                  <a:pt x="440" y="127"/>
                </a:lnTo>
                <a:lnTo>
                  <a:pt x="422" y="131"/>
                </a:lnTo>
                <a:lnTo>
                  <a:pt x="407" y="133"/>
                </a:lnTo>
                <a:lnTo>
                  <a:pt x="392" y="136"/>
                </a:lnTo>
                <a:lnTo>
                  <a:pt x="376" y="138"/>
                </a:lnTo>
                <a:lnTo>
                  <a:pt x="363" y="142"/>
                </a:lnTo>
                <a:lnTo>
                  <a:pt x="350" y="144"/>
                </a:lnTo>
                <a:lnTo>
                  <a:pt x="323" y="148"/>
                </a:lnTo>
                <a:lnTo>
                  <a:pt x="298" y="152"/>
                </a:lnTo>
                <a:lnTo>
                  <a:pt x="277" y="156"/>
                </a:lnTo>
                <a:lnTo>
                  <a:pt x="255" y="159"/>
                </a:lnTo>
                <a:lnTo>
                  <a:pt x="236" y="161"/>
                </a:lnTo>
                <a:lnTo>
                  <a:pt x="219" y="163"/>
                </a:lnTo>
                <a:lnTo>
                  <a:pt x="204" y="165"/>
                </a:lnTo>
                <a:lnTo>
                  <a:pt x="188" y="167"/>
                </a:lnTo>
                <a:lnTo>
                  <a:pt x="177" y="167"/>
                </a:lnTo>
                <a:lnTo>
                  <a:pt x="165" y="169"/>
                </a:lnTo>
                <a:lnTo>
                  <a:pt x="158" y="169"/>
                </a:lnTo>
                <a:lnTo>
                  <a:pt x="150" y="169"/>
                </a:lnTo>
                <a:lnTo>
                  <a:pt x="135" y="169"/>
                </a:lnTo>
                <a:lnTo>
                  <a:pt x="119" y="167"/>
                </a:lnTo>
                <a:lnTo>
                  <a:pt x="102" y="163"/>
                </a:lnTo>
                <a:lnTo>
                  <a:pt x="85" y="159"/>
                </a:lnTo>
                <a:lnTo>
                  <a:pt x="64" y="152"/>
                </a:lnTo>
                <a:lnTo>
                  <a:pt x="54" y="148"/>
                </a:lnTo>
                <a:lnTo>
                  <a:pt x="44" y="144"/>
                </a:lnTo>
                <a:lnTo>
                  <a:pt x="33" y="138"/>
                </a:lnTo>
                <a:lnTo>
                  <a:pt x="23" y="133"/>
                </a:lnTo>
                <a:lnTo>
                  <a:pt x="12" y="127"/>
                </a:lnTo>
                <a:lnTo>
                  <a:pt x="0" y="1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155"/>
          <p:cNvSpPr/>
          <p:nvPr/>
        </p:nvSpPr>
        <p:spPr>
          <a:xfrm>
            <a:off x="6116760" y="3978360"/>
            <a:ext cx="603000" cy="149040"/>
          </a:xfrm>
          <a:custGeom>
            <a:avLst/>
            <a:gdLst/>
            <a:ahLst/>
            <a:rect l="l" t="t" r="r" b="b"/>
            <a:pathLst>
              <a:path w="760" h="186">
                <a:moveTo>
                  <a:pt x="447" y="136"/>
                </a:moveTo>
                <a:lnTo>
                  <a:pt x="413" y="144"/>
                </a:lnTo>
                <a:lnTo>
                  <a:pt x="382" y="150"/>
                </a:lnTo>
                <a:lnTo>
                  <a:pt x="351" y="155"/>
                </a:lnTo>
                <a:lnTo>
                  <a:pt x="323" y="159"/>
                </a:lnTo>
                <a:lnTo>
                  <a:pt x="309" y="163"/>
                </a:lnTo>
                <a:lnTo>
                  <a:pt x="296" y="165"/>
                </a:lnTo>
                <a:lnTo>
                  <a:pt x="282" y="167"/>
                </a:lnTo>
                <a:lnTo>
                  <a:pt x="271" y="169"/>
                </a:lnTo>
                <a:lnTo>
                  <a:pt x="259" y="171"/>
                </a:lnTo>
                <a:lnTo>
                  <a:pt x="248" y="173"/>
                </a:lnTo>
                <a:lnTo>
                  <a:pt x="236" y="173"/>
                </a:lnTo>
                <a:lnTo>
                  <a:pt x="227" y="175"/>
                </a:lnTo>
                <a:lnTo>
                  <a:pt x="217" y="177"/>
                </a:lnTo>
                <a:lnTo>
                  <a:pt x="207" y="177"/>
                </a:lnTo>
                <a:lnTo>
                  <a:pt x="200" y="178"/>
                </a:lnTo>
                <a:lnTo>
                  <a:pt x="192" y="180"/>
                </a:lnTo>
                <a:lnTo>
                  <a:pt x="184" y="180"/>
                </a:lnTo>
                <a:lnTo>
                  <a:pt x="177" y="182"/>
                </a:lnTo>
                <a:lnTo>
                  <a:pt x="171" y="182"/>
                </a:lnTo>
                <a:lnTo>
                  <a:pt x="165" y="182"/>
                </a:lnTo>
                <a:lnTo>
                  <a:pt x="159" y="184"/>
                </a:lnTo>
                <a:lnTo>
                  <a:pt x="154" y="184"/>
                </a:lnTo>
                <a:lnTo>
                  <a:pt x="150" y="184"/>
                </a:lnTo>
                <a:lnTo>
                  <a:pt x="146" y="184"/>
                </a:lnTo>
                <a:lnTo>
                  <a:pt x="142" y="184"/>
                </a:lnTo>
                <a:lnTo>
                  <a:pt x="140" y="184"/>
                </a:lnTo>
                <a:lnTo>
                  <a:pt x="138" y="186"/>
                </a:lnTo>
                <a:lnTo>
                  <a:pt x="136" y="186"/>
                </a:lnTo>
                <a:lnTo>
                  <a:pt x="127" y="184"/>
                </a:lnTo>
                <a:lnTo>
                  <a:pt x="117" y="182"/>
                </a:lnTo>
                <a:lnTo>
                  <a:pt x="108" y="180"/>
                </a:lnTo>
                <a:lnTo>
                  <a:pt x="98" y="178"/>
                </a:lnTo>
                <a:lnTo>
                  <a:pt x="87" y="175"/>
                </a:lnTo>
                <a:lnTo>
                  <a:pt x="75" y="171"/>
                </a:lnTo>
                <a:lnTo>
                  <a:pt x="64" y="165"/>
                </a:lnTo>
                <a:lnTo>
                  <a:pt x="50" y="161"/>
                </a:lnTo>
                <a:lnTo>
                  <a:pt x="42" y="159"/>
                </a:lnTo>
                <a:lnTo>
                  <a:pt x="37" y="157"/>
                </a:lnTo>
                <a:lnTo>
                  <a:pt x="31" y="155"/>
                </a:lnTo>
                <a:lnTo>
                  <a:pt x="25" y="154"/>
                </a:lnTo>
                <a:lnTo>
                  <a:pt x="21" y="152"/>
                </a:lnTo>
                <a:lnTo>
                  <a:pt x="17" y="152"/>
                </a:lnTo>
                <a:lnTo>
                  <a:pt x="10" y="150"/>
                </a:lnTo>
                <a:lnTo>
                  <a:pt x="6" y="146"/>
                </a:lnTo>
                <a:lnTo>
                  <a:pt x="2" y="144"/>
                </a:lnTo>
                <a:lnTo>
                  <a:pt x="0" y="140"/>
                </a:lnTo>
                <a:lnTo>
                  <a:pt x="0" y="136"/>
                </a:lnTo>
                <a:lnTo>
                  <a:pt x="0" y="132"/>
                </a:lnTo>
                <a:lnTo>
                  <a:pt x="2" y="130"/>
                </a:lnTo>
                <a:lnTo>
                  <a:pt x="6" y="129"/>
                </a:lnTo>
                <a:lnTo>
                  <a:pt x="10" y="127"/>
                </a:lnTo>
                <a:lnTo>
                  <a:pt x="14" y="125"/>
                </a:lnTo>
                <a:lnTo>
                  <a:pt x="21" y="125"/>
                </a:lnTo>
                <a:lnTo>
                  <a:pt x="29" y="125"/>
                </a:lnTo>
                <a:lnTo>
                  <a:pt x="37" y="125"/>
                </a:lnTo>
                <a:lnTo>
                  <a:pt x="39" y="125"/>
                </a:lnTo>
                <a:lnTo>
                  <a:pt x="40" y="125"/>
                </a:lnTo>
                <a:lnTo>
                  <a:pt x="42" y="125"/>
                </a:lnTo>
                <a:lnTo>
                  <a:pt x="46" y="123"/>
                </a:lnTo>
                <a:lnTo>
                  <a:pt x="50" y="123"/>
                </a:lnTo>
                <a:lnTo>
                  <a:pt x="54" y="123"/>
                </a:lnTo>
                <a:lnTo>
                  <a:pt x="60" y="121"/>
                </a:lnTo>
                <a:lnTo>
                  <a:pt x="65" y="121"/>
                </a:lnTo>
                <a:lnTo>
                  <a:pt x="71" y="119"/>
                </a:lnTo>
                <a:lnTo>
                  <a:pt x="77" y="117"/>
                </a:lnTo>
                <a:lnTo>
                  <a:pt x="85" y="117"/>
                </a:lnTo>
                <a:lnTo>
                  <a:pt x="92" y="115"/>
                </a:lnTo>
                <a:lnTo>
                  <a:pt x="100" y="113"/>
                </a:lnTo>
                <a:lnTo>
                  <a:pt x="110" y="111"/>
                </a:lnTo>
                <a:lnTo>
                  <a:pt x="117" y="109"/>
                </a:lnTo>
                <a:lnTo>
                  <a:pt x="127" y="107"/>
                </a:lnTo>
                <a:lnTo>
                  <a:pt x="138" y="104"/>
                </a:lnTo>
                <a:lnTo>
                  <a:pt x="148" y="102"/>
                </a:lnTo>
                <a:lnTo>
                  <a:pt x="159" y="100"/>
                </a:lnTo>
                <a:lnTo>
                  <a:pt x="171" y="96"/>
                </a:lnTo>
                <a:lnTo>
                  <a:pt x="184" y="94"/>
                </a:lnTo>
                <a:lnTo>
                  <a:pt x="196" y="90"/>
                </a:lnTo>
                <a:lnTo>
                  <a:pt x="209" y="88"/>
                </a:lnTo>
                <a:lnTo>
                  <a:pt x="223" y="84"/>
                </a:lnTo>
                <a:lnTo>
                  <a:pt x="252" y="77"/>
                </a:lnTo>
                <a:lnTo>
                  <a:pt x="282" y="69"/>
                </a:lnTo>
                <a:lnTo>
                  <a:pt x="315" y="61"/>
                </a:lnTo>
                <a:lnTo>
                  <a:pt x="350" y="52"/>
                </a:lnTo>
                <a:lnTo>
                  <a:pt x="382" y="46"/>
                </a:lnTo>
                <a:lnTo>
                  <a:pt x="415" y="38"/>
                </a:lnTo>
                <a:lnTo>
                  <a:pt x="447" y="33"/>
                </a:lnTo>
                <a:lnTo>
                  <a:pt x="476" y="27"/>
                </a:lnTo>
                <a:lnTo>
                  <a:pt x="505" y="21"/>
                </a:lnTo>
                <a:lnTo>
                  <a:pt x="532" y="17"/>
                </a:lnTo>
                <a:lnTo>
                  <a:pt x="557" y="13"/>
                </a:lnTo>
                <a:lnTo>
                  <a:pt x="580" y="10"/>
                </a:lnTo>
                <a:lnTo>
                  <a:pt x="601" y="6"/>
                </a:lnTo>
                <a:lnTo>
                  <a:pt x="620" y="4"/>
                </a:lnTo>
                <a:lnTo>
                  <a:pt x="637" y="2"/>
                </a:lnTo>
                <a:lnTo>
                  <a:pt x="653" y="0"/>
                </a:lnTo>
                <a:lnTo>
                  <a:pt x="660" y="0"/>
                </a:lnTo>
                <a:lnTo>
                  <a:pt x="666" y="0"/>
                </a:lnTo>
                <a:lnTo>
                  <a:pt x="674" y="0"/>
                </a:lnTo>
                <a:lnTo>
                  <a:pt x="680" y="0"/>
                </a:lnTo>
                <a:lnTo>
                  <a:pt x="683" y="2"/>
                </a:lnTo>
                <a:lnTo>
                  <a:pt x="689" y="2"/>
                </a:lnTo>
                <a:lnTo>
                  <a:pt x="693" y="2"/>
                </a:lnTo>
                <a:lnTo>
                  <a:pt x="697" y="4"/>
                </a:lnTo>
                <a:lnTo>
                  <a:pt x="710" y="10"/>
                </a:lnTo>
                <a:lnTo>
                  <a:pt x="722" y="15"/>
                </a:lnTo>
                <a:lnTo>
                  <a:pt x="733" y="21"/>
                </a:lnTo>
                <a:lnTo>
                  <a:pt x="743" y="29"/>
                </a:lnTo>
                <a:lnTo>
                  <a:pt x="749" y="35"/>
                </a:lnTo>
                <a:lnTo>
                  <a:pt x="753" y="38"/>
                </a:lnTo>
                <a:lnTo>
                  <a:pt x="755" y="40"/>
                </a:lnTo>
                <a:lnTo>
                  <a:pt x="756" y="44"/>
                </a:lnTo>
                <a:lnTo>
                  <a:pt x="758" y="48"/>
                </a:lnTo>
                <a:lnTo>
                  <a:pt x="758" y="50"/>
                </a:lnTo>
                <a:lnTo>
                  <a:pt x="760" y="52"/>
                </a:lnTo>
                <a:lnTo>
                  <a:pt x="758" y="54"/>
                </a:lnTo>
                <a:lnTo>
                  <a:pt x="756" y="56"/>
                </a:lnTo>
                <a:lnTo>
                  <a:pt x="753" y="56"/>
                </a:lnTo>
                <a:lnTo>
                  <a:pt x="751" y="58"/>
                </a:lnTo>
                <a:lnTo>
                  <a:pt x="747" y="59"/>
                </a:lnTo>
                <a:lnTo>
                  <a:pt x="743" y="61"/>
                </a:lnTo>
                <a:lnTo>
                  <a:pt x="739" y="63"/>
                </a:lnTo>
                <a:lnTo>
                  <a:pt x="733" y="65"/>
                </a:lnTo>
                <a:lnTo>
                  <a:pt x="728" y="67"/>
                </a:lnTo>
                <a:lnTo>
                  <a:pt x="722" y="69"/>
                </a:lnTo>
                <a:lnTo>
                  <a:pt x="714" y="73"/>
                </a:lnTo>
                <a:lnTo>
                  <a:pt x="708" y="75"/>
                </a:lnTo>
                <a:lnTo>
                  <a:pt x="701" y="77"/>
                </a:lnTo>
                <a:lnTo>
                  <a:pt x="691" y="81"/>
                </a:lnTo>
                <a:lnTo>
                  <a:pt x="683" y="83"/>
                </a:lnTo>
                <a:lnTo>
                  <a:pt x="674" y="84"/>
                </a:lnTo>
                <a:lnTo>
                  <a:pt x="664" y="88"/>
                </a:lnTo>
                <a:lnTo>
                  <a:pt x="653" y="90"/>
                </a:lnTo>
                <a:lnTo>
                  <a:pt x="643" y="94"/>
                </a:lnTo>
                <a:lnTo>
                  <a:pt x="630" y="98"/>
                </a:lnTo>
                <a:lnTo>
                  <a:pt x="618" y="100"/>
                </a:lnTo>
                <a:lnTo>
                  <a:pt x="607" y="104"/>
                </a:lnTo>
                <a:lnTo>
                  <a:pt x="593" y="106"/>
                </a:lnTo>
                <a:lnTo>
                  <a:pt x="578" y="109"/>
                </a:lnTo>
                <a:lnTo>
                  <a:pt x="564" y="113"/>
                </a:lnTo>
                <a:lnTo>
                  <a:pt x="549" y="117"/>
                </a:lnTo>
                <a:lnTo>
                  <a:pt x="534" y="119"/>
                </a:lnTo>
                <a:lnTo>
                  <a:pt x="518" y="123"/>
                </a:lnTo>
                <a:lnTo>
                  <a:pt x="501" y="127"/>
                </a:lnTo>
                <a:lnTo>
                  <a:pt x="484" y="130"/>
                </a:lnTo>
                <a:lnTo>
                  <a:pt x="467" y="132"/>
                </a:lnTo>
                <a:lnTo>
                  <a:pt x="447" y="1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156"/>
          <p:cNvSpPr/>
          <p:nvPr/>
        </p:nvSpPr>
        <p:spPr>
          <a:xfrm>
            <a:off x="6116760" y="3743280"/>
            <a:ext cx="631800" cy="152280"/>
          </a:xfrm>
          <a:custGeom>
            <a:avLst/>
            <a:gdLst/>
            <a:ahLst/>
            <a:rect l="l" t="t" r="r" b="b"/>
            <a:pathLst>
              <a:path w="797" h="192">
                <a:moveTo>
                  <a:pt x="0" y="133"/>
                </a:moveTo>
                <a:lnTo>
                  <a:pt x="39" y="125"/>
                </a:lnTo>
                <a:lnTo>
                  <a:pt x="77" y="118"/>
                </a:lnTo>
                <a:lnTo>
                  <a:pt x="113" y="110"/>
                </a:lnTo>
                <a:lnTo>
                  <a:pt x="150" y="102"/>
                </a:lnTo>
                <a:lnTo>
                  <a:pt x="184" y="94"/>
                </a:lnTo>
                <a:lnTo>
                  <a:pt x="217" y="89"/>
                </a:lnTo>
                <a:lnTo>
                  <a:pt x="250" y="81"/>
                </a:lnTo>
                <a:lnTo>
                  <a:pt x="280" y="75"/>
                </a:lnTo>
                <a:lnTo>
                  <a:pt x="309" y="70"/>
                </a:lnTo>
                <a:lnTo>
                  <a:pt x="338" y="64"/>
                </a:lnTo>
                <a:lnTo>
                  <a:pt x="365" y="58"/>
                </a:lnTo>
                <a:lnTo>
                  <a:pt x="392" y="52"/>
                </a:lnTo>
                <a:lnTo>
                  <a:pt x="417" y="47"/>
                </a:lnTo>
                <a:lnTo>
                  <a:pt x="442" y="43"/>
                </a:lnTo>
                <a:lnTo>
                  <a:pt x="465" y="39"/>
                </a:lnTo>
                <a:lnTo>
                  <a:pt x="486" y="33"/>
                </a:lnTo>
                <a:lnTo>
                  <a:pt x="505" y="29"/>
                </a:lnTo>
                <a:lnTo>
                  <a:pt x="524" y="25"/>
                </a:lnTo>
                <a:lnTo>
                  <a:pt x="543" y="22"/>
                </a:lnTo>
                <a:lnTo>
                  <a:pt x="561" y="20"/>
                </a:lnTo>
                <a:lnTo>
                  <a:pt x="576" y="16"/>
                </a:lnTo>
                <a:lnTo>
                  <a:pt x="591" y="14"/>
                </a:lnTo>
                <a:lnTo>
                  <a:pt x="605" y="10"/>
                </a:lnTo>
                <a:lnTo>
                  <a:pt x="616" y="8"/>
                </a:lnTo>
                <a:lnTo>
                  <a:pt x="628" y="6"/>
                </a:lnTo>
                <a:lnTo>
                  <a:pt x="637" y="4"/>
                </a:lnTo>
                <a:lnTo>
                  <a:pt x="645" y="2"/>
                </a:lnTo>
                <a:lnTo>
                  <a:pt x="653" y="2"/>
                </a:lnTo>
                <a:lnTo>
                  <a:pt x="660" y="0"/>
                </a:lnTo>
                <a:lnTo>
                  <a:pt x="664" y="0"/>
                </a:lnTo>
                <a:lnTo>
                  <a:pt x="670" y="0"/>
                </a:lnTo>
                <a:lnTo>
                  <a:pt x="672" y="0"/>
                </a:lnTo>
                <a:lnTo>
                  <a:pt x="678" y="0"/>
                </a:lnTo>
                <a:lnTo>
                  <a:pt x="683" y="0"/>
                </a:lnTo>
                <a:lnTo>
                  <a:pt x="691" y="0"/>
                </a:lnTo>
                <a:lnTo>
                  <a:pt x="701" y="0"/>
                </a:lnTo>
                <a:lnTo>
                  <a:pt x="710" y="2"/>
                </a:lnTo>
                <a:lnTo>
                  <a:pt x="722" y="4"/>
                </a:lnTo>
                <a:lnTo>
                  <a:pt x="733" y="8"/>
                </a:lnTo>
                <a:lnTo>
                  <a:pt x="747" y="12"/>
                </a:lnTo>
                <a:lnTo>
                  <a:pt x="755" y="14"/>
                </a:lnTo>
                <a:lnTo>
                  <a:pt x="760" y="16"/>
                </a:lnTo>
                <a:lnTo>
                  <a:pt x="766" y="18"/>
                </a:lnTo>
                <a:lnTo>
                  <a:pt x="770" y="22"/>
                </a:lnTo>
                <a:lnTo>
                  <a:pt x="776" y="23"/>
                </a:lnTo>
                <a:lnTo>
                  <a:pt x="779" y="25"/>
                </a:lnTo>
                <a:lnTo>
                  <a:pt x="785" y="29"/>
                </a:lnTo>
                <a:lnTo>
                  <a:pt x="791" y="35"/>
                </a:lnTo>
                <a:lnTo>
                  <a:pt x="795" y="39"/>
                </a:lnTo>
                <a:lnTo>
                  <a:pt x="797" y="43"/>
                </a:lnTo>
                <a:lnTo>
                  <a:pt x="797" y="48"/>
                </a:lnTo>
                <a:lnTo>
                  <a:pt x="797" y="52"/>
                </a:lnTo>
                <a:lnTo>
                  <a:pt x="795" y="54"/>
                </a:lnTo>
                <a:lnTo>
                  <a:pt x="793" y="58"/>
                </a:lnTo>
                <a:lnTo>
                  <a:pt x="789" y="60"/>
                </a:lnTo>
                <a:lnTo>
                  <a:pt x="785" y="62"/>
                </a:lnTo>
                <a:lnTo>
                  <a:pt x="781" y="66"/>
                </a:lnTo>
                <a:lnTo>
                  <a:pt x="776" y="68"/>
                </a:lnTo>
                <a:lnTo>
                  <a:pt x="772" y="71"/>
                </a:lnTo>
                <a:lnTo>
                  <a:pt x="770" y="73"/>
                </a:lnTo>
                <a:lnTo>
                  <a:pt x="766" y="75"/>
                </a:lnTo>
                <a:lnTo>
                  <a:pt x="762" y="75"/>
                </a:lnTo>
                <a:lnTo>
                  <a:pt x="758" y="77"/>
                </a:lnTo>
                <a:lnTo>
                  <a:pt x="755" y="79"/>
                </a:lnTo>
                <a:lnTo>
                  <a:pt x="749" y="81"/>
                </a:lnTo>
                <a:lnTo>
                  <a:pt x="743" y="81"/>
                </a:lnTo>
                <a:lnTo>
                  <a:pt x="737" y="83"/>
                </a:lnTo>
                <a:lnTo>
                  <a:pt x="730" y="85"/>
                </a:lnTo>
                <a:lnTo>
                  <a:pt x="724" y="87"/>
                </a:lnTo>
                <a:lnTo>
                  <a:pt x="716" y="89"/>
                </a:lnTo>
                <a:lnTo>
                  <a:pt x="708" y="91"/>
                </a:lnTo>
                <a:lnTo>
                  <a:pt x="699" y="93"/>
                </a:lnTo>
                <a:lnTo>
                  <a:pt x="689" y="94"/>
                </a:lnTo>
                <a:lnTo>
                  <a:pt x="670" y="98"/>
                </a:lnTo>
                <a:lnTo>
                  <a:pt x="649" y="104"/>
                </a:lnTo>
                <a:lnTo>
                  <a:pt x="626" y="108"/>
                </a:lnTo>
                <a:lnTo>
                  <a:pt x="601" y="114"/>
                </a:lnTo>
                <a:lnTo>
                  <a:pt x="574" y="119"/>
                </a:lnTo>
                <a:lnTo>
                  <a:pt x="545" y="125"/>
                </a:lnTo>
                <a:lnTo>
                  <a:pt x="515" y="131"/>
                </a:lnTo>
                <a:lnTo>
                  <a:pt x="482" y="137"/>
                </a:lnTo>
                <a:lnTo>
                  <a:pt x="447" y="144"/>
                </a:lnTo>
                <a:lnTo>
                  <a:pt x="413" y="150"/>
                </a:lnTo>
                <a:lnTo>
                  <a:pt x="382" y="158"/>
                </a:lnTo>
                <a:lnTo>
                  <a:pt x="351" y="162"/>
                </a:lnTo>
                <a:lnTo>
                  <a:pt x="323" y="167"/>
                </a:lnTo>
                <a:lnTo>
                  <a:pt x="296" y="171"/>
                </a:lnTo>
                <a:lnTo>
                  <a:pt x="271" y="175"/>
                </a:lnTo>
                <a:lnTo>
                  <a:pt x="246" y="179"/>
                </a:lnTo>
                <a:lnTo>
                  <a:pt x="225" y="183"/>
                </a:lnTo>
                <a:lnTo>
                  <a:pt x="215" y="185"/>
                </a:lnTo>
                <a:lnTo>
                  <a:pt x="206" y="185"/>
                </a:lnTo>
                <a:lnTo>
                  <a:pt x="196" y="187"/>
                </a:lnTo>
                <a:lnTo>
                  <a:pt x="188" y="187"/>
                </a:lnTo>
                <a:lnTo>
                  <a:pt x="181" y="189"/>
                </a:lnTo>
                <a:lnTo>
                  <a:pt x="173" y="189"/>
                </a:lnTo>
                <a:lnTo>
                  <a:pt x="165" y="190"/>
                </a:lnTo>
                <a:lnTo>
                  <a:pt x="159" y="190"/>
                </a:lnTo>
                <a:lnTo>
                  <a:pt x="154" y="190"/>
                </a:lnTo>
                <a:lnTo>
                  <a:pt x="148" y="192"/>
                </a:lnTo>
                <a:lnTo>
                  <a:pt x="142" y="192"/>
                </a:lnTo>
                <a:lnTo>
                  <a:pt x="138" y="192"/>
                </a:lnTo>
                <a:lnTo>
                  <a:pt x="135" y="192"/>
                </a:lnTo>
                <a:lnTo>
                  <a:pt x="131" y="192"/>
                </a:lnTo>
                <a:lnTo>
                  <a:pt x="127" y="192"/>
                </a:lnTo>
                <a:lnTo>
                  <a:pt x="125" y="192"/>
                </a:lnTo>
                <a:lnTo>
                  <a:pt x="119" y="192"/>
                </a:lnTo>
                <a:lnTo>
                  <a:pt x="115" y="192"/>
                </a:lnTo>
                <a:lnTo>
                  <a:pt x="110" y="190"/>
                </a:lnTo>
                <a:lnTo>
                  <a:pt x="104" y="189"/>
                </a:lnTo>
                <a:lnTo>
                  <a:pt x="96" y="187"/>
                </a:lnTo>
                <a:lnTo>
                  <a:pt x="90" y="183"/>
                </a:lnTo>
                <a:lnTo>
                  <a:pt x="75" y="177"/>
                </a:lnTo>
                <a:lnTo>
                  <a:pt x="60" y="167"/>
                </a:lnTo>
                <a:lnTo>
                  <a:pt x="52" y="164"/>
                </a:lnTo>
                <a:lnTo>
                  <a:pt x="42" y="158"/>
                </a:lnTo>
                <a:lnTo>
                  <a:pt x="33" y="152"/>
                </a:lnTo>
                <a:lnTo>
                  <a:pt x="21" y="146"/>
                </a:lnTo>
                <a:lnTo>
                  <a:pt x="12" y="139"/>
                </a:lnTo>
                <a:lnTo>
                  <a:pt x="0" y="13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157"/>
          <p:cNvSpPr/>
          <p:nvPr/>
        </p:nvSpPr>
        <p:spPr>
          <a:xfrm>
            <a:off x="6303960" y="3613320"/>
            <a:ext cx="190440" cy="150480"/>
          </a:xfrm>
          <a:custGeom>
            <a:avLst/>
            <a:gdLst/>
            <a:ahLst/>
            <a:rect l="l" t="t" r="r" b="b"/>
            <a:pathLst>
              <a:path w="240" h="190">
                <a:moveTo>
                  <a:pt x="236" y="114"/>
                </a:moveTo>
                <a:lnTo>
                  <a:pt x="236" y="123"/>
                </a:lnTo>
                <a:lnTo>
                  <a:pt x="236" y="131"/>
                </a:lnTo>
                <a:lnTo>
                  <a:pt x="236" y="138"/>
                </a:lnTo>
                <a:lnTo>
                  <a:pt x="234" y="146"/>
                </a:lnTo>
                <a:lnTo>
                  <a:pt x="234" y="152"/>
                </a:lnTo>
                <a:lnTo>
                  <a:pt x="233" y="158"/>
                </a:lnTo>
                <a:lnTo>
                  <a:pt x="231" y="163"/>
                </a:lnTo>
                <a:lnTo>
                  <a:pt x="229" y="169"/>
                </a:lnTo>
                <a:lnTo>
                  <a:pt x="227" y="173"/>
                </a:lnTo>
                <a:lnTo>
                  <a:pt x="225" y="177"/>
                </a:lnTo>
                <a:lnTo>
                  <a:pt x="223" y="179"/>
                </a:lnTo>
                <a:lnTo>
                  <a:pt x="221" y="183"/>
                </a:lnTo>
                <a:lnTo>
                  <a:pt x="219" y="185"/>
                </a:lnTo>
                <a:lnTo>
                  <a:pt x="217" y="185"/>
                </a:lnTo>
                <a:lnTo>
                  <a:pt x="213" y="186"/>
                </a:lnTo>
                <a:lnTo>
                  <a:pt x="211" y="186"/>
                </a:lnTo>
                <a:lnTo>
                  <a:pt x="209" y="188"/>
                </a:lnTo>
                <a:lnTo>
                  <a:pt x="206" y="190"/>
                </a:lnTo>
                <a:lnTo>
                  <a:pt x="202" y="190"/>
                </a:lnTo>
                <a:lnTo>
                  <a:pt x="198" y="188"/>
                </a:lnTo>
                <a:lnTo>
                  <a:pt x="192" y="188"/>
                </a:lnTo>
                <a:lnTo>
                  <a:pt x="188" y="185"/>
                </a:lnTo>
                <a:lnTo>
                  <a:pt x="181" y="183"/>
                </a:lnTo>
                <a:lnTo>
                  <a:pt x="175" y="177"/>
                </a:lnTo>
                <a:lnTo>
                  <a:pt x="167" y="173"/>
                </a:lnTo>
                <a:lnTo>
                  <a:pt x="160" y="167"/>
                </a:lnTo>
                <a:lnTo>
                  <a:pt x="150" y="160"/>
                </a:lnTo>
                <a:lnTo>
                  <a:pt x="142" y="152"/>
                </a:lnTo>
                <a:lnTo>
                  <a:pt x="133" y="144"/>
                </a:lnTo>
                <a:lnTo>
                  <a:pt x="121" y="135"/>
                </a:lnTo>
                <a:lnTo>
                  <a:pt x="112" y="125"/>
                </a:lnTo>
                <a:lnTo>
                  <a:pt x="100" y="114"/>
                </a:lnTo>
                <a:lnTo>
                  <a:pt x="89" y="106"/>
                </a:lnTo>
                <a:lnTo>
                  <a:pt x="79" y="96"/>
                </a:lnTo>
                <a:lnTo>
                  <a:pt x="67" y="89"/>
                </a:lnTo>
                <a:lnTo>
                  <a:pt x="58" y="79"/>
                </a:lnTo>
                <a:lnTo>
                  <a:pt x="50" y="71"/>
                </a:lnTo>
                <a:lnTo>
                  <a:pt x="41" y="64"/>
                </a:lnTo>
                <a:lnTo>
                  <a:pt x="33" y="58"/>
                </a:lnTo>
                <a:lnTo>
                  <a:pt x="27" y="50"/>
                </a:lnTo>
                <a:lnTo>
                  <a:pt x="21" y="44"/>
                </a:lnTo>
                <a:lnTo>
                  <a:pt x="16" y="37"/>
                </a:lnTo>
                <a:lnTo>
                  <a:pt x="12" y="31"/>
                </a:lnTo>
                <a:lnTo>
                  <a:pt x="8" y="25"/>
                </a:lnTo>
                <a:lnTo>
                  <a:pt x="4" y="19"/>
                </a:lnTo>
                <a:lnTo>
                  <a:pt x="2" y="16"/>
                </a:lnTo>
                <a:lnTo>
                  <a:pt x="0" y="10"/>
                </a:lnTo>
                <a:lnTo>
                  <a:pt x="0" y="6"/>
                </a:lnTo>
                <a:lnTo>
                  <a:pt x="16" y="2"/>
                </a:lnTo>
                <a:lnTo>
                  <a:pt x="31" y="2"/>
                </a:lnTo>
                <a:lnTo>
                  <a:pt x="46" y="0"/>
                </a:lnTo>
                <a:lnTo>
                  <a:pt x="62" y="0"/>
                </a:lnTo>
                <a:lnTo>
                  <a:pt x="75" y="0"/>
                </a:lnTo>
                <a:lnTo>
                  <a:pt x="89" y="0"/>
                </a:lnTo>
                <a:lnTo>
                  <a:pt x="100" y="0"/>
                </a:lnTo>
                <a:lnTo>
                  <a:pt x="112" y="2"/>
                </a:lnTo>
                <a:lnTo>
                  <a:pt x="123" y="4"/>
                </a:lnTo>
                <a:lnTo>
                  <a:pt x="135" y="4"/>
                </a:lnTo>
                <a:lnTo>
                  <a:pt x="144" y="6"/>
                </a:lnTo>
                <a:lnTo>
                  <a:pt x="154" y="8"/>
                </a:lnTo>
                <a:lnTo>
                  <a:pt x="163" y="10"/>
                </a:lnTo>
                <a:lnTo>
                  <a:pt x="171" y="14"/>
                </a:lnTo>
                <a:lnTo>
                  <a:pt x="181" y="16"/>
                </a:lnTo>
                <a:lnTo>
                  <a:pt x="186" y="18"/>
                </a:lnTo>
                <a:lnTo>
                  <a:pt x="194" y="19"/>
                </a:lnTo>
                <a:lnTo>
                  <a:pt x="200" y="23"/>
                </a:lnTo>
                <a:lnTo>
                  <a:pt x="206" y="27"/>
                </a:lnTo>
                <a:lnTo>
                  <a:pt x="211" y="31"/>
                </a:lnTo>
                <a:lnTo>
                  <a:pt x="217" y="35"/>
                </a:lnTo>
                <a:lnTo>
                  <a:pt x="223" y="41"/>
                </a:lnTo>
                <a:lnTo>
                  <a:pt x="227" y="46"/>
                </a:lnTo>
                <a:lnTo>
                  <a:pt x="231" y="52"/>
                </a:lnTo>
                <a:lnTo>
                  <a:pt x="234" y="58"/>
                </a:lnTo>
                <a:lnTo>
                  <a:pt x="236" y="66"/>
                </a:lnTo>
                <a:lnTo>
                  <a:pt x="238" y="73"/>
                </a:lnTo>
                <a:lnTo>
                  <a:pt x="240" y="81"/>
                </a:lnTo>
                <a:lnTo>
                  <a:pt x="240" y="89"/>
                </a:lnTo>
                <a:lnTo>
                  <a:pt x="240" y="96"/>
                </a:lnTo>
                <a:lnTo>
                  <a:pt x="238" y="106"/>
                </a:lnTo>
                <a:lnTo>
                  <a:pt x="236" y="11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158"/>
          <p:cNvSpPr/>
          <p:nvPr/>
        </p:nvSpPr>
        <p:spPr>
          <a:xfrm>
            <a:off x="5432400" y="3564000"/>
            <a:ext cx="743040" cy="865080"/>
          </a:xfrm>
          <a:custGeom>
            <a:avLst/>
            <a:gdLst/>
            <a:ahLst/>
            <a:rect l="l" t="t" r="r" b="b"/>
            <a:pathLst>
              <a:path w="937" h="1088">
                <a:moveTo>
                  <a:pt x="177" y="889"/>
                </a:moveTo>
                <a:lnTo>
                  <a:pt x="200" y="866"/>
                </a:lnTo>
                <a:lnTo>
                  <a:pt x="223" y="841"/>
                </a:lnTo>
                <a:lnTo>
                  <a:pt x="246" y="816"/>
                </a:lnTo>
                <a:lnTo>
                  <a:pt x="271" y="791"/>
                </a:lnTo>
                <a:lnTo>
                  <a:pt x="294" y="764"/>
                </a:lnTo>
                <a:lnTo>
                  <a:pt x="317" y="737"/>
                </a:lnTo>
                <a:lnTo>
                  <a:pt x="340" y="710"/>
                </a:lnTo>
                <a:lnTo>
                  <a:pt x="363" y="681"/>
                </a:lnTo>
                <a:lnTo>
                  <a:pt x="388" y="652"/>
                </a:lnTo>
                <a:lnTo>
                  <a:pt x="411" y="622"/>
                </a:lnTo>
                <a:lnTo>
                  <a:pt x="434" y="591"/>
                </a:lnTo>
                <a:lnTo>
                  <a:pt x="457" y="560"/>
                </a:lnTo>
                <a:lnTo>
                  <a:pt x="480" y="530"/>
                </a:lnTo>
                <a:lnTo>
                  <a:pt x="503" y="497"/>
                </a:lnTo>
                <a:lnTo>
                  <a:pt x="526" y="462"/>
                </a:lnTo>
                <a:lnTo>
                  <a:pt x="551" y="430"/>
                </a:lnTo>
                <a:lnTo>
                  <a:pt x="572" y="395"/>
                </a:lnTo>
                <a:lnTo>
                  <a:pt x="593" y="363"/>
                </a:lnTo>
                <a:lnTo>
                  <a:pt x="613" y="334"/>
                </a:lnTo>
                <a:lnTo>
                  <a:pt x="630" y="305"/>
                </a:lnTo>
                <a:lnTo>
                  <a:pt x="645" y="276"/>
                </a:lnTo>
                <a:lnTo>
                  <a:pt x="659" y="251"/>
                </a:lnTo>
                <a:lnTo>
                  <a:pt x="670" y="228"/>
                </a:lnTo>
                <a:lnTo>
                  <a:pt x="682" y="205"/>
                </a:lnTo>
                <a:lnTo>
                  <a:pt x="691" y="184"/>
                </a:lnTo>
                <a:lnTo>
                  <a:pt x="699" y="165"/>
                </a:lnTo>
                <a:lnTo>
                  <a:pt x="705" y="148"/>
                </a:lnTo>
                <a:lnTo>
                  <a:pt x="709" y="132"/>
                </a:lnTo>
                <a:lnTo>
                  <a:pt x="712" y="119"/>
                </a:lnTo>
                <a:lnTo>
                  <a:pt x="714" y="107"/>
                </a:lnTo>
                <a:lnTo>
                  <a:pt x="714" y="98"/>
                </a:lnTo>
                <a:lnTo>
                  <a:pt x="714" y="94"/>
                </a:lnTo>
                <a:lnTo>
                  <a:pt x="712" y="90"/>
                </a:lnTo>
                <a:lnTo>
                  <a:pt x="709" y="77"/>
                </a:lnTo>
                <a:lnTo>
                  <a:pt x="705" y="65"/>
                </a:lnTo>
                <a:lnTo>
                  <a:pt x="703" y="56"/>
                </a:lnTo>
                <a:lnTo>
                  <a:pt x="703" y="46"/>
                </a:lnTo>
                <a:lnTo>
                  <a:pt x="703" y="36"/>
                </a:lnTo>
                <a:lnTo>
                  <a:pt x="705" y="29"/>
                </a:lnTo>
                <a:lnTo>
                  <a:pt x="709" y="23"/>
                </a:lnTo>
                <a:lnTo>
                  <a:pt x="712" y="19"/>
                </a:lnTo>
                <a:lnTo>
                  <a:pt x="718" y="13"/>
                </a:lnTo>
                <a:lnTo>
                  <a:pt x="724" y="9"/>
                </a:lnTo>
                <a:lnTo>
                  <a:pt x="732" y="6"/>
                </a:lnTo>
                <a:lnTo>
                  <a:pt x="741" y="2"/>
                </a:lnTo>
                <a:lnTo>
                  <a:pt x="751" y="2"/>
                </a:lnTo>
                <a:lnTo>
                  <a:pt x="760" y="0"/>
                </a:lnTo>
                <a:lnTo>
                  <a:pt x="768" y="2"/>
                </a:lnTo>
                <a:lnTo>
                  <a:pt x="774" y="2"/>
                </a:lnTo>
                <a:lnTo>
                  <a:pt x="780" y="4"/>
                </a:lnTo>
                <a:lnTo>
                  <a:pt x="787" y="6"/>
                </a:lnTo>
                <a:lnTo>
                  <a:pt x="801" y="11"/>
                </a:lnTo>
                <a:lnTo>
                  <a:pt x="812" y="17"/>
                </a:lnTo>
                <a:lnTo>
                  <a:pt x="826" y="25"/>
                </a:lnTo>
                <a:lnTo>
                  <a:pt x="837" y="32"/>
                </a:lnTo>
                <a:lnTo>
                  <a:pt x="849" y="42"/>
                </a:lnTo>
                <a:lnTo>
                  <a:pt x="860" y="54"/>
                </a:lnTo>
                <a:lnTo>
                  <a:pt x="874" y="65"/>
                </a:lnTo>
                <a:lnTo>
                  <a:pt x="887" y="79"/>
                </a:lnTo>
                <a:lnTo>
                  <a:pt x="893" y="86"/>
                </a:lnTo>
                <a:lnTo>
                  <a:pt x="899" y="92"/>
                </a:lnTo>
                <a:lnTo>
                  <a:pt x="904" y="98"/>
                </a:lnTo>
                <a:lnTo>
                  <a:pt x="910" y="104"/>
                </a:lnTo>
                <a:lnTo>
                  <a:pt x="914" y="109"/>
                </a:lnTo>
                <a:lnTo>
                  <a:pt x="918" y="115"/>
                </a:lnTo>
                <a:lnTo>
                  <a:pt x="926" y="125"/>
                </a:lnTo>
                <a:lnTo>
                  <a:pt x="931" y="136"/>
                </a:lnTo>
                <a:lnTo>
                  <a:pt x="933" y="146"/>
                </a:lnTo>
                <a:lnTo>
                  <a:pt x="935" y="153"/>
                </a:lnTo>
                <a:lnTo>
                  <a:pt x="937" y="163"/>
                </a:lnTo>
                <a:lnTo>
                  <a:pt x="937" y="165"/>
                </a:lnTo>
                <a:lnTo>
                  <a:pt x="935" y="169"/>
                </a:lnTo>
                <a:lnTo>
                  <a:pt x="935" y="173"/>
                </a:lnTo>
                <a:lnTo>
                  <a:pt x="933" y="176"/>
                </a:lnTo>
                <a:lnTo>
                  <a:pt x="931" y="180"/>
                </a:lnTo>
                <a:lnTo>
                  <a:pt x="929" y="186"/>
                </a:lnTo>
                <a:lnTo>
                  <a:pt x="926" y="190"/>
                </a:lnTo>
                <a:lnTo>
                  <a:pt x="922" y="198"/>
                </a:lnTo>
                <a:lnTo>
                  <a:pt x="918" y="203"/>
                </a:lnTo>
                <a:lnTo>
                  <a:pt x="914" y="211"/>
                </a:lnTo>
                <a:lnTo>
                  <a:pt x="908" y="217"/>
                </a:lnTo>
                <a:lnTo>
                  <a:pt x="904" y="226"/>
                </a:lnTo>
                <a:lnTo>
                  <a:pt x="899" y="234"/>
                </a:lnTo>
                <a:lnTo>
                  <a:pt x="893" y="244"/>
                </a:lnTo>
                <a:lnTo>
                  <a:pt x="885" y="251"/>
                </a:lnTo>
                <a:lnTo>
                  <a:pt x="878" y="263"/>
                </a:lnTo>
                <a:lnTo>
                  <a:pt x="870" y="272"/>
                </a:lnTo>
                <a:lnTo>
                  <a:pt x="862" y="284"/>
                </a:lnTo>
                <a:lnTo>
                  <a:pt x="854" y="295"/>
                </a:lnTo>
                <a:lnTo>
                  <a:pt x="845" y="307"/>
                </a:lnTo>
                <a:lnTo>
                  <a:pt x="835" y="318"/>
                </a:lnTo>
                <a:lnTo>
                  <a:pt x="826" y="332"/>
                </a:lnTo>
                <a:lnTo>
                  <a:pt x="816" y="345"/>
                </a:lnTo>
                <a:lnTo>
                  <a:pt x="805" y="359"/>
                </a:lnTo>
                <a:lnTo>
                  <a:pt x="793" y="374"/>
                </a:lnTo>
                <a:lnTo>
                  <a:pt x="782" y="390"/>
                </a:lnTo>
                <a:lnTo>
                  <a:pt x="768" y="405"/>
                </a:lnTo>
                <a:lnTo>
                  <a:pt x="757" y="420"/>
                </a:lnTo>
                <a:lnTo>
                  <a:pt x="743" y="438"/>
                </a:lnTo>
                <a:lnTo>
                  <a:pt x="730" y="455"/>
                </a:lnTo>
                <a:lnTo>
                  <a:pt x="714" y="472"/>
                </a:lnTo>
                <a:lnTo>
                  <a:pt x="701" y="489"/>
                </a:lnTo>
                <a:lnTo>
                  <a:pt x="670" y="528"/>
                </a:lnTo>
                <a:lnTo>
                  <a:pt x="640" y="564"/>
                </a:lnTo>
                <a:lnTo>
                  <a:pt x="611" y="599"/>
                </a:lnTo>
                <a:lnTo>
                  <a:pt x="582" y="633"/>
                </a:lnTo>
                <a:lnTo>
                  <a:pt x="553" y="666"/>
                </a:lnTo>
                <a:lnTo>
                  <a:pt x="522" y="697"/>
                </a:lnTo>
                <a:lnTo>
                  <a:pt x="494" y="727"/>
                </a:lnTo>
                <a:lnTo>
                  <a:pt x="465" y="756"/>
                </a:lnTo>
                <a:lnTo>
                  <a:pt x="436" y="783"/>
                </a:lnTo>
                <a:lnTo>
                  <a:pt x="407" y="810"/>
                </a:lnTo>
                <a:lnTo>
                  <a:pt x="380" y="835"/>
                </a:lnTo>
                <a:lnTo>
                  <a:pt x="352" y="860"/>
                </a:lnTo>
                <a:lnTo>
                  <a:pt x="323" y="883"/>
                </a:lnTo>
                <a:lnTo>
                  <a:pt x="294" y="906"/>
                </a:lnTo>
                <a:lnTo>
                  <a:pt x="267" y="927"/>
                </a:lnTo>
                <a:lnTo>
                  <a:pt x="238" y="948"/>
                </a:lnTo>
                <a:lnTo>
                  <a:pt x="211" y="969"/>
                </a:lnTo>
                <a:lnTo>
                  <a:pt x="187" y="986"/>
                </a:lnTo>
                <a:lnTo>
                  <a:pt x="164" y="1004"/>
                </a:lnTo>
                <a:lnTo>
                  <a:pt x="140" y="1019"/>
                </a:lnTo>
                <a:lnTo>
                  <a:pt x="121" y="1033"/>
                </a:lnTo>
                <a:lnTo>
                  <a:pt x="102" y="1046"/>
                </a:lnTo>
                <a:lnTo>
                  <a:pt x="85" y="1056"/>
                </a:lnTo>
                <a:lnTo>
                  <a:pt x="69" y="1065"/>
                </a:lnTo>
                <a:lnTo>
                  <a:pt x="56" y="1073"/>
                </a:lnTo>
                <a:lnTo>
                  <a:pt x="45" y="1079"/>
                </a:lnTo>
                <a:lnTo>
                  <a:pt x="33" y="1084"/>
                </a:lnTo>
                <a:lnTo>
                  <a:pt x="23" y="1086"/>
                </a:lnTo>
                <a:lnTo>
                  <a:pt x="16" y="1088"/>
                </a:lnTo>
                <a:lnTo>
                  <a:pt x="10" y="1088"/>
                </a:lnTo>
                <a:lnTo>
                  <a:pt x="6" y="1086"/>
                </a:lnTo>
                <a:lnTo>
                  <a:pt x="2" y="1082"/>
                </a:lnTo>
                <a:lnTo>
                  <a:pt x="0" y="1079"/>
                </a:lnTo>
                <a:lnTo>
                  <a:pt x="0" y="1075"/>
                </a:lnTo>
                <a:lnTo>
                  <a:pt x="4" y="1069"/>
                </a:lnTo>
                <a:lnTo>
                  <a:pt x="8" y="1061"/>
                </a:lnTo>
                <a:lnTo>
                  <a:pt x="12" y="1054"/>
                </a:lnTo>
                <a:lnTo>
                  <a:pt x="20" y="1044"/>
                </a:lnTo>
                <a:lnTo>
                  <a:pt x="29" y="1034"/>
                </a:lnTo>
                <a:lnTo>
                  <a:pt x="39" y="1021"/>
                </a:lnTo>
                <a:lnTo>
                  <a:pt x="50" y="1010"/>
                </a:lnTo>
                <a:lnTo>
                  <a:pt x="64" y="994"/>
                </a:lnTo>
                <a:lnTo>
                  <a:pt x="79" y="979"/>
                </a:lnTo>
                <a:lnTo>
                  <a:pt x="96" y="963"/>
                </a:lnTo>
                <a:lnTo>
                  <a:pt x="114" y="946"/>
                </a:lnTo>
                <a:lnTo>
                  <a:pt x="133" y="927"/>
                </a:lnTo>
                <a:lnTo>
                  <a:pt x="154" y="908"/>
                </a:lnTo>
                <a:lnTo>
                  <a:pt x="177" y="88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9"/>
          <p:cNvSpPr/>
          <p:nvPr/>
        </p:nvSpPr>
        <p:spPr>
          <a:xfrm>
            <a:off x="5932440" y="3902040"/>
            <a:ext cx="133560" cy="1020960"/>
          </a:xfrm>
          <a:custGeom>
            <a:avLst/>
            <a:gdLst/>
            <a:ahLst/>
            <a:rect l="l" t="t" r="r" b="b"/>
            <a:pathLst>
              <a:path w="167" h="1286">
                <a:moveTo>
                  <a:pt x="19" y="802"/>
                </a:moveTo>
                <a:lnTo>
                  <a:pt x="23" y="768"/>
                </a:lnTo>
                <a:lnTo>
                  <a:pt x="27" y="731"/>
                </a:lnTo>
                <a:lnTo>
                  <a:pt x="29" y="697"/>
                </a:lnTo>
                <a:lnTo>
                  <a:pt x="32" y="662"/>
                </a:lnTo>
                <a:lnTo>
                  <a:pt x="34" y="628"/>
                </a:lnTo>
                <a:lnTo>
                  <a:pt x="36" y="595"/>
                </a:lnTo>
                <a:lnTo>
                  <a:pt x="38" y="530"/>
                </a:lnTo>
                <a:lnTo>
                  <a:pt x="38" y="467"/>
                </a:lnTo>
                <a:lnTo>
                  <a:pt x="36" y="403"/>
                </a:lnTo>
                <a:lnTo>
                  <a:pt x="34" y="342"/>
                </a:lnTo>
                <a:lnTo>
                  <a:pt x="31" y="284"/>
                </a:lnTo>
                <a:lnTo>
                  <a:pt x="29" y="255"/>
                </a:lnTo>
                <a:lnTo>
                  <a:pt x="27" y="228"/>
                </a:lnTo>
                <a:lnTo>
                  <a:pt x="23" y="202"/>
                </a:lnTo>
                <a:lnTo>
                  <a:pt x="21" y="179"/>
                </a:lnTo>
                <a:lnTo>
                  <a:pt x="19" y="157"/>
                </a:lnTo>
                <a:lnTo>
                  <a:pt x="17" y="136"/>
                </a:lnTo>
                <a:lnTo>
                  <a:pt x="15" y="117"/>
                </a:lnTo>
                <a:lnTo>
                  <a:pt x="13" y="100"/>
                </a:lnTo>
                <a:lnTo>
                  <a:pt x="11" y="85"/>
                </a:lnTo>
                <a:lnTo>
                  <a:pt x="9" y="71"/>
                </a:lnTo>
                <a:lnTo>
                  <a:pt x="9" y="58"/>
                </a:lnTo>
                <a:lnTo>
                  <a:pt x="8" y="46"/>
                </a:lnTo>
                <a:lnTo>
                  <a:pt x="8" y="37"/>
                </a:lnTo>
                <a:lnTo>
                  <a:pt x="6" y="29"/>
                </a:lnTo>
                <a:lnTo>
                  <a:pt x="6" y="23"/>
                </a:lnTo>
                <a:lnTo>
                  <a:pt x="6" y="17"/>
                </a:lnTo>
                <a:lnTo>
                  <a:pt x="6" y="12"/>
                </a:lnTo>
                <a:lnTo>
                  <a:pt x="8" y="8"/>
                </a:lnTo>
                <a:lnTo>
                  <a:pt x="11" y="4"/>
                </a:lnTo>
                <a:lnTo>
                  <a:pt x="15" y="2"/>
                </a:lnTo>
                <a:lnTo>
                  <a:pt x="21" y="0"/>
                </a:lnTo>
                <a:lnTo>
                  <a:pt x="27" y="0"/>
                </a:lnTo>
                <a:lnTo>
                  <a:pt x="31" y="0"/>
                </a:lnTo>
                <a:lnTo>
                  <a:pt x="34" y="2"/>
                </a:lnTo>
                <a:lnTo>
                  <a:pt x="38" y="2"/>
                </a:lnTo>
                <a:lnTo>
                  <a:pt x="44" y="6"/>
                </a:lnTo>
                <a:lnTo>
                  <a:pt x="48" y="10"/>
                </a:lnTo>
                <a:lnTo>
                  <a:pt x="54" y="15"/>
                </a:lnTo>
                <a:lnTo>
                  <a:pt x="61" y="23"/>
                </a:lnTo>
                <a:lnTo>
                  <a:pt x="69" y="33"/>
                </a:lnTo>
                <a:lnTo>
                  <a:pt x="79" y="42"/>
                </a:lnTo>
                <a:lnTo>
                  <a:pt x="86" y="52"/>
                </a:lnTo>
                <a:lnTo>
                  <a:pt x="96" y="63"/>
                </a:lnTo>
                <a:lnTo>
                  <a:pt x="105" y="77"/>
                </a:lnTo>
                <a:lnTo>
                  <a:pt x="113" y="90"/>
                </a:lnTo>
                <a:lnTo>
                  <a:pt x="121" y="102"/>
                </a:lnTo>
                <a:lnTo>
                  <a:pt x="128" y="113"/>
                </a:lnTo>
                <a:lnTo>
                  <a:pt x="134" y="125"/>
                </a:lnTo>
                <a:lnTo>
                  <a:pt x="140" y="134"/>
                </a:lnTo>
                <a:lnTo>
                  <a:pt x="146" y="144"/>
                </a:lnTo>
                <a:lnTo>
                  <a:pt x="155" y="163"/>
                </a:lnTo>
                <a:lnTo>
                  <a:pt x="159" y="177"/>
                </a:lnTo>
                <a:lnTo>
                  <a:pt x="163" y="192"/>
                </a:lnTo>
                <a:lnTo>
                  <a:pt x="165" y="209"/>
                </a:lnTo>
                <a:lnTo>
                  <a:pt x="165" y="227"/>
                </a:lnTo>
                <a:lnTo>
                  <a:pt x="167" y="248"/>
                </a:lnTo>
                <a:lnTo>
                  <a:pt x="167" y="257"/>
                </a:lnTo>
                <a:lnTo>
                  <a:pt x="167" y="269"/>
                </a:lnTo>
                <a:lnTo>
                  <a:pt x="167" y="280"/>
                </a:lnTo>
                <a:lnTo>
                  <a:pt x="167" y="294"/>
                </a:lnTo>
                <a:lnTo>
                  <a:pt x="167" y="305"/>
                </a:lnTo>
                <a:lnTo>
                  <a:pt x="167" y="319"/>
                </a:lnTo>
                <a:lnTo>
                  <a:pt x="167" y="328"/>
                </a:lnTo>
                <a:lnTo>
                  <a:pt x="167" y="336"/>
                </a:lnTo>
                <a:lnTo>
                  <a:pt x="167" y="346"/>
                </a:lnTo>
                <a:lnTo>
                  <a:pt x="167" y="355"/>
                </a:lnTo>
                <a:lnTo>
                  <a:pt x="167" y="365"/>
                </a:lnTo>
                <a:lnTo>
                  <a:pt x="167" y="376"/>
                </a:lnTo>
                <a:lnTo>
                  <a:pt x="167" y="388"/>
                </a:lnTo>
                <a:lnTo>
                  <a:pt x="167" y="399"/>
                </a:lnTo>
                <a:lnTo>
                  <a:pt x="167" y="411"/>
                </a:lnTo>
                <a:lnTo>
                  <a:pt x="167" y="424"/>
                </a:lnTo>
                <a:lnTo>
                  <a:pt x="167" y="438"/>
                </a:lnTo>
                <a:lnTo>
                  <a:pt x="167" y="451"/>
                </a:lnTo>
                <a:lnTo>
                  <a:pt x="167" y="465"/>
                </a:lnTo>
                <a:lnTo>
                  <a:pt x="167" y="480"/>
                </a:lnTo>
                <a:lnTo>
                  <a:pt x="167" y="495"/>
                </a:lnTo>
                <a:lnTo>
                  <a:pt x="167" y="511"/>
                </a:lnTo>
                <a:lnTo>
                  <a:pt x="167" y="528"/>
                </a:lnTo>
                <a:lnTo>
                  <a:pt x="167" y="545"/>
                </a:lnTo>
                <a:lnTo>
                  <a:pt x="167" y="562"/>
                </a:lnTo>
                <a:lnTo>
                  <a:pt x="167" y="580"/>
                </a:lnTo>
                <a:lnTo>
                  <a:pt x="167" y="599"/>
                </a:lnTo>
                <a:lnTo>
                  <a:pt x="167" y="618"/>
                </a:lnTo>
                <a:lnTo>
                  <a:pt x="167" y="637"/>
                </a:lnTo>
                <a:lnTo>
                  <a:pt x="167" y="657"/>
                </a:lnTo>
                <a:lnTo>
                  <a:pt x="167" y="678"/>
                </a:lnTo>
                <a:lnTo>
                  <a:pt x="167" y="699"/>
                </a:lnTo>
                <a:lnTo>
                  <a:pt x="167" y="722"/>
                </a:lnTo>
                <a:lnTo>
                  <a:pt x="167" y="743"/>
                </a:lnTo>
                <a:lnTo>
                  <a:pt x="167" y="766"/>
                </a:lnTo>
                <a:lnTo>
                  <a:pt x="167" y="791"/>
                </a:lnTo>
                <a:lnTo>
                  <a:pt x="167" y="814"/>
                </a:lnTo>
                <a:lnTo>
                  <a:pt x="167" y="839"/>
                </a:lnTo>
                <a:lnTo>
                  <a:pt x="167" y="864"/>
                </a:lnTo>
                <a:lnTo>
                  <a:pt x="165" y="887"/>
                </a:lnTo>
                <a:lnTo>
                  <a:pt x="165" y="910"/>
                </a:lnTo>
                <a:lnTo>
                  <a:pt x="163" y="933"/>
                </a:lnTo>
                <a:lnTo>
                  <a:pt x="161" y="954"/>
                </a:lnTo>
                <a:lnTo>
                  <a:pt x="161" y="975"/>
                </a:lnTo>
                <a:lnTo>
                  <a:pt x="159" y="996"/>
                </a:lnTo>
                <a:lnTo>
                  <a:pt x="159" y="1015"/>
                </a:lnTo>
                <a:lnTo>
                  <a:pt x="157" y="1035"/>
                </a:lnTo>
                <a:lnTo>
                  <a:pt x="155" y="1054"/>
                </a:lnTo>
                <a:lnTo>
                  <a:pt x="155" y="1071"/>
                </a:lnTo>
                <a:lnTo>
                  <a:pt x="153" y="1087"/>
                </a:lnTo>
                <a:lnTo>
                  <a:pt x="151" y="1104"/>
                </a:lnTo>
                <a:lnTo>
                  <a:pt x="151" y="1119"/>
                </a:lnTo>
                <a:lnTo>
                  <a:pt x="150" y="1133"/>
                </a:lnTo>
                <a:lnTo>
                  <a:pt x="150" y="1148"/>
                </a:lnTo>
                <a:lnTo>
                  <a:pt x="148" y="1161"/>
                </a:lnTo>
                <a:lnTo>
                  <a:pt x="146" y="1173"/>
                </a:lnTo>
                <a:lnTo>
                  <a:pt x="146" y="1184"/>
                </a:lnTo>
                <a:lnTo>
                  <a:pt x="144" y="1196"/>
                </a:lnTo>
                <a:lnTo>
                  <a:pt x="144" y="1207"/>
                </a:lnTo>
                <a:lnTo>
                  <a:pt x="142" y="1217"/>
                </a:lnTo>
                <a:lnTo>
                  <a:pt x="140" y="1225"/>
                </a:lnTo>
                <a:lnTo>
                  <a:pt x="140" y="1234"/>
                </a:lnTo>
                <a:lnTo>
                  <a:pt x="138" y="1242"/>
                </a:lnTo>
                <a:lnTo>
                  <a:pt x="136" y="1248"/>
                </a:lnTo>
                <a:lnTo>
                  <a:pt x="136" y="1254"/>
                </a:lnTo>
                <a:lnTo>
                  <a:pt x="134" y="1259"/>
                </a:lnTo>
                <a:lnTo>
                  <a:pt x="134" y="1265"/>
                </a:lnTo>
                <a:lnTo>
                  <a:pt x="132" y="1269"/>
                </a:lnTo>
                <a:lnTo>
                  <a:pt x="130" y="1271"/>
                </a:lnTo>
                <a:lnTo>
                  <a:pt x="130" y="1275"/>
                </a:lnTo>
                <a:lnTo>
                  <a:pt x="128" y="1278"/>
                </a:lnTo>
                <a:lnTo>
                  <a:pt x="125" y="1282"/>
                </a:lnTo>
                <a:lnTo>
                  <a:pt x="123" y="1284"/>
                </a:lnTo>
                <a:lnTo>
                  <a:pt x="119" y="1286"/>
                </a:lnTo>
                <a:lnTo>
                  <a:pt x="115" y="1286"/>
                </a:lnTo>
                <a:lnTo>
                  <a:pt x="111" y="1286"/>
                </a:lnTo>
                <a:lnTo>
                  <a:pt x="107" y="1286"/>
                </a:lnTo>
                <a:lnTo>
                  <a:pt x="102" y="1284"/>
                </a:lnTo>
                <a:lnTo>
                  <a:pt x="98" y="1280"/>
                </a:lnTo>
                <a:lnTo>
                  <a:pt x="92" y="1277"/>
                </a:lnTo>
                <a:lnTo>
                  <a:pt x="86" y="1273"/>
                </a:lnTo>
                <a:lnTo>
                  <a:pt x="80" y="1267"/>
                </a:lnTo>
                <a:lnTo>
                  <a:pt x="75" y="1261"/>
                </a:lnTo>
                <a:lnTo>
                  <a:pt x="69" y="1255"/>
                </a:lnTo>
                <a:lnTo>
                  <a:pt x="63" y="1248"/>
                </a:lnTo>
                <a:lnTo>
                  <a:pt x="56" y="1238"/>
                </a:lnTo>
                <a:lnTo>
                  <a:pt x="50" y="1227"/>
                </a:lnTo>
                <a:lnTo>
                  <a:pt x="42" y="1217"/>
                </a:lnTo>
                <a:lnTo>
                  <a:pt x="36" y="1207"/>
                </a:lnTo>
                <a:lnTo>
                  <a:pt x="32" y="1198"/>
                </a:lnTo>
                <a:lnTo>
                  <a:pt x="27" y="1188"/>
                </a:lnTo>
                <a:lnTo>
                  <a:pt x="23" y="1181"/>
                </a:lnTo>
                <a:lnTo>
                  <a:pt x="19" y="1173"/>
                </a:lnTo>
                <a:lnTo>
                  <a:pt x="17" y="1165"/>
                </a:lnTo>
                <a:lnTo>
                  <a:pt x="13" y="1159"/>
                </a:lnTo>
                <a:lnTo>
                  <a:pt x="11" y="1154"/>
                </a:lnTo>
                <a:lnTo>
                  <a:pt x="9" y="1148"/>
                </a:lnTo>
                <a:lnTo>
                  <a:pt x="8" y="1142"/>
                </a:lnTo>
                <a:lnTo>
                  <a:pt x="8" y="1138"/>
                </a:lnTo>
                <a:lnTo>
                  <a:pt x="6" y="1135"/>
                </a:lnTo>
                <a:lnTo>
                  <a:pt x="6" y="1133"/>
                </a:lnTo>
                <a:lnTo>
                  <a:pt x="6" y="1129"/>
                </a:lnTo>
                <a:lnTo>
                  <a:pt x="4" y="1127"/>
                </a:lnTo>
                <a:lnTo>
                  <a:pt x="4" y="1123"/>
                </a:lnTo>
                <a:lnTo>
                  <a:pt x="4" y="1121"/>
                </a:lnTo>
                <a:lnTo>
                  <a:pt x="2" y="1115"/>
                </a:lnTo>
                <a:lnTo>
                  <a:pt x="2" y="1111"/>
                </a:lnTo>
                <a:lnTo>
                  <a:pt x="2" y="1106"/>
                </a:lnTo>
                <a:lnTo>
                  <a:pt x="0" y="1102"/>
                </a:lnTo>
                <a:lnTo>
                  <a:pt x="0" y="1094"/>
                </a:lnTo>
                <a:lnTo>
                  <a:pt x="0" y="1088"/>
                </a:lnTo>
                <a:lnTo>
                  <a:pt x="0" y="1081"/>
                </a:lnTo>
                <a:lnTo>
                  <a:pt x="0" y="1075"/>
                </a:lnTo>
                <a:lnTo>
                  <a:pt x="2" y="1065"/>
                </a:lnTo>
                <a:lnTo>
                  <a:pt x="2" y="1058"/>
                </a:lnTo>
                <a:lnTo>
                  <a:pt x="2" y="1048"/>
                </a:lnTo>
                <a:lnTo>
                  <a:pt x="2" y="1039"/>
                </a:lnTo>
                <a:lnTo>
                  <a:pt x="2" y="1029"/>
                </a:lnTo>
                <a:lnTo>
                  <a:pt x="4" y="1019"/>
                </a:lnTo>
                <a:lnTo>
                  <a:pt x="4" y="1008"/>
                </a:lnTo>
                <a:lnTo>
                  <a:pt x="4" y="996"/>
                </a:lnTo>
                <a:lnTo>
                  <a:pt x="6" y="985"/>
                </a:lnTo>
                <a:lnTo>
                  <a:pt x="6" y="973"/>
                </a:lnTo>
                <a:lnTo>
                  <a:pt x="8" y="960"/>
                </a:lnTo>
                <a:lnTo>
                  <a:pt x="8" y="946"/>
                </a:lnTo>
                <a:lnTo>
                  <a:pt x="9" y="933"/>
                </a:lnTo>
                <a:lnTo>
                  <a:pt x="9" y="918"/>
                </a:lnTo>
                <a:lnTo>
                  <a:pt x="11" y="902"/>
                </a:lnTo>
                <a:lnTo>
                  <a:pt x="13" y="887"/>
                </a:lnTo>
                <a:lnTo>
                  <a:pt x="13" y="872"/>
                </a:lnTo>
                <a:lnTo>
                  <a:pt x="15" y="854"/>
                </a:lnTo>
                <a:lnTo>
                  <a:pt x="15" y="839"/>
                </a:lnTo>
                <a:lnTo>
                  <a:pt x="17" y="822"/>
                </a:lnTo>
                <a:lnTo>
                  <a:pt x="19" y="80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0"/>
          <p:cNvSpPr/>
          <p:nvPr/>
        </p:nvSpPr>
        <p:spPr>
          <a:xfrm>
            <a:off x="5578560" y="3309840"/>
            <a:ext cx="1722240" cy="355680"/>
          </a:xfrm>
          <a:custGeom>
            <a:avLst/>
            <a:gdLst/>
            <a:ahLst/>
            <a:rect l="l" t="t" r="r" b="b"/>
            <a:pathLst>
              <a:path w="2170" h="448">
                <a:moveTo>
                  <a:pt x="2170" y="73"/>
                </a:moveTo>
                <a:lnTo>
                  <a:pt x="2170" y="77"/>
                </a:lnTo>
                <a:lnTo>
                  <a:pt x="2169" y="83"/>
                </a:lnTo>
                <a:lnTo>
                  <a:pt x="2165" y="87"/>
                </a:lnTo>
                <a:lnTo>
                  <a:pt x="2161" y="91"/>
                </a:lnTo>
                <a:lnTo>
                  <a:pt x="2153" y="96"/>
                </a:lnTo>
                <a:lnTo>
                  <a:pt x="2149" y="98"/>
                </a:lnTo>
                <a:lnTo>
                  <a:pt x="2146" y="100"/>
                </a:lnTo>
                <a:lnTo>
                  <a:pt x="2140" y="102"/>
                </a:lnTo>
                <a:lnTo>
                  <a:pt x="2134" y="104"/>
                </a:lnTo>
                <a:lnTo>
                  <a:pt x="2128" y="108"/>
                </a:lnTo>
                <a:lnTo>
                  <a:pt x="2121" y="110"/>
                </a:lnTo>
                <a:lnTo>
                  <a:pt x="2115" y="112"/>
                </a:lnTo>
                <a:lnTo>
                  <a:pt x="2109" y="114"/>
                </a:lnTo>
                <a:lnTo>
                  <a:pt x="2103" y="115"/>
                </a:lnTo>
                <a:lnTo>
                  <a:pt x="2098" y="117"/>
                </a:lnTo>
                <a:lnTo>
                  <a:pt x="2088" y="123"/>
                </a:lnTo>
                <a:lnTo>
                  <a:pt x="2080" y="125"/>
                </a:lnTo>
                <a:lnTo>
                  <a:pt x="2075" y="129"/>
                </a:lnTo>
                <a:lnTo>
                  <a:pt x="2069" y="131"/>
                </a:lnTo>
                <a:lnTo>
                  <a:pt x="2063" y="133"/>
                </a:lnTo>
                <a:lnTo>
                  <a:pt x="2059" y="133"/>
                </a:lnTo>
                <a:lnTo>
                  <a:pt x="2055" y="133"/>
                </a:lnTo>
                <a:lnTo>
                  <a:pt x="2051" y="133"/>
                </a:lnTo>
                <a:lnTo>
                  <a:pt x="2046" y="133"/>
                </a:lnTo>
                <a:lnTo>
                  <a:pt x="2038" y="133"/>
                </a:lnTo>
                <a:lnTo>
                  <a:pt x="2030" y="133"/>
                </a:lnTo>
                <a:lnTo>
                  <a:pt x="2021" y="135"/>
                </a:lnTo>
                <a:lnTo>
                  <a:pt x="2009" y="135"/>
                </a:lnTo>
                <a:lnTo>
                  <a:pt x="1998" y="135"/>
                </a:lnTo>
                <a:lnTo>
                  <a:pt x="1984" y="135"/>
                </a:lnTo>
                <a:lnTo>
                  <a:pt x="1969" y="137"/>
                </a:lnTo>
                <a:lnTo>
                  <a:pt x="1954" y="137"/>
                </a:lnTo>
                <a:lnTo>
                  <a:pt x="1936" y="138"/>
                </a:lnTo>
                <a:lnTo>
                  <a:pt x="1919" y="140"/>
                </a:lnTo>
                <a:lnTo>
                  <a:pt x="1900" y="142"/>
                </a:lnTo>
                <a:lnTo>
                  <a:pt x="1881" y="144"/>
                </a:lnTo>
                <a:lnTo>
                  <a:pt x="1860" y="146"/>
                </a:lnTo>
                <a:lnTo>
                  <a:pt x="1848" y="146"/>
                </a:lnTo>
                <a:lnTo>
                  <a:pt x="1835" y="148"/>
                </a:lnTo>
                <a:lnTo>
                  <a:pt x="1821" y="150"/>
                </a:lnTo>
                <a:lnTo>
                  <a:pt x="1808" y="152"/>
                </a:lnTo>
                <a:lnTo>
                  <a:pt x="1792" y="154"/>
                </a:lnTo>
                <a:lnTo>
                  <a:pt x="1777" y="156"/>
                </a:lnTo>
                <a:lnTo>
                  <a:pt x="1762" y="158"/>
                </a:lnTo>
                <a:lnTo>
                  <a:pt x="1746" y="160"/>
                </a:lnTo>
                <a:lnTo>
                  <a:pt x="1729" y="162"/>
                </a:lnTo>
                <a:lnTo>
                  <a:pt x="1710" y="163"/>
                </a:lnTo>
                <a:lnTo>
                  <a:pt x="1693" y="167"/>
                </a:lnTo>
                <a:lnTo>
                  <a:pt x="1673" y="169"/>
                </a:lnTo>
                <a:lnTo>
                  <a:pt x="1654" y="171"/>
                </a:lnTo>
                <a:lnTo>
                  <a:pt x="1633" y="175"/>
                </a:lnTo>
                <a:lnTo>
                  <a:pt x="1612" y="179"/>
                </a:lnTo>
                <a:lnTo>
                  <a:pt x="1591" y="181"/>
                </a:lnTo>
                <a:lnTo>
                  <a:pt x="1568" y="185"/>
                </a:lnTo>
                <a:lnTo>
                  <a:pt x="1545" y="188"/>
                </a:lnTo>
                <a:lnTo>
                  <a:pt x="1522" y="192"/>
                </a:lnTo>
                <a:lnTo>
                  <a:pt x="1499" y="196"/>
                </a:lnTo>
                <a:lnTo>
                  <a:pt x="1474" y="200"/>
                </a:lnTo>
                <a:lnTo>
                  <a:pt x="1449" y="204"/>
                </a:lnTo>
                <a:lnTo>
                  <a:pt x="1422" y="208"/>
                </a:lnTo>
                <a:lnTo>
                  <a:pt x="1395" y="213"/>
                </a:lnTo>
                <a:lnTo>
                  <a:pt x="1368" y="217"/>
                </a:lnTo>
                <a:lnTo>
                  <a:pt x="1341" y="223"/>
                </a:lnTo>
                <a:lnTo>
                  <a:pt x="1313" y="227"/>
                </a:lnTo>
                <a:lnTo>
                  <a:pt x="1284" y="233"/>
                </a:lnTo>
                <a:lnTo>
                  <a:pt x="1255" y="238"/>
                </a:lnTo>
                <a:lnTo>
                  <a:pt x="1224" y="242"/>
                </a:lnTo>
                <a:lnTo>
                  <a:pt x="1193" y="248"/>
                </a:lnTo>
                <a:lnTo>
                  <a:pt x="1163" y="254"/>
                </a:lnTo>
                <a:lnTo>
                  <a:pt x="1130" y="259"/>
                </a:lnTo>
                <a:lnTo>
                  <a:pt x="1098" y="265"/>
                </a:lnTo>
                <a:lnTo>
                  <a:pt x="1067" y="271"/>
                </a:lnTo>
                <a:lnTo>
                  <a:pt x="1036" y="277"/>
                </a:lnTo>
                <a:lnTo>
                  <a:pt x="1005" y="282"/>
                </a:lnTo>
                <a:lnTo>
                  <a:pt x="977" y="288"/>
                </a:lnTo>
                <a:lnTo>
                  <a:pt x="948" y="292"/>
                </a:lnTo>
                <a:lnTo>
                  <a:pt x="919" y="298"/>
                </a:lnTo>
                <a:lnTo>
                  <a:pt x="892" y="304"/>
                </a:lnTo>
                <a:lnTo>
                  <a:pt x="865" y="307"/>
                </a:lnTo>
                <a:lnTo>
                  <a:pt x="838" y="313"/>
                </a:lnTo>
                <a:lnTo>
                  <a:pt x="813" y="317"/>
                </a:lnTo>
                <a:lnTo>
                  <a:pt x="789" y="323"/>
                </a:lnTo>
                <a:lnTo>
                  <a:pt x="764" y="327"/>
                </a:lnTo>
                <a:lnTo>
                  <a:pt x="739" y="332"/>
                </a:lnTo>
                <a:lnTo>
                  <a:pt x="716" y="336"/>
                </a:lnTo>
                <a:lnTo>
                  <a:pt x="693" y="340"/>
                </a:lnTo>
                <a:lnTo>
                  <a:pt x="671" y="346"/>
                </a:lnTo>
                <a:lnTo>
                  <a:pt x="648" y="350"/>
                </a:lnTo>
                <a:lnTo>
                  <a:pt x="629" y="353"/>
                </a:lnTo>
                <a:lnTo>
                  <a:pt x="608" y="357"/>
                </a:lnTo>
                <a:lnTo>
                  <a:pt x="589" y="361"/>
                </a:lnTo>
                <a:lnTo>
                  <a:pt x="570" y="367"/>
                </a:lnTo>
                <a:lnTo>
                  <a:pt x="550" y="371"/>
                </a:lnTo>
                <a:lnTo>
                  <a:pt x="533" y="375"/>
                </a:lnTo>
                <a:lnTo>
                  <a:pt x="516" y="378"/>
                </a:lnTo>
                <a:lnTo>
                  <a:pt x="501" y="382"/>
                </a:lnTo>
                <a:lnTo>
                  <a:pt x="483" y="386"/>
                </a:lnTo>
                <a:lnTo>
                  <a:pt x="470" y="388"/>
                </a:lnTo>
                <a:lnTo>
                  <a:pt x="455" y="392"/>
                </a:lnTo>
                <a:lnTo>
                  <a:pt x="441" y="396"/>
                </a:lnTo>
                <a:lnTo>
                  <a:pt x="428" y="400"/>
                </a:lnTo>
                <a:lnTo>
                  <a:pt x="403" y="405"/>
                </a:lnTo>
                <a:lnTo>
                  <a:pt x="378" y="413"/>
                </a:lnTo>
                <a:lnTo>
                  <a:pt x="355" y="417"/>
                </a:lnTo>
                <a:lnTo>
                  <a:pt x="332" y="423"/>
                </a:lnTo>
                <a:lnTo>
                  <a:pt x="311" y="426"/>
                </a:lnTo>
                <a:lnTo>
                  <a:pt x="291" y="430"/>
                </a:lnTo>
                <a:lnTo>
                  <a:pt x="272" y="434"/>
                </a:lnTo>
                <a:lnTo>
                  <a:pt x="253" y="438"/>
                </a:lnTo>
                <a:lnTo>
                  <a:pt x="236" y="440"/>
                </a:lnTo>
                <a:lnTo>
                  <a:pt x="220" y="442"/>
                </a:lnTo>
                <a:lnTo>
                  <a:pt x="207" y="444"/>
                </a:lnTo>
                <a:lnTo>
                  <a:pt x="193" y="446"/>
                </a:lnTo>
                <a:lnTo>
                  <a:pt x="182" y="446"/>
                </a:lnTo>
                <a:lnTo>
                  <a:pt x="170" y="448"/>
                </a:lnTo>
                <a:lnTo>
                  <a:pt x="161" y="448"/>
                </a:lnTo>
                <a:lnTo>
                  <a:pt x="153" y="448"/>
                </a:lnTo>
                <a:lnTo>
                  <a:pt x="136" y="448"/>
                </a:lnTo>
                <a:lnTo>
                  <a:pt x="119" y="446"/>
                </a:lnTo>
                <a:lnTo>
                  <a:pt x="101" y="442"/>
                </a:lnTo>
                <a:lnTo>
                  <a:pt x="86" y="438"/>
                </a:lnTo>
                <a:lnTo>
                  <a:pt x="73" y="430"/>
                </a:lnTo>
                <a:lnTo>
                  <a:pt x="65" y="426"/>
                </a:lnTo>
                <a:lnTo>
                  <a:pt x="57" y="423"/>
                </a:lnTo>
                <a:lnTo>
                  <a:pt x="50" y="417"/>
                </a:lnTo>
                <a:lnTo>
                  <a:pt x="44" y="413"/>
                </a:lnTo>
                <a:lnTo>
                  <a:pt x="36" y="405"/>
                </a:lnTo>
                <a:lnTo>
                  <a:pt x="30" y="400"/>
                </a:lnTo>
                <a:lnTo>
                  <a:pt x="23" y="394"/>
                </a:lnTo>
                <a:lnTo>
                  <a:pt x="17" y="386"/>
                </a:lnTo>
                <a:lnTo>
                  <a:pt x="13" y="382"/>
                </a:lnTo>
                <a:lnTo>
                  <a:pt x="7" y="377"/>
                </a:lnTo>
                <a:lnTo>
                  <a:pt x="5" y="371"/>
                </a:lnTo>
                <a:lnTo>
                  <a:pt x="2" y="367"/>
                </a:lnTo>
                <a:lnTo>
                  <a:pt x="2" y="363"/>
                </a:lnTo>
                <a:lnTo>
                  <a:pt x="0" y="359"/>
                </a:lnTo>
                <a:lnTo>
                  <a:pt x="0" y="357"/>
                </a:lnTo>
                <a:lnTo>
                  <a:pt x="0" y="353"/>
                </a:lnTo>
                <a:lnTo>
                  <a:pt x="2" y="352"/>
                </a:lnTo>
                <a:lnTo>
                  <a:pt x="3" y="348"/>
                </a:lnTo>
                <a:lnTo>
                  <a:pt x="5" y="346"/>
                </a:lnTo>
                <a:lnTo>
                  <a:pt x="9" y="344"/>
                </a:lnTo>
                <a:lnTo>
                  <a:pt x="13" y="342"/>
                </a:lnTo>
                <a:lnTo>
                  <a:pt x="17" y="340"/>
                </a:lnTo>
                <a:lnTo>
                  <a:pt x="19" y="338"/>
                </a:lnTo>
                <a:lnTo>
                  <a:pt x="21" y="338"/>
                </a:lnTo>
                <a:lnTo>
                  <a:pt x="25" y="338"/>
                </a:lnTo>
                <a:lnTo>
                  <a:pt x="28" y="338"/>
                </a:lnTo>
                <a:lnTo>
                  <a:pt x="34" y="338"/>
                </a:lnTo>
                <a:lnTo>
                  <a:pt x="40" y="336"/>
                </a:lnTo>
                <a:lnTo>
                  <a:pt x="46" y="336"/>
                </a:lnTo>
                <a:lnTo>
                  <a:pt x="53" y="334"/>
                </a:lnTo>
                <a:lnTo>
                  <a:pt x="63" y="334"/>
                </a:lnTo>
                <a:lnTo>
                  <a:pt x="73" y="332"/>
                </a:lnTo>
                <a:lnTo>
                  <a:pt x="82" y="330"/>
                </a:lnTo>
                <a:lnTo>
                  <a:pt x="92" y="329"/>
                </a:lnTo>
                <a:lnTo>
                  <a:pt x="105" y="327"/>
                </a:lnTo>
                <a:lnTo>
                  <a:pt x="117" y="325"/>
                </a:lnTo>
                <a:lnTo>
                  <a:pt x="130" y="323"/>
                </a:lnTo>
                <a:lnTo>
                  <a:pt x="144" y="321"/>
                </a:lnTo>
                <a:lnTo>
                  <a:pt x="159" y="319"/>
                </a:lnTo>
                <a:lnTo>
                  <a:pt x="176" y="317"/>
                </a:lnTo>
                <a:lnTo>
                  <a:pt x="192" y="313"/>
                </a:lnTo>
                <a:lnTo>
                  <a:pt x="209" y="311"/>
                </a:lnTo>
                <a:lnTo>
                  <a:pt x="228" y="307"/>
                </a:lnTo>
                <a:lnTo>
                  <a:pt x="247" y="305"/>
                </a:lnTo>
                <a:lnTo>
                  <a:pt x="266" y="302"/>
                </a:lnTo>
                <a:lnTo>
                  <a:pt x="286" y="298"/>
                </a:lnTo>
                <a:lnTo>
                  <a:pt x="309" y="296"/>
                </a:lnTo>
                <a:lnTo>
                  <a:pt x="330" y="292"/>
                </a:lnTo>
                <a:lnTo>
                  <a:pt x="353" y="288"/>
                </a:lnTo>
                <a:lnTo>
                  <a:pt x="376" y="284"/>
                </a:lnTo>
                <a:lnTo>
                  <a:pt x="401" y="281"/>
                </a:lnTo>
                <a:lnTo>
                  <a:pt x="426" y="275"/>
                </a:lnTo>
                <a:lnTo>
                  <a:pt x="451" y="271"/>
                </a:lnTo>
                <a:lnTo>
                  <a:pt x="478" y="267"/>
                </a:lnTo>
                <a:lnTo>
                  <a:pt x="531" y="258"/>
                </a:lnTo>
                <a:lnTo>
                  <a:pt x="587" y="248"/>
                </a:lnTo>
                <a:lnTo>
                  <a:pt x="641" y="238"/>
                </a:lnTo>
                <a:lnTo>
                  <a:pt x="696" y="229"/>
                </a:lnTo>
                <a:lnTo>
                  <a:pt x="754" y="217"/>
                </a:lnTo>
                <a:lnTo>
                  <a:pt x="810" y="208"/>
                </a:lnTo>
                <a:lnTo>
                  <a:pt x="867" y="198"/>
                </a:lnTo>
                <a:lnTo>
                  <a:pt x="927" y="186"/>
                </a:lnTo>
                <a:lnTo>
                  <a:pt x="984" y="175"/>
                </a:lnTo>
                <a:lnTo>
                  <a:pt x="1044" y="165"/>
                </a:lnTo>
                <a:lnTo>
                  <a:pt x="1103" y="154"/>
                </a:lnTo>
                <a:lnTo>
                  <a:pt x="1165" y="142"/>
                </a:lnTo>
                <a:lnTo>
                  <a:pt x="1224" y="131"/>
                </a:lnTo>
                <a:lnTo>
                  <a:pt x="1286" y="119"/>
                </a:lnTo>
                <a:lnTo>
                  <a:pt x="1349" y="110"/>
                </a:lnTo>
                <a:lnTo>
                  <a:pt x="1412" y="98"/>
                </a:lnTo>
                <a:lnTo>
                  <a:pt x="1443" y="92"/>
                </a:lnTo>
                <a:lnTo>
                  <a:pt x="1472" y="87"/>
                </a:lnTo>
                <a:lnTo>
                  <a:pt x="1503" y="81"/>
                </a:lnTo>
                <a:lnTo>
                  <a:pt x="1529" y="75"/>
                </a:lnTo>
                <a:lnTo>
                  <a:pt x="1556" y="69"/>
                </a:lnTo>
                <a:lnTo>
                  <a:pt x="1583" y="66"/>
                </a:lnTo>
                <a:lnTo>
                  <a:pt x="1608" y="60"/>
                </a:lnTo>
                <a:lnTo>
                  <a:pt x="1633" y="56"/>
                </a:lnTo>
                <a:lnTo>
                  <a:pt x="1658" y="52"/>
                </a:lnTo>
                <a:lnTo>
                  <a:pt x="1679" y="48"/>
                </a:lnTo>
                <a:lnTo>
                  <a:pt x="1702" y="43"/>
                </a:lnTo>
                <a:lnTo>
                  <a:pt x="1723" y="39"/>
                </a:lnTo>
                <a:lnTo>
                  <a:pt x="1742" y="35"/>
                </a:lnTo>
                <a:lnTo>
                  <a:pt x="1762" y="33"/>
                </a:lnTo>
                <a:lnTo>
                  <a:pt x="1781" y="29"/>
                </a:lnTo>
                <a:lnTo>
                  <a:pt x="1798" y="25"/>
                </a:lnTo>
                <a:lnTo>
                  <a:pt x="1813" y="23"/>
                </a:lnTo>
                <a:lnTo>
                  <a:pt x="1829" y="19"/>
                </a:lnTo>
                <a:lnTo>
                  <a:pt x="1844" y="18"/>
                </a:lnTo>
                <a:lnTo>
                  <a:pt x="1858" y="14"/>
                </a:lnTo>
                <a:lnTo>
                  <a:pt x="1871" y="12"/>
                </a:lnTo>
                <a:lnTo>
                  <a:pt x="1883" y="10"/>
                </a:lnTo>
                <a:lnTo>
                  <a:pt x="1894" y="8"/>
                </a:lnTo>
                <a:lnTo>
                  <a:pt x="1906" y="6"/>
                </a:lnTo>
                <a:lnTo>
                  <a:pt x="1915" y="6"/>
                </a:lnTo>
                <a:lnTo>
                  <a:pt x="1923" y="4"/>
                </a:lnTo>
                <a:lnTo>
                  <a:pt x="1932" y="2"/>
                </a:lnTo>
                <a:lnTo>
                  <a:pt x="1938" y="2"/>
                </a:lnTo>
                <a:lnTo>
                  <a:pt x="1946" y="0"/>
                </a:lnTo>
                <a:lnTo>
                  <a:pt x="1952" y="0"/>
                </a:lnTo>
                <a:lnTo>
                  <a:pt x="1956" y="0"/>
                </a:lnTo>
                <a:lnTo>
                  <a:pt x="1959" y="0"/>
                </a:lnTo>
                <a:lnTo>
                  <a:pt x="1969" y="0"/>
                </a:lnTo>
                <a:lnTo>
                  <a:pt x="1980" y="2"/>
                </a:lnTo>
                <a:lnTo>
                  <a:pt x="1994" y="4"/>
                </a:lnTo>
                <a:lnTo>
                  <a:pt x="2007" y="8"/>
                </a:lnTo>
                <a:lnTo>
                  <a:pt x="2025" y="12"/>
                </a:lnTo>
                <a:lnTo>
                  <a:pt x="2032" y="14"/>
                </a:lnTo>
                <a:lnTo>
                  <a:pt x="2042" y="16"/>
                </a:lnTo>
                <a:lnTo>
                  <a:pt x="2051" y="18"/>
                </a:lnTo>
                <a:lnTo>
                  <a:pt x="2061" y="19"/>
                </a:lnTo>
                <a:lnTo>
                  <a:pt x="2073" y="23"/>
                </a:lnTo>
                <a:lnTo>
                  <a:pt x="2084" y="25"/>
                </a:lnTo>
                <a:lnTo>
                  <a:pt x="2096" y="27"/>
                </a:lnTo>
                <a:lnTo>
                  <a:pt x="2105" y="29"/>
                </a:lnTo>
                <a:lnTo>
                  <a:pt x="2115" y="33"/>
                </a:lnTo>
                <a:lnTo>
                  <a:pt x="2124" y="35"/>
                </a:lnTo>
                <a:lnTo>
                  <a:pt x="2132" y="39"/>
                </a:lnTo>
                <a:lnTo>
                  <a:pt x="2140" y="43"/>
                </a:lnTo>
                <a:lnTo>
                  <a:pt x="2146" y="46"/>
                </a:lnTo>
                <a:lnTo>
                  <a:pt x="2151" y="48"/>
                </a:lnTo>
                <a:lnTo>
                  <a:pt x="2155" y="52"/>
                </a:lnTo>
                <a:lnTo>
                  <a:pt x="2159" y="56"/>
                </a:lnTo>
                <a:lnTo>
                  <a:pt x="2163" y="58"/>
                </a:lnTo>
                <a:lnTo>
                  <a:pt x="2167" y="62"/>
                </a:lnTo>
                <a:lnTo>
                  <a:pt x="2169" y="66"/>
                </a:lnTo>
                <a:lnTo>
                  <a:pt x="2170" y="67"/>
                </a:lnTo>
                <a:lnTo>
                  <a:pt x="2170" y="71"/>
                </a:lnTo>
                <a:lnTo>
                  <a:pt x="2170" y="7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161"/>
          <p:cNvSpPr/>
          <p:nvPr/>
        </p:nvSpPr>
        <p:spPr>
          <a:xfrm>
            <a:off x="6172200" y="2841480"/>
            <a:ext cx="227160" cy="669960"/>
          </a:xfrm>
          <a:custGeom>
            <a:avLst/>
            <a:gdLst/>
            <a:ahLst/>
            <a:rect l="l" t="t" r="r" b="b"/>
            <a:pathLst>
              <a:path w="286" h="843">
                <a:moveTo>
                  <a:pt x="54" y="106"/>
                </a:moveTo>
                <a:lnTo>
                  <a:pt x="41" y="92"/>
                </a:lnTo>
                <a:lnTo>
                  <a:pt x="29" y="79"/>
                </a:lnTo>
                <a:lnTo>
                  <a:pt x="23" y="73"/>
                </a:lnTo>
                <a:lnTo>
                  <a:pt x="17" y="65"/>
                </a:lnTo>
                <a:lnTo>
                  <a:pt x="14" y="60"/>
                </a:lnTo>
                <a:lnTo>
                  <a:pt x="10" y="54"/>
                </a:lnTo>
                <a:lnTo>
                  <a:pt x="6" y="46"/>
                </a:lnTo>
                <a:lnTo>
                  <a:pt x="4" y="40"/>
                </a:lnTo>
                <a:lnTo>
                  <a:pt x="2" y="35"/>
                </a:lnTo>
                <a:lnTo>
                  <a:pt x="0" y="29"/>
                </a:lnTo>
                <a:lnTo>
                  <a:pt x="0" y="25"/>
                </a:lnTo>
                <a:lnTo>
                  <a:pt x="0" y="19"/>
                </a:lnTo>
                <a:lnTo>
                  <a:pt x="2" y="13"/>
                </a:lnTo>
                <a:lnTo>
                  <a:pt x="4" y="10"/>
                </a:lnTo>
                <a:lnTo>
                  <a:pt x="6" y="8"/>
                </a:lnTo>
                <a:lnTo>
                  <a:pt x="10" y="6"/>
                </a:lnTo>
                <a:lnTo>
                  <a:pt x="14" y="4"/>
                </a:lnTo>
                <a:lnTo>
                  <a:pt x="17" y="2"/>
                </a:lnTo>
                <a:lnTo>
                  <a:pt x="23" y="2"/>
                </a:lnTo>
                <a:lnTo>
                  <a:pt x="29" y="0"/>
                </a:lnTo>
                <a:lnTo>
                  <a:pt x="35" y="0"/>
                </a:lnTo>
                <a:lnTo>
                  <a:pt x="42" y="0"/>
                </a:lnTo>
                <a:lnTo>
                  <a:pt x="50" y="0"/>
                </a:lnTo>
                <a:lnTo>
                  <a:pt x="60" y="0"/>
                </a:lnTo>
                <a:lnTo>
                  <a:pt x="69" y="2"/>
                </a:lnTo>
                <a:lnTo>
                  <a:pt x="79" y="2"/>
                </a:lnTo>
                <a:lnTo>
                  <a:pt x="90" y="4"/>
                </a:lnTo>
                <a:lnTo>
                  <a:pt x="102" y="6"/>
                </a:lnTo>
                <a:lnTo>
                  <a:pt x="113" y="8"/>
                </a:lnTo>
                <a:lnTo>
                  <a:pt x="129" y="10"/>
                </a:lnTo>
                <a:lnTo>
                  <a:pt x="142" y="13"/>
                </a:lnTo>
                <a:lnTo>
                  <a:pt x="156" y="19"/>
                </a:lnTo>
                <a:lnTo>
                  <a:pt x="167" y="23"/>
                </a:lnTo>
                <a:lnTo>
                  <a:pt x="179" y="27"/>
                </a:lnTo>
                <a:lnTo>
                  <a:pt x="190" y="31"/>
                </a:lnTo>
                <a:lnTo>
                  <a:pt x="202" y="36"/>
                </a:lnTo>
                <a:lnTo>
                  <a:pt x="211" y="40"/>
                </a:lnTo>
                <a:lnTo>
                  <a:pt x="221" y="44"/>
                </a:lnTo>
                <a:lnTo>
                  <a:pt x="231" y="48"/>
                </a:lnTo>
                <a:lnTo>
                  <a:pt x="238" y="52"/>
                </a:lnTo>
                <a:lnTo>
                  <a:pt x="248" y="56"/>
                </a:lnTo>
                <a:lnTo>
                  <a:pt x="254" y="58"/>
                </a:lnTo>
                <a:lnTo>
                  <a:pt x="261" y="61"/>
                </a:lnTo>
                <a:lnTo>
                  <a:pt x="267" y="65"/>
                </a:lnTo>
                <a:lnTo>
                  <a:pt x="273" y="67"/>
                </a:lnTo>
                <a:lnTo>
                  <a:pt x="279" y="69"/>
                </a:lnTo>
                <a:lnTo>
                  <a:pt x="282" y="79"/>
                </a:lnTo>
                <a:lnTo>
                  <a:pt x="284" y="88"/>
                </a:lnTo>
                <a:lnTo>
                  <a:pt x="286" y="98"/>
                </a:lnTo>
                <a:lnTo>
                  <a:pt x="286" y="107"/>
                </a:lnTo>
                <a:lnTo>
                  <a:pt x="286" y="117"/>
                </a:lnTo>
                <a:lnTo>
                  <a:pt x="284" y="129"/>
                </a:lnTo>
                <a:lnTo>
                  <a:pt x="282" y="142"/>
                </a:lnTo>
                <a:lnTo>
                  <a:pt x="279" y="154"/>
                </a:lnTo>
                <a:lnTo>
                  <a:pt x="275" y="161"/>
                </a:lnTo>
                <a:lnTo>
                  <a:pt x="273" y="169"/>
                </a:lnTo>
                <a:lnTo>
                  <a:pt x="271" y="177"/>
                </a:lnTo>
                <a:lnTo>
                  <a:pt x="269" y="186"/>
                </a:lnTo>
                <a:lnTo>
                  <a:pt x="267" y="196"/>
                </a:lnTo>
                <a:lnTo>
                  <a:pt x="265" y="205"/>
                </a:lnTo>
                <a:lnTo>
                  <a:pt x="263" y="215"/>
                </a:lnTo>
                <a:lnTo>
                  <a:pt x="261" y="227"/>
                </a:lnTo>
                <a:lnTo>
                  <a:pt x="259" y="238"/>
                </a:lnTo>
                <a:lnTo>
                  <a:pt x="257" y="251"/>
                </a:lnTo>
                <a:lnTo>
                  <a:pt x="255" y="263"/>
                </a:lnTo>
                <a:lnTo>
                  <a:pt x="255" y="276"/>
                </a:lnTo>
                <a:lnTo>
                  <a:pt x="254" y="290"/>
                </a:lnTo>
                <a:lnTo>
                  <a:pt x="254" y="305"/>
                </a:lnTo>
                <a:lnTo>
                  <a:pt x="254" y="321"/>
                </a:lnTo>
                <a:lnTo>
                  <a:pt x="254" y="336"/>
                </a:lnTo>
                <a:lnTo>
                  <a:pt x="252" y="344"/>
                </a:lnTo>
                <a:lnTo>
                  <a:pt x="250" y="353"/>
                </a:lnTo>
                <a:lnTo>
                  <a:pt x="250" y="361"/>
                </a:lnTo>
                <a:lnTo>
                  <a:pt x="248" y="370"/>
                </a:lnTo>
                <a:lnTo>
                  <a:pt x="248" y="382"/>
                </a:lnTo>
                <a:lnTo>
                  <a:pt x="248" y="392"/>
                </a:lnTo>
                <a:lnTo>
                  <a:pt x="246" y="403"/>
                </a:lnTo>
                <a:lnTo>
                  <a:pt x="246" y="415"/>
                </a:lnTo>
                <a:lnTo>
                  <a:pt x="244" y="426"/>
                </a:lnTo>
                <a:lnTo>
                  <a:pt x="244" y="440"/>
                </a:lnTo>
                <a:lnTo>
                  <a:pt x="244" y="453"/>
                </a:lnTo>
                <a:lnTo>
                  <a:pt x="244" y="466"/>
                </a:lnTo>
                <a:lnTo>
                  <a:pt x="242" y="480"/>
                </a:lnTo>
                <a:lnTo>
                  <a:pt x="242" y="495"/>
                </a:lnTo>
                <a:lnTo>
                  <a:pt x="242" y="511"/>
                </a:lnTo>
                <a:lnTo>
                  <a:pt x="242" y="526"/>
                </a:lnTo>
                <a:lnTo>
                  <a:pt x="242" y="541"/>
                </a:lnTo>
                <a:lnTo>
                  <a:pt x="242" y="559"/>
                </a:lnTo>
                <a:lnTo>
                  <a:pt x="240" y="576"/>
                </a:lnTo>
                <a:lnTo>
                  <a:pt x="240" y="593"/>
                </a:lnTo>
                <a:lnTo>
                  <a:pt x="240" y="612"/>
                </a:lnTo>
                <a:lnTo>
                  <a:pt x="240" y="630"/>
                </a:lnTo>
                <a:lnTo>
                  <a:pt x="240" y="649"/>
                </a:lnTo>
                <a:lnTo>
                  <a:pt x="240" y="668"/>
                </a:lnTo>
                <a:lnTo>
                  <a:pt x="240" y="689"/>
                </a:lnTo>
                <a:lnTo>
                  <a:pt x="240" y="710"/>
                </a:lnTo>
                <a:lnTo>
                  <a:pt x="240" y="731"/>
                </a:lnTo>
                <a:lnTo>
                  <a:pt x="240" y="752"/>
                </a:lnTo>
                <a:lnTo>
                  <a:pt x="240" y="774"/>
                </a:lnTo>
                <a:lnTo>
                  <a:pt x="240" y="797"/>
                </a:lnTo>
                <a:lnTo>
                  <a:pt x="240" y="820"/>
                </a:lnTo>
                <a:lnTo>
                  <a:pt x="240" y="843"/>
                </a:lnTo>
                <a:lnTo>
                  <a:pt x="179" y="843"/>
                </a:lnTo>
                <a:lnTo>
                  <a:pt x="115" y="843"/>
                </a:lnTo>
                <a:lnTo>
                  <a:pt x="115" y="800"/>
                </a:lnTo>
                <a:lnTo>
                  <a:pt x="115" y="760"/>
                </a:lnTo>
                <a:lnTo>
                  <a:pt x="115" y="720"/>
                </a:lnTo>
                <a:lnTo>
                  <a:pt x="113" y="681"/>
                </a:lnTo>
                <a:lnTo>
                  <a:pt x="113" y="643"/>
                </a:lnTo>
                <a:lnTo>
                  <a:pt x="113" y="608"/>
                </a:lnTo>
                <a:lnTo>
                  <a:pt x="112" y="572"/>
                </a:lnTo>
                <a:lnTo>
                  <a:pt x="112" y="539"/>
                </a:lnTo>
                <a:lnTo>
                  <a:pt x="110" y="507"/>
                </a:lnTo>
                <a:lnTo>
                  <a:pt x="108" y="476"/>
                </a:lnTo>
                <a:lnTo>
                  <a:pt x="108" y="447"/>
                </a:lnTo>
                <a:lnTo>
                  <a:pt x="106" y="418"/>
                </a:lnTo>
                <a:lnTo>
                  <a:pt x="104" y="390"/>
                </a:lnTo>
                <a:lnTo>
                  <a:pt x="102" y="365"/>
                </a:lnTo>
                <a:lnTo>
                  <a:pt x="100" y="340"/>
                </a:lnTo>
                <a:lnTo>
                  <a:pt x="98" y="317"/>
                </a:lnTo>
                <a:lnTo>
                  <a:pt x="96" y="294"/>
                </a:lnTo>
                <a:lnTo>
                  <a:pt x="94" y="273"/>
                </a:lnTo>
                <a:lnTo>
                  <a:pt x="92" y="253"/>
                </a:lnTo>
                <a:lnTo>
                  <a:pt x="88" y="234"/>
                </a:lnTo>
                <a:lnTo>
                  <a:pt x="87" y="217"/>
                </a:lnTo>
                <a:lnTo>
                  <a:pt x="85" y="202"/>
                </a:lnTo>
                <a:lnTo>
                  <a:pt x="81" y="186"/>
                </a:lnTo>
                <a:lnTo>
                  <a:pt x="79" y="173"/>
                </a:lnTo>
                <a:lnTo>
                  <a:pt x="75" y="159"/>
                </a:lnTo>
                <a:lnTo>
                  <a:pt x="73" y="148"/>
                </a:lnTo>
                <a:lnTo>
                  <a:pt x="69" y="138"/>
                </a:lnTo>
                <a:lnTo>
                  <a:pt x="67" y="129"/>
                </a:lnTo>
                <a:lnTo>
                  <a:pt x="64" y="121"/>
                </a:lnTo>
                <a:lnTo>
                  <a:pt x="60" y="115"/>
                </a:lnTo>
                <a:lnTo>
                  <a:pt x="58" y="109"/>
                </a:lnTo>
                <a:lnTo>
                  <a:pt x="54" y="10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162"/>
          <p:cNvSpPr/>
          <p:nvPr/>
        </p:nvSpPr>
        <p:spPr>
          <a:xfrm>
            <a:off x="5958000" y="3156120"/>
            <a:ext cx="682560" cy="182520"/>
          </a:xfrm>
          <a:custGeom>
            <a:avLst/>
            <a:gdLst/>
            <a:ahLst/>
            <a:rect l="l" t="t" r="r" b="b"/>
            <a:pathLst>
              <a:path w="859" h="231">
                <a:moveTo>
                  <a:pt x="671" y="135"/>
                </a:moveTo>
                <a:lnTo>
                  <a:pt x="629" y="139"/>
                </a:lnTo>
                <a:lnTo>
                  <a:pt x="589" y="144"/>
                </a:lnTo>
                <a:lnTo>
                  <a:pt x="547" y="152"/>
                </a:lnTo>
                <a:lnTo>
                  <a:pt x="506" y="160"/>
                </a:lnTo>
                <a:lnTo>
                  <a:pt x="464" y="167"/>
                </a:lnTo>
                <a:lnTo>
                  <a:pt x="426" y="177"/>
                </a:lnTo>
                <a:lnTo>
                  <a:pt x="385" y="185"/>
                </a:lnTo>
                <a:lnTo>
                  <a:pt x="349" y="194"/>
                </a:lnTo>
                <a:lnTo>
                  <a:pt x="330" y="198"/>
                </a:lnTo>
                <a:lnTo>
                  <a:pt x="312" y="204"/>
                </a:lnTo>
                <a:lnTo>
                  <a:pt x="297" y="208"/>
                </a:lnTo>
                <a:lnTo>
                  <a:pt x="282" y="210"/>
                </a:lnTo>
                <a:lnTo>
                  <a:pt x="268" y="213"/>
                </a:lnTo>
                <a:lnTo>
                  <a:pt x="257" y="217"/>
                </a:lnTo>
                <a:lnTo>
                  <a:pt x="245" y="219"/>
                </a:lnTo>
                <a:lnTo>
                  <a:pt x="234" y="221"/>
                </a:lnTo>
                <a:lnTo>
                  <a:pt x="226" y="223"/>
                </a:lnTo>
                <a:lnTo>
                  <a:pt x="216" y="225"/>
                </a:lnTo>
                <a:lnTo>
                  <a:pt x="209" y="227"/>
                </a:lnTo>
                <a:lnTo>
                  <a:pt x="203" y="229"/>
                </a:lnTo>
                <a:lnTo>
                  <a:pt x="197" y="229"/>
                </a:lnTo>
                <a:lnTo>
                  <a:pt x="193" y="231"/>
                </a:lnTo>
                <a:lnTo>
                  <a:pt x="190" y="231"/>
                </a:lnTo>
                <a:lnTo>
                  <a:pt x="186" y="231"/>
                </a:lnTo>
                <a:lnTo>
                  <a:pt x="184" y="231"/>
                </a:lnTo>
                <a:lnTo>
                  <a:pt x="180" y="231"/>
                </a:lnTo>
                <a:lnTo>
                  <a:pt x="176" y="229"/>
                </a:lnTo>
                <a:lnTo>
                  <a:pt x="172" y="229"/>
                </a:lnTo>
                <a:lnTo>
                  <a:pt x="168" y="227"/>
                </a:lnTo>
                <a:lnTo>
                  <a:pt x="163" y="227"/>
                </a:lnTo>
                <a:lnTo>
                  <a:pt x="151" y="223"/>
                </a:lnTo>
                <a:lnTo>
                  <a:pt x="136" y="219"/>
                </a:lnTo>
                <a:lnTo>
                  <a:pt x="120" y="215"/>
                </a:lnTo>
                <a:lnTo>
                  <a:pt x="105" y="212"/>
                </a:lnTo>
                <a:lnTo>
                  <a:pt x="86" y="208"/>
                </a:lnTo>
                <a:lnTo>
                  <a:pt x="74" y="204"/>
                </a:lnTo>
                <a:lnTo>
                  <a:pt x="65" y="202"/>
                </a:lnTo>
                <a:lnTo>
                  <a:pt x="55" y="200"/>
                </a:lnTo>
                <a:lnTo>
                  <a:pt x="48" y="198"/>
                </a:lnTo>
                <a:lnTo>
                  <a:pt x="38" y="194"/>
                </a:lnTo>
                <a:lnTo>
                  <a:pt x="32" y="192"/>
                </a:lnTo>
                <a:lnTo>
                  <a:pt x="25" y="190"/>
                </a:lnTo>
                <a:lnTo>
                  <a:pt x="21" y="187"/>
                </a:lnTo>
                <a:lnTo>
                  <a:pt x="15" y="185"/>
                </a:lnTo>
                <a:lnTo>
                  <a:pt x="11" y="181"/>
                </a:lnTo>
                <a:lnTo>
                  <a:pt x="7" y="177"/>
                </a:lnTo>
                <a:lnTo>
                  <a:pt x="5" y="175"/>
                </a:lnTo>
                <a:lnTo>
                  <a:pt x="1" y="171"/>
                </a:lnTo>
                <a:lnTo>
                  <a:pt x="1" y="167"/>
                </a:lnTo>
                <a:lnTo>
                  <a:pt x="0" y="164"/>
                </a:lnTo>
                <a:lnTo>
                  <a:pt x="0" y="158"/>
                </a:lnTo>
                <a:lnTo>
                  <a:pt x="11" y="156"/>
                </a:lnTo>
                <a:lnTo>
                  <a:pt x="26" y="152"/>
                </a:lnTo>
                <a:lnTo>
                  <a:pt x="42" y="148"/>
                </a:lnTo>
                <a:lnTo>
                  <a:pt x="57" y="144"/>
                </a:lnTo>
                <a:lnTo>
                  <a:pt x="76" y="141"/>
                </a:lnTo>
                <a:lnTo>
                  <a:pt x="96" y="135"/>
                </a:lnTo>
                <a:lnTo>
                  <a:pt x="117" y="129"/>
                </a:lnTo>
                <a:lnTo>
                  <a:pt x="140" y="123"/>
                </a:lnTo>
                <a:lnTo>
                  <a:pt x="165" y="118"/>
                </a:lnTo>
                <a:lnTo>
                  <a:pt x="190" y="110"/>
                </a:lnTo>
                <a:lnTo>
                  <a:pt x="216" y="104"/>
                </a:lnTo>
                <a:lnTo>
                  <a:pt x="245" y="96"/>
                </a:lnTo>
                <a:lnTo>
                  <a:pt x="274" y="87"/>
                </a:lnTo>
                <a:lnTo>
                  <a:pt x="307" y="79"/>
                </a:lnTo>
                <a:lnTo>
                  <a:pt x="339" y="71"/>
                </a:lnTo>
                <a:lnTo>
                  <a:pt x="374" y="62"/>
                </a:lnTo>
                <a:lnTo>
                  <a:pt x="405" y="54"/>
                </a:lnTo>
                <a:lnTo>
                  <a:pt x="435" y="48"/>
                </a:lnTo>
                <a:lnTo>
                  <a:pt x="464" y="43"/>
                </a:lnTo>
                <a:lnTo>
                  <a:pt x="491" y="37"/>
                </a:lnTo>
                <a:lnTo>
                  <a:pt x="518" y="31"/>
                </a:lnTo>
                <a:lnTo>
                  <a:pt x="543" y="25"/>
                </a:lnTo>
                <a:lnTo>
                  <a:pt x="566" y="22"/>
                </a:lnTo>
                <a:lnTo>
                  <a:pt x="587" y="18"/>
                </a:lnTo>
                <a:lnTo>
                  <a:pt x="606" y="14"/>
                </a:lnTo>
                <a:lnTo>
                  <a:pt x="623" y="10"/>
                </a:lnTo>
                <a:lnTo>
                  <a:pt x="641" y="8"/>
                </a:lnTo>
                <a:lnTo>
                  <a:pt x="654" y="4"/>
                </a:lnTo>
                <a:lnTo>
                  <a:pt x="668" y="4"/>
                </a:lnTo>
                <a:lnTo>
                  <a:pt x="679" y="2"/>
                </a:lnTo>
                <a:lnTo>
                  <a:pt x="689" y="0"/>
                </a:lnTo>
                <a:lnTo>
                  <a:pt x="696" y="0"/>
                </a:lnTo>
                <a:lnTo>
                  <a:pt x="725" y="0"/>
                </a:lnTo>
                <a:lnTo>
                  <a:pt x="739" y="2"/>
                </a:lnTo>
                <a:lnTo>
                  <a:pt x="754" y="2"/>
                </a:lnTo>
                <a:lnTo>
                  <a:pt x="767" y="4"/>
                </a:lnTo>
                <a:lnTo>
                  <a:pt x="781" y="6"/>
                </a:lnTo>
                <a:lnTo>
                  <a:pt x="794" y="8"/>
                </a:lnTo>
                <a:lnTo>
                  <a:pt x="810" y="14"/>
                </a:lnTo>
                <a:lnTo>
                  <a:pt x="815" y="16"/>
                </a:lnTo>
                <a:lnTo>
                  <a:pt x="821" y="18"/>
                </a:lnTo>
                <a:lnTo>
                  <a:pt x="827" y="22"/>
                </a:lnTo>
                <a:lnTo>
                  <a:pt x="833" y="23"/>
                </a:lnTo>
                <a:lnTo>
                  <a:pt x="836" y="27"/>
                </a:lnTo>
                <a:lnTo>
                  <a:pt x="840" y="31"/>
                </a:lnTo>
                <a:lnTo>
                  <a:pt x="848" y="37"/>
                </a:lnTo>
                <a:lnTo>
                  <a:pt x="854" y="45"/>
                </a:lnTo>
                <a:lnTo>
                  <a:pt x="856" y="50"/>
                </a:lnTo>
                <a:lnTo>
                  <a:pt x="858" y="56"/>
                </a:lnTo>
                <a:lnTo>
                  <a:pt x="859" y="62"/>
                </a:lnTo>
                <a:lnTo>
                  <a:pt x="858" y="66"/>
                </a:lnTo>
                <a:lnTo>
                  <a:pt x="856" y="71"/>
                </a:lnTo>
                <a:lnTo>
                  <a:pt x="852" y="75"/>
                </a:lnTo>
                <a:lnTo>
                  <a:pt x="848" y="79"/>
                </a:lnTo>
                <a:lnTo>
                  <a:pt x="840" y="85"/>
                </a:lnTo>
                <a:lnTo>
                  <a:pt x="833" y="89"/>
                </a:lnTo>
                <a:lnTo>
                  <a:pt x="823" y="93"/>
                </a:lnTo>
                <a:lnTo>
                  <a:pt x="811" y="98"/>
                </a:lnTo>
                <a:lnTo>
                  <a:pt x="800" y="102"/>
                </a:lnTo>
                <a:lnTo>
                  <a:pt x="787" y="106"/>
                </a:lnTo>
                <a:lnTo>
                  <a:pt x="771" y="112"/>
                </a:lnTo>
                <a:lnTo>
                  <a:pt x="754" y="116"/>
                </a:lnTo>
                <a:lnTo>
                  <a:pt x="735" y="119"/>
                </a:lnTo>
                <a:lnTo>
                  <a:pt x="715" y="125"/>
                </a:lnTo>
                <a:lnTo>
                  <a:pt x="694" y="129"/>
                </a:lnTo>
                <a:lnTo>
                  <a:pt x="671" y="1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4"/>
          <p:cNvSpPr/>
          <p:nvPr/>
        </p:nvSpPr>
        <p:spPr>
          <a:xfrm>
            <a:off x="2224080" y="253224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114880" y="2382840"/>
          <a:ext cx="2941560" cy="3040200"/>
        </p:xfrm>
        <a:graphic>
          <a:graphicData uri="http://schemas.openxmlformats.org/drawingml/2006/table">
            <a:tbl>
              <a:tblPr/>
              <a:tblGrid>
                <a:gridCol w="1471680"/>
                <a:gridCol w="146988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1" name="组合 3"/>
          <p:cNvGrpSpPr/>
          <p:nvPr/>
        </p:nvGrpSpPr>
        <p:grpSpPr>
          <a:xfrm>
            <a:off x="1400040" y="3975120"/>
            <a:ext cx="3049560" cy="1571760"/>
            <a:chOff x="1400040" y="3975120"/>
            <a:chExt cx="3049560" cy="1571760"/>
          </a:xfrm>
        </p:grpSpPr>
        <p:pic>
          <p:nvPicPr>
            <p:cNvPr id="162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304956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矩形 2"/>
            <p:cNvSpPr/>
            <p:nvPr/>
          </p:nvSpPr>
          <p:spPr>
            <a:xfrm>
              <a:off x="1410120" y="4587840"/>
              <a:ext cx="302724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辶”点画宜正，捺画伸展托上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矩形 2"/>
          <p:cNvSpPr/>
          <p:nvPr/>
        </p:nvSpPr>
        <p:spPr>
          <a:xfrm>
            <a:off x="2089080" y="1855800"/>
            <a:ext cx="164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95"/>
          <p:cNvSpPr/>
          <p:nvPr/>
        </p:nvSpPr>
        <p:spPr>
          <a:xfrm>
            <a:off x="5537160" y="4556160"/>
            <a:ext cx="2284560" cy="487440"/>
          </a:xfrm>
          <a:custGeom>
            <a:avLst/>
            <a:gdLst/>
            <a:ahLst/>
            <a:rect l="l" t="t" r="r" b="b"/>
            <a:pathLst>
              <a:path w="2877" h="614">
                <a:moveTo>
                  <a:pt x="263" y="190"/>
                </a:moveTo>
                <a:lnTo>
                  <a:pt x="247" y="198"/>
                </a:lnTo>
                <a:lnTo>
                  <a:pt x="232" y="204"/>
                </a:lnTo>
                <a:lnTo>
                  <a:pt x="217" y="209"/>
                </a:lnTo>
                <a:lnTo>
                  <a:pt x="203" y="213"/>
                </a:lnTo>
                <a:lnTo>
                  <a:pt x="188" y="215"/>
                </a:lnTo>
                <a:lnTo>
                  <a:pt x="174" y="217"/>
                </a:lnTo>
                <a:lnTo>
                  <a:pt x="161" y="219"/>
                </a:lnTo>
                <a:lnTo>
                  <a:pt x="149" y="219"/>
                </a:lnTo>
                <a:lnTo>
                  <a:pt x="136" y="217"/>
                </a:lnTo>
                <a:lnTo>
                  <a:pt x="125" y="215"/>
                </a:lnTo>
                <a:lnTo>
                  <a:pt x="115" y="211"/>
                </a:lnTo>
                <a:lnTo>
                  <a:pt x="103" y="207"/>
                </a:lnTo>
                <a:lnTo>
                  <a:pt x="94" y="202"/>
                </a:lnTo>
                <a:lnTo>
                  <a:pt x="86" y="194"/>
                </a:lnTo>
                <a:lnTo>
                  <a:pt x="78" y="186"/>
                </a:lnTo>
                <a:lnTo>
                  <a:pt x="71" y="177"/>
                </a:lnTo>
                <a:lnTo>
                  <a:pt x="63" y="169"/>
                </a:lnTo>
                <a:lnTo>
                  <a:pt x="54" y="161"/>
                </a:lnTo>
                <a:lnTo>
                  <a:pt x="46" y="154"/>
                </a:lnTo>
                <a:lnTo>
                  <a:pt x="40" y="146"/>
                </a:lnTo>
                <a:lnTo>
                  <a:pt x="32" y="138"/>
                </a:lnTo>
                <a:lnTo>
                  <a:pt x="27" y="131"/>
                </a:lnTo>
                <a:lnTo>
                  <a:pt x="21" y="123"/>
                </a:lnTo>
                <a:lnTo>
                  <a:pt x="17" y="117"/>
                </a:lnTo>
                <a:lnTo>
                  <a:pt x="13" y="110"/>
                </a:lnTo>
                <a:lnTo>
                  <a:pt x="9" y="104"/>
                </a:lnTo>
                <a:lnTo>
                  <a:pt x="6" y="96"/>
                </a:lnTo>
                <a:lnTo>
                  <a:pt x="4" y="90"/>
                </a:lnTo>
                <a:lnTo>
                  <a:pt x="2" y="85"/>
                </a:lnTo>
                <a:lnTo>
                  <a:pt x="0" y="79"/>
                </a:lnTo>
                <a:lnTo>
                  <a:pt x="0" y="73"/>
                </a:lnTo>
                <a:lnTo>
                  <a:pt x="0" y="69"/>
                </a:lnTo>
                <a:lnTo>
                  <a:pt x="11" y="67"/>
                </a:lnTo>
                <a:lnTo>
                  <a:pt x="23" y="67"/>
                </a:lnTo>
                <a:lnTo>
                  <a:pt x="34" y="67"/>
                </a:lnTo>
                <a:lnTo>
                  <a:pt x="48" y="65"/>
                </a:lnTo>
                <a:lnTo>
                  <a:pt x="75" y="63"/>
                </a:lnTo>
                <a:lnTo>
                  <a:pt x="103" y="58"/>
                </a:lnTo>
                <a:lnTo>
                  <a:pt x="134" y="52"/>
                </a:lnTo>
                <a:lnTo>
                  <a:pt x="165" y="46"/>
                </a:lnTo>
                <a:lnTo>
                  <a:pt x="196" y="37"/>
                </a:lnTo>
                <a:lnTo>
                  <a:pt x="226" y="27"/>
                </a:lnTo>
                <a:lnTo>
                  <a:pt x="257" y="23"/>
                </a:lnTo>
                <a:lnTo>
                  <a:pt x="288" y="17"/>
                </a:lnTo>
                <a:lnTo>
                  <a:pt x="318" y="14"/>
                </a:lnTo>
                <a:lnTo>
                  <a:pt x="347" y="10"/>
                </a:lnTo>
                <a:lnTo>
                  <a:pt x="376" y="6"/>
                </a:lnTo>
                <a:lnTo>
                  <a:pt x="405" y="2"/>
                </a:lnTo>
                <a:lnTo>
                  <a:pt x="435" y="2"/>
                </a:lnTo>
                <a:lnTo>
                  <a:pt x="466" y="0"/>
                </a:lnTo>
                <a:lnTo>
                  <a:pt x="493" y="0"/>
                </a:lnTo>
                <a:lnTo>
                  <a:pt x="518" y="0"/>
                </a:lnTo>
                <a:lnTo>
                  <a:pt x="543" y="2"/>
                </a:lnTo>
                <a:lnTo>
                  <a:pt x="566" y="2"/>
                </a:lnTo>
                <a:lnTo>
                  <a:pt x="587" y="4"/>
                </a:lnTo>
                <a:lnTo>
                  <a:pt x="608" y="6"/>
                </a:lnTo>
                <a:lnTo>
                  <a:pt x="627" y="10"/>
                </a:lnTo>
                <a:lnTo>
                  <a:pt x="647" y="14"/>
                </a:lnTo>
                <a:lnTo>
                  <a:pt x="654" y="17"/>
                </a:lnTo>
                <a:lnTo>
                  <a:pt x="664" y="21"/>
                </a:lnTo>
                <a:lnTo>
                  <a:pt x="673" y="25"/>
                </a:lnTo>
                <a:lnTo>
                  <a:pt x="687" y="29"/>
                </a:lnTo>
                <a:lnTo>
                  <a:pt x="700" y="35"/>
                </a:lnTo>
                <a:lnTo>
                  <a:pt x="716" y="39"/>
                </a:lnTo>
                <a:lnTo>
                  <a:pt x="733" y="44"/>
                </a:lnTo>
                <a:lnTo>
                  <a:pt x="752" y="52"/>
                </a:lnTo>
                <a:lnTo>
                  <a:pt x="773" y="58"/>
                </a:lnTo>
                <a:lnTo>
                  <a:pt x="794" y="63"/>
                </a:lnTo>
                <a:lnTo>
                  <a:pt x="819" y="71"/>
                </a:lnTo>
                <a:lnTo>
                  <a:pt x="844" y="79"/>
                </a:lnTo>
                <a:lnTo>
                  <a:pt x="869" y="87"/>
                </a:lnTo>
                <a:lnTo>
                  <a:pt x="898" y="94"/>
                </a:lnTo>
                <a:lnTo>
                  <a:pt x="927" y="102"/>
                </a:lnTo>
                <a:lnTo>
                  <a:pt x="958" y="110"/>
                </a:lnTo>
                <a:lnTo>
                  <a:pt x="990" y="117"/>
                </a:lnTo>
                <a:lnTo>
                  <a:pt x="1025" y="125"/>
                </a:lnTo>
                <a:lnTo>
                  <a:pt x="1059" y="133"/>
                </a:lnTo>
                <a:lnTo>
                  <a:pt x="1098" y="142"/>
                </a:lnTo>
                <a:lnTo>
                  <a:pt x="1136" y="150"/>
                </a:lnTo>
                <a:lnTo>
                  <a:pt x="1176" y="159"/>
                </a:lnTo>
                <a:lnTo>
                  <a:pt x="1219" y="167"/>
                </a:lnTo>
                <a:lnTo>
                  <a:pt x="1263" y="177"/>
                </a:lnTo>
                <a:lnTo>
                  <a:pt x="1307" y="184"/>
                </a:lnTo>
                <a:lnTo>
                  <a:pt x="1355" y="194"/>
                </a:lnTo>
                <a:lnTo>
                  <a:pt x="1403" y="202"/>
                </a:lnTo>
                <a:lnTo>
                  <a:pt x="1453" y="211"/>
                </a:lnTo>
                <a:lnTo>
                  <a:pt x="1503" y="219"/>
                </a:lnTo>
                <a:lnTo>
                  <a:pt x="1556" y="227"/>
                </a:lnTo>
                <a:lnTo>
                  <a:pt x="1610" y="236"/>
                </a:lnTo>
                <a:lnTo>
                  <a:pt x="1666" y="244"/>
                </a:lnTo>
                <a:lnTo>
                  <a:pt x="1722" y="254"/>
                </a:lnTo>
                <a:lnTo>
                  <a:pt x="1777" y="263"/>
                </a:lnTo>
                <a:lnTo>
                  <a:pt x="1831" y="271"/>
                </a:lnTo>
                <a:lnTo>
                  <a:pt x="1885" y="280"/>
                </a:lnTo>
                <a:lnTo>
                  <a:pt x="1938" y="286"/>
                </a:lnTo>
                <a:lnTo>
                  <a:pt x="1992" y="294"/>
                </a:lnTo>
                <a:lnTo>
                  <a:pt x="2044" y="300"/>
                </a:lnTo>
                <a:lnTo>
                  <a:pt x="2098" y="305"/>
                </a:lnTo>
                <a:lnTo>
                  <a:pt x="2148" y="309"/>
                </a:lnTo>
                <a:lnTo>
                  <a:pt x="2199" y="313"/>
                </a:lnTo>
                <a:lnTo>
                  <a:pt x="2249" y="317"/>
                </a:lnTo>
                <a:lnTo>
                  <a:pt x="2299" y="319"/>
                </a:lnTo>
                <a:lnTo>
                  <a:pt x="2349" y="323"/>
                </a:lnTo>
                <a:lnTo>
                  <a:pt x="2397" y="323"/>
                </a:lnTo>
                <a:lnTo>
                  <a:pt x="2445" y="325"/>
                </a:lnTo>
                <a:lnTo>
                  <a:pt x="2493" y="325"/>
                </a:lnTo>
                <a:lnTo>
                  <a:pt x="2516" y="325"/>
                </a:lnTo>
                <a:lnTo>
                  <a:pt x="2539" y="325"/>
                </a:lnTo>
                <a:lnTo>
                  <a:pt x="2560" y="325"/>
                </a:lnTo>
                <a:lnTo>
                  <a:pt x="2581" y="325"/>
                </a:lnTo>
                <a:lnTo>
                  <a:pt x="2603" y="325"/>
                </a:lnTo>
                <a:lnTo>
                  <a:pt x="2622" y="325"/>
                </a:lnTo>
                <a:lnTo>
                  <a:pt x="2641" y="325"/>
                </a:lnTo>
                <a:lnTo>
                  <a:pt x="2658" y="325"/>
                </a:lnTo>
                <a:lnTo>
                  <a:pt x="2676" y="325"/>
                </a:lnTo>
                <a:lnTo>
                  <a:pt x="2693" y="325"/>
                </a:lnTo>
                <a:lnTo>
                  <a:pt x="2710" y="325"/>
                </a:lnTo>
                <a:lnTo>
                  <a:pt x="2725" y="325"/>
                </a:lnTo>
                <a:lnTo>
                  <a:pt x="2739" y="325"/>
                </a:lnTo>
                <a:lnTo>
                  <a:pt x="2752" y="326"/>
                </a:lnTo>
                <a:lnTo>
                  <a:pt x="2766" y="326"/>
                </a:lnTo>
                <a:lnTo>
                  <a:pt x="2779" y="326"/>
                </a:lnTo>
                <a:lnTo>
                  <a:pt x="2791" y="326"/>
                </a:lnTo>
                <a:lnTo>
                  <a:pt x="2802" y="326"/>
                </a:lnTo>
                <a:lnTo>
                  <a:pt x="2812" y="326"/>
                </a:lnTo>
                <a:lnTo>
                  <a:pt x="2821" y="328"/>
                </a:lnTo>
                <a:lnTo>
                  <a:pt x="2829" y="328"/>
                </a:lnTo>
                <a:lnTo>
                  <a:pt x="2839" y="328"/>
                </a:lnTo>
                <a:lnTo>
                  <a:pt x="2844" y="330"/>
                </a:lnTo>
                <a:lnTo>
                  <a:pt x="2852" y="330"/>
                </a:lnTo>
                <a:lnTo>
                  <a:pt x="2858" y="330"/>
                </a:lnTo>
                <a:lnTo>
                  <a:pt x="2862" y="332"/>
                </a:lnTo>
                <a:lnTo>
                  <a:pt x="2867" y="332"/>
                </a:lnTo>
                <a:lnTo>
                  <a:pt x="2869" y="334"/>
                </a:lnTo>
                <a:lnTo>
                  <a:pt x="2873" y="334"/>
                </a:lnTo>
                <a:lnTo>
                  <a:pt x="2875" y="336"/>
                </a:lnTo>
                <a:lnTo>
                  <a:pt x="2877" y="338"/>
                </a:lnTo>
                <a:lnTo>
                  <a:pt x="2875" y="340"/>
                </a:lnTo>
                <a:lnTo>
                  <a:pt x="2873" y="344"/>
                </a:lnTo>
                <a:lnTo>
                  <a:pt x="2869" y="348"/>
                </a:lnTo>
                <a:lnTo>
                  <a:pt x="2862" y="353"/>
                </a:lnTo>
                <a:lnTo>
                  <a:pt x="2854" y="359"/>
                </a:lnTo>
                <a:lnTo>
                  <a:pt x="2846" y="365"/>
                </a:lnTo>
                <a:lnTo>
                  <a:pt x="2835" y="371"/>
                </a:lnTo>
                <a:lnTo>
                  <a:pt x="2821" y="378"/>
                </a:lnTo>
                <a:lnTo>
                  <a:pt x="2808" y="386"/>
                </a:lnTo>
                <a:lnTo>
                  <a:pt x="2793" y="396"/>
                </a:lnTo>
                <a:lnTo>
                  <a:pt x="2773" y="403"/>
                </a:lnTo>
                <a:lnTo>
                  <a:pt x="2754" y="413"/>
                </a:lnTo>
                <a:lnTo>
                  <a:pt x="2733" y="424"/>
                </a:lnTo>
                <a:lnTo>
                  <a:pt x="2710" y="436"/>
                </a:lnTo>
                <a:lnTo>
                  <a:pt x="2687" y="447"/>
                </a:lnTo>
                <a:lnTo>
                  <a:pt x="2660" y="459"/>
                </a:lnTo>
                <a:lnTo>
                  <a:pt x="2633" y="470"/>
                </a:lnTo>
                <a:lnTo>
                  <a:pt x="2608" y="480"/>
                </a:lnTo>
                <a:lnTo>
                  <a:pt x="2581" y="490"/>
                </a:lnTo>
                <a:lnTo>
                  <a:pt x="2556" y="497"/>
                </a:lnTo>
                <a:lnTo>
                  <a:pt x="2533" y="507"/>
                </a:lnTo>
                <a:lnTo>
                  <a:pt x="2509" y="515"/>
                </a:lnTo>
                <a:lnTo>
                  <a:pt x="2485" y="522"/>
                </a:lnTo>
                <a:lnTo>
                  <a:pt x="2462" y="530"/>
                </a:lnTo>
                <a:lnTo>
                  <a:pt x="2441" y="538"/>
                </a:lnTo>
                <a:lnTo>
                  <a:pt x="2418" y="545"/>
                </a:lnTo>
                <a:lnTo>
                  <a:pt x="2397" y="551"/>
                </a:lnTo>
                <a:lnTo>
                  <a:pt x="2378" y="559"/>
                </a:lnTo>
                <a:lnTo>
                  <a:pt x="2357" y="564"/>
                </a:lnTo>
                <a:lnTo>
                  <a:pt x="2338" y="570"/>
                </a:lnTo>
                <a:lnTo>
                  <a:pt x="2318" y="576"/>
                </a:lnTo>
                <a:lnTo>
                  <a:pt x="2301" y="582"/>
                </a:lnTo>
                <a:lnTo>
                  <a:pt x="2280" y="586"/>
                </a:lnTo>
                <a:lnTo>
                  <a:pt x="2263" y="591"/>
                </a:lnTo>
                <a:lnTo>
                  <a:pt x="2244" y="595"/>
                </a:lnTo>
                <a:lnTo>
                  <a:pt x="2226" y="599"/>
                </a:lnTo>
                <a:lnTo>
                  <a:pt x="2211" y="603"/>
                </a:lnTo>
                <a:lnTo>
                  <a:pt x="2196" y="605"/>
                </a:lnTo>
                <a:lnTo>
                  <a:pt x="2180" y="609"/>
                </a:lnTo>
                <a:lnTo>
                  <a:pt x="2167" y="611"/>
                </a:lnTo>
                <a:lnTo>
                  <a:pt x="2153" y="612"/>
                </a:lnTo>
                <a:lnTo>
                  <a:pt x="2140" y="612"/>
                </a:lnTo>
                <a:lnTo>
                  <a:pt x="2128" y="614"/>
                </a:lnTo>
                <a:lnTo>
                  <a:pt x="2119" y="614"/>
                </a:lnTo>
                <a:lnTo>
                  <a:pt x="2109" y="612"/>
                </a:lnTo>
                <a:lnTo>
                  <a:pt x="2100" y="612"/>
                </a:lnTo>
                <a:lnTo>
                  <a:pt x="2092" y="611"/>
                </a:lnTo>
                <a:lnTo>
                  <a:pt x="2084" y="609"/>
                </a:lnTo>
                <a:lnTo>
                  <a:pt x="2080" y="607"/>
                </a:lnTo>
                <a:lnTo>
                  <a:pt x="2077" y="605"/>
                </a:lnTo>
                <a:lnTo>
                  <a:pt x="2073" y="605"/>
                </a:lnTo>
                <a:lnTo>
                  <a:pt x="2067" y="603"/>
                </a:lnTo>
                <a:lnTo>
                  <a:pt x="2061" y="601"/>
                </a:lnTo>
                <a:lnTo>
                  <a:pt x="2056" y="599"/>
                </a:lnTo>
                <a:lnTo>
                  <a:pt x="2050" y="597"/>
                </a:lnTo>
                <a:lnTo>
                  <a:pt x="2042" y="595"/>
                </a:lnTo>
                <a:lnTo>
                  <a:pt x="2027" y="591"/>
                </a:lnTo>
                <a:lnTo>
                  <a:pt x="2009" y="586"/>
                </a:lnTo>
                <a:lnTo>
                  <a:pt x="1990" y="580"/>
                </a:lnTo>
                <a:lnTo>
                  <a:pt x="1969" y="574"/>
                </a:lnTo>
                <a:lnTo>
                  <a:pt x="1946" y="568"/>
                </a:lnTo>
                <a:lnTo>
                  <a:pt x="1921" y="561"/>
                </a:lnTo>
                <a:lnTo>
                  <a:pt x="1896" y="553"/>
                </a:lnTo>
                <a:lnTo>
                  <a:pt x="1867" y="543"/>
                </a:lnTo>
                <a:lnTo>
                  <a:pt x="1837" y="534"/>
                </a:lnTo>
                <a:lnTo>
                  <a:pt x="1806" y="524"/>
                </a:lnTo>
                <a:lnTo>
                  <a:pt x="1773" y="513"/>
                </a:lnTo>
                <a:lnTo>
                  <a:pt x="1737" y="501"/>
                </a:lnTo>
                <a:lnTo>
                  <a:pt x="1698" y="484"/>
                </a:lnTo>
                <a:lnTo>
                  <a:pt x="1660" y="468"/>
                </a:lnTo>
                <a:lnTo>
                  <a:pt x="1620" y="455"/>
                </a:lnTo>
                <a:lnTo>
                  <a:pt x="1578" y="440"/>
                </a:lnTo>
                <a:lnTo>
                  <a:pt x="1535" y="424"/>
                </a:lnTo>
                <a:lnTo>
                  <a:pt x="1491" y="409"/>
                </a:lnTo>
                <a:lnTo>
                  <a:pt x="1447" y="392"/>
                </a:lnTo>
                <a:lnTo>
                  <a:pt x="1401" y="376"/>
                </a:lnTo>
                <a:lnTo>
                  <a:pt x="1355" y="361"/>
                </a:lnTo>
                <a:lnTo>
                  <a:pt x="1307" y="346"/>
                </a:lnTo>
                <a:lnTo>
                  <a:pt x="1259" y="328"/>
                </a:lnTo>
                <a:lnTo>
                  <a:pt x="1207" y="313"/>
                </a:lnTo>
                <a:lnTo>
                  <a:pt x="1157" y="296"/>
                </a:lnTo>
                <a:lnTo>
                  <a:pt x="1103" y="278"/>
                </a:lnTo>
                <a:lnTo>
                  <a:pt x="1050" y="261"/>
                </a:lnTo>
                <a:lnTo>
                  <a:pt x="994" y="244"/>
                </a:lnTo>
                <a:lnTo>
                  <a:pt x="967" y="234"/>
                </a:lnTo>
                <a:lnTo>
                  <a:pt x="940" y="227"/>
                </a:lnTo>
                <a:lnTo>
                  <a:pt x="913" y="217"/>
                </a:lnTo>
                <a:lnTo>
                  <a:pt x="888" y="209"/>
                </a:lnTo>
                <a:lnTo>
                  <a:pt x="864" y="202"/>
                </a:lnTo>
                <a:lnTo>
                  <a:pt x="839" y="196"/>
                </a:lnTo>
                <a:lnTo>
                  <a:pt x="816" y="188"/>
                </a:lnTo>
                <a:lnTo>
                  <a:pt x="793" y="182"/>
                </a:lnTo>
                <a:lnTo>
                  <a:pt x="769" y="175"/>
                </a:lnTo>
                <a:lnTo>
                  <a:pt x="748" y="169"/>
                </a:lnTo>
                <a:lnTo>
                  <a:pt x="729" y="163"/>
                </a:lnTo>
                <a:lnTo>
                  <a:pt x="708" y="159"/>
                </a:lnTo>
                <a:lnTo>
                  <a:pt x="689" y="154"/>
                </a:lnTo>
                <a:lnTo>
                  <a:pt x="672" y="148"/>
                </a:lnTo>
                <a:lnTo>
                  <a:pt x="652" y="144"/>
                </a:lnTo>
                <a:lnTo>
                  <a:pt x="637" y="140"/>
                </a:lnTo>
                <a:lnTo>
                  <a:pt x="620" y="136"/>
                </a:lnTo>
                <a:lnTo>
                  <a:pt x="604" y="133"/>
                </a:lnTo>
                <a:lnTo>
                  <a:pt x="589" y="129"/>
                </a:lnTo>
                <a:lnTo>
                  <a:pt x="576" y="127"/>
                </a:lnTo>
                <a:lnTo>
                  <a:pt x="562" y="123"/>
                </a:lnTo>
                <a:lnTo>
                  <a:pt x="551" y="121"/>
                </a:lnTo>
                <a:lnTo>
                  <a:pt x="539" y="119"/>
                </a:lnTo>
                <a:lnTo>
                  <a:pt x="528" y="115"/>
                </a:lnTo>
                <a:lnTo>
                  <a:pt x="518" y="115"/>
                </a:lnTo>
                <a:lnTo>
                  <a:pt x="508" y="113"/>
                </a:lnTo>
                <a:lnTo>
                  <a:pt x="499" y="111"/>
                </a:lnTo>
                <a:lnTo>
                  <a:pt x="491" y="110"/>
                </a:lnTo>
                <a:lnTo>
                  <a:pt x="483" y="110"/>
                </a:lnTo>
                <a:lnTo>
                  <a:pt x="478" y="110"/>
                </a:lnTo>
                <a:lnTo>
                  <a:pt x="472" y="110"/>
                </a:lnTo>
                <a:lnTo>
                  <a:pt x="466" y="110"/>
                </a:lnTo>
                <a:lnTo>
                  <a:pt x="457" y="110"/>
                </a:lnTo>
                <a:lnTo>
                  <a:pt x="447" y="110"/>
                </a:lnTo>
                <a:lnTo>
                  <a:pt x="437" y="111"/>
                </a:lnTo>
                <a:lnTo>
                  <a:pt x="426" y="113"/>
                </a:lnTo>
                <a:lnTo>
                  <a:pt x="414" y="117"/>
                </a:lnTo>
                <a:lnTo>
                  <a:pt x="403" y="119"/>
                </a:lnTo>
                <a:lnTo>
                  <a:pt x="391" y="125"/>
                </a:lnTo>
                <a:lnTo>
                  <a:pt x="378" y="129"/>
                </a:lnTo>
                <a:lnTo>
                  <a:pt x="364" y="135"/>
                </a:lnTo>
                <a:lnTo>
                  <a:pt x="351" y="140"/>
                </a:lnTo>
                <a:lnTo>
                  <a:pt x="338" y="146"/>
                </a:lnTo>
                <a:lnTo>
                  <a:pt x="322" y="154"/>
                </a:lnTo>
                <a:lnTo>
                  <a:pt x="309" y="161"/>
                </a:lnTo>
                <a:lnTo>
                  <a:pt x="293" y="171"/>
                </a:lnTo>
                <a:lnTo>
                  <a:pt x="278" y="181"/>
                </a:lnTo>
                <a:lnTo>
                  <a:pt x="263" y="19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96"/>
          <p:cNvSpPr/>
          <p:nvPr/>
        </p:nvSpPr>
        <p:spPr>
          <a:xfrm>
            <a:off x="5592600" y="3619440"/>
            <a:ext cx="487440" cy="968400"/>
          </a:xfrm>
          <a:custGeom>
            <a:avLst/>
            <a:gdLst/>
            <a:ahLst/>
            <a:rect l="l" t="t" r="r" b="b"/>
            <a:pathLst>
              <a:path w="612" h="1218">
                <a:moveTo>
                  <a:pt x="553" y="86"/>
                </a:moveTo>
                <a:lnTo>
                  <a:pt x="564" y="99"/>
                </a:lnTo>
                <a:lnTo>
                  <a:pt x="576" y="113"/>
                </a:lnTo>
                <a:lnTo>
                  <a:pt x="585" y="124"/>
                </a:lnTo>
                <a:lnTo>
                  <a:pt x="595" y="136"/>
                </a:lnTo>
                <a:lnTo>
                  <a:pt x="602" y="145"/>
                </a:lnTo>
                <a:lnTo>
                  <a:pt x="604" y="149"/>
                </a:lnTo>
                <a:lnTo>
                  <a:pt x="606" y="153"/>
                </a:lnTo>
                <a:lnTo>
                  <a:pt x="608" y="157"/>
                </a:lnTo>
                <a:lnTo>
                  <a:pt x="610" y="161"/>
                </a:lnTo>
                <a:lnTo>
                  <a:pt x="610" y="163"/>
                </a:lnTo>
                <a:lnTo>
                  <a:pt x="612" y="167"/>
                </a:lnTo>
                <a:lnTo>
                  <a:pt x="610" y="176"/>
                </a:lnTo>
                <a:lnTo>
                  <a:pt x="608" y="186"/>
                </a:lnTo>
                <a:lnTo>
                  <a:pt x="606" y="195"/>
                </a:lnTo>
                <a:lnTo>
                  <a:pt x="602" y="205"/>
                </a:lnTo>
                <a:lnTo>
                  <a:pt x="597" y="213"/>
                </a:lnTo>
                <a:lnTo>
                  <a:pt x="591" y="220"/>
                </a:lnTo>
                <a:lnTo>
                  <a:pt x="583" y="228"/>
                </a:lnTo>
                <a:lnTo>
                  <a:pt x="576" y="234"/>
                </a:lnTo>
                <a:lnTo>
                  <a:pt x="570" y="236"/>
                </a:lnTo>
                <a:lnTo>
                  <a:pt x="566" y="241"/>
                </a:lnTo>
                <a:lnTo>
                  <a:pt x="560" y="247"/>
                </a:lnTo>
                <a:lnTo>
                  <a:pt x="555" y="253"/>
                </a:lnTo>
                <a:lnTo>
                  <a:pt x="549" y="261"/>
                </a:lnTo>
                <a:lnTo>
                  <a:pt x="543" y="270"/>
                </a:lnTo>
                <a:lnTo>
                  <a:pt x="537" y="280"/>
                </a:lnTo>
                <a:lnTo>
                  <a:pt x="531" y="291"/>
                </a:lnTo>
                <a:lnTo>
                  <a:pt x="526" y="303"/>
                </a:lnTo>
                <a:lnTo>
                  <a:pt x="520" y="316"/>
                </a:lnTo>
                <a:lnTo>
                  <a:pt x="512" y="330"/>
                </a:lnTo>
                <a:lnTo>
                  <a:pt x="507" y="343"/>
                </a:lnTo>
                <a:lnTo>
                  <a:pt x="499" y="359"/>
                </a:lnTo>
                <a:lnTo>
                  <a:pt x="493" y="374"/>
                </a:lnTo>
                <a:lnTo>
                  <a:pt x="485" y="391"/>
                </a:lnTo>
                <a:lnTo>
                  <a:pt x="480" y="408"/>
                </a:lnTo>
                <a:lnTo>
                  <a:pt x="474" y="430"/>
                </a:lnTo>
                <a:lnTo>
                  <a:pt x="466" y="447"/>
                </a:lnTo>
                <a:lnTo>
                  <a:pt x="460" y="464"/>
                </a:lnTo>
                <a:lnTo>
                  <a:pt x="455" y="479"/>
                </a:lnTo>
                <a:lnTo>
                  <a:pt x="451" y="495"/>
                </a:lnTo>
                <a:lnTo>
                  <a:pt x="445" y="508"/>
                </a:lnTo>
                <a:lnTo>
                  <a:pt x="441" y="522"/>
                </a:lnTo>
                <a:lnTo>
                  <a:pt x="435" y="533"/>
                </a:lnTo>
                <a:lnTo>
                  <a:pt x="434" y="543"/>
                </a:lnTo>
                <a:lnTo>
                  <a:pt x="430" y="552"/>
                </a:lnTo>
                <a:lnTo>
                  <a:pt x="426" y="560"/>
                </a:lnTo>
                <a:lnTo>
                  <a:pt x="424" y="566"/>
                </a:lnTo>
                <a:lnTo>
                  <a:pt x="422" y="574"/>
                </a:lnTo>
                <a:lnTo>
                  <a:pt x="420" y="577"/>
                </a:lnTo>
                <a:lnTo>
                  <a:pt x="420" y="581"/>
                </a:lnTo>
                <a:lnTo>
                  <a:pt x="420" y="585"/>
                </a:lnTo>
                <a:lnTo>
                  <a:pt x="420" y="587"/>
                </a:lnTo>
                <a:lnTo>
                  <a:pt x="420" y="591"/>
                </a:lnTo>
                <a:lnTo>
                  <a:pt x="420" y="597"/>
                </a:lnTo>
                <a:lnTo>
                  <a:pt x="422" y="602"/>
                </a:lnTo>
                <a:lnTo>
                  <a:pt x="424" y="610"/>
                </a:lnTo>
                <a:lnTo>
                  <a:pt x="426" y="618"/>
                </a:lnTo>
                <a:lnTo>
                  <a:pt x="428" y="627"/>
                </a:lnTo>
                <a:lnTo>
                  <a:pt x="430" y="639"/>
                </a:lnTo>
                <a:lnTo>
                  <a:pt x="434" y="650"/>
                </a:lnTo>
                <a:lnTo>
                  <a:pt x="437" y="664"/>
                </a:lnTo>
                <a:lnTo>
                  <a:pt x="441" y="679"/>
                </a:lnTo>
                <a:lnTo>
                  <a:pt x="445" y="694"/>
                </a:lnTo>
                <a:lnTo>
                  <a:pt x="451" y="712"/>
                </a:lnTo>
                <a:lnTo>
                  <a:pt x="455" y="731"/>
                </a:lnTo>
                <a:lnTo>
                  <a:pt x="460" y="752"/>
                </a:lnTo>
                <a:lnTo>
                  <a:pt x="468" y="773"/>
                </a:lnTo>
                <a:lnTo>
                  <a:pt x="474" y="796"/>
                </a:lnTo>
                <a:lnTo>
                  <a:pt x="480" y="821"/>
                </a:lnTo>
                <a:lnTo>
                  <a:pt x="485" y="844"/>
                </a:lnTo>
                <a:lnTo>
                  <a:pt x="489" y="869"/>
                </a:lnTo>
                <a:lnTo>
                  <a:pt x="495" y="896"/>
                </a:lnTo>
                <a:lnTo>
                  <a:pt x="499" y="921"/>
                </a:lnTo>
                <a:lnTo>
                  <a:pt x="503" y="948"/>
                </a:lnTo>
                <a:lnTo>
                  <a:pt x="505" y="977"/>
                </a:lnTo>
                <a:lnTo>
                  <a:pt x="507" y="1003"/>
                </a:lnTo>
                <a:lnTo>
                  <a:pt x="510" y="1032"/>
                </a:lnTo>
                <a:lnTo>
                  <a:pt x="512" y="1063"/>
                </a:lnTo>
                <a:lnTo>
                  <a:pt x="512" y="1092"/>
                </a:lnTo>
                <a:lnTo>
                  <a:pt x="514" y="1122"/>
                </a:lnTo>
                <a:lnTo>
                  <a:pt x="514" y="1155"/>
                </a:lnTo>
                <a:lnTo>
                  <a:pt x="516" y="1186"/>
                </a:lnTo>
                <a:lnTo>
                  <a:pt x="516" y="1218"/>
                </a:lnTo>
                <a:lnTo>
                  <a:pt x="443" y="1218"/>
                </a:lnTo>
                <a:lnTo>
                  <a:pt x="443" y="1205"/>
                </a:lnTo>
                <a:lnTo>
                  <a:pt x="443" y="1192"/>
                </a:lnTo>
                <a:lnTo>
                  <a:pt x="441" y="1176"/>
                </a:lnTo>
                <a:lnTo>
                  <a:pt x="439" y="1161"/>
                </a:lnTo>
                <a:lnTo>
                  <a:pt x="437" y="1144"/>
                </a:lnTo>
                <a:lnTo>
                  <a:pt x="434" y="1126"/>
                </a:lnTo>
                <a:lnTo>
                  <a:pt x="430" y="1109"/>
                </a:lnTo>
                <a:lnTo>
                  <a:pt x="426" y="1090"/>
                </a:lnTo>
                <a:lnTo>
                  <a:pt x="422" y="1069"/>
                </a:lnTo>
                <a:lnTo>
                  <a:pt x="418" y="1048"/>
                </a:lnTo>
                <a:lnTo>
                  <a:pt x="412" y="1026"/>
                </a:lnTo>
                <a:lnTo>
                  <a:pt x="409" y="1005"/>
                </a:lnTo>
                <a:lnTo>
                  <a:pt x="403" y="982"/>
                </a:lnTo>
                <a:lnTo>
                  <a:pt x="397" y="957"/>
                </a:lnTo>
                <a:lnTo>
                  <a:pt x="389" y="934"/>
                </a:lnTo>
                <a:lnTo>
                  <a:pt x="384" y="909"/>
                </a:lnTo>
                <a:lnTo>
                  <a:pt x="378" y="884"/>
                </a:lnTo>
                <a:lnTo>
                  <a:pt x="370" y="860"/>
                </a:lnTo>
                <a:lnTo>
                  <a:pt x="364" y="836"/>
                </a:lnTo>
                <a:lnTo>
                  <a:pt x="359" y="815"/>
                </a:lnTo>
                <a:lnTo>
                  <a:pt x="355" y="794"/>
                </a:lnTo>
                <a:lnTo>
                  <a:pt x="349" y="773"/>
                </a:lnTo>
                <a:lnTo>
                  <a:pt x="345" y="754"/>
                </a:lnTo>
                <a:lnTo>
                  <a:pt x="340" y="735"/>
                </a:lnTo>
                <a:lnTo>
                  <a:pt x="338" y="717"/>
                </a:lnTo>
                <a:lnTo>
                  <a:pt x="334" y="700"/>
                </a:lnTo>
                <a:lnTo>
                  <a:pt x="330" y="683"/>
                </a:lnTo>
                <a:lnTo>
                  <a:pt x="328" y="668"/>
                </a:lnTo>
                <a:lnTo>
                  <a:pt x="326" y="652"/>
                </a:lnTo>
                <a:lnTo>
                  <a:pt x="324" y="639"/>
                </a:lnTo>
                <a:lnTo>
                  <a:pt x="324" y="625"/>
                </a:lnTo>
                <a:lnTo>
                  <a:pt x="324" y="612"/>
                </a:lnTo>
                <a:lnTo>
                  <a:pt x="324" y="600"/>
                </a:lnTo>
                <a:lnTo>
                  <a:pt x="324" y="591"/>
                </a:lnTo>
                <a:lnTo>
                  <a:pt x="324" y="579"/>
                </a:lnTo>
                <a:lnTo>
                  <a:pt x="326" y="566"/>
                </a:lnTo>
                <a:lnTo>
                  <a:pt x="328" y="554"/>
                </a:lnTo>
                <a:lnTo>
                  <a:pt x="328" y="541"/>
                </a:lnTo>
                <a:lnTo>
                  <a:pt x="330" y="526"/>
                </a:lnTo>
                <a:lnTo>
                  <a:pt x="334" y="512"/>
                </a:lnTo>
                <a:lnTo>
                  <a:pt x="338" y="481"/>
                </a:lnTo>
                <a:lnTo>
                  <a:pt x="343" y="451"/>
                </a:lnTo>
                <a:lnTo>
                  <a:pt x="351" y="416"/>
                </a:lnTo>
                <a:lnTo>
                  <a:pt x="361" y="382"/>
                </a:lnTo>
                <a:lnTo>
                  <a:pt x="363" y="364"/>
                </a:lnTo>
                <a:lnTo>
                  <a:pt x="364" y="349"/>
                </a:lnTo>
                <a:lnTo>
                  <a:pt x="366" y="334"/>
                </a:lnTo>
                <a:lnTo>
                  <a:pt x="368" y="318"/>
                </a:lnTo>
                <a:lnTo>
                  <a:pt x="370" y="305"/>
                </a:lnTo>
                <a:lnTo>
                  <a:pt x="372" y="293"/>
                </a:lnTo>
                <a:lnTo>
                  <a:pt x="372" y="282"/>
                </a:lnTo>
                <a:lnTo>
                  <a:pt x="374" y="270"/>
                </a:lnTo>
                <a:lnTo>
                  <a:pt x="376" y="261"/>
                </a:lnTo>
                <a:lnTo>
                  <a:pt x="376" y="253"/>
                </a:lnTo>
                <a:lnTo>
                  <a:pt x="376" y="245"/>
                </a:lnTo>
                <a:lnTo>
                  <a:pt x="376" y="238"/>
                </a:lnTo>
                <a:lnTo>
                  <a:pt x="376" y="232"/>
                </a:lnTo>
                <a:lnTo>
                  <a:pt x="374" y="226"/>
                </a:lnTo>
                <a:lnTo>
                  <a:pt x="374" y="222"/>
                </a:lnTo>
                <a:lnTo>
                  <a:pt x="372" y="220"/>
                </a:lnTo>
                <a:lnTo>
                  <a:pt x="368" y="218"/>
                </a:lnTo>
                <a:lnTo>
                  <a:pt x="366" y="216"/>
                </a:lnTo>
                <a:lnTo>
                  <a:pt x="361" y="215"/>
                </a:lnTo>
                <a:lnTo>
                  <a:pt x="357" y="215"/>
                </a:lnTo>
                <a:lnTo>
                  <a:pt x="351" y="215"/>
                </a:lnTo>
                <a:lnTo>
                  <a:pt x="343" y="215"/>
                </a:lnTo>
                <a:lnTo>
                  <a:pt x="338" y="215"/>
                </a:lnTo>
                <a:lnTo>
                  <a:pt x="330" y="216"/>
                </a:lnTo>
                <a:lnTo>
                  <a:pt x="322" y="218"/>
                </a:lnTo>
                <a:lnTo>
                  <a:pt x="313" y="220"/>
                </a:lnTo>
                <a:lnTo>
                  <a:pt x="303" y="222"/>
                </a:lnTo>
                <a:lnTo>
                  <a:pt x="293" y="224"/>
                </a:lnTo>
                <a:lnTo>
                  <a:pt x="274" y="228"/>
                </a:lnTo>
                <a:lnTo>
                  <a:pt x="251" y="234"/>
                </a:lnTo>
                <a:lnTo>
                  <a:pt x="238" y="238"/>
                </a:lnTo>
                <a:lnTo>
                  <a:pt x="226" y="243"/>
                </a:lnTo>
                <a:lnTo>
                  <a:pt x="213" y="247"/>
                </a:lnTo>
                <a:lnTo>
                  <a:pt x="201" y="251"/>
                </a:lnTo>
                <a:lnTo>
                  <a:pt x="192" y="255"/>
                </a:lnTo>
                <a:lnTo>
                  <a:pt x="180" y="259"/>
                </a:lnTo>
                <a:lnTo>
                  <a:pt x="171" y="261"/>
                </a:lnTo>
                <a:lnTo>
                  <a:pt x="161" y="264"/>
                </a:lnTo>
                <a:lnTo>
                  <a:pt x="153" y="266"/>
                </a:lnTo>
                <a:lnTo>
                  <a:pt x="146" y="268"/>
                </a:lnTo>
                <a:lnTo>
                  <a:pt x="138" y="270"/>
                </a:lnTo>
                <a:lnTo>
                  <a:pt x="130" y="272"/>
                </a:lnTo>
                <a:lnTo>
                  <a:pt x="125" y="272"/>
                </a:lnTo>
                <a:lnTo>
                  <a:pt x="119" y="274"/>
                </a:lnTo>
                <a:lnTo>
                  <a:pt x="113" y="274"/>
                </a:lnTo>
                <a:lnTo>
                  <a:pt x="107" y="274"/>
                </a:lnTo>
                <a:lnTo>
                  <a:pt x="102" y="274"/>
                </a:lnTo>
                <a:lnTo>
                  <a:pt x="94" y="272"/>
                </a:lnTo>
                <a:lnTo>
                  <a:pt x="88" y="272"/>
                </a:lnTo>
                <a:lnTo>
                  <a:pt x="80" y="270"/>
                </a:lnTo>
                <a:lnTo>
                  <a:pt x="75" y="266"/>
                </a:lnTo>
                <a:lnTo>
                  <a:pt x="67" y="263"/>
                </a:lnTo>
                <a:lnTo>
                  <a:pt x="61" y="261"/>
                </a:lnTo>
                <a:lnTo>
                  <a:pt x="54" y="255"/>
                </a:lnTo>
                <a:lnTo>
                  <a:pt x="40" y="245"/>
                </a:lnTo>
                <a:lnTo>
                  <a:pt x="27" y="234"/>
                </a:lnTo>
                <a:lnTo>
                  <a:pt x="13" y="220"/>
                </a:lnTo>
                <a:lnTo>
                  <a:pt x="0" y="207"/>
                </a:lnTo>
                <a:lnTo>
                  <a:pt x="11" y="201"/>
                </a:lnTo>
                <a:lnTo>
                  <a:pt x="23" y="195"/>
                </a:lnTo>
                <a:lnTo>
                  <a:pt x="36" y="192"/>
                </a:lnTo>
                <a:lnTo>
                  <a:pt x="50" y="186"/>
                </a:lnTo>
                <a:lnTo>
                  <a:pt x="77" y="176"/>
                </a:lnTo>
                <a:lnTo>
                  <a:pt x="105" y="167"/>
                </a:lnTo>
                <a:lnTo>
                  <a:pt x="134" y="157"/>
                </a:lnTo>
                <a:lnTo>
                  <a:pt x="165" y="145"/>
                </a:lnTo>
                <a:lnTo>
                  <a:pt x="196" y="136"/>
                </a:lnTo>
                <a:lnTo>
                  <a:pt x="228" y="126"/>
                </a:lnTo>
                <a:lnTo>
                  <a:pt x="244" y="122"/>
                </a:lnTo>
                <a:lnTo>
                  <a:pt x="257" y="121"/>
                </a:lnTo>
                <a:lnTo>
                  <a:pt x="270" y="117"/>
                </a:lnTo>
                <a:lnTo>
                  <a:pt x="284" y="113"/>
                </a:lnTo>
                <a:lnTo>
                  <a:pt x="297" y="109"/>
                </a:lnTo>
                <a:lnTo>
                  <a:pt x="307" y="105"/>
                </a:lnTo>
                <a:lnTo>
                  <a:pt x="318" y="99"/>
                </a:lnTo>
                <a:lnTo>
                  <a:pt x="328" y="96"/>
                </a:lnTo>
                <a:lnTo>
                  <a:pt x="338" y="90"/>
                </a:lnTo>
                <a:lnTo>
                  <a:pt x="345" y="84"/>
                </a:lnTo>
                <a:lnTo>
                  <a:pt x="355" y="78"/>
                </a:lnTo>
                <a:lnTo>
                  <a:pt x="361" y="73"/>
                </a:lnTo>
                <a:lnTo>
                  <a:pt x="368" y="67"/>
                </a:lnTo>
                <a:lnTo>
                  <a:pt x="374" y="59"/>
                </a:lnTo>
                <a:lnTo>
                  <a:pt x="380" y="51"/>
                </a:lnTo>
                <a:lnTo>
                  <a:pt x="384" y="46"/>
                </a:lnTo>
                <a:lnTo>
                  <a:pt x="388" y="38"/>
                </a:lnTo>
                <a:lnTo>
                  <a:pt x="393" y="30"/>
                </a:lnTo>
                <a:lnTo>
                  <a:pt x="397" y="25"/>
                </a:lnTo>
                <a:lnTo>
                  <a:pt x="401" y="19"/>
                </a:lnTo>
                <a:lnTo>
                  <a:pt x="407" y="15"/>
                </a:lnTo>
                <a:lnTo>
                  <a:pt x="411" y="11"/>
                </a:lnTo>
                <a:lnTo>
                  <a:pt x="414" y="7"/>
                </a:lnTo>
                <a:lnTo>
                  <a:pt x="420" y="3"/>
                </a:lnTo>
                <a:lnTo>
                  <a:pt x="424" y="2"/>
                </a:lnTo>
                <a:lnTo>
                  <a:pt x="428" y="0"/>
                </a:lnTo>
                <a:lnTo>
                  <a:pt x="434" y="0"/>
                </a:lnTo>
                <a:lnTo>
                  <a:pt x="437" y="0"/>
                </a:lnTo>
                <a:lnTo>
                  <a:pt x="441" y="0"/>
                </a:lnTo>
                <a:lnTo>
                  <a:pt x="447" y="0"/>
                </a:lnTo>
                <a:lnTo>
                  <a:pt x="451" y="2"/>
                </a:lnTo>
                <a:lnTo>
                  <a:pt x="457" y="3"/>
                </a:lnTo>
                <a:lnTo>
                  <a:pt x="464" y="9"/>
                </a:lnTo>
                <a:lnTo>
                  <a:pt x="476" y="17"/>
                </a:lnTo>
                <a:lnTo>
                  <a:pt x="487" y="25"/>
                </a:lnTo>
                <a:lnTo>
                  <a:pt x="499" y="34"/>
                </a:lnTo>
                <a:lnTo>
                  <a:pt x="512" y="46"/>
                </a:lnTo>
                <a:lnTo>
                  <a:pt x="526" y="57"/>
                </a:lnTo>
                <a:lnTo>
                  <a:pt x="537" y="71"/>
                </a:lnTo>
                <a:lnTo>
                  <a:pt x="553" y="8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97"/>
          <p:cNvSpPr/>
          <p:nvPr/>
        </p:nvSpPr>
        <p:spPr>
          <a:xfrm>
            <a:off x="5783400" y="3040200"/>
            <a:ext cx="271440" cy="306360"/>
          </a:xfrm>
          <a:custGeom>
            <a:avLst/>
            <a:gdLst/>
            <a:ahLst/>
            <a:rect l="l" t="t" r="r" b="b"/>
            <a:pathLst>
              <a:path w="341" h="386">
                <a:moveTo>
                  <a:pt x="155" y="290"/>
                </a:moveTo>
                <a:lnTo>
                  <a:pt x="146" y="277"/>
                </a:lnTo>
                <a:lnTo>
                  <a:pt x="134" y="263"/>
                </a:lnTo>
                <a:lnTo>
                  <a:pt x="123" y="250"/>
                </a:lnTo>
                <a:lnTo>
                  <a:pt x="113" y="234"/>
                </a:lnTo>
                <a:lnTo>
                  <a:pt x="103" y="219"/>
                </a:lnTo>
                <a:lnTo>
                  <a:pt x="92" y="204"/>
                </a:lnTo>
                <a:lnTo>
                  <a:pt x="82" y="186"/>
                </a:lnTo>
                <a:lnTo>
                  <a:pt x="73" y="169"/>
                </a:lnTo>
                <a:lnTo>
                  <a:pt x="63" y="152"/>
                </a:lnTo>
                <a:lnTo>
                  <a:pt x="53" y="133"/>
                </a:lnTo>
                <a:lnTo>
                  <a:pt x="44" y="114"/>
                </a:lnTo>
                <a:lnTo>
                  <a:pt x="36" y="92"/>
                </a:lnTo>
                <a:lnTo>
                  <a:pt x="27" y="73"/>
                </a:lnTo>
                <a:lnTo>
                  <a:pt x="17" y="52"/>
                </a:lnTo>
                <a:lnTo>
                  <a:pt x="9" y="29"/>
                </a:lnTo>
                <a:lnTo>
                  <a:pt x="0" y="8"/>
                </a:lnTo>
                <a:lnTo>
                  <a:pt x="11" y="4"/>
                </a:lnTo>
                <a:lnTo>
                  <a:pt x="23" y="2"/>
                </a:lnTo>
                <a:lnTo>
                  <a:pt x="34" y="2"/>
                </a:lnTo>
                <a:lnTo>
                  <a:pt x="44" y="2"/>
                </a:lnTo>
                <a:lnTo>
                  <a:pt x="55" y="0"/>
                </a:lnTo>
                <a:lnTo>
                  <a:pt x="67" y="2"/>
                </a:lnTo>
                <a:lnTo>
                  <a:pt x="90" y="4"/>
                </a:lnTo>
                <a:lnTo>
                  <a:pt x="113" y="6"/>
                </a:lnTo>
                <a:lnTo>
                  <a:pt x="134" y="10"/>
                </a:lnTo>
                <a:lnTo>
                  <a:pt x="157" y="16"/>
                </a:lnTo>
                <a:lnTo>
                  <a:pt x="180" y="21"/>
                </a:lnTo>
                <a:lnTo>
                  <a:pt x="190" y="25"/>
                </a:lnTo>
                <a:lnTo>
                  <a:pt x="201" y="31"/>
                </a:lnTo>
                <a:lnTo>
                  <a:pt x="220" y="44"/>
                </a:lnTo>
                <a:lnTo>
                  <a:pt x="238" y="58"/>
                </a:lnTo>
                <a:lnTo>
                  <a:pt x="255" y="73"/>
                </a:lnTo>
                <a:lnTo>
                  <a:pt x="263" y="81"/>
                </a:lnTo>
                <a:lnTo>
                  <a:pt x="270" y="90"/>
                </a:lnTo>
                <a:lnTo>
                  <a:pt x="278" y="100"/>
                </a:lnTo>
                <a:lnTo>
                  <a:pt x="284" y="110"/>
                </a:lnTo>
                <a:lnTo>
                  <a:pt x="291" y="119"/>
                </a:lnTo>
                <a:lnTo>
                  <a:pt x="299" y="131"/>
                </a:lnTo>
                <a:lnTo>
                  <a:pt x="305" y="142"/>
                </a:lnTo>
                <a:lnTo>
                  <a:pt x="313" y="156"/>
                </a:lnTo>
                <a:lnTo>
                  <a:pt x="318" y="167"/>
                </a:lnTo>
                <a:lnTo>
                  <a:pt x="324" y="181"/>
                </a:lnTo>
                <a:lnTo>
                  <a:pt x="328" y="192"/>
                </a:lnTo>
                <a:lnTo>
                  <a:pt x="332" y="204"/>
                </a:lnTo>
                <a:lnTo>
                  <a:pt x="336" y="215"/>
                </a:lnTo>
                <a:lnTo>
                  <a:pt x="338" y="227"/>
                </a:lnTo>
                <a:lnTo>
                  <a:pt x="339" y="236"/>
                </a:lnTo>
                <a:lnTo>
                  <a:pt x="341" y="246"/>
                </a:lnTo>
                <a:lnTo>
                  <a:pt x="341" y="257"/>
                </a:lnTo>
                <a:lnTo>
                  <a:pt x="341" y="267"/>
                </a:lnTo>
                <a:lnTo>
                  <a:pt x="341" y="275"/>
                </a:lnTo>
                <a:lnTo>
                  <a:pt x="341" y="284"/>
                </a:lnTo>
                <a:lnTo>
                  <a:pt x="339" y="302"/>
                </a:lnTo>
                <a:lnTo>
                  <a:pt x="336" y="317"/>
                </a:lnTo>
                <a:lnTo>
                  <a:pt x="330" y="332"/>
                </a:lnTo>
                <a:lnTo>
                  <a:pt x="324" y="346"/>
                </a:lnTo>
                <a:lnTo>
                  <a:pt x="318" y="357"/>
                </a:lnTo>
                <a:lnTo>
                  <a:pt x="311" y="367"/>
                </a:lnTo>
                <a:lnTo>
                  <a:pt x="307" y="371"/>
                </a:lnTo>
                <a:lnTo>
                  <a:pt x="301" y="375"/>
                </a:lnTo>
                <a:lnTo>
                  <a:pt x="297" y="378"/>
                </a:lnTo>
                <a:lnTo>
                  <a:pt x="293" y="380"/>
                </a:lnTo>
                <a:lnTo>
                  <a:pt x="290" y="382"/>
                </a:lnTo>
                <a:lnTo>
                  <a:pt x="284" y="384"/>
                </a:lnTo>
                <a:lnTo>
                  <a:pt x="280" y="384"/>
                </a:lnTo>
                <a:lnTo>
                  <a:pt x="276" y="386"/>
                </a:lnTo>
                <a:lnTo>
                  <a:pt x="270" y="384"/>
                </a:lnTo>
                <a:lnTo>
                  <a:pt x="267" y="384"/>
                </a:lnTo>
                <a:lnTo>
                  <a:pt x="261" y="382"/>
                </a:lnTo>
                <a:lnTo>
                  <a:pt x="255" y="380"/>
                </a:lnTo>
                <a:lnTo>
                  <a:pt x="249" y="376"/>
                </a:lnTo>
                <a:lnTo>
                  <a:pt x="243" y="373"/>
                </a:lnTo>
                <a:lnTo>
                  <a:pt x="236" y="369"/>
                </a:lnTo>
                <a:lnTo>
                  <a:pt x="228" y="363"/>
                </a:lnTo>
                <a:lnTo>
                  <a:pt x="220" y="357"/>
                </a:lnTo>
                <a:lnTo>
                  <a:pt x="213" y="350"/>
                </a:lnTo>
                <a:lnTo>
                  <a:pt x="205" y="342"/>
                </a:lnTo>
                <a:lnTo>
                  <a:pt x="195" y="334"/>
                </a:lnTo>
                <a:lnTo>
                  <a:pt x="186" y="325"/>
                </a:lnTo>
                <a:lnTo>
                  <a:pt x="176" y="315"/>
                </a:lnTo>
                <a:lnTo>
                  <a:pt x="167" y="304"/>
                </a:lnTo>
                <a:lnTo>
                  <a:pt x="155" y="29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98"/>
          <p:cNvSpPr/>
          <p:nvPr/>
        </p:nvSpPr>
        <p:spPr>
          <a:xfrm>
            <a:off x="7164360" y="3633840"/>
            <a:ext cx="123840" cy="1082520"/>
          </a:xfrm>
          <a:custGeom>
            <a:avLst/>
            <a:gdLst/>
            <a:ahLst/>
            <a:rect l="l" t="t" r="r" b="b"/>
            <a:pathLst>
              <a:path w="155" h="1365">
                <a:moveTo>
                  <a:pt x="82" y="1365"/>
                </a:moveTo>
                <a:lnTo>
                  <a:pt x="80" y="1365"/>
                </a:lnTo>
                <a:lnTo>
                  <a:pt x="78" y="1363"/>
                </a:lnTo>
                <a:lnTo>
                  <a:pt x="77" y="1361"/>
                </a:lnTo>
                <a:lnTo>
                  <a:pt x="75" y="1357"/>
                </a:lnTo>
                <a:lnTo>
                  <a:pt x="71" y="1353"/>
                </a:lnTo>
                <a:lnTo>
                  <a:pt x="69" y="1347"/>
                </a:lnTo>
                <a:lnTo>
                  <a:pt x="67" y="1342"/>
                </a:lnTo>
                <a:lnTo>
                  <a:pt x="65" y="1334"/>
                </a:lnTo>
                <a:lnTo>
                  <a:pt x="63" y="1326"/>
                </a:lnTo>
                <a:lnTo>
                  <a:pt x="61" y="1317"/>
                </a:lnTo>
                <a:lnTo>
                  <a:pt x="57" y="1307"/>
                </a:lnTo>
                <a:lnTo>
                  <a:pt x="55" y="1296"/>
                </a:lnTo>
                <a:lnTo>
                  <a:pt x="53" y="1284"/>
                </a:lnTo>
                <a:lnTo>
                  <a:pt x="52" y="1271"/>
                </a:lnTo>
                <a:lnTo>
                  <a:pt x="50" y="1257"/>
                </a:lnTo>
                <a:lnTo>
                  <a:pt x="48" y="1244"/>
                </a:lnTo>
                <a:lnTo>
                  <a:pt x="46" y="1234"/>
                </a:lnTo>
                <a:lnTo>
                  <a:pt x="44" y="1226"/>
                </a:lnTo>
                <a:lnTo>
                  <a:pt x="44" y="1219"/>
                </a:lnTo>
                <a:lnTo>
                  <a:pt x="42" y="1209"/>
                </a:lnTo>
                <a:lnTo>
                  <a:pt x="42" y="1200"/>
                </a:lnTo>
                <a:lnTo>
                  <a:pt x="40" y="1188"/>
                </a:lnTo>
                <a:lnTo>
                  <a:pt x="40" y="1178"/>
                </a:lnTo>
                <a:lnTo>
                  <a:pt x="38" y="1167"/>
                </a:lnTo>
                <a:lnTo>
                  <a:pt x="36" y="1155"/>
                </a:lnTo>
                <a:lnTo>
                  <a:pt x="36" y="1142"/>
                </a:lnTo>
                <a:lnTo>
                  <a:pt x="34" y="1130"/>
                </a:lnTo>
                <a:lnTo>
                  <a:pt x="34" y="1117"/>
                </a:lnTo>
                <a:lnTo>
                  <a:pt x="32" y="1104"/>
                </a:lnTo>
                <a:lnTo>
                  <a:pt x="32" y="1088"/>
                </a:lnTo>
                <a:lnTo>
                  <a:pt x="30" y="1075"/>
                </a:lnTo>
                <a:lnTo>
                  <a:pt x="30" y="1059"/>
                </a:lnTo>
                <a:lnTo>
                  <a:pt x="30" y="1042"/>
                </a:lnTo>
                <a:lnTo>
                  <a:pt x="29" y="1027"/>
                </a:lnTo>
                <a:lnTo>
                  <a:pt x="29" y="1009"/>
                </a:lnTo>
                <a:lnTo>
                  <a:pt x="27" y="992"/>
                </a:lnTo>
                <a:lnTo>
                  <a:pt x="27" y="975"/>
                </a:lnTo>
                <a:lnTo>
                  <a:pt x="27" y="956"/>
                </a:lnTo>
                <a:lnTo>
                  <a:pt x="25" y="937"/>
                </a:lnTo>
                <a:lnTo>
                  <a:pt x="25" y="917"/>
                </a:lnTo>
                <a:lnTo>
                  <a:pt x="25" y="898"/>
                </a:lnTo>
                <a:lnTo>
                  <a:pt x="25" y="877"/>
                </a:lnTo>
                <a:lnTo>
                  <a:pt x="23" y="856"/>
                </a:lnTo>
                <a:lnTo>
                  <a:pt x="23" y="835"/>
                </a:lnTo>
                <a:lnTo>
                  <a:pt x="23" y="814"/>
                </a:lnTo>
                <a:lnTo>
                  <a:pt x="23" y="791"/>
                </a:lnTo>
                <a:lnTo>
                  <a:pt x="23" y="768"/>
                </a:lnTo>
                <a:lnTo>
                  <a:pt x="23" y="743"/>
                </a:lnTo>
                <a:lnTo>
                  <a:pt x="23" y="647"/>
                </a:lnTo>
                <a:lnTo>
                  <a:pt x="21" y="553"/>
                </a:lnTo>
                <a:lnTo>
                  <a:pt x="19" y="459"/>
                </a:lnTo>
                <a:lnTo>
                  <a:pt x="15" y="366"/>
                </a:lnTo>
                <a:lnTo>
                  <a:pt x="11" y="274"/>
                </a:lnTo>
                <a:lnTo>
                  <a:pt x="7" y="182"/>
                </a:lnTo>
                <a:lnTo>
                  <a:pt x="0" y="0"/>
                </a:lnTo>
                <a:lnTo>
                  <a:pt x="77" y="0"/>
                </a:lnTo>
                <a:lnTo>
                  <a:pt x="155" y="0"/>
                </a:lnTo>
                <a:lnTo>
                  <a:pt x="155" y="67"/>
                </a:lnTo>
                <a:lnTo>
                  <a:pt x="155" y="130"/>
                </a:lnTo>
                <a:lnTo>
                  <a:pt x="155" y="194"/>
                </a:lnTo>
                <a:lnTo>
                  <a:pt x="153" y="253"/>
                </a:lnTo>
                <a:lnTo>
                  <a:pt x="153" y="313"/>
                </a:lnTo>
                <a:lnTo>
                  <a:pt x="153" y="370"/>
                </a:lnTo>
                <a:lnTo>
                  <a:pt x="153" y="426"/>
                </a:lnTo>
                <a:lnTo>
                  <a:pt x="153" y="480"/>
                </a:lnTo>
                <a:lnTo>
                  <a:pt x="151" y="530"/>
                </a:lnTo>
                <a:lnTo>
                  <a:pt x="151" y="580"/>
                </a:lnTo>
                <a:lnTo>
                  <a:pt x="151" y="628"/>
                </a:lnTo>
                <a:lnTo>
                  <a:pt x="149" y="674"/>
                </a:lnTo>
                <a:lnTo>
                  <a:pt x="149" y="718"/>
                </a:lnTo>
                <a:lnTo>
                  <a:pt x="149" y="762"/>
                </a:lnTo>
                <a:lnTo>
                  <a:pt x="148" y="802"/>
                </a:lnTo>
                <a:lnTo>
                  <a:pt x="148" y="841"/>
                </a:lnTo>
                <a:lnTo>
                  <a:pt x="146" y="877"/>
                </a:lnTo>
                <a:lnTo>
                  <a:pt x="146" y="914"/>
                </a:lnTo>
                <a:lnTo>
                  <a:pt x="144" y="946"/>
                </a:lnTo>
                <a:lnTo>
                  <a:pt x="144" y="979"/>
                </a:lnTo>
                <a:lnTo>
                  <a:pt x="142" y="1008"/>
                </a:lnTo>
                <a:lnTo>
                  <a:pt x="142" y="1036"/>
                </a:lnTo>
                <a:lnTo>
                  <a:pt x="140" y="1061"/>
                </a:lnTo>
                <a:lnTo>
                  <a:pt x="140" y="1086"/>
                </a:lnTo>
                <a:lnTo>
                  <a:pt x="138" y="1109"/>
                </a:lnTo>
                <a:lnTo>
                  <a:pt x="138" y="1130"/>
                </a:lnTo>
                <a:lnTo>
                  <a:pt x="136" y="1148"/>
                </a:lnTo>
                <a:lnTo>
                  <a:pt x="136" y="1165"/>
                </a:lnTo>
                <a:lnTo>
                  <a:pt x="134" y="1180"/>
                </a:lnTo>
                <a:lnTo>
                  <a:pt x="132" y="1194"/>
                </a:lnTo>
                <a:lnTo>
                  <a:pt x="132" y="1205"/>
                </a:lnTo>
                <a:lnTo>
                  <a:pt x="130" y="1215"/>
                </a:lnTo>
                <a:lnTo>
                  <a:pt x="128" y="1232"/>
                </a:lnTo>
                <a:lnTo>
                  <a:pt x="126" y="1249"/>
                </a:lnTo>
                <a:lnTo>
                  <a:pt x="123" y="1265"/>
                </a:lnTo>
                <a:lnTo>
                  <a:pt x="121" y="1278"/>
                </a:lnTo>
                <a:lnTo>
                  <a:pt x="117" y="1292"/>
                </a:lnTo>
                <a:lnTo>
                  <a:pt x="113" y="1303"/>
                </a:lnTo>
                <a:lnTo>
                  <a:pt x="111" y="1315"/>
                </a:lnTo>
                <a:lnTo>
                  <a:pt x="107" y="1324"/>
                </a:lnTo>
                <a:lnTo>
                  <a:pt x="103" y="1334"/>
                </a:lnTo>
                <a:lnTo>
                  <a:pt x="100" y="1342"/>
                </a:lnTo>
                <a:lnTo>
                  <a:pt x="98" y="1349"/>
                </a:lnTo>
                <a:lnTo>
                  <a:pt x="94" y="1355"/>
                </a:lnTo>
                <a:lnTo>
                  <a:pt x="90" y="1359"/>
                </a:lnTo>
                <a:lnTo>
                  <a:pt x="88" y="1361"/>
                </a:lnTo>
                <a:lnTo>
                  <a:pt x="86" y="1363"/>
                </a:lnTo>
                <a:lnTo>
                  <a:pt x="82" y="136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99"/>
          <p:cNvSpPr/>
          <p:nvPr/>
        </p:nvSpPr>
        <p:spPr>
          <a:xfrm>
            <a:off x="6935760" y="3527280"/>
            <a:ext cx="636480" cy="225720"/>
          </a:xfrm>
          <a:custGeom>
            <a:avLst/>
            <a:gdLst/>
            <a:ahLst/>
            <a:rect l="l" t="t" r="r" b="b"/>
            <a:pathLst>
              <a:path w="802" h="285">
                <a:moveTo>
                  <a:pt x="311" y="81"/>
                </a:moveTo>
                <a:lnTo>
                  <a:pt x="340" y="72"/>
                </a:lnTo>
                <a:lnTo>
                  <a:pt x="366" y="62"/>
                </a:lnTo>
                <a:lnTo>
                  <a:pt x="391" y="54"/>
                </a:lnTo>
                <a:lnTo>
                  <a:pt x="416" y="47"/>
                </a:lnTo>
                <a:lnTo>
                  <a:pt x="439" y="39"/>
                </a:lnTo>
                <a:lnTo>
                  <a:pt x="462" y="31"/>
                </a:lnTo>
                <a:lnTo>
                  <a:pt x="484" y="25"/>
                </a:lnTo>
                <a:lnTo>
                  <a:pt x="503" y="20"/>
                </a:lnTo>
                <a:lnTo>
                  <a:pt x="522" y="16"/>
                </a:lnTo>
                <a:lnTo>
                  <a:pt x="539" y="12"/>
                </a:lnTo>
                <a:lnTo>
                  <a:pt x="555" y="8"/>
                </a:lnTo>
                <a:lnTo>
                  <a:pt x="570" y="6"/>
                </a:lnTo>
                <a:lnTo>
                  <a:pt x="585" y="2"/>
                </a:lnTo>
                <a:lnTo>
                  <a:pt x="599" y="2"/>
                </a:lnTo>
                <a:lnTo>
                  <a:pt x="610" y="0"/>
                </a:lnTo>
                <a:lnTo>
                  <a:pt x="624" y="0"/>
                </a:lnTo>
                <a:lnTo>
                  <a:pt x="633" y="0"/>
                </a:lnTo>
                <a:lnTo>
                  <a:pt x="645" y="0"/>
                </a:lnTo>
                <a:lnTo>
                  <a:pt x="654" y="0"/>
                </a:lnTo>
                <a:lnTo>
                  <a:pt x="664" y="0"/>
                </a:lnTo>
                <a:lnTo>
                  <a:pt x="681" y="0"/>
                </a:lnTo>
                <a:lnTo>
                  <a:pt x="699" y="2"/>
                </a:lnTo>
                <a:lnTo>
                  <a:pt x="714" y="4"/>
                </a:lnTo>
                <a:lnTo>
                  <a:pt x="727" y="6"/>
                </a:lnTo>
                <a:lnTo>
                  <a:pt x="741" y="10"/>
                </a:lnTo>
                <a:lnTo>
                  <a:pt x="754" y="14"/>
                </a:lnTo>
                <a:lnTo>
                  <a:pt x="762" y="16"/>
                </a:lnTo>
                <a:lnTo>
                  <a:pt x="768" y="20"/>
                </a:lnTo>
                <a:lnTo>
                  <a:pt x="773" y="24"/>
                </a:lnTo>
                <a:lnTo>
                  <a:pt x="777" y="27"/>
                </a:lnTo>
                <a:lnTo>
                  <a:pt x="781" y="29"/>
                </a:lnTo>
                <a:lnTo>
                  <a:pt x="785" y="33"/>
                </a:lnTo>
                <a:lnTo>
                  <a:pt x="793" y="41"/>
                </a:lnTo>
                <a:lnTo>
                  <a:pt x="796" y="48"/>
                </a:lnTo>
                <a:lnTo>
                  <a:pt x="800" y="56"/>
                </a:lnTo>
                <a:lnTo>
                  <a:pt x="802" y="62"/>
                </a:lnTo>
                <a:lnTo>
                  <a:pt x="802" y="68"/>
                </a:lnTo>
                <a:lnTo>
                  <a:pt x="802" y="73"/>
                </a:lnTo>
                <a:lnTo>
                  <a:pt x="802" y="77"/>
                </a:lnTo>
                <a:lnTo>
                  <a:pt x="800" y="81"/>
                </a:lnTo>
                <a:lnTo>
                  <a:pt x="798" y="87"/>
                </a:lnTo>
                <a:lnTo>
                  <a:pt x="794" y="91"/>
                </a:lnTo>
                <a:lnTo>
                  <a:pt x="793" y="93"/>
                </a:lnTo>
                <a:lnTo>
                  <a:pt x="789" y="96"/>
                </a:lnTo>
                <a:lnTo>
                  <a:pt x="783" y="100"/>
                </a:lnTo>
                <a:lnTo>
                  <a:pt x="777" y="102"/>
                </a:lnTo>
                <a:lnTo>
                  <a:pt x="771" y="106"/>
                </a:lnTo>
                <a:lnTo>
                  <a:pt x="766" y="108"/>
                </a:lnTo>
                <a:lnTo>
                  <a:pt x="758" y="112"/>
                </a:lnTo>
                <a:lnTo>
                  <a:pt x="748" y="114"/>
                </a:lnTo>
                <a:lnTo>
                  <a:pt x="739" y="118"/>
                </a:lnTo>
                <a:lnTo>
                  <a:pt x="729" y="120"/>
                </a:lnTo>
                <a:lnTo>
                  <a:pt x="720" y="121"/>
                </a:lnTo>
                <a:lnTo>
                  <a:pt x="708" y="125"/>
                </a:lnTo>
                <a:lnTo>
                  <a:pt x="697" y="127"/>
                </a:lnTo>
                <a:lnTo>
                  <a:pt x="687" y="129"/>
                </a:lnTo>
                <a:lnTo>
                  <a:pt x="677" y="133"/>
                </a:lnTo>
                <a:lnTo>
                  <a:pt x="670" y="135"/>
                </a:lnTo>
                <a:lnTo>
                  <a:pt x="662" y="137"/>
                </a:lnTo>
                <a:lnTo>
                  <a:pt x="654" y="139"/>
                </a:lnTo>
                <a:lnTo>
                  <a:pt x="647" y="141"/>
                </a:lnTo>
                <a:lnTo>
                  <a:pt x="641" y="143"/>
                </a:lnTo>
                <a:lnTo>
                  <a:pt x="635" y="144"/>
                </a:lnTo>
                <a:lnTo>
                  <a:pt x="629" y="144"/>
                </a:lnTo>
                <a:lnTo>
                  <a:pt x="624" y="146"/>
                </a:lnTo>
                <a:lnTo>
                  <a:pt x="620" y="148"/>
                </a:lnTo>
                <a:lnTo>
                  <a:pt x="616" y="148"/>
                </a:lnTo>
                <a:lnTo>
                  <a:pt x="614" y="148"/>
                </a:lnTo>
                <a:lnTo>
                  <a:pt x="610" y="148"/>
                </a:lnTo>
                <a:lnTo>
                  <a:pt x="608" y="148"/>
                </a:lnTo>
                <a:lnTo>
                  <a:pt x="604" y="150"/>
                </a:lnTo>
                <a:lnTo>
                  <a:pt x="599" y="150"/>
                </a:lnTo>
                <a:lnTo>
                  <a:pt x="593" y="150"/>
                </a:lnTo>
                <a:lnTo>
                  <a:pt x="587" y="152"/>
                </a:lnTo>
                <a:lnTo>
                  <a:pt x="578" y="152"/>
                </a:lnTo>
                <a:lnTo>
                  <a:pt x="570" y="154"/>
                </a:lnTo>
                <a:lnTo>
                  <a:pt x="558" y="156"/>
                </a:lnTo>
                <a:lnTo>
                  <a:pt x="547" y="158"/>
                </a:lnTo>
                <a:lnTo>
                  <a:pt x="535" y="162"/>
                </a:lnTo>
                <a:lnTo>
                  <a:pt x="522" y="164"/>
                </a:lnTo>
                <a:lnTo>
                  <a:pt x="508" y="166"/>
                </a:lnTo>
                <a:lnTo>
                  <a:pt x="493" y="169"/>
                </a:lnTo>
                <a:lnTo>
                  <a:pt x="476" y="173"/>
                </a:lnTo>
                <a:lnTo>
                  <a:pt x="459" y="177"/>
                </a:lnTo>
                <a:lnTo>
                  <a:pt x="439" y="181"/>
                </a:lnTo>
                <a:lnTo>
                  <a:pt x="420" y="185"/>
                </a:lnTo>
                <a:lnTo>
                  <a:pt x="399" y="189"/>
                </a:lnTo>
                <a:lnTo>
                  <a:pt x="378" y="194"/>
                </a:lnTo>
                <a:lnTo>
                  <a:pt x="355" y="198"/>
                </a:lnTo>
                <a:lnTo>
                  <a:pt x="330" y="204"/>
                </a:lnTo>
                <a:lnTo>
                  <a:pt x="307" y="210"/>
                </a:lnTo>
                <a:lnTo>
                  <a:pt x="280" y="215"/>
                </a:lnTo>
                <a:lnTo>
                  <a:pt x="253" y="223"/>
                </a:lnTo>
                <a:lnTo>
                  <a:pt x="224" y="229"/>
                </a:lnTo>
                <a:lnTo>
                  <a:pt x="196" y="237"/>
                </a:lnTo>
                <a:lnTo>
                  <a:pt x="165" y="242"/>
                </a:lnTo>
                <a:lnTo>
                  <a:pt x="134" y="250"/>
                </a:lnTo>
                <a:lnTo>
                  <a:pt x="102" y="258"/>
                </a:lnTo>
                <a:lnTo>
                  <a:pt x="69" y="267"/>
                </a:lnTo>
                <a:lnTo>
                  <a:pt x="34" y="275"/>
                </a:lnTo>
                <a:lnTo>
                  <a:pt x="0" y="285"/>
                </a:lnTo>
                <a:lnTo>
                  <a:pt x="0" y="148"/>
                </a:lnTo>
                <a:lnTo>
                  <a:pt x="11" y="148"/>
                </a:lnTo>
                <a:lnTo>
                  <a:pt x="25" y="148"/>
                </a:lnTo>
                <a:lnTo>
                  <a:pt x="38" y="146"/>
                </a:lnTo>
                <a:lnTo>
                  <a:pt x="54" y="144"/>
                </a:lnTo>
                <a:lnTo>
                  <a:pt x="69" y="141"/>
                </a:lnTo>
                <a:lnTo>
                  <a:pt x="86" y="139"/>
                </a:lnTo>
                <a:lnTo>
                  <a:pt x="105" y="135"/>
                </a:lnTo>
                <a:lnTo>
                  <a:pt x="125" y="131"/>
                </a:lnTo>
                <a:lnTo>
                  <a:pt x="144" y="125"/>
                </a:lnTo>
                <a:lnTo>
                  <a:pt x="165" y="121"/>
                </a:lnTo>
                <a:lnTo>
                  <a:pt x="188" y="116"/>
                </a:lnTo>
                <a:lnTo>
                  <a:pt x="211" y="110"/>
                </a:lnTo>
                <a:lnTo>
                  <a:pt x="234" y="102"/>
                </a:lnTo>
                <a:lnTo>
                  <a:pt x="259" y="96"/>
                </a:lnTo>
                <a:lnTo>
                  <a:pt x="284" y="89"/>
                </a:lnTo>
                <a:lnTo>
                  <a:pt x="311" y="8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100"/>
          <p:cNvSpPr/>
          <p:nvPr/>
        </p:nvSpPr>
        <p:spPr>
          <a:xfrm>
            <a:off x="6699240" y="3244680"/>
            <a:ext cx="284040" cy="1278000"/>
          </a:xfrm>
          <a:custGeom>
            <a:avLst/>
            <a:gdLst/>
            <a:ahLst/>
            <a:rect l="l" t="t" r="r" b="b"/>
            <a:pathLst>
              <a:path w="357" h="1611">
                <a:moveTo>
                  <a:pt x="286" y="1071"/>
                </a:moveTo>
                <a:lnTo>
                  <a:pt x="271" y="1121"/>
                </a:lnTo>
                <a:lnTo>
                  <a:pt x="256" y="1169"/>
                </a:lnTo>
                <a:lnTo>
                  <a:pt x="240" y="1217"/>
                </a:lnTo>
                <a:lnTo>
                  <a:pt x="223" y="1263"/>
                </a:lnTo>
                <a:lnTo>
                  <a:pt x="204" y="1308"/>
                </a:lnTo>
                <a:lnTo>
                  <a:pt x="185" y="1352"/>
                </a:lnTo>
                <a:lnTo>
                  <a:pt x="163" y="1394"/>
                </a:lnTo>
                <a:lnTo>
                  <a:pt x="142" y="1436"/>
                </a:lnTo>
                <a:lnTo>
                  <a:pt x="129" y="1457"/>
                </a:lnTo>
                <a:lnTo>
                  <a:pt x="115" y="1478"/>
                </a:lnTo>
                <a:lnTo>
                  <a:pt x="104" y="1498"/>
                </a:lnTo>
                <a:lnTo>
                  <a:pt x="92" y="1515"/>
                </a:lnTo>
                <a:lnTo>
                  <a:pt x="81" y="1530"/>
                </a:lnTo>
                <a:lnTo>
                  <a:pt x="71" y="1546"/>
                </a:lnTo>
                <a:lnTo>
                  <a:pt x="62" y="1557"/>
                </a:lnTo>
                <a:lnTo>
                  <a:pt x="54" y="1569"/>
                </a:lnTo>
                <a:lnTo>
                  <a:pt x="44" y="1578"/>
                </a:lnTo>
                <a:lnTo>
                  <a:pt x="39" y="1588"/>
                </a:lnTo>
                <a:lnTo>
                  <a:pt x="31" y="1595"/>
                </a:lnTo>
                <a:lnTo>
                  <a:pt x="25" y="1601"/>
                </a:lnTo>
                <a:lnTo>
                  <a:pt x="20" y="1605"/>
                </a:lnTo>
                <a:lnTo>
                  <a:pt x="16" y="1609"/>
                </a:lnTo>
                <a:lnTo>
                  <a:pt x="12" y="1611"/>
                </a:lnTo>
                <a:lnTo>
                  <a:pt x="10" y="1611"/>
                </a:lnTo>
                <a:lnTo>
                  <a:pt x="8" y="1611"/>
                </a:lnTo>
                <a:lnTo>
                  <a:pt x="6" y="1609"/>
                </a:lnTo>
                <a:lnTo>
                  <a:pt x="4" y="1609"/>
                </a:lnTo>
                <a:lnTo>
                  <a:pt x="2" y="1607"/>
                </a:lnTo>
                <a:lnTo>
                  <a:pt x="2" y="1603"/>
                </a:lnTo>
                <a:lnTo>
                  <a:pt x="0" y="1601"/>
                </a:lnTo>
                <a:lnTo>
                  <a:pt x="0" y="1597"/>
                </a:lnTo>
                <a:lnTo>
                  <a:pt x="0" y="1594"/>
                </a:lnTo>
                <a:lnTo>
                  <a:pt x="0" y="1588"/>
                </a:lnTo>
                <a:lnTo>
                  <a:pt x="2" y="1582"/>
                </a:lnTo>
                <a:lnTo>
                  <a:pt x="2" y="1576"/>
                </a:lnTo>
                <a:lnTo>
                  <a:pt x="4" y="1571"/>
                </a:lnTo>
                <a:lnTo>
                  <a:pt x="6" y="1563"/>
                </a:lnTo>
                <a:lnTo>
                  <a:pt x="6" y="1555"/>
                </a:lnTo>
                <a:lnTo>
                  <a:pt x="10" y="1547"/>
                </a:lnTo>
                <a:lnTo>
                  <a:pt x="12" y="1538"/>
                </a:lnTo>
                <a:lnTo>
                  <a:pt x="14" y="1530"/>
                </a:lnTo>
                <a:lnTo>
                  <a:pt x="18" y="1519"/>
                </a:lnTo>
                <a:lnTo>
                  <a:pt x="21" y="1509"/>
                </a:lnTo>
                <a:lnTo>
                  <a:pt x="23" y="1498"/>
                </a:lnTo>
                <a:lnTo>
                  <a:pt x="29" y="1486"/>
                </a:lnTo>
                <a:lnTo>
                  <a:pt x="33" y="1473"/>
                </a:lnTo>
                <a:lnTo>
                  <a:pt x="37" y="1459"/>
                </a:lnTo>
                <a:lnTo>
                  <a:pt x="43" y="1446"/>
                </a:lnTo>
                <a:lnTo>
                  <a:pt x="48" y="1432"/>
                </a:lnTo>
                <a:lnTo>
                  <a:pt x="52" y="1417"/>
                </a:lnTo>
                <a:lnTo>
                  <a:pt x="60" y="1402"/>
                </a:lnTo>
                <a:lnTo>
                  <a:pt x="66" y="1386"/>
                </a:lnTo>
                <a:lnTo>
                  <a:pt x="71" y="1369"/>
                </a:lnTo>
                <a:lnTo>
                  <a:pt x="79" y="1352"/>
                </a:lnTo>
                <a:lnTo>
                  <a:pt x="87" y="1333"/>
                </a:lnTo>
                <a:lnTo>
                  <a:pt x="94" y="1315"/>
                </a:lnTo>
                <a:lnTo>
                  <a:pt x="106" y="1279"/>
                </a:lnTo>
                <a:lnTo>
                  <a:pt x="119" y="1242"/>
                </a:lnTo>
                <a:lnTo>
                  <a:pt x="129" y="1204"/>
                </a:lnTo>
                <a:lnTo>
                  <a:pt x="140" y="1164"/>
                </a:lnTo>
                <a:lnTo>
                  <a:pt x="150" y="1125"/>
                </a:lnTo>
                <a:lnTo>
                  <a:pt x="160" y="1083"/>
                </a:lnTo>
                <a:lnTo>
                  <a:pt x="167" y="1041"/>
                </a:lnTo>
                <a:lnTo>
                  <a:pt x="175" y="999"/>
                </a:lnTo>
                <a:lnTo>
                  <a:pt x="183" y="954"/>
                </a:lnTo>
                <a:lnTo>
                  <a:pt x="188" y="908"/>
                </a:lnTo>
                <a:lnTo>
                  <a:pt x="194" y="862"/>
                </a:lnTo>
                <a:lnTo>
                  <a:pt x="200" y="814"/>
                </a:lnTo>
                <a:lnTo>
                  <a:pt x="204" y="766"/>
                </a:lnTo>
                <a:lnTo>
                  <a:pt x="208" y="716"/>
                </a:lnTo>
                <a:lnTo>
                  <a:pt x="211" y="665"/>
                </a:lnTo>
                <a:lnTo>
                  <a:pt x="213" y="613"/>
                </a:lnTo>
                <a:lnTo>
                  <a:pt x="215" y="588"/>
                </a:lnTo>
                <a:lnTo>
                  <a:pt x="215" y="563"/>
                </a:lnTo>
                <a:lnTo>
                  <a:pt x="215" y="540"/>
                </a:lnTo>
                <a:lnTo>
                  <a:pt x="217" y="517"/>
                </a:lnTo>
                <a:lnTo>
                  <a:pt x="217" y="494"/>
                </a:lnTo>
                <a:lnTo>
                  <a:pt x="217" y="471"/>
                </a:lnTo>
                <a:lnTo>
                  <a:pt x="217" y="450"/>
                </a:lnTo>
                <a:lnTo>
                  <a:pt x="219" y="430"/>
                </a:lnTo>
                <a:lnTo>
                  <a:pt x="219" y="409"/>
                </a:lnTo>
                <a:lnTo>
                  <a:pt x="219" y="390"/>
                </a:lnTo>
                <a:lnTo>
                  <a:pt x="219" y="371"/>
                </a:lnTo>
                <a:lnTo>
                  <a:pt x="217" y="354"/>
                </a:lnTo>
                <a:lnTo>
                  <a:pt x="217" y="336"/>
                </a:lnTo>
                <a:lnTo>
                  <a:pt x="217" y="319"/>
                </a:lnTo>
                <a:lnTo>
                  <a:pt x="217" y="302"/>
                </a:lnTo>
                <a:lnTo>
                  <a:pt x="217" y="286"/>
                </a:lnTo>
                <a:lnTo>
                  <a:pt x="215" y="271"/>
                </a:lnTo>
                <a:lnTo>
                  <a:pt x="215" y="256"/>
                </a:lnTo>
                <a:lnTo>
                  <a:pt x="215" y="242"/>
                </a:lnTo>
                <a:lnTo>
                  <a:pt x="213" y="229"/>
                </a:lnTo>
                <a:lnTo>
                  <a:pt x="213" y="215"/>
                </a:lnTo>
                <a:lnTo>
                  <a:pt x="211" y="204"/>
                </a:lnTo>
                <a:lnTo>
                  <a:pt x="211" y="192"/>
                </a:lnTo>
                <a:lnTo>
                  <a:pt x="210" y="181"/>
                </a:lnTo>
                <a:lnTo>
                  <a:pt x="210" y="171"/>
                </a:lnTo>
                <a:lnTo>
                  <a:pt x="208" y="160"/>
                </a:lnTo>
                <a:lnTo>
                  <a:pt x="208" y="152"/>
                </a:lnTo>
                <a:lnTo>
                  <a:pt x="206" y="142"/>
                </a:lnTo>
                <a:lnTo>
                  <a:pt x="206" y="135"/>
                </a:lnTo>
                <a:lnTo>
                  <a:pt x="204" y="127"/>
                </a:lnTo>
                <a:lnTo>
                  <a:pt x="202" y="119"/>
                </a:lnTo>
                <a:lnTo>
                  <a:pt x="202" y="114"/>
                </a:lnTo>
                <a:lnTo>
                  <a:pt x="198" y="93"/>
                </a:lnTo>
                <a:lnTo>
                  <a:pt x="192" y="75"/>
                </a:lnTo>
                <a:lnTo>
                  <a:pt x="190" y="58"/>
                </a:lnTo>
                <a:lnTo>
                  <a:pt x="187" y="43"/>
                </a:lnTo>
                <a:lnTo>
                  <a:pt x="187" y="37"/>
                </a:lnTo>
                <a:lnTo>
                  <a:pt x="185" y="31"/>
                </a:lnTo>
                <a:lnTo>
                  <a:pt x="185" y="25"/>
                </a:lnTo>
                <a:lnTo>
                  <a:pt x="185" y="20"/>
                </a:lnTo>
                <a:lnTo>
                  <a:pt x="185" y="16"/>
                </a:lnTo>
                <a:lnTo>
                  <a:pt x="187" y="10"/>
                </a:lnTo>
                <a:lnTo>
                  <a:pt x="187" y="8"/>
                </a:lnTo>
                <a:lnTo>
                  <a:pt x="190" y="4"/>
                </a:lnTo>
                <a:lnTo>
                  <a:pt x="192" y="2"/>
                </a:lnTo>
                <a:lnTo>
                  <a:pt x="196" y="0"/>
                </a:lnTo>
                <a:lnTo>
                  <a:pt x="200" y="0"/>
                </a:lnTo>
                <a:lnTo>
                  <a:pt x="206" y="2"/>
                </a:lnTo>
                <a:lnTo>
                  <a:pt x="211" y="2"/>
                </a:lnTo>
                <a:lnTo>
                  <a:pt x="219" y="6"/>
                </a:lnTo>
                <a:lnTo>
                  <a:pt x="229" y="8"/>
                </a:lnTo>
                <a:lnTo>
                  <a:pt x="238" y="12"/>
                </a:lnTo>
                <a:lnTo>
                  <a:pt x="248" y="18"/>
                </a:lnTo>
                <a:lnTo>
                  <a:pt x="259" y="23"/>
                </a:lnTo>
                <a:lnTo>
                  <a:pt x="273" y="29"/>
                </a:lnTo>
                <a:lnTo>
                  <a:pt x="288" y="37"/>
                </a:lnTo>
                <a:lnTo>
                  <a:pt x="304" y="45"/>
                </a:lnTo>
                <a:lnTo>
                  <a:pt x="319" y="52"/>
                </a:lnTo>
                <a:lnTo>
                  <a:pt x="338" y="62"/>
                </a:lnTo>
                <a:lnTo>
                  <a:pt x="357" y="71"/>
                </a:lnTo>
                <a:lnTo>
                  <a:pt x="357" y="100"/>
                </a:lnTo>
                <a:lnTo>
                  <a:pt x="357" y="129"/>
                </a:lnTo>
                <a:lnTo>
                  <a:pt x="357" y="156"/>
                </a:lnTo>
                <a:lnTo>
                  <a:pt x="357" y="183"/>
                </a:lnTo>
                <a:lnTo>
                  <a:pt x="357" y="210"/>
                </a:lnTo>
                <a:lnTo>
                  <a:pt x="357" y="235"/>
                </a:lnTo>
                <a:lnTo>
                  <a:pt x="357" y="260"/>
                </a:lnTo>
                <a:lnTo>
                  <a:pt x="357" y="284"/>
                </a:lnTo>
                <a:lnTo>
                  <a:pt x="357" y="309"/>
                </a:lnTo>
                <a:lnTo>
                  <a:pt x="357" y="332"/>
                </a:lnTo>
                <a:lnTo>
                  <a:pt x="357" y="354"/>
                </a:lnTo>
                <a:lnTo>
                  <a:pt x="357" y="377"/>
                </a:lnTo>
                <a:lnTo>
                  <a:pt x="357" y="398"/>
                </a:lnTo>
                <a:lnTo>
                  <a:pt x="355" y="419"/>
                </a:lnTo>
                <a:lnTo>
                  <a:pt x="355" y="438"/>
                </a:lnTo>
                <a:lnTo>
                  <a:pt x="355" y="459"/>
                </a:lnTo>
                <a:lnTo>
                  <a:pt x="355" y="476"/>
                </a:lnTo>
                <a:lnTo>
                  <a:pt x="355" y="496"/>
                </a:lnTo>
                <a:lnTo>
                  <a:pt x="355" y="513"/>
                </a:lnTo>
                <a:lnTo>
                  <a:pt x="353" y="530"/>
                </a:lnTo>
                <a:lnTo>
                  <a:pt x="353" y="547"/>
                </a:lnTo>
                <a:lnTo>
                  <a:pt x="353" y="563"/>
                </a:lnTo>
                <a:lnTo>
                  <a:pt x="353" y="578"/>
                </a:lnTo>
                <a:lnTo>
                  <a:pt x="352" y="594"/>
                </a:lnTo>
                <a:lnTo>
                  <a:pt x="352" y="609"/>
                </a:lnTo>
                <a:lnTo>
                  <a:pt x="352" y="622"/>
                </a:lnTo>
                <a:lnTo>
                  <a:pt x="350" y="636"/>
                </a:lnTo>
                <a:lnTo>
                  <a:pt x="350" y="647"/>
                </a:lnTo>
                <a:lnTo>
                  <a:pt x="348" y="661"/>
                </a:lnTo>
                <a:lnTo>
                  <a:pt x="348" y="672"/>
                </a:lnTo>
                <a:lnTo>
                  <a:pt x="346" y="682"/>
                </a:lnTo>
                <a:lnTo>
                  <a:pt x="346" y="693"/>
                </a:lnTo>
                <a:lnTo>
                  <a:pt x="340" y="734"/>
                </a:lnTo>
                <a:lnTo>
                  <a:pt x="336" y="776"/>
                </a:lnTo>
                <a:lnTo>
                  <a:pt x="330" y="820"/>
                </a:lnTo>
                <a:lnTo>
                  <a:pt x="325" y="866"/>
                </a:lnTo>
                <a:lnTo>
                  <a:pt x="321" y="891"/>
                </a:lnTo>
                <a:lnTo>
                  <a:pt x="317" y="914"/>
                </a:lnTo>
                <a:lnTo>
                  <a:pt x="313" y="939"/>
                </a:lnTo>
                <a:lnTo>
                  <a:pt x="307" y="964"/>
                </a:lnTo>
                <a:lnTo>
                  <a:pt x="304" y="991"/>
                </a:lnTo>
                <a:lnTo>
                  <a:pt x="298" y="1016"/>
                </a:lnTo>
                <a:lnTo>
                  <a:pt x="292" y="1043"/>
                </a:lnTo>
                <a:lnTo>
                  <a:pt x="286" y="10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101"/>
          <p:cNvSpPr/>
          <p:nvPr/>
        </p:nvSpPr>
        <p:spPr>
          <a:xfrm>
            <a:off x="6935760" y="2944800"/>
            <a:ext cx="457200" cy="433440"/>
          </a:xfrm>
          <a:custGeom>
            <a:avLst/>
            <a:gdLst/>
            <a:ahLst/>
            <a:rect l="l" t="t" r="r" b="b"/>
            <a:pathLst>
              <a:path w="576" h="545">
                <a:moveTo>
                  <a:pt x="384" y="71"/>
                </a:moveTo>
                <a:lnTo>
                  <a:pt x="378" y="64"/>
                </a:lnTo>
                <a:lnTo>
                  <a:pt x="376" y="58"/>
                </a:lnTo>
                <a:lnTo>
                  <a:pt x="372" y="52"/>
                </a:lnTo>
                <a:lnTo>
                  <a:pt x="370" y="46"/>
                </a:lnTo>
                <a:lnTo>
                  <a:pt x="368" y="41"/>
                </a:lnTo>
                <a:lnTo>
                  <a:pt x="366" y="37"/>
                </a:lnTo>
                <a:lnTo>
                  <a:pt x="365" y="33"/>
                </a:lnTo>
                <a:lnTo>
                  <a:pt x="365" y="29"/>
                </a:lnTo>
                <a:lnTo>
                  <a:pt x="365" y="25"/>
                </a:lnTo>
                <a:lnTo>
                  <a:pt x="366" y="21"/>
                </a:lnTo>
                <a:lnTo>
                  <a:pt x="368" y="18"/>
                </a:lnTo>
                <a:lnTo>
                  <a:pt x="370" y="16"/>
                </a:lnTo>
                <a:lnTo>
                  <a:pt x="372" y="12"/>
                </a:lnTo>
                <a:lnTo>
                  <a:pt x="376" y="10"/>
                </a:lnTo>
                <a:lnTo>
                  <a:pt x="378" y="8"/>
                </a:lnTo>
                <a:lnTo>
                  <a:pt x="384" y="4"/>
                </a:lnTo>
                <a:lnTo>
                  <a:pt x="386" y="2"/>
                </a:lnTo>
                <a:lnTo>
                  <a:pt x="388" y="2"/>
                </a:lnTo>
                <a:lnTo>
                  <a:pt x="391" y="0"/>
                </a:lnTo>
                <a:lnTo>
                  <a:pt x="397" y="2"/>
                </a:lnTo>
                <a:lnTo>
                  <a:pt x="401" y="2"/>
                </a:lnTo>
                <a:lnTo>
                  <a:pt x="407" y="4"/>
                </a:lnTo>
                <a:lnTo>
                  <a:pt x="413" y="8"/>
                </a:lnTo>
                <a:lnTo>
                  <a:pt x="418" y="12"/>
                </a:lnTo>
                <a:lnTo>
                  <a:pt x="426" y="16"/>
                </a:lnTo>
                <a:lnTo>
                  <a:pt x="434" y="19"/>
                </a:lnTo>
                <a:lnTo>
                  <a:pt x="441" y="25"/>
                </a:lnTo>
                <a:lnTo>
                  <a:pt x="451" y="31"/>
                </a:lnTo>
                <a:lnTo>
                  <a:pt x="461" y="37"/>
                </a:lnTo>
                <a:lnTo>
                  <a:pt x="470" y="44"/>
                </a:lnTo>
                <a:lnTo>
                  <a:pt x="480" y="50"/>
                </a:lnTo>
                <a:lnTo>
                  <a:pt x="491" y="58"/>
                </a:lnTo>
                <a:lnTo>
                  <a:pt x="501" y="66"/>
                </a:lnTo>
                <a:lnTo>
                  <a:pt x="512" y="73"/>
                </a:lnTo>
                <a:lnTo>
                  <a:pt x="520" y="81"/>
                </a:lnTo>
                <a:lnTo>
                  <a:pt x="530" y="89"/>
                </a:lnTo>
                <a:lnTo>
                  <a:pt x="537" y="96"/>
                </a:lnTo>
                <a:lnTo>
                  <a:pt x="543" y="104"/>
                </a:lnTo>
                <a:lnTo>
                  <a:pt x="549" y="112"/>
                </a:lnTo>
                <a:lnTo>
                  <a:pt x="555" y="119"/>
                </a:lnTo>
                <a:lnTo>
                  <a:pt x="560" y="127"/>
                </a:lnTo>
                <a:lnTo>
                  <a:pt x="564" y="135"/>
                </a:lnTo>
                <a:lnTo>
                  <a:pt x="568" y="142"/>
                </a:lnTo>
                <a:lnTo>
                  <a:pt x="570" y="150"/>
                </a:lnTo>
                <a:lnTo>
                  <a:pt x="572" y="158"/>
                </a:lnTo>
                <a:lnTo>
                  <a:pt x="574" y="165"/>
                </a:lnTo>
                <a:lnTo>
                  <a:pt x="574" y="173"/>
                </a:lnTo>
                <a:lnTo>
                  <a:pt x="576" y="181"/>
                </a:lnTo>
                <a:lnTo>
                  <a:pt x="574" y="188"/>
                </a:lnTo>
                <a:lnTo>
                  <a:pt x="572" y="194"/>
                </a:lnTo>
                <a:lnTo>
                  <a:pt x="570" y="204"/>
                </a:lnTo>
                <a:lnTo>
                  <a:pt x="566" y="211"/>
                </a:lnTo>
                <a:lnTo>
                  <a:pt x="560" y="219"/>
                </a:lnTo>
                <a:lnTo>
                  <a:pt x="555" y="227"/>
                </a:lnTo>
                <a:lnTo>
                  <a:pt x="549" y="234"/>
                </a:lnTo>
                <a:lnTo>
                  <a:pt x="539" y="244"/>
                </a:lnTo>
                <a:lnTo>
                  <a:pt x="532" y="254"/>
                </a:lnTo>
                <a:lnTo>
                  <a:pt x="522" y="263"/>
                </a:lnTo>
                <a:lnTo>
                  <a:pt x="510" y="273"/>
                </a:lnTo>
                <a:lnTo>
                  <a:pt x="499" y="282"/>
                </a:lnTo>
                <a:lnTo>
                  <a:pt x="485" y="294"/>
                </a:lnTo>
                <a:lnTo>
                  <a:pt x="472" y="304"/>
                </a:lnTo>
                <a:lnTo>
                  <a:pt x="459" y="317"/>
                </a:lnTo>
                <a:lnTo>
                  <a:pt x="443" y="328"/>
                </a:lnTo>
                <a:lnTo>
                  <a:pt x="424" y="342"/>
                </a:lnTo>
                <a:lnTo>
                  <a:pt x="405" y="353"/>
                </a:lnTo>
                <a:lnTo>
                  <a:pt x="386" y="367"/>
                </a:lnTo>
                <a:lnTo>
                  <a:pt x="365" y="380"/>
                </a:lnTo>
                <a:lnTo>
                  <a:pt x="341" y="392"/>
                </a:lnTo>
                <a:lnTo>
                  <a:pt x="318" y="405"/>
                </a:lnTo>
                <a:lnTo>
                  <a:pt x="295" y="419"/>
                </a:lnTo>
                <a:lnTo>
                  <a:pt x="270" y="430"/>
                </a:lnTo>
                <a:lnTo>
                  <a:pt x="246" y="444"/>
                </a:lnTo>
                <a:lnTo>
                  <a:pt x="219" y="457"/>
                </a:lnTo>
                <a:lnTo>
                  <a:pt x="190" y="472"/>
                </a:lnTo>
                <a:lnTo>
                  <a:pt x="161" y="486"/>
                </a:lnTo>
                <a:lnTo>
                  <a:pt x="130" y="499"/>
                </a:lnTo>
                <a:lnTo>
                  <a:pt x="100" y="515"/>
                </a:lnTo>
                <a:lnTo>
                  <a:pt x="69" y="530"/>
                </a:lnTo>
                <a:lnTo>
                  <a:pt x="36" y="545"/>
                </a:lnTo>
                <a:lnTo>
                  <a:pt x="0" y="505"/>
                </a:lnTo>
                <a:lnTo>
                  <a:pt x="32" y="476"/>
                </a:lnTo>
                <a:lnTo>
                  <a:pt x="63" y="449"/>
                </a:lnTo>
                <a:lnTo>
                  <a:pt x="94" y="424"/>
                </a:lnTo>
                <a:lnTo>
                  <a:pt x="123" y="400"/>
                </a:lnTo>
                <a:lnTo>
                  <a:pt x="150" y="376"/>
                </a:lnTo>
                <a:lnTo>
                  <a:pt x="175" y="353"/>
                </a:lnTo>
                <a:lnTo>
                  <a:pt x="199" y="332"/>
                </a:lnTo>
                <a:lnTo>
                  <a:pt x="222" y="313"/>
                </a:lnTo>
                <a:lnTo>
                  <a:pt x="244" y="294"/>
                </a:lnTo>
                <a:lnTo>
                  <a:pt x="263" y="277"/>
                </a:lnTo>
                <a:lnTo>
                  <a:pt x="282" y="259"/>
                </a:lnTo>
                <a:lnTo>
                  <a:pt x="297" y="244"/>
                </a:lnTo>
                <a:lnTo>
                  <a:pt x="313" y="229"/>
                </a:lnTo>
                <a:lnTo>
                  <a:pt x="326" y="217"/>
                </a:lnTo>
                <a:lnTo>
                  <a:pt x="338" y="204"/>
                </a:lnTo>
                <a:lnTo>
                  <a:pt x="347" y="194"/>
                </a:lnTo>
                <a:lnTo>
                  <a:pt x="355" y="185"/>
                </a:lnTo>
                <a:lnTo>
                  <a:pt x="363" y="173"/>
                </a:lnTo>
                <a:lnTo>
                  <a:pt x="370" y="165"/>
                </a:lnTo>
                <a:lnTo>
                  <a:pt x="376" y="156"/>
                </a:lnTo>
                <a:lnTo>
                  <a:pt x="382" y="146"/>
                </a:lnTo>
                <a:lnTo>
                  <a:pt x="386" y="138"/>
                </a:lnTo>
                <a:lnTo>
                  <a:pt x="389" y="131"/>
                </a:lnTo>
                <a:lnTo>
                  <a:pt x="391" y="123"/>
                </a:lnTo>
                <a:lnTo>
                  <a:pt x="393" y="115"/>
                </a:lnTo>
                <a:lnTo>
                  <a:pt x="395" y="108"/>
                </a:lnTo>
                <a:lnTo>
                  <a:pt x="395" y="102"/>
                </a:lnTo>
                <a:lnTo>
                  <a:pt x="393" y="94"/>
                </a:lnTo>
                <a:lnTo>
                  <a:pt x="393" y="89"/>
                </a:lnTo>
                <a:lnTo>
                  <a:pt x="389" y="83"/>
                </a:lnTo>
                <a:lnTo>
                  <a:pt x="388" y="77"/>
                </a:lnTo>
                <a:lnTo>
                  <a:pt x="384" y="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102"/>
          <p:cNvSpPr/>
          <p:nvPr/>
        </p:nvSpPr>
        <p:spPr>
          <a:xfrm>
            <a:off x="6286680" y="2768760"/>
            <a:ext cx="350640" cy="1819080"/>
          </a:xfrm>
          <a:custGeom>
            <a:avLst/>
            <a:gdLst/>
            <a:ahLst/>
            <a:rect l="l" t="t" r="r" b="b"/>
            <a:pathLst>
              <a:path w="442" h="2291">
                <a:moveTo>
                  <a:pt x="194" y="2211"/>
                </a:moveTo>
                <a:lnTo>
                  <a:pt x="192" y="2201"/>
                </a:lnTo>
                <a:lnTo>
                  <a:pt x="188" y="2192"/>
                </a:lnTo>
                <a:lnTo>
                  <a:pt x="184" y="2182"/>
                </a:lnTo>
                <a:lnTo>
                  <a:pt x="181" y="2172"/>
                </a:lnTo>
                <a:lnTo>
                  <a:pt x="175" y="2165"/>
                </a:lnTo>
                <a:lnTo>
                  <a:pt x="171" y="2155"/>
                </a:lnTo>
                <a:lnTo>
                  <a:pt x="165" y="2147"/>
                </a:lnTo>
                <a:lnTo>
                  <a:pt x="158" y="2138"/>
                </a:lnTo>
                <a:lnTo>
                  <a:pt x="152" y="2130"/>
                </a:lnTo>
                <a:lnTo>
                  <a:pt x="144" y="2123"/>
                </a:lnTo>
                <a:lnTo>
                  <a:pt x="135" y="2115"/>
                </a:lnTo>
                <a:lnTo>
                  <a:pt x="127" y="2107"/>
                </a:lnTo>
                <a:lnTo>
                  <a:pt x="117" y="2099"/>
                </a:lnTo>
                <a:lnTo>
                  <a:pt x="108" y="2092"/>
                </a:lnTo>
                <a:lnTo>
                  <a:pt x="96" y="2084"/>
                </a:lnTo>
                <a:lnTo>
                  <a:pt x="87" y="2076"/>
                </a:lnTo>
                <a:lnTo>
                  <a:pt x="75" y="2069"/>
                </a:lnTo>
                <a:lnTo>
                  <a:pt x="65" y="2061"/>
                </a:lnTo>
                <a:lnTo>
                  <a:pt x="56" y="2055"/>
                </a:lnTo>
                <a:lnTo>
                  <a:pt x="46" y="2048"/>
                </a:lnTo>
                <a:lnTo>
                  <a:pt x="39" y="2042"/>
                </a:lnTo>
                <a:lnTo>
                  <a:pt x="31" y="2036"/>
                </a:lnTo>
                <a:lnTo>
                  <a:pt x="23" y="2030"/>
                </a:lnTo>
                <a:lnTo>
                  <a:pt x="17" y="2025"/>
                </a:lnTo>
                <a:lnTo>
                  <a:pt x="12" y="2021"/>
                </a:lnTo>
                <a:lnTo>
                  <a:pt x="8" y="2015"/>
                </a:lnTo>
                <a:lnTo>
                  <a:pt x="4" y="2011"/>
                </a:lnTo>
                <a:lnTo>
                  <a:pt x="2" y="2007"/>
                </a:lnTo>
                <a:lnTo>
                  <a:pt x="0" y="2004"/>
                </a:lnTo>
                <a:lnTo>
                  <a:pt x="0" y="2002"/>
                </a:lnTo>
                <a:lnTo>
                  <a:pt x="0" y="1998"/>
                </a:lnTo>
                <a:lnTo>
                  <a:pt x="2" y="1996"/>
                </a:lnTo>
                <a:lnTo>
                  <a:pt x="2" y="1992"/>
                </a:lnTo>
                <a:lnTo>
                  <a:pt x="4" y="1990"/>
                </a:lnTo>
                <a:lnTo>
                  <a:pt x="6" y="1988"/>
                </a:lnTo>
                <a:lnTo>
                  <a:pt x="8" y="1984"/>
                </a:lnTo>
                <a:lnTo>
                  <a:pt x="12" y="1982"/>
                </a:lnTo>
                <a:lnTo>
                  <a:pt x="17" y="1980"/>
                </a:lnTo>
                <a:lnTo>
                  <a:pt x="21" y="1980"/>
                </a:lnTo>
                <a:lnTo>
                  <a:pt x="27" y="1979"/>
                </a:lnTo>
                <a:lnTo>
                  <a:pt x="35" y="1977"/>
                </a:lnTo>
                <a:lnTo>
                  <a:pt x="40" y="1977"/>
                </a:lnTo>
                <a:lnTo>
                  <a:pt x="50" y="1977"/>
                </a:lnTo>
                <a:lnTo>
                  <a:pt x="58" y="1977"/>
                </a:lnTo>
                <a:lnTo>
                  <a:pt x="67" y="1977"/>
                </a:lnTo>
                <a:lnTo>
                  <a:pt x="77" y="1979"/>
                </a:lnTo>
                <a:lnTo>
                  <a:pt x="87" y="1979"/>
                </a:lnTo>
                <a:lnTo>
                  <a:pt x="98" y="1982"/>
                </a:lnTo>
                <a:lnTo>
                  <a:pt x="119" y="1986"/>
                </a:lnTo>
                <a:lnTo>
                  <a:pt x="140" y="1990"/>
                </a:lnTo>
                <a:lnTo>
                  <a:pt x="159" y="1992"/>
                </a:lnTo>
                <a:lnTo>
                  <a:pt x="177" y="1992"/>
                </a:lnTo>
                <a:lnTo>
                  <a:pt x="194" y="1992"/>
                </a:lnTo>
                <a:lnTo>
                  <a:pt x="202" y="1990"/>
                </a:lnTo>
                <a:lnTo>
                  <a:pt x="207" y="1990"/>
                </a:lnTo>
                <a:lnTo>
                  <a:pt x="213" y="1988"/>
                </a:lnTo>
                <a:lnTo>
                  <a:pt x="221" y="1986"/>
                </a:lnTo>
                <a:lnTo>
                  <a:pt x="225" y="1984"/>
                </a:lnTo>
                <a:lnTo>
                  <a:pt x="230" y="1982"/>
                </a:lnTo>
                <a:lnTo>
                  <a:pt x="232" y="1980"/>
                </a:lnTo>
                <a:lnTo>
                  <a:pt x="234" y="1977"/>
                </a:lnTo>
                <a:lnTo>
                  <a:pt x="236" y="1973"/>
                </a:lnTo>
                <a:lnTo>
                  <a:pt x="238" y="1969"/>
                </a:lnTo>
                <a:lnTo>
                  <a:pt x="240" y="1963"/>
                </a:lnTo>
                <a:lnTo>
                  <a:pt x="242" y="1957"/>
                </a:lnTo>
                <a:lnTo>
                  <a:pt x="244" y="1950"/>
                </a:lnTo>
                <a:lnTo>
                  <a:pt x="246" y="1940"/>
                </a:lnTo>
                <a:lnTo>
                  <a:pt x="248" y="1933"/>
                </a:lnTo>
                <a:lnTo>
                  <a:pt x="250" y="1921"/>
                </a:lnTo>
                <a:lnTo>
                  <a:pt x="252" y="1909"/>
                </a:lnTo>
                <a:lnTo>
                  <a:pt x="252" y="1898"/>
                </a:lnTo>
                <a:lnTo>
                  <a:pt x="254" y="1885"/>
                </a:lnTo>
                <a:lnTo>
                  <a:pt x="255" y="1871"/>
                </a:lnTo>
                <a:lnTo>
                  <a:pt x="257" y="1856"/>
                </a:lnTo>
                <a:lnTo>
                  <a:pt x="259" y="1840"/>
                </a:lnTo>
                <a:lnTo>
                  <a:pt x="259" y="1823"/>
                </a:lnTo>
                <a:lnTo>
                  <a:pt x="261" y="1806"/>
                </a:lnTo>
                <a:lnTo>
                  <a:pt x="263" y="1787"/>
                </a:lnTo>
                <a:lnTo>
                  <a:pt x="263" y="1766"/>
                </a:lnTo>
                <a:lnTo>
                  <a:pt x="265" y="1746"/>
                </a:lnTo>
                <a:lnTo>
                  <a:pt x="267" y="1723"/>
                </a:lnTo>
                <a:lnTo>
                  <a:pt x="267" y="1702"/>
                </a:lnTo>
                <a:lnTo>
                  <a:pt x="269" y="1677"/>
                </a:lnTo>
                <a:lnTo>
                  <a:pt x="271" y="1654"/>
                </a:lnTo>
                <a:lnTo>
                  <a:pt x="271" y="1627"/>
                </a:lnTo>
                <a:lnTo>
                  <a:pt x="273" y="1600"/>
                </a:lnTo>
                <a:lnTo>
                  <a:pt x="273" y="1574"/>
                </a:lnTo>
                <a:lnTo>
                  <a:pt x="275" y="1545"/>
                </a:lnTo>
                <a:lnTo>
                  <a:pt x="277" y="1516"/>
                </a:lnTo>
                <a:lnTo>
                  <a:pt x="277" y="1487"/>
                </a:lnTo>
                <a:lnTo>
                  <a:pt x="278" y="1455"/>
                </a:lnTo>
                <a:lnTo>
                  <a:pt x="280" y="1391"/>
                </a:lnTo>
                <a:lnTo>
                  <a:pt x="282" y="1330"/>
                </a:lnTo>
                <a:lnTo>
                  <a:pt x="284" y="1268"/>
                </a:lnTo>
                <a:lnTo>
                  <a:pt x="284" y="1207"/>
                </a:lnTo>
                <a:lnTo>
                  <a:pt x="286" y="1147"/>
                </a:lnTo>
                <a:lnTo>
                  <a:pt x="286" y="1086"/>
                </a:lnTo>
                <a:lnTo>
                  <a:pt x="286" y="1028"/>
                </a:lnTo>
                <a:lnTo>
                  <a:pt x="286" y="969"/>
                </a:lnTo>
                <a:lnTo>
                  <a:pt x="286" y="911"/>
                </a:lnTo>
                <a:lnTo>
                  <a:pt x="286" y="854"/>
                </a:lnTo>
                <a:lnTo>
                  <a:pt x="286" y="798"/>
                </a:lnTo>
                <a:lnTo>
                  <a:pt x="284" y="741"/>
                </a:lnTo>
                <a:lnTo>
                  <a:pt x="284" y="687"/>
                </a:lnTo>
                <a:lnTo>
                  <a:pt x="282" y="631"/>
                </a:lnTo>
                <a:lnTo>
                  <a:pt x="280" y="577"/>
                </a:lnTo>
                <a:lnTo>
                  <a:pt x="278" y="524"/>
                </a:lnTo>
                <a:lnTo>
                  <a:pt x="277" y="499"/>
                </a:lnTo>
                <a:lnTo>
                  <a:pt x="277" y="474"/>
                </a:lnTo>
                <a:lnTo>
                  <a:pt x="275" y="451"/>
                </a:lnTo>
                <a:lnTo>
                  <a:pt x="273" y="428"/>
                </a:lnTo>
                <a:lnTo>
                  <a:pt x="271" y="407"/>
                </a:lnTo>
                <a:lnTo>
                  <a:pt x="271" y="385"/>
                </a:lnTo>
                <a:lnTo>
                  <a:pt x="269" y="364"/>
                </a:lnTo>
                <a:lnTo>
                  <a:pt x="267" y="343"/>
                </a:lnTo>
                <a:lnTo>
                  <a:pt x="265" y="324"/>
                </a:lnTo>
                <a:lnTo>
                  <a:pt x="263" y="307"/>
                </a:lnTo>
                <a:lnTo>
                  <a:pt x="261" y="288"/>
                </a:lnTo>
                <a:lnTo>
                  <a:pt x="259" y="270"/>
                </a:lnTo>
                <a:lnTo>
                  <a:pt x="257" y="255"/>
                </a:lnTo>
                <a:lnTo>
                  <a:pt x="255" y="240"/>
                </a:lnTo>
                <a:lnTo>
                  <a:pt x="254" y="224"/>
                </a:lnTo>
                <a:lnTo>
                  <a:pt x="252" y="209"/>
                </a:lnTo>
                <a:lnTo>
                  <a:pt x="250" y="195"/>
                </a:lnTo>
                <a:lnTo>
                  <a:pt x="248" y="184"/>
                </a:lnTo>
                <a:lnTo>
                  <a:pt x="246" y="170"/>
                </a:lnTo>
                <a:lnTo>
                  <a:pt x="244" y="159"/>
                </a:lnTo>
                <a:lnTo>
                  <a:pt x="242" y="149"/>
                </a:lnTo>
                <a:lnTo>
                  <a:pt x="240" y="140"/>
                </a:lnTo>
                <a:lnTo>
                  <a:pt x="238" y="130"/>
                </a:lnTo>
                <a:lnTo>
                  <a:pt x="236" y="121"/>
                </a:lnTo>
                <a:lnTo>
                  <a:pt x="234" y="113"/>
                </a:lnTo>
                <a:lnTo>
                  <a:pt x="230" y="105"/>
                </a:lnTo>
                <a:lnTo>
                  <a:pt x="229" y="99"/>
                </a:lnTo>
                <a:lnTo>
                  <a:pt x="227" y="94"/>
                </a:lnTo>
                <a:lnTo>
                  <a:pt x="225" y="88"/>
                </a:lnTo>
                <a:lnTo>
                  <a:pt x="223" y="84"/>
                </a:lnTo>
                <a:lnTo>
                  <a:pt x="221" y="80"/>
                </a:lnTo>
                <a:lnTo>
                  <a:pt x="219" y="78"/>
                </a:lnTo>
                <a:lnTo>
                  <a:pt x="209" y="73"/>
                </a:lnTo>
                <a:lnTo>
                  <a:pt x="202" y="65"/>
                </a:lnTo>
                <a:lnTo>
                  <a:pt x="196" y="57"/>
                </a:lnTo>
                <a:lnTo>
                  <a:pt x="192" y="50"/>
                </a:lnTo>
                <a:lnTo>
                  <a:pt x="190" y="40"/>
                </a:lnTo>
                <a:lnTo>
                  <a:pt x="190" y="36"/>
                </a:lnTo>
                <a:lnTo>
                  <a:pt x="190" y="30"/>
                </a:lnTo>
                <a:lnTo>
                  <a:pt x="190" y="26"/>
                </a:lnTo>
                <a:lnTo>
                  <a:pt x="190" y="21"/>
                </a:lnTo>
                <a:lnTo>
                  <a:pt x="192" y="15"/>
                </a:lnTo>
                <a:lnTo>
                  <a:pt x="194" y="11"/>
                </a:lnTo>
                <a:lnTo>
                  <a:pt x="194" y="7"/>
                </a:lnTo>
                <a:lnTo>
                  <a:pt x="196" y="5"/>
                </a:lnTo>
                <a:lnTo>
                  <a:pt x="198" y="3"/>
                </a:lnTo>
                <a:lnTo>
                  <a:pt x="202" y="3"/>
                </a:lnTo>
                <a:lnTo>
                  <a:pt x="206" y="2"/>
                </a:lnTo>
                <a:lnTo>
                  <a:pt x="209" y="2"/>
                </a:lnTo>
                <a:lnTo>
                  <a:pt x="215" y="0"/>
                </a:lnTo>
                <a:lnTo>
                  <a:pt x="221" y="0"/>
                </a:lnTo>
                <a:lnTo>
                  <a:pt x="229" y="0"/>
                </a:lnTo>
                <a:lnTo>
                  <a:pt x="236" y="2"/>
                </a:lnTo>
                <a:lnTo>
                  <a:pt x="246" y="2"/>
                </a:lnTo>
                <a:lnTo>
                  <a:pt x="255" y="3"/>
                </a:lnTo>
                <a:lnTo>
                  <a:pt x="265" y="3"/>
                </a:lnTo>
                <a:lnTo>
                  <a:pt x="277" y="5"/>
                </a:lnTo>
                <a:lnTo>
                  <a:pt x="288" y="7"/>
                </a:lnTo>
                <a:lnTo>
                  <a:pt x="301" y="11"/>
                </a:lnTo>
                <a:lnTo>
                  <a:pt x="315" y="15"/>
                </a:lnTo>
                <a:lnTo>
                  <a:pt x="328" y="21"/>
                </a:lnTo>
                <a:lnTo>
                  <a:pt x="340" y="26"/>
                </a:lnTo>
                <a:lnTo>
                  <a:pt x="351" y="30"/>
                </a:lnTo>
                <a:lnTo>
                  <a:pt x="361" y="36"/>
                </a:lnTo>
                <a:lnTo>
                  <a:pt x="373" y="42"/>
                </a:lnTo>
                <a:lnTo>
                  <a:pt x="382" y="46"/>
                </a:lnTo>
                <a:lnTo>
                  <a:pt x="390" y="51"/>
                </a:lnTo>
                <a:lnTo>
                  <a:pt x="397" y="55"/>
                </a:lnTo>
                <a:lnTo>
                  <a:pt x="405" y="61"/>
                </a:lnTo>
                <a:lnTo>
                  <a:pt x="413" y="67"/>
                </a:lnTo>
                <a:lnTo>
                  <a:pt x="419" y="71"/>
                </a:lnTo>
                <a:lnTo>
                  <a:pt x="422" y="76"/>
                </a:lnTo>
                <a:lnTo>
                  <a:pt x="428" y="82"/>
                </a:lnTo>
                <a:lnTo>
                  <a:pt x="430" y="86"/>
                </a:lnTo>
                <a:lnTo>
                  <a:pt x="434" y="92"/>
                </a:lnTo>
                <a:lnTo>
                  <a:pt x="438" y="107"/>
                </a:lnTo>
                <a:lnTo>
                  <a:pt x="440" y="122"/>
                </a:lnTo>
                <a:lnTo>
                  <a:pt x="442" y="138"/>
                </a:lnTo>
                <a:lnTo>
                  <a:pt x="442" y="153"/>
                </a:lnTo>
                <a:lnTo>
                  <a:pt x="442" y="167"/>
                </a:lnTo>
                <a:lnTo>
                  <a:pt x="440" y="182"/>
                </a:lnTo>
                <a:lnTo>
                  <a:pt x="438" y="197"/>
                </a:lnTo>
                <a:lnTo>
                  <a:pt x="434" y="213"/>
                </a:lnTo>
                <a:lnTo>
                  <a:pt x="432" y="216"/>
                </a:lnTo>
                <a:lnTo>
                  <a:pt x="432" y="222"/>
                </a:lnTo>
                <a:lnTo>
                  <a:pt x="430" y="228"/>
                </a:lnTo>
                <a:lnTo>
                  <a:pt x="430" y="234"/>
                </a:lnTo>
                <a:lnTo>
                  <a:pt x="428" y="240"/>
                </a:lnTo>
                <a:lnTo>
                  <a:pt x="426" y="247"/>
                </a:lnTo>
                <a:lnTo>
                  <a:pt x="426" y="255"/>
                </a:lnTo>
                <a:lnTo>
                  <a:pt x="424" y="263"/>
                </a:lnTo>
                <a:lnTo>
                  <a:pt x="424" y="272"/>
                </a:lnTo>
                <a:lnTo>
                  <a:pt x="422" y="282"/>
                </a:lnTo>
                <a:lnTo>
                  <a:pt x="422" y="293"/>
                </a:lnTo>
                <a:lnTo>
                  <a:pt x="421" y="303"/>
                </a:lnTo>
                <a:lnTo>
                  <a:pt x="421" y="314"/>
                </a:lnTo>
                <a:lnTo>
                  <a:pt x="419" y="328"/>
                </a:lnTo>
                <a:lnTo>
                  <a:pt x="419" y="339"/>
                </a:lnTo>
                <a:lnTo>
                  <a:pt x="417" y="353"/>
                </a:lnTo>
                <a:lnTo>
                  <a:pt x="417" y="366"/>
                </a:lnTo>
                <a:lnTo>
                  <a:pt x="415" y="382"/>
                </a:lnTo>
                <a:lnTo>
                  <a:pt x="415" y="397"/>
                </a:lnTo>
                <a:lnTo>
                  <a:pt x="415" y="412"/>
                </a:lnTo>
                <a:lnTo>
                  <a:pt x="413" y="428"/>
                </a:lnTo>
                <a:lnTo>
                  <a:pt x="413" y="445"/>
                </a:lnTo>
                <a:lnTo>
                  <a:pt x="413" y="462"/>
                </a:lnTo>
                <a:lnTo>
                  <a:pt x="411" y="481"/>
                </a:lnTo>
                <a:lnTo>
                  <a:pt x="411" y="499"/>
                </a:lnTo>
                <a:lnTo>
                  <a:pt x="411" y="518"/>
                </a:lnTo>
                <a:lnTo>
                  <a:pt x="411" y="539"/>
                </a:lnTo>
                <a:lnTo>
                  <a:pt x="411" y="558"/>
                </a:lnTo>
                <a:lnTo>
                  <a:pt x="409" y="579"/>
                </a:lnTo>
                <a:lnTo>
                  <a:pt x="409" y="600"/>
                </a:lnTo>
                <a:lnTo>
                  <a:pt x="409" y="623"/>
                </a:lnTo>
                <a:lnTo>
                  <a:pt x="409" y="645"/>
                </a:lnTo>
                <a:lnTo>
                  <a:pt x="407" y="694"/>
                </a:lnTo>
                <a:lnTo>
                  <a:pt x="405" y="744"/>
                </a:lnTo>
                <a:lnTo>
                  <a:pt x="403" y="794"/>
                </a:lnTo>
                <a:lnTo>
                  <a:pt x="403" y="848"/>
                </a:lnTo>
                <a:lnTo>
                  <a:pt x="401" y="902"/>
                </a:lnTo>
                <a:lnTo>
                  <a:pt x="401" y="955"/>
                </a:lnTo>
                <a:lnTo>
                  <a:pt x="399" y="1013"/>
                </a:lnTo>
                <a:lnTo>
                  <a:pt x="399" y="1071"/>
                </a:lnTo>
                <a:lnTo>
                  <a:pt x="399" y="1128"/>
                </a:lnTo>
                <a:lnTo>
                  <a:pt x="397" y="1190"/>
                </a:lnTo>
                <a:lnTo>
                  <a:pt x="397" y="1251"/>
                </a:lnTo>
                <a:lnTo>
                  <a:pt x="397" y="1313"/>
                </a:lnTo>
                <a:lnTo>
                  <a:pt x="397" y="1378"/>
                </a:lnTo>
                <a:lnTo>
                  <a:pt x="397" y="1443"/>
                </a:lnTo>
                <a:lnTo>
                  <a:pt x="397" y="1508"/>
                </a:lnTo>
                <a:lnTo>
                  <a:pt x="397" y="1577"/>
                </a:lnTo>
                <a:lnTo>
                  <a:pt x="396" y="1612"/>
                </a:lnTo>
                <a:lnTo>
                  <a:pt x="396" y="1645"/>
                </a:lnTo>
                <a:lnTo>
                  <a:pt x="394" y="1679"/>
                </a:lnTo>
                <a:lnTo>
                  <a:pt x="392" y="1710"/>
                </a:lnTo>
                <a:lnTo>
                  <a:pt x="392" y="1742"/>
                </a:lnTo>
                <a:lnTo>
                  <a:pt x="390" y="1771"/>
                </a:lnTo>
                <a:lnTo>
                  <a:pt x="388" y="1802"/>
                </a:lnTo>
                <a:lnTo>
                  <a:pt x="386" y="1829"/>
                </a:lnTo>
                <a:lnTo>
                  <a:pt x="384" y="1856"/>
                </a:lnTo>
                <a:lnTo>
                  <a:pt x="382" y="1883"/>
                </a:lnTo>
                <a:lnTo>
                  <a:pt x="380" y="1908"/>
                </a:lnTo>
                <a:lnTo>
                  <a:pt x="378" y="1933"/>
                </a:lnTo>
                <a:lnTo>
                  <a:pt x="376" y="1956"/>
                </a:lnTo>
                <a:lnTo>
                  <a:pt x="374" y="1979"/>
                </a:lnTo>
                <a:lnTo>
                  <a:pt x="373" y="2000"/>
                </a:lnTo>
                <a:lnTo>
                  <a:pt x="371" y="2021"/>
                </a:lnTo>
                <a:lnTo>
                  <a:pt x="369" y="2040"/>
                </a:lnTo>
                <a:lnTo>
                  <a:pt x="367" y="2057"/>
                </a:lnTo>
                <a:lnTo>
                  <a:pt x="363" y="2075"/>
                </a:lnTo>
                <a:lnTo>
                  <a:pt x="361" y="2092"/>
                </a:lnTo>
                <a:lnTo>
                  <a:pt x="359" y="2107"/>
                </a:lnTo>
                <a:lnTo>
                  <a:pt x="355" y="2123"/>
                </a:lnTo>
                <a:lnTo>
                  <a:pt x="353" y="2136"/>
                </a:lnTo>
                <a:lnTo>
                  <a:pt x="351" y="2147"/>
                </a:lnTo>
                <a:lnTo>
                  <a:pt x="348" y="2159"/>
                </a:lnTo>
                <a:lnTo>
                  <a:pt x="346" y="2171"/>
                </a:lnTo>
                <a:lnTo>
                  <a:pt x="342" y="2178"/>
                </a:lnTo>
                <a:lnTo>
                  <a:pt x="338" y="2188"/>
                </a:lnTo>
                <a:lnTo>
                  <a:pt x="336" y="2195"/>
                </a:lnTo>
                <a:lnTo>
                  <a:pt x="332" y="2201"/>
                </a:lnTo>
                <a:lnTo>
                  <a:pt x="328" y="2207"/>
                </a:lnTo>
                <a:lnTo>
                  <a:pt x="326" y="2211"/>
                </a:lnTo>
                <a:lnTo>
                  <a:pt x="317" y="2220"/>
                </a:lnTo>
                <a:lnTo>
                  <a:pt x="309" y="2230"/>
                </a:lnTo>
                <a:lnTo>
                  <a:pt x="301" y="2240"/>
                </a:lnTo>
                <a:lnTo>
                  <a:pt x="292" y="2247"/>
                </a:lnTo>
                <a:lnTo>
                  <a:pt x="284" y="2253"/>
                </a:lnTo>
                <a:lnTo>
                  <a:pt x="278" y="2261"/>
                </a:lnTo>
                <a:lnTo>
                  <a:pt x="271" y="2266"/>
                </a:lnTo>
                <a:lnTo>
                  <a:pt x="265" y="2272"/>
                </a:lnTo>
                <a:lnTo>
                  <a:pt x="259" y="2276"/>
                </a:lnTo>
                <a:lnTo>
                  <a:pt x="254" y="2280"/>
                </a:lnTo>
                <a:lnTo>
                  <a:pt x="248" y="2284"/>
                </a:lnTo>
                <a:lnTo>
                  <a:pt x="244" y="2288"/>
                </a:lnTo>
                <a:lnTo>
                  <a:pt x="240" y="2290"/>
                </a:lnTo>
                <a:lnTo>
                  <a:pt x="236" y="2291"/>
                </a:lnTo>
                <a:lnTo>
                  <a:pt x="232" y="2291"/>
                </a:lnTo>
                <a:lnTo>
                  <a:pt x="230" y="2291"/>
                </a:lnTo>
                <a:lnTo>
                  <a:pt x="229" y="2291"/>
                </a:lnTo>
                <a:lnTo>
                  <a:pt x="225" y="2291"/>
                </a:lnTo>
                <a:lnTo>
                  <a:pt x="223" y="2290"/>
                </a:lnTo>
                <a:lnTo>
                  <a:pt x="221" y="2288"/>
                </a:lnTo>
                <a:lnTo>
                  <a:pt x="219" y="2284"/>
                </a:lnTo>
                <a:lnTo>
                  <a:pt x="217" y="2280"/>
                </a:lnTo>
                <a:lnTo>
                  <a:pt x="213" y="2276"/>
                </a:lnTo>
                <a:lnTo>
                  <a:pt x="211" y="2272"/>
                </a:lnTo>
                <a:lnTo>
                  <a:pt x="209" y="2266"/>
                </a:lnTo>
                <a:lnTo>
                  <a:pt x="207" y="2261"/>
                </a:lnTo>
                <a:lnTo>
                  <a:pt x="206" y="2253"/>
                </a:lnTo>
                <a:lnTo>
                  <a:pt x="204" y="2247"/>
                </a:lnTo>
                <a:lnTo>
                  <a:pt x="200" y="2238"/>
                </a:lnTo>
                <a:lnTo>
                  <a:pt x="198" y="2230"/>
                </a:lnTo>
                <a:lnTo>
                  <a:pt x="196" y="2220"/>
                </a:lnTo>
                <a:lnTo>
                  <a:pt x="194" y="22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103"/>
          <p:cNvSpPr/>
          <p:nvPr/>
        </p:nvSpPr>
        <p:spPr>
          <a:xfrm>
            <a:off x="6075360" y="3622680"/>
            <a:ext cx="689040" cy="550800"/>
          </a:xfrm>
          <a:custGeom>
            <a:avLst/>
            <a:gdLst/>
            <a:ahLst/>
            <a:rect l="l" t="t" r="r" b="b"/>
            <a:pathLst>
              <a:path w="870" h="693">
                <a:moveTo>
                  <a:pt x="137" y="488"/>
                </a:moveTo>
                <a:lnTo>
                  <a:pt x="140" y="486"/>
                </a:lnTo>
                <a:lnTo>
                  <a:pt x="142" y="484"/>
                </a:lnTo>
                <a:lnTo>
                  <a:pt x="146" y="482"/>
                </a:lnTo>
                <a:lnTo>
                  <a:pt x="150" y="478"/>
                </a:lnTo>
                <a:lnTo>
                  <a:pt x="156" y="476"/>
                </a:lnTo>
                <a:lnTo>
                  <a:pt x="162" y="473"/>
                </a:lnTo>
                <a:lnTo>
                  <a:pt x="167" y="469"/>
                </a:lnTo>
                <a:lnTo>
                  <a:pt x="173" y="465"/>
                </a:lnTo>
                <a:lnTo>
                  <a:pt x="181" y="459"/>
                </a:lnTo>
                <a:lnTo>
                  <a:pt x="188" y="455"/>
                </a:lnTo>
                <a:lnTo>
                  <a:pt x="196" y="450"/>
                </a:lnTo>
                <a:lnTo>
                  <a:pt x="206" y="444"/>
                </a:lnTo>
                <a:lnTo>
                  <a:pt x="215" y="436"/>
                </a:lnTo>
                <a:lnTo>
                  <a:pt x="225" y="430"/>
                </a:lnTo>
                <a:lnTo>
                  <a:pt x="236" y="423"/>
                </a:lnTo>
                <a:lnTo>
                  <a:pt x="248" y="415"/>
                </a:lnTo>
                <a:lnTo>
                  <a:pt x="259" y="407"/>
                </a:lnTo>
                <a:lnTo>
                  <a:pt x="271" y="400"/>
                </a:lnTo>
                <a:lnTo>
                  <a:pt x="284" y="390"/>
                </a:lnTo>
                <a:lnTo>
                  <a:pt x="298" y="380"/>
                </a:lnTo>
                <a:lnTo>
                  <a:pt x="313" y="371"/>
                </a:lnTo>
                <a:lnTo>
                  <a:pt x="327" y="359"/>
                </a:lnTo>
                <a:lnTo>
                  <a:pt x="342" y="350"/>
                </a:lnTo>
                <a:lnTo>
                  <a:pt x="359" y="338"/>
                </a:lnTo>
                <a:lnTo>
                  <a:pt x="375" y="327"/>
                </a:lnTo>
                <a:lnTo>
                  <a:pt x="392" y="313"/>
                </a:lnTo>
                <a:lnTo>
                  <a:pt x="411" y="302"/>
                </a:lnTo>
                <a:lnTo>
                  <a:pt x="428" y="288"/>
                </a:lnTo>
                <a:lnTo>
                  <a:pt x="448" y="275"/>
                </a:lnTo>
                <a:lnTo>
                  <a:pt x="469" y="260"/>
                </a:lnTo>
                <a:lnTo>
                  <a:pt x="488" y="246"/>
                </a:lnTo>
                <a:lnTo>
                  <a:pt x="509" y="231"/>
                </a:lnTo>
                <a:lnTo>
                  <a:pt x="530" y="215"/>
                </a:lnTo>
                <a:lnTo>
                  <a:pt x="549" y="200"/>
                </a:lnTo>
                <a:lnTo>
                  <a:pt x="570" y="187"/>
                </a:lnTo>
                <a:lnTo>
                  <a:pt x="590" y="173"/>
                </a:lnTo>
                <a:lnTo>
                  <a:pt x="607" y="160"/>
                </a:lnTo>
                <a:lnTo>
                  <a:pt x="624" y="146"/>
                </a:lnTo>
                <a:lnTo>
                  <a:pt x="641" y="135"/>
                </a:lnTo>
                <a:lnTo>
                  <a:pt x="659" y="123"/>
                </a:lnTo>
                <a:lnTo>
                  <a:pt x="674" y="112"/>
                </a:lnTo>
                <a:lnTo>
                  <a:pt x="689" y="102"/>
                </a:lnTo>
                <a:lnTo>
                  <a:pt x="705" y="93"/>
                </a:lnTo>
                <a:lnTo>
                  <a:pt x="718" y="83"/>
                </a:lnTo>
                <a:lnTo>
                  <a:pt x="732" y="73"/>
                </a:lnTo>
                <a:lnTo>
                  <a:pt x="745" y="64"/>
                </a:lnTo>
                <a:lnTo>
                  <a:pt x="757" y="56"/>
                </a:lnTo>
                <a:lnTo>
                  <a:pt x="768" y="48"/>
                </a:lnTo>
                <a:lnTo>
                  <a:pt x="780" y="43"/>
                </a:lnTo>
                <a:lnTo>
                  <a:pt x="791" y="35"/>
                </a:lnTo>
                <a:lnTo>
                  <a:pt x="801" y="29"/>
                </a:lnTo>
                <a:lnTo>
                  <a:pt x="808" y="23"/>
                </a:lnTo>
                <a:lnTo>
                  <a:pt x="818" y="20"/>
                </a:lnTo>
                <a:lnTo>
                  <a:pt x="826" y="16"/>
                </a:lnTo>
                <a:lnTo>
                  <a:pt x="833" y="12"/>
                </a:lnTo>
                <a:lnTo>
                  <a:pt x="839" y="8"/>
                </a:lnTo>
                <a:lnTo>
                  <a:pt x="845" y="6"/>
                </a:lnTo>
                <a:lnTo>
                  <a:pt x="851" y="2"/>
                </a:lnTo>
                <a:lnTo>
                  <a:pt x="854" y="0"/>
                </a:lnTo>
                <a:lnTo>
                  <a:pt x="858" y="0"/>
                </a:lnTo>
                <a:lnTo>
                  <a:pt x="862" y="0"/>
                </a:lnTo>
                <a:lnTo>
                  <a:pt x="864" y="0"/>
                </a:lnTo>
                <a:lnTo>
                  <a:pt x="868" y="0"/>
                </a:lnTo>
                <a:lnTo>
                  <a:pt x="870" y="4"/>
                </a:lnTo>
                <a:lnTo>
                  <a:pt x="870" y="8"/>
                </a:lnTo>
                <a:lnTo>
                  <a:pt x="868" y="14"/>
                </a:lnTo>
                <a:lnTo>
                  <a:pt x="866" y="22"/>
                </a:lnTo>
                <a:lnTo>
                  <a:pt x="860" y="29"/>
                </a:lnTo>
                <a:lnTo>
                  <a:pt x="854" y="39"/>
                </a:lnTo>
                <a:lnTo>
                  <a:pt x="847" y="50"/>
                </a:lnTo>
                <a:lnTo>
                  <a:pt x="837" y="62"/>
                </a:lnTo>
                <a:lnTo>
                  <a:pt x="828" y="75"/>
                </a:lnTo>
                <a:lnTo>
                  <a:pt x="814" y="89"/>
                </a:lnTo>
                <a:lnTo>
                  <a:pt x="801" y="104"/>
                </a:lnTo>
                <a:lnTo>
                  <a:pt x="783" y="121"/>
                </a:lnTo>
                <a:lnTo>
                  <a:pt x="766" y="141"/>
                </a:lnTo>
                <a:lnTo>
                  <a:pt x="745" y="160"/>
                </a:lnTo>
                <a:lnTo>
                  <a:pt x="724" y="181"/>
                </a:lnTo>
                <a:lnTo>
                  <a:pt x="712" y="192"/>
                </a:lnTo>
                <a:lnTo>
                  <a:pt x="701" y="204"/>
                </a:lnTo>
                <a:lnTo>
                  <a:pt x="676" y="229"/>
                </a:lnTo>
                <a:lnTo>
                  <a:pt x="653" y="254"/>
                </a:lnTo>
                <a:lnTo>
                  <a:pt x="630" y="277"/>
                </a:lnTo>
                <a:lnTo>
                  <a:pt x="607" y="300"/>
                </a:lnTo>
                <a:lnTo>
                  <a:pt x="584" y="323"/>
                </a:lnTo>
                <a:lnTo>
                  <a:pt x="563" y="346"/>
                </a:lnTo>
                <a:lnTo>
                  <a:pt x="542" y="367"/>
                </a:lnTo>
                <a:lnTo>
                  <a:pt x="521" y="388"/>
                </a:lnTo>
                <a:lnTo>
                  <a:pt x="478" y="428"/>
                </a:lnTo>
                <a:lnTo>
                  <a:pt x="440" y="467"/>
                </a:lnTo>
                <a:lnTo>
                  <a:pt x="402" y="505"/>
                </a:lnTo>
                <a:lnTo>
                  <a:pt x="365" y="542"/>
                </a:lnTo>
                <a:lnTo>
                  <a:pt x="348" y="559"/>
                </a:lnTo>
                <a:lnTo>
                  <a:pt x="330" y="574"/>
                </a:lnTo>
                <a:lnTo>
                  <a:pt x="315" y="590"/>
                </a:lnTo>
                <a:lnTo>
                  <a:pt x="300" y="605"/>
                </a:lnTo>
                <a:lnTo>
                  <a:pt x="286" y="618"/>
                </a:lnTo>
                <a:lnTo>
                  <a:pt x="273" y="630"/>
                </a:lnTo>
                <a:lnTo>
                  <a:pt x="259" y="642"/>
                </a:lnTo>
                <a:lnTo>
                  <a:pt x="246" y="651"/>
                </a:lnTo>
                <a:lnTo>
                  <a:pt x="235" y="661"/>
                </a:lnTo>
                <a:lnTo>
                  <a:pt x="225" y="668"/>
                </a:lnTo>
                <a:lnTo>
                  <a:pt x="215" y="674"/>
                </a:lnTo>
                <a:lnTo>
                  <a:pt x="206" y="680"/>
                </a:lnTo>
                <a:lnTo>
                  <a:pt x="196" y="684"/>
                </a:lnTo>
                <a:lnTo>
                  <a:pt x="188" y="688"/>
                </a:lnTo>
                <a:lnTo>
                  <a:pt x="181" y="690"/>
                </a:lnTo>
                <a:lnTo>
                  <a:pt x="173" y="690"/>
                </a:lnTo>
                <a:lnTo>
                  <a:pt x="167" y="691"/>
                </a:lnTo>
                <a:lnTo>
                  <a:pt x="160" y="693"/>
                </a:lnTo>
                <a:lnTo>
                  <a:pt x="152" y="693"/>
                </a:lnTo>
                <a:lnTo>
                  <a:pt x="146" y="691"/>
                </a:lnTo>
                <a:lnTo>
                  <a:pt x="139" y="691"/>
                </a:lnTo>
                <a:lnTo>
                  <a:pt x="133" y="688"/>
                </a:lnTo>
                <a:lnTo>
                  <a:pt x="125" y="684"/>
                </a:lnTo>
                <a:lnTo>
                  <a:pt x="117" y="680"/>
                </a:lnTo>
                <a:lnTo>
                  <a:pt x="110" y="674"/>
                </a:lnTo>
                <a:lnTo>
                  <a:pt x="102" y="668"/>
                </a:lnTo>
                <a:lnTo>
                  <a:pt x="94" y="661"/>
                </a:lnTo>
                <a:lnTo>
                  <a:pt x="87" y="651"/>
                </a:lnTo>
                <a:lnTo>
                  <a:pt x="79" y="642"/>
                </a:lnTo>
                <a:lnTo>
                  <a:pt x="71" y="632"/>
                </a:lnTo>
                <a:lnTo>
                  <a:pt x="62" y="620"/>
                </a:lnTo>
                <a:lnTo>
                  <a:pt x="54" y="609"/>
                </a:lnTo>
                <a:lnTo>
                  <a:pt x="44" y="595"/>
                </a:lnTo>
                <a:lnTo>
                  <a:pt x="37" y="584"/>
                </a:lnTo>
                <a:lnTo>
                  <a:pt x="31" y="572"/>
                </a:lnTo>
                <a:lnTo>
                  <a:pt x="23" y="563"/>
                </a:lnTo>
                <a:lnTo>
                  <a:pt x="20" y="553"/>
                </a:lnTo>
                <a:lnTo>
                  <a:pt x="14" y="544"/>
                </a:lnTo>
                <a:lnTo>
                  <a:pt x="10" y="536"/>
                </a:lnTo>
                <a:lnTo>
                  <a:pt x="8" y="528"/>
                </a:lnTo>
                <a:lnTo>
                  <a:pt x="4" y="521"/>
                </a:lnTo>
                <a:lnTo>
                  <a:pt x="2" y="513"/>
                </a:lnTo>
                <a:lnTo>
                  <a:pt x="2" y="507"/>
                </a:lnTo>
                <a:lnTo>
                  <a:pt x="0" y="501"/>
                </a:lnTo>
                <a:lnTo>
                  <a:pt x="2" y="498"/>
                </a:lnTo>
                <a:lnTo>
                  <a:pt x="2" y="494"/>
                </a:lnTo>
                <a:lnTo>
                  <a:pt x="4" y="490"/>
                </a:lnTo>
                <a:lnTo>
                  <a:pt x="6" y="488"/>
                </a:lnTo>
                <a:lnTo>
                  <a:pt x="10" y="482"/>
                </a:lnTo>
                <a:lnTo>
                  <a:pt x="14" y="480"/>
                </a:lnTo>
                <a:lnTo>
                  <a:pt x="20" y="478"/>
                </a:lnTo>
                <a:lnTo>
                  <a:pt x="27" y="476"/>
                </a:lnTo>
                <a:lnTo>
                  <a:pt x="33" y="476"/>
                </a:lnTo>
                <a:lnTo>
                  <a:pt x="43" y="478"/>
                </a:lnTo>
                <a:lnTo>
                  <a:pt x="52" y="482"/>
                </a:lnTo>
                <a:lnTo>
                  <a:pt x="58" y="484"/>
                </a:lnTo>
                <a:lnTo>
                  <a:pt x="66" y="488"/>
                </a:lnTo>
                <a:lnTo>
                  <a:pt x="73" y="492"/>
                </a:lnTo>
                <a:lnTo>
                  <a:pt x="83" y="496"/>
                </a:lnTo>
                <a:lnTo>
                  <a:pt x="92" y="498"/>
                </a:lnTo>
                <a:lnTo>
                  <a:pt x="102" y="498"/>
                </a:lnTo>
                <a:lnTo>
                  <a:pt x="110" y="498"/>
                </a:lnTo>
                <a:lnTo>
                  <a:pt x="119" y="496"/>
                </a:lnTo>
                <a:lnTo>
                  <a:pt x="129" y="492"/>
                </a:lnTo>
                <a:lnTo>
                  <a:pt x="137" y="48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104"/>
          <p:cNvSpPr/>
          <p:nvPr/>
        </p:nvSpPr>
        <p:spPr>
          <a:xfrm>
            <a:off x="6230880" y="3270240"/>
            <a:ext cx="552600" cy="228600"/>
          </a:xfrm>
          <a:custGeom>
            <a:avLst/>
            <a:gdLst/>
            <a:ahLst/>
            <a:rect l="l" t="t" r="r" b="b"/>
            <a:pathLst>
              <a:path w="697" h="290">
                <a:moveTo>
                  <a:pt x="637" y="123"/>
                </a:moveTo>
                <a:lnTo>
                  <a:pt x="630" y="129"/>
                </a:lnTo>
                <a:lnTo>
                  <a:pt x="620" y="136"/>
                </a:lnTo>
                <a:lnTo>
                  <a:pt x="611" y="144"/>
                </a:lnTo>
                <a:lnTo>
                  <a:pt x="601" y="150"/>
                </a:lnTo>
                <a:lnTo>
                  <a:pt x="589" y="158"/>
                </a:lnTo>
                <a:lnTo>
                  <a:pt x="576" y="163"/>
                </a:lnTo>
                <a:lnTo>
                  <a:pt x="563" y="169"/>
                </a:lnTo>
                <a:lnTo>
                  <a:pt x="549" y="177"/>
                </a:lnTo>
                <a:lnTo>
                  <a:pt x="532" y="182"/>
                </a:lnTo>
                <a:lnTo>
                  <a:pt x="516" y="188"/>
                </a:lnTo>
                <a:lnTo>
                  <a:pt x="499" y="194"/>
                </a:lnTo>
                <a:lnTo>
                  <a:pt x="480" y="202"/>
                </a:lnTo>
                <a:lnTo>
                  <a:pt x="461" y="207"/>
                </a:lnTo>
                <a:lnTo>
                  <a:pt x="440" y="215"/>
                </a:lnTo>
                <a:lnTo>
                  <a:pt x="419" y="223"/>
                </a:lnTo>
                <a:lnTo>
                  <a:pt x="397" y="230"/>
                </a:lnTo>
                <a:lnTo>
                  <a:pt x="374" y="238"/>
                </a:lnTo>
                <a:lnTo>
                  <a:pt x="353" y="244"/>
                </a:lnTo>
                <a:lnTo>
                  <a:pt x="332" y="250"/>
                </a:lnTo>
                <a:lnTo>
                  <a:pt x="311" y="255"/>
                </a:lnTo>
                <a:lnTo>
                  <a:pt x="292" y="261"/>
                </a:lnTo>
                <a:lnTo>
                  <a:pt x="273" y="265"/>
                </a:lnTo>
                <a:lnTo>
                  <a:pt x="253" y="269"/>
                </a:lnTo>
                <a:lnTo>
                  <a:pt x="236" y="273"/>
                </a:lnTo>
                <a:lnTo>
                  <a:pt x="219" y="275"/>
                </a:lnTo>
                <a:lnTo>
                  <a:pt x="204" y="278"/>
                </a:lnTo>
                <a:lnTo>
                  <a:pt x="188" y="280"/>
                </a:lnTo>
                <a:lnTo>
                  <a:pt x="173" y="282"/>
                </a:lnTo>
                <a:lnTo>
                  <a:pt x="159" y="282"/>
                </a:lnTo>
                <a:lnTo>
                  <a:pt x="146" y="284"/>
                </a:lnTo>
                <a:lnTo>
                  <a:pt x="133" y="284"/>
                </a:lnTo>
                <a:lnTo>
                  <a:pt x="121" y="284"/>
                </a:lnTo>
                <a:lnTo>
                  <a:pt x="108" y="286"/>
                </a:lnTo>
                <a:lnTo>
                  <a:pt x="96" y="288"/>
                </a:lnTo>
                <a:lnTo>
                  <a:pt x="85" y="290"/>
                </a:lnTo>
                <a:lnTo>
                  <a:pt x="73" y="290"/>
                </a:lnTo>
                <a:lnTo>
                  <a:pt x="63" y="290"/>
                </a:lnTo>
                <a:lnTo>
                  <a:pt x="54" y="288"/>
                </a:lnTo>
                <a:lnTo>
                  <a:pt x="46" y="288"/>
                </a:lnTo>
                <a:lnTo>
                  <a:pt x="39" y="286"/>
                </a:lnTo>
                <a:lnTo>
                  <a:pt x="31" y="284"/>
                </a:lnTo>
                <a:lnTo>
                  <a:pt x="25" y="280"/>
                </a:lnTo>
                <a:lnTo>
                  <a:pt x="19" y="278"/>
                </a:lnTo>
                <a:lnTo>
                  <a:pt x="15" y="275"/>
                </a:lnTo>
                <a:lnTo>
                  <a:pt x="10" y="271"/>
                </a:lnTo>
                <a:lnTo>
                  <a:pt x="6" y="267"/>
                </a:lnTo>
                <a:lnTo>
                  <a:pt x="4" y="261"/>
                </a:lnTo>
                <a:lnTo>
                  <a:pt x="2" y="257"/>
                </a:lnTo>
                <a:lnTo>
                  <a:pt x="0" y="255"/>
                </a:lnTo>
                <a:lnTo>
                  <a:pt x="0" y="253"/>
                </a:lnTo>
                <a:lnTo>
                  <a:pt x="0" y="252"/>
                </a:lnTo>
                <a:lnTo>
                  <a:pt x="2" y="250"/>
                </a:lnTo>
                <a:lnTo>
                  <a:pt x="4" y="248"/>
                </a:lnTo>
                <a:lnTo>
                  <a:pt x="6" y="246"/>
                </a:lnTo>
                <a:lnTo>
                  <a:pt x="10" y="242"/>
                </a:lnTo>
                <a:lnTo>
                  <a:pt x="12" y="240"/>
                </a:lnTo>
                <a:lnTo>
                  <a:pt x="17" y="236"/>
                </a:lnTo>
                <a:lnTo>
                  <a:pt x="21" y="232"/>
                </a:lnTo>
                <a:lnTo>
                  <a:pt x="27" y="230"/>
                </a:lnTo>
                <a:lnTo>
                  <a:pt x="33" y="227"/>
                </a:lnTo>
                <a:lnTo>
                  <a:pt x="40" y="223"/>
                </a:lnTo>
                <a:lnTo>
                  <a:pt x="48" y="217"/>
                </a:lnTo>
                <a:lnTo>
                  <a:pt x="56" y="213"/>
                </a:lnTo>
                <a:lnTo>
                  <a:pt x="63" y="209"/>
                </a:lnTo>
                <a:lnTo>
                  <a:pt x="73" y="204"/>
                </a:lnTo>
                <a:lnTo>
                  <a:pt x="83" y="200"/>
                </a:lnTo>
                <a:lnTo>
                  <a:pt x="94" y="194"/>
                </a:lnTo>
                <a:lnTo>
                  <a:pt x="106" y="188"/>
                </a:lnTo>
                <a:lnTo>
                  <a:pt x="117" y="182"/>
                </a:lnTo>
                <a:lnTo>
                  <a:pt x="131" y="177"/>
                </a:lnTo>
                <a:lnTo>
                  <a:pt x="142" y="171"/>
                </a:lnTo>
                <a:lnTo>
                  <a:pt x="156" y="165"/>
                </a:lnTo>
                <a:lnTo>
                  <a:pt x="171" y="158"/>
                </a:lnTo>
                <a:lnTo>
                  <a:pt x="186" y="152"/>
                </a:lnTo>
                <a:lnTo>
                  <a:pt x="202" y="146"/>
                </a:lnTo>
                <a:lnTo>
                  <a:pt x="217" y="138"/>
                </a:lnTo>
                <a:lnTo>
                  <a:pt x="234" y="131"/>
                </a:lnTo>
                <a:lnTo>
                  <a:pt x="252" y="123"/>
                </a:lnTo>
                <a:lnTo>
                  <a:pt x="271" y="117"/>
                </a:lnTo>
                <a:lnTo>
                  <a:pt x="290" y="110"/>
                </a:lnTo>
                <a:lnTo>
                  <a:pt x="307" y="102"/>
                </a:lnTo>
                <a:lnTo>
                  <a:pt x="326" y="96"/>
                </a:lnTo>
                <a:lnTo>
                  <a:pt x="344" y="90"/>
                </a:lnTo>
                <a:lnTo>
                  <a:pt x="361" y="85"/>
                </a:lnTo>
                <a:lnTo>
                  <a:pt x="378" y="79"/>
                </a:lnTo>
                <a:lnTo>
                  <a:pt x="396" y="73"/>
                </a:lnTo>
                <a:lnTo>
                  <a:pt x="411" y="67"/>
                </a:lnTo>
                <a:lnTo>
                  <a:pt x="426" y="63"/>
                </a:lnTo>
                <a:lnTo>
                  <a:pt x="442" y="58"/>
                </a:lnTo>
                <a:lnTo>
                  <a:pt x="455" y="54"/>
                </a:lnTo>
                <a:lnTo>
                  <a:pt x="468" y="48"/>
                </a:lnTo>
                <a:lnTo>
                  <a:pt x="482" y="44"/>
                </a:lnTo>
                <a:lnTo>
                  <a:pt x="495" y="40"/>
                </a:lnTo>
                <a:lnTo>
                  <a:pt x="509" y="37"/>
                </a:lnTo>
                <a:lnTo>
                  <a:pt x="520" y="33"/>
                </a:lnTo>
                <a:lnTo>
                  <a:pt x="532" y="29"/>
                </a:lnTo>
                <a:lnTo>
                  <a:pt x="543" y="25"/>
                </a:lnTo>
                <a:lnTo>
                  <a:pt x="553" y="23"/>
                </a:lnTo>
                <a:lnTo>
                  <a:pt x="563" y="19"/>
                </a:lnTo>
                <a:lnTo>
                  <a:pt x="572" y="17"/>
                </a:lnTo>
                <a:lnTo>
                  <a:pt x="582" y="14"/>
                </a:lnTo>
                <a:lnTo>
                  <a:pt x="589" y="12"/>
                </a:lnTo>
                <a:lnTo>
                  <a:pt x="599" y="10"/>
                </a:lnTo>
                <a:lnTo>
                  <a:pt x="607" y="8"/>
                </a:lnTo>
                <a:lnTo>
                  <a:pt x="612" y="6"/>
                </a:lnTo>
                <a:lnTo>
                  <a:pt x="620" y="4"/>
                </a:lnTo>
                <a:lnTo>
                  <a:pt x="626" y="4"/>
                </a:lnTo>
                <a:lnTo>
                  <a:pt x="632" y="2"/>
                </a:lnTo>
                <a:lnTo>
                  <a:pt x="635" y="2"/>
                </a:lnTo>
                <a:lnTo>
                  <a:pt x="641" y="2"/>
                </a:lnTo>
                <a:lnTo>
                  <a:pt x="645" y="0"/>
                </a:lnTo>
                <a:lnTo>
                  <a:pt x="649" y="0"/>
                </a:lnTo>
                <a:lnTo>
                  <a:pt x="655" y="0"/>
                </a:lnTo>
                <a:lnTo>
                  <a:pt x="660" y="2"/>
                </a:lnTo>
                <a:lnTo>
                  <a:pt x="666" y="2"/>
                </a:lnTo>
                <a:lnTo>
                  <a:pt x="672" y="2"/>
                </a:lnTo>
                <a:lnTo>
                  <a:pt x="676" y="4"/>
                </a:lnTo>
                <a:lnTo>
                  <a:pt x="680" y="6"/>
                </a:lnTo>
                <a:lnTo>
                  <a:pt x="685" y="10"/>
                </a:lnTo>
                <a:lnTo>
                  <a:pt x="691" y="14"/>
                </a:lnTo>
                <a:lnTo>
                  <a:pt x="695" y="17"/>
                </a:lnTo>
                <a:lnTo>
                  <a:pt x="695" y="23"/>
                </a:lnTo>
                <a:lnTo>
                  <a:pt x="697" y="27"/>
                </a:lnTo>
                <a:lnTo>
                  <a:pt x="697" y="33"/>
                </a:lnTo>
                <a:lnTo>
                  <a:pt x="695" y="38"/>
                </a:lnTo>
                <a:lnTo>
                  <a:pt x="693" y="42"/>
                </a:lnTo>
                <a:lnTo>
                  <a:pt x="691" y="48"/>
                </a:lnTo>
                <a:lnTo>
                  <a:pt x="689" y="54"/>
                </a:lnTo>
                <a:lnTo>
                  <a:pt x="687" y="58"/>
                </a:lnTo>
                <a:lnTo>
                  <a:pt x="680" y="69"/>
                </a:lnTo>
                <a:lnTo>
                  <a:pt x="672" y="81"/>
                </a:lnTo>
                <a:lnTo>
                  <a:pt x="660" y="94"/>
                </a:lnTo>
                <a:lnTo>
                  <a:pt x="649" y="108"/>
                </a:lnTo>
                <a:lnTo>
                  <a:pt x="637" y="1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4"/>
          <p:cNvSpPr/>
          <p:nvPr/>
        </p:nvSpPr>
        <p:spPr>
          <a:xfrm>
            <a:off x="2224080" y="253224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售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114880" y="2382840"/>
          <a:ext cx="2941560" cy="3040200"/>
        </p:xfrm>
        <a:graphic>
          <a:graphicData uri="http://schemas.openxmlformats.org/drawingml/2006/table">
            <a:tbl>
              <a:tblPr/>
              <a:tblGrid>
                <a:gridCol w="1471680"/>
                <a:gridCol w="146988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7" name="组合 3"/>
          <p:cNvGrpSpPr/>
          <p:nvPr/>
        </p:nvGrpSpPr>
        <p:grpSpPr>
          <a:xfrm>
            <a:off x="1376280" y="3975120"/>
            <a:ext cx="3033720" cy="1572480"/>
            <a:chOff x="1376280" y="3975120"/>
            <a:chExt cx="3033720" cy="1572480"/>
          </a:xfrm>
        </p:grpSpPr>
        <p:pic>
          <p:nvPicPr>
            <p:cNvPr id="178" name="图示 4" descr=""/>
            <p:cNvPicPr/>
            <p:nvPr/>
          </p:nvPicPr>
          <p:blipFill>
            <a:blip r:embed="rId1"/>
            <a:stretch/>
          </p:blipFill>
          <p:spPr>
            <a:xfrm>
              <a:off x="1376280" y="3975120"/>
              <a:ext cx="303372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矩形 2"/>
            <p:cNvSpPr/>
            <p:nvPr/>
          </p:nvSpPr>
          <p:spPr>
            <a:xfrm>
              <a:off x="1386720" y="4588200"/>
              <a:ext cx="301356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隹”的四横间距均匀；“口”稍扁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矩形 2"/>
          <p:cNvSpPr/>
          <p:nvPr/>
        </p:nvSpPr>
        <p:spPr>
          <a:xfrm>
            <a:off x="1936800" y="1855800"/>
            <a:ext cx="164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òu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114"/>
          <p:cNvSpPr/>
          <p:nvPr/>
        </p:nvSpPr>
        <p:spPr>
          <a:xfrm>
            <a:off x="6154560" y="4344840"/>
            <a:ext cx="1378080" cy="497160"/>
          </a:xfrm>
          <a:custGeom>
            <a:avLst/>
            <a:gdLst/>
            <a:ahLst/>
            <a:rect l="l" t="t" r="r" b="b"/>
            <a:pathLst>
              <a:path w="1735" h="626">
                <a:moveTo>
                  <a:pt x="1733" y="265"/>
                </a:moveTo>
                <a:lnTo>
                  <a:pt x="1727" y="273"/>
                </a:lnTo>
                <a:lnTo>
                  <a:pt x="1720" y="281"/>
                </a:lnTo>
                <a:lnTo>
                  <a:pt x="1710" y="286"/>
                </a:lnTo>
                <a:lnTo>
                  <a:pt x="1704" y="290"/>
                </a:lnTo>
                <a:lnTo>
                  <a:pt x="1699" y="292"/>
                </a:lnTo>
                <a:lnTo>
                  <a:pt x="1693" y="294"/>
                </a:lnTo>
                <a:lnTo>
                  <a:pt x="1685" y="296"/>
                </a:lnTo>
                <a:lnTo>
                  <a:pt x="1677" y="298"/>
                </a:lnTo>
                <a:lnTo>
                  <a:pt x="1670" y="300"/>
                </a:lnTo>
                <a:lnTo>
                  <a:pt x="1662" y="300"/>
                </a:lnTo>
                <a:lnTo>
                  <a:pt x="1652" y="300"/>
                </a:lnTo>
                <a:lnTo>
                  <a:pt x="1643" y="302"/>
                </a:lnTo>
                <a:lnTo>
                  <a:pt x="1631" y="302"/>
                </a:lnTo>
                <a:lnTo>
                  <a:pt x="1626" y="304"/>
                </a:lnTo>
                <a:lnTo>
                  <a:pt x="1618" y="306"/>
                </a:lnTo>
                <a:lnTo>
                  <a:pt x="1610" y="307"/>
                </a:lnTo>
                <a:lnTo>
                  <a:pt x="1603" y="311"/>
                </a:lnTo>
                <a:lnTo>
                  <a:pt x="1595" y="313"/>
                </a:lnTo>
                <a:lnTo>
                  <a:pt x="1587" y="319"/>
                </a:lnTo>
                <a:lnTo>
                  <a:pt x="1580" y="323"/>
                </a:lnTo>
                <a:lnTo>
                  <a:pt x="1572" y="329"/>
                </a:lnTo>
                <a:lnTo>
                  <a:pt x="1564" y="334"/>
                </a:lnTo>
                <a:lnTo>
                  <a:pt x="1555" y="340"/>
                </a:lnTo>
                <a:lnTo>
                  <a:pt x="1547" y="348"/>
                </a:lnTo>
                <a:lnTo>
                  <a:pt x="1537" y="355"/>
                </a:lnTo>
                <a:lnTo>
                  <a:pt x="1528" y="363"/>
                </a:lnTo>
                <a:lnTo>
                  <a:pt x="1518" y="373"/>
                </a:lnTo>
                <a:lnTo>
                  <a:pt x="1509" y="380"/>
                </a:lnTo>
                <a:lnTo>
                  <a:pt x="1499" y="392"/>
                </a:lnTo>
                <a:lnTo>
                  <a:pt x="1489" y="402"/>
                </a:lnTo>
                <a:lnTo>
                  <a:pt x="1480" y="413"/>
                </a:lnTo>
                <a:lnTo>
                  <a:pt x="1468" y="425"/>
                </a:lnTo>
                <a:lnTo>
                  <a:pt x="1459" y="436"/>
                </a:lnTo>
                <a:lnTo>
                  <a:pt x="1447" y="450"/>
                </a:lnTo>
                <a:lnTo>
                  <a:pt x="1438" y="463"/>
                </a:lnTo>
                <a:lnTo>
                  <a:pt x="1426" y="476"/>
                </a:lnTo>
                <a:lnTo>
                  <a:pt x="1414" y="490"/>
                </a:lnTo>
                <a:lnTo>
                  <a:pt x="1403" y="505"/>
                </a:lnTo>
                <a:lnTo>
                  <a:pt x="1390" y="521"/>
                </a:lnTo>
                <a:lnTo>
                  <a:pt x="1378" y="538"/>
                </a:lnTo>
                <a:lnTo>
                  <a:pt x="1366" y="553"/>
                </a:lnTo>
                <a:lnTo>
                  <a:pt x="1353" y="570"/>
                </a:lnTo>
                <a:lnTo>
                  <a:pt x="1340" y="590"/>
                </a:lnTo>
                <a:lnTo>
                  <a:pt x="1328" y="607"/>
                </a:lnTo>
                <a:lnTo>
                  <a:pt x="1315" y="626"/>
                </a:lnTo>
                <a:lnTo>
                  <a:pt x="1234" y="626"/>
                </a:lnTo>
                <a:lnTo>
                  <a:pt x="1155" y="626"/>
                </a:lnTo>
                <a:lnTo>
                  <a:pt x="1161" y="609"/>
                </a:lnTo>
                <a:lnTo>
                  <a:pt x="1169" y="592"/>
                </a:lnTo>
                <a:lnTo>
                  <a:pt x="1175" y="574"/>
                </a:lnTo>
                <a:lnTo>
                  <a:pt x="1180" y="557"/>
                </a:lnTo>
                <a:lnTo>
                  <a:pt x="1186" y="542"/>
                </a:lnTo>
                <a:lnTo>
                  <a:pt x="1192" y="526"/>
                </a:lnTo>
                <a:lnTo>
                  <a:pt x="1198" y="511"/>
                </a:lnTo>
                <a:lnTo>
                  <a:pt x="1203" y="498"/>
                </a:lnTo>
                <a:lnTo>
                  <a:pt x="1213" y="471"/>
                </a:lnTo>
                <a:lnTo>
                  <a:pt x="1223" y="444"/>
                </a:lnTo>
                <a:lnTo>
                  <a:pt x="1232" y="421"/>
                </a:lnTo>
                <a:lnTo>
                  <a:pt x="1240" y="400"/>
                </a:lnTo>
                <a:lnTo>
                  <a:pt x="1247" y="379"/>
                </a:lnTo>
                <a:lnTo>
                  <a:pt x="1253" y="361"/>
                </a:lnTo>
                <a:lnTo>
                  <a:pt x="1259" y="344"/>
                </a:lnTo>
                <a:lnTo>
                  <a:pt x="1263" y="331"/>
                </a:lnTo>
                <a:lnTo>
                  <a:pt x="1267" y="317"/>
                </a:lnTo>
                <a:lnTo>
                  <a:pt x="1269" y="306"/>
                </a:lnTo>
                <a:lnTo>
                  <a:pt x="1271" y="296"/>
                </a:lnTo>
                <a:lnTo>
                  <a:pt x="1271" y="290"/>
                </a:lnTo>
                <a:lnTo>
                  <a:pt x="1271" y="277"/>
                </a:lnTo>
                <a:lnTo>
                  <a:pt x="1269" y="265"/>
                </a:lnTo>
                <a:lnTo>
                  <a:pt x="1265" y="254"/>
                </a:lnTo>
                <a:lnTo>
                  <a:pt x="1261" y="242"/>
                </a:lnTo>
                <a:lnTo>
                  <a:pt x="1257" y="233"/>
                </a:lnTo>
                <a:lnTo>
                  <a:pt x="1253" y="223"/>
                </a:lnTo>
                <a:lnTo>
                  <a:pt x="1242" y="206"/>
                </a:lnTo>
                <a:lnTo>
                  <a:pt x="1240" y="202"/>
                </a:lnTo>
                <a:lnTo>
                  <a:pt x="1236" y="200"/>
                </a:lnTo>
                <a:lnTo>
                  <a:pt x="1230" y="198"/>
                </a:lnTo>
                <a:lnTo>
                  <a:pt x="1224" y="196"/>
                </a:lnTo>
                <a:lnTo>
                  <a:pt x="1219" y="196"/>
                </a:lnTo>
                <a:lnTo>
                  <a:pt x="1213" y="194"/>
                </a:lnTo>
                <a:lnTo>
                  <a:pt x="1205" y="192"/>
                </a:lnTo>
                <a:lnTo>
                  <a:pt x="1196" y="192"/>
                </a:lnTo>
                <a:lnTo>
                  <a:pt x="1188" y="190"/>
                </a:lnTo>
                <a:lnTo>
                  <a:pt x="1178" y="190"/>
                </a:lnTo>
                <a:lnTo>
                  <a:pt x="1167" y="188"/>
                </a:lnTo>
                <a:lnTo>
                  <a:pt x="1155" y="188"/>
                </a:lnTo>
                <a:lnTo>
                  <a:pt x="1144" y="188"/>
                </a:lnTo>
                <a:lnTo>
                  <a:pt x="1130" y="188"/>
                </a:lnTo>
                <a:lnTo>
                  <a:pt x="1117" y="188"/>
                </a:lnTo>
                <a:lnTo>
                  <a:pt x="1104" y="188"/>
                </a:lnTo>
                <a:lnTo>
                  <a:pt x="1088" y="188"/>
                </a:lnTo>
                <a:lnTo>
                  <a:pt x="1073" y="188"/>
                </a:lnTo>
                <a:lnTo>
                  <a:pt x="1056" y="190"/>
                </a:lnTo>
                <a:lnTo>
                  <a:pt x="1038" y="190"/>
                </a:lnTo>
                <a:lnTo>
                  <a:pt x="1021" y="192"/>
                </a:lnTo>
                <a:lnTo>
                  <a:pt x="1004" y="192"/>
                </a:lnTo>
                <a:lnTo>
                  <a:pt x="985" y="194"/>
                </a:lnTo>
                <a:lnTo>
                  <a:pt x="963" y="196"/>
                </a:lnTo>
                <a:lnTo>
                  <a:pt x="942" y="198"/>
                </a:lnTo>
                <a:lnTo>
                  <a:pt x="921" y="200"/>
                </a:lnTo>
                <a:lnTo>
                  <a:pt x="900" y="202"/>
                </a:lnTo>
                <a:lnTo>
                  <a:pt x="877" y="206"/>
                </a:lnTo>
                <a:lnTo>
                  <a:pt x="854" y="208"/>
                </a:lnTo>
                <a:lnTo>
                  <a:pt x="829" y="210"/>
                </a:lnTo>
                <a:lnTo>
                  <a:pt x="806" y="213"/>
                </a:lnTo>
                <a:lnTo>
                  <a:pt x="779" y="217"/>
                </a:lnTo>
                <a:lnTo>
                  <a:pt x="725" y="223"/>
                </a:lnTo>
                <a:lnTo>
                  <a:pt x="674" y="229"/>
                </a:lnTo>
                <a:lnTo>
                  <a:pt x="620" y="235"/>
                </a:lnTo>
                <a:lnTo>
                  <a:pt x="568" y="240"/>
                </a:lnTo>
                <a:lnTo>
                  <a:pt x="518" y="244"/>
                </a:lnTo>
                <a:lnTo>
                  <a:pt x="466" y="248"/>
                </a:lnTo>
                <a:lnTo>
                  <a:pt x="416" y="252"/>
                </a:lnTo>
                <a:lnTo>
                  <a:pt x="368" y="254"/>
                </a:lnTo>
                <a:lnTo>
                  <a:pt x="320" y="256"/>
                </a:lnTo>
                <a:lnTo>
                  <a:pt x="272" y="258"/>
                </a:lnTo>
                <a:lnTo>
                  <a:pt x="224" y="258"/>
                </a:lnTo>
                <a:lnTo>
                  <a:pt x="178" y="258"/>
                </a:lnTo>
                <a:lnTo>
                  <a:pt x="132" y="258"/>
                </a:lnTo>
                <a:lnTo>
                  <a:pt x="88" y="258"/>
                </a:lnTo>
                <a:lnTo>
                  <a:pt x="44" y="256"/>
                </a:lnTo>
                <a:lnTo>
                  <a:pt x="0" y="254"/>
                </a:lnTo>
                <a:lnTo>
                  <a:pt x="0" y="158"/>
                </a:lnTo>
                <a:lnTo>
                  <a:pt x="59" y="156"/>
                </a:lnTo>
                <a:lnTo>
                  <a:pt x="117" y="154"/>
                </a:lnTo>
                <a:lnTo>
                  <a:pt x="173" y="152"/>
                </a:lnTo>
                <a:lnTo>
                  <a:pt x="228" y="150"/>
                </a:lnTo>
                <a:lnTo>
                  <a:pt x="280" y="146"/>
                </a:lnTo>
                <a:lnTo>
                  <a:pt x="334" y="142"/>
                </a:lnTo>
                <a:lnTo>
                  <a:pt x="384" y="137"/>
                </a:lnTo>
                <a:lnTo>
                  <a:pt x="434" y="133"/>
                </a:lnTo>
                <a:lnTo>
                  <a:pt x="459" y="131"/>
                </a:lnTo>
                <a:lnTo>
                  <a:pt x="484" y="129"/>
                </a:lnTo>
                <a:lnTo>
                  <a:pt x="510" y="125"/>
                </a:lnTo>
                <a:lnTo>
                  <a:pt x="539" y="123"/>
                </a:lnTo>
                <a:lnTo>
                  <a:pt x="566" y="121"/>
                </a:lnTo>
                <a:lnTo>
                  <a:pt x="597" y="119"/>
                </a:lnTo>
                <a:lnTo>
                  <a:pt x="626" y="117"/>
                </a:lnTo>
                <a:lnTo>
                  <a:pt x="656" y="116"/>
                </a:lnTo>
                <a:lnTo>
                  <a:pt x="689" y="112"/>
                </a:lnTo>
                <a:lnTo>
                  <a:pt x="722" y="110"/>
                </a:lnTo>
                <a:lnTo>
                  <a:pt x="754" y="108"/>
                </a:lnTo>
                <a:lnTo>
                  <a:pt x="787" y="106"/>
                </a:lnTo>
                <a:lnTo>
                  <a:pt x="819" y="104"/>
                </a:lnTo>
                <a:lnTo>
                  <a:pt x="854" y="102"/>
                </a:lnTo>
                <a:lnTo>
                  <a:pt x="925" y="96"/>
                </a:lnTo>
                <a:lnTo>
                  <a:pt x="942" y="96"/>
                </a:lnTo>
                <a:lnTo>
                  <a:pt x="958" y="94"/>
                </a:lnTo>
                <a:lnTo>
                  <a:pt x="975" y="93"/>
                </a:lnTo>
                <a:lnTo>
                  <a:pt x="990" y="93"/>
                </a:lnTo>
                <a:lnTo>
                  <a:pt x="1006" y="91"/>
                </a:lnTo>
                <a:lnTo>
                  <a:pt x="1021" y="89"/>
                </a:lnTo>
                <a:lnTo>
                  <a:pt x="1034" y="87"/>
                </a:lnTo>
                <a:lnTo>
                  <a:pt x="1050" y="85"/>
                </a:lnTo>
                <a:lnTo>
                  <a:pt x="1063" y="85"/>
                </a:lnTo>
                <a:lnTo>
                  <a:pt x="1075" y="83"/>
                </a:lnTo>
                <a:lnTo>
                  <a:pt x="1088" y="81"/>
                </a:lnTo>
                <a:lnTo>
                  <a:pt x="1100" y="79"/>
                </a:lnTo>
                <a:lnTo>
                  <a:pt x="1123" y="75"/>
                </a:lnTo>
                <a:lnTo>
                  <a:pt x="1144" y="71"/>
                </a:lnTo>
                <a:lnTo>
                  <a:pt x="1161" y="68"/>
                </a:lnTo>
                <a:lnTo>
                  <a:pt x="1178" y="64"/>
                </a:lnTo>
                <a:lnTo>
                  <a:pt x="1194" y="58"/>
                </a:lnTo>
                <a:lnTo>
                  <a:pt x="1207" y="54"/>
                </a:lnTo>
                <a:lnTo>
                  <a:pt x="1219" y="50"/>
                </a:lnTo>
                <a:lnTo>
                  <a:pt x="1228" y="46"/>
                </a:lnTo>
                <a:lnTo>
                  <a:pt x="1236" y="41"/>
                </a:lnTo>
                <a:lnTo>
                  <a:pt x="1242" y="37"/>
                </a:lnTo>
                <a:lnTo>
                  <a:pt x="1253" y="27"/>
                </a:lnTo>
                <a:lnTo>
                  <a:pt x="1265" y="20"/>
                </a:lnTo>
                <a:lnTo>
                  <a:pt x="1274" y="14"/>
                </a:lnTo>
                <a:lnTo>
                  <a:pt x="1288" y="10"/>
                </a:lnTo>
                <a:lnTo>
                  <a:pt x="1299" y="6"/>
                </a:lnTo>
                <a:lnTo>
                  <a:pt x="1313" y="2"/>
                </a:lnTo>
                <a:lnTo>
                  <a:pt x="1328" y="0"/>
                </a:lnTo>
                <a:lnTo>
                  <a:pt x="1343" y="0"/>
                </a:lnTo>
                <a:lnTo>
                  <a:pt x="1349" y="2"/>
                </a:lnTo>
                <a:lnTo>
                  <a:pt x="1355" y="6"/>
                </a:lnTo>
                <a:lnTo>
                  <a:pt x="1365" y="10"/>
                </a:lnTo>
                <a:lnTo>
                  <a:pt x="1372" y="14"/>
                </a:lnTo>
                <a:lnTo>
                  <a:pt x="1384" y="18"/>
                </a:lnTo>
                <a:lnTo>
                  <a:pt x="1395" y="23"/>
                </a:lnTo>
                <a:lnTo>
                  <a:pt x="1407" y="29"/>
                </a:lnTo>
                <a:lnTo>
                  <a:pt x="1420" y="37"/>
                </a:lnTo>
                <a:lnTo>
                  <a:pt x="1436" y="43"/>
                </a:lnTo>
                <a:lnTo>
                  <a:pt x="1451" y="50"/>
                </a:lnTo>
                <a:lnTo>
                  <a:pt x="1468" y="58"/>
                </a:lnTo>
                <a:lnTo>
                  <a:pt x="1487" y="68"/>
                </a:lnTo>
                <a:lnTo>
                  <a:pt x="1507" y="77"/>
                </a:lnTo>
                <a:lnTo>
                  <a:pt x="1528" y="87"/>
                </a:lnTo>
                <a:lnTo>
                  <a:pt x="1551" y="98"/>
                </a:lnTo>
                <a:lnTo>
                  <a:pt x="1574" y="110"/>
                </a:lnTo>
                <a:lnTo>
                  <a:pt x="1595" y="121"/>
                </a:lnTo>
                <a:lnTo>
                  <a:pt x="1614" y="135"/>
                </a:lnTo>
                <a:lnTo>
                  <a:pt x="1633" y="148"/>
                </a:lnTo>
                <a:lnTo>
                  <a:pt x="1649" y="160"/>
                </a:lnTo>
                <a:lnTo>
                  <a:pt x="1664" y="169"/>
                </a:lnTo>
                <a:lnTo>
                  <a:pt x="1679" y="181"/>
                </a:lnTo>
                <a:lnTo>
                  <a:pt x="1691" y="190"/>
                </a:lnTo>
                <a:lnTo>
                  <a:pt x="1702" y="200"/>
                </a:lnTo>
                <a:lnTo>
                  <a:pt x="1712" y="210"/>
                </a:lnTo>
                <a:lnTo>
                  <a:pt x="1720" y="219"/>
                </a:lnTo>
                <a:lnTo>
                  <a:pt x="1725" y="227"/>
                </a:lnTo>
                <a:lnTo>
                  <a:pt x="1731" y="236"/>
                </a:lnTo>
                <a:lnTo>
                  <a:pt x="1733" y="244"/>
                </a:lnTo>
                <a:lnTo>
                  <a:pt x="1735" y="252"/>
                </a:lnTo>
                <a:lnTo>
                  <a:pt x="1735" y="258"/>
                </a:lnTo>
                <a:lnTo>
                  <a:pt x="1733" y="26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115"/>
          <p:cNvSpPr/>
          <p:nvPr/>
        </p:nvSpPr>
        <p:spPr>
          <a:xfrm>
            <a:off x="6246720" y="4746600"/>
            <a:ext cx="1111320" cy="162000"/>
          </a:xfrm>
          <a:custGeom>
            <a:avLst/>
            <a:gdLst/>
            <a:ahLst/>
            <a:rect l="l" t="t" r="r" b="b"/>
            <a:pathLst>
              <a:path w="1401" h="204">
                <a:moveTo>
                  <a:pt x="1330" y="35"/>
                </a:moveTo>
                <a:lnTo>
                  <a:pt x="1346" y="44"/>
                </a:lnTo>
                <a:lnTo>
                  <a:pt x="1359" y="54"/>
                </a:lnTo>
                <a:lnTo>
                  <a:pt x="1370" y="62"/>
                </a:lnTo>
                <a:lnTo>
                  <a:pt x="1376" y="67"/>
                </a:lnTo>
                <a:lnTo>
                  <a:pt x="1382" y="71"/>
                </a:lnTo>
                <a:lnTo>
                  <a:pt x="1386" y="75"/>
                </a:lnTo>
                <a:lnTo>
                  <a:pt x="1390" y="81"/>
                </a:lnTo>
                <a:lnTo>
                  <a:pt x="1394" y="85"/>
                </a:lnTo>
                <a:lnTo>
                  <a:pt x="1397" y="88"/>
                </a:lnTo>
                <a:lnTo>
                  <a:pt x="1399" y="94"/>
                </a:lnTo>
                <a:lnTo>
                  <a:pt x="1401" y="98"/>
                </a:lnTo>
                <a:lnTo>
                  <a:pt x="1401" y="102"/>
                </a:lnTo>
                <a:lnTo>
                  <a:pt x="1401" y="108"/>
                </a:lnTo>
                <a:lnTo>
                  <a:pt x="1399" y="110"/>
                </a:lnTo>
                <a:lnTo>
                  <a:pt x="1397" y="111"/>
                </a:lnTo>
                <a:lnTo>
                  <a:pt x="1394" y="113"/>
                </a:lnTo>
                <a:lnTo>
                  <a:pt x="1388" y="117"/>
                </a:lnTo>
                <a:lnTo>
                  <a:pt x="1382" y="119"/>
                </a:lnTo>
                <a:lnTo>
                  <a:pt x="1374" y="121"/>
                </a:lnTo>
                <a:lnTo>
                  <a:pt x="1365" y="123"/>
                </a:lnTo>
                <a:lnTo>
                  <a:pt x="1355" y="125"/>
                </a:lnTo>
                <a:lnTo>
                  <a:pt x="1346" y="127"/>
                </a:lnTo>
                <a:lnTo>
                  <a:pt x="1334" y="131"/>
                </a:lnTo>
                <a:lnTo>
                  <a:pt x="1321" y="133"/>
                </a:lnTo>
                <a:lnTo>
                  <a:pt x="1307" y="134"/>
                </a:lnTo>
                <a:lnTo>
                  <a:pt x="1292" y="136"/>
                </a:lnTo>
                <a:lnTo>
                  <a:pt x="1275" y="138"/>
                </a:lnTo>
                <a:lnTo>
                  <a:pt x="1257" y="140"/>
                </a:lnTo>
                <a:lnTo>
                  <a:pt x="1240" y="144"/>
                </a:lnTo>
                <a:lnTo>
                  <a:pt x="1219" y="146"/>
                </a:lnTo>
                <a:lnTo>
                  <a:pt x="1200" y="148"/>
                </a:lnTo>
                <a:lnTo>
                  <a:pt x="1177" y="150"/>
                </a:lnTo>
                <a:lnTo>
                  <a:pt x="1154" y="152"/>
                </a:lnTo>
                <a:lnTo>
                  <a:pt x="1131" y="156"/>
                </a:lnTo>
                <a:lnTo>
                  <a:pt x="1106" y="158"/>
                </a:lnTo>
                <a:lnTo>
                  <a:pt x="1079" y="159"/>
                </a:lnTo>
                <a:lnTo>
                  <a:pt x="1052" y="161"/>
                </a:lnTo>
                <a:lnTo>
                  <a:pt x="1023" y="163"/>
                </a:lnTo>
                <a:lnTo>
                  <a:pt x="994" y="165"/>
                </a:lnTo>
                <a:lnTo>
                  <a:pt x="964" y="169"/>
                </a:lnTo>
                <a:lnTo>
                  <a:pt x="933" y="171"/>
                </a:lnTo>
                <a:lnTo>
                  <a:pt x="900" y="173"/>
                </a:lnTo>
                <a:lnTo>
                  <a:pt x="866" y="175"/>
                </a:lnTo>
                <a:lnTo>
                  <a:pt x="831" y="177"/>
                </a:lnTo>
                <a:lnTo>
                  <a:pt x="795" y="181"/>
                </a:lnTo>
                <a:lnTo>
                  <a:pt x="756" y="181"/>
                </a:lnTo>
                <a:lnTo>
                  <a:pt x="720" y="182"/>
                </a:lnTo>
                <a:lnTo>
                  <a:pt x="685" y="182"/>
                </a:lnTo>
                <a:lnTo>
                  <a:pt x="651" y="184"/>
                </a:lnTo>
                <a:lnTo>
                  <a:pt x="616" y="184"/>
                </a:lnTo>
                <a:lnTo>
                  <a:pt x="582" y="186"/>
                </a:lnTo>
                <a:lnTo>
                  <a:pt x="549" y="188"/>
                </a:lnTo>
                <a:lnTo>
                  <a:pt x="518" y="188"/>
                </a:lnTo>
                <a:lnTo>
                  <a:pt x="488" y="190"/>
                </a:lnTo>
                <a:lnTo>
                  <a:pt x="457" y="190"/>
                </a:lnTo>
                <a:lnTo>
                  <a:pt x="428" y="192"/>
                </a:lnTo>
                <a:lnTo>
                  <a:pt x="399" y="192"/>
                </a:lnTo>
                <a:lnTo>
                  <a:pt x="372" y="194"/>
                </a:lnTo>
                <a:lnTo>
                  <a:pt x="346" y="194"/>
                </a:lnTo>
                <a:lnTo>
                  <a:pt x="319" y="196"/>
                </a:lnTo>
                <a:lnTo>
                  <a:pt x="294" y="196"/>
                </a:lnTo>
                <a:lnTo>
                  <a:pt x="271" y="198"/>
                </a:lnTo>
                <a:lnTo>
                  <a:pt x="246" y="198"/>
                </a:lnTo>
                <a:lnTo>
                  <a:pt x="225" y="198"/>
                </a:lnTo>
                <a:lnTo>
                  <a:pt x="202" y="200"/>
                </a:lnTo>
                <a:lnTo>
                  <a:pt x="180" y="200"/>
                </a:lnTo>
                <a:lnTo>
                  <a:pt x="161" y="200"/>
                </a:lnTo>
                <a:lnTo>
                  <a:pt x="140" y="202"/>
                </a:lnTo>
                <a:lnTo>
                  <a:pt x="123" y="202"/>
                </a:lnTo>
                <a:lnTo>
                  <a:pt x="104" y="202"/>
                </a:lnTo>
                <a:lnTo>
                  <a:pt x="86" y="202"/>
                </a:lnTo>
                <a:lnTo>
                  <a:pt x="71" y="204"/>
                </a:lnTo>
                <a:lnTo>
                  <a:pt x="56" y="204"/>
                </a:lnTo>
                <a:lnTo>
                  <a:pt x="40" y="204"/>
                </a:lnTo>
                <a:lnTo>
                  <a:pt x="27" y="204"/>
                </a:lnTo>
                <a:lnTo>
                  <a:pt x="14" y="204"/>
                </a:lnTo>
                <a:lnTo>
                  <a:pt x="0" y="204"/>
                </a:lnTo>
                <a:lnTo>
                  <a:pt x="0" y="150"/>
                </a:lnTo>
                <a:lnTo>
                  <a:pt x="0" y="96"/>
                </a:lnTo>
                <a:lnTo>
                  <a:pt x="44" y="94"/>
                </a:lnTo>
                <a:lnTo>
                  <a:pt x="88" y="94"/>
                </a:lnTo>
                <a:lnTo>
                  <a:pt x="133" y="94"/>
                </a:lnTo>
                <a:lnTo>
                  <a:pt x="179" y="92"/>
                </a:lnTo>
                <a:lnTo>
                  <a:pt x="225" y="92"/>
                </a:lnTo>
                <a:lnTo>
                  <a:pt x="273" y="90"/>
                </a:lnTo>
                <a:lnTo>
                  <a:pt x="321" y="88"/>
                </a:lnTo>
                <a:lnTo>
                  <a:pt x="369" y="85"/>
                </a:lnTo>
                <a:lnTo>
                  <a:pt x="418" y="83"/>
                </a:lnTo>
                <a:lnTo>
                  <a:pt x="468" y="79"/>
                </a:lnTo>
                <a:lnTo>
                  <a:pt x="518" y="75"/>
                </a:lnTo>
                <a:lnTo>
                  <a:pt x="568" y="71"/>
                </a:lnTo>
                <a:lnTo>
                  <a:pt x="620" y="65"/>
                </a:lnTo>
                <a:lnTo>
                  <a:pt x="674" y="60"/>
                </a:lnTo>
                <a:lnTo>
                  <a:pt x="726" y="54"/>
                </a:lnTo>
                <a:lnTo>
                  <a:pt x="781" y="48"/>
                </a:lnTo>
                <a:lnTo>
                  <a:pt x="806" y="44"/>
                </a:lnTo>
                <a:lnTo>
                  <a:pt x="831" y="40"/>
                </a:lnTo>
                <a:lnTo>
                  <a:pt x="854" y="37"/>
                </a:lnTo>
                <a:lnTo>
                  <a:pt x="877" y="35"/>
                </a:lnTo>
                <a:lnTo>
                  <a:pt x="900" y="31"/>
                </a:lnTo>
                <a:lnTo>
                  <a:pt x="923" y="29"/>
                </a:lnTo>
                <a:lnTo>
                  <a:pt x="944" y="27"/>
                </a:lnTo>
                <a:lnTo>
                  <a:pt x="964" y="23"/>
                </a:lnTo>
                <a:lnTo>
                  <a:pt x="985" y="21"/>
                </a:lnTo>
                <a:lnTo>
                  <a:pt x="1004" y="19"/>
                </a:lnTo>
                <a:lnTo>
                  <a:pt x="1021" y="17"/>
                </a:lnTo>
                <a:lnTo>
                  <a:pt x="1040" y="15"/>
                </a:lnTo>
                <a:lnTo>
                  <a:pt x="1056" y="14"/>
                </a:lnTo>
                <a:lnTo>
                  <a:pt x="1073" y="12"/>
                </a:lnTo>
                <a:lnTo>
                  <a:pt x="1088" y="12"/>
                </a:lnTo>
                <a:lnTo>
                  <a:pt x="1104" y="10"/>
                </a:lnTo>
                <a:lnTo>
                  <a:pt x="1117" y="8"/>
                </a:lnTo>
                <a:lnTo>
                  <a:pt x="1131" y="6"/>
                </a:lnTo>
                <a:lnTo>
                  <a:pt x="1144" y="6"/>
                </a:lnTo>
                <a:lnTo>
                  <a:pt x="1156" y="4"/>
                </a:lnTo>
                <a:lnTo>
                  <a:pt x="1167" y="4"/>
                </a:lnTo>
                <a:lnTo>
                  <a:pt x="1179" y="2"/>
                </a:lnTo>
                <a:lnTo>
                  <a:pt x="1188" y="2"/>
                </a:lnTo>
                <a:lnTo>
                  <a:pt x="1196" y="2"/>
                </a:lnTo>
                <a:lnTo>
                  <a:pt x="1205" y="0"/>
                </a:lnTo>
                <a:lnTo>
                  <a:pt x="1213" y="0"/>
                </a:lnTo>
                <a:lnTo>
                  <a:pt x="1219" y="0"/>
                </a:lnTo>
                <a:lnTo>
                  <a:pt x="1225" y="0"/>
                </a:lnTo>
                <a:lnTo>
                  <a:pt x="1230" y="0"/>
                </a:lnTo>
                <a:lnTo>
                  <a:pt x="1236" y="0"/>
                </a:lnTo>
                <a:lnTo>
                  <a:pt x="1240" y="0"/>
                </a:lnTo>
                <a:lnTo>
                  <a:pt x="1242" y="0"/>
                </a:lnTo>
                <a:lnTo>
                  <a:pt x="1250" y="0"/>
                </a:lnTo>
                <a:lnTo>
                  <a:pt x="1255" y="2"/>
                </a:lnTo>
                <a:lnTo>
                  <a:pt x="1265" y="4"/>
                </a:lnTo>
                <a:lnTo>
                  <a:pt x="1275" y="8"/>
                </a:lnTo>
                <a:lnTo>
                  <a:pt x="1286" y="14"/>
                </a:lnTo>
                <a:lnTo>
                  <a:pt x="1299" y="19"/>
                </a:lnTo>
                <a:lnTo>
                  <a:pt x="1313" y="27"/>
                </a:lnTo>
                <a:lnTo>
                  <a:pt x="1330" y="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116"/>
          <p:cNvSpPr/>
          <p:nvPr/>
        </p:nvSpPr>
        <p:spPr>
          <a:xfrm>
            <a:off x="6068880" y="4451400"/>
            <a:ext cx="262080" cy="581040"/>
          </a:xfrm>
          <a:custGeom>
            <a:avLst/>
            <a:gdLst/>
            <a:ahLst/>
            <a:rect l="l" t="t" r="r" b="b"/>
            <a:pathLst>
              <a:path w="331" h="733">
                <a:moveTo>
                  <a:pt x="238" y="23"/>
                </a:moveTo>
                <a:lnTo>
                  <a:pt x="246" y="61"/>
                </a:lnTo>
                <a:lnTo>
                  <a:pt x="254" y="101"/>
                </a:lnTo>
                <a:lnTo>
                  <a:pt x="260" y="138"/>
                </a:lnTo>
                <a:lnTo>
                  <a:pt x="267" y="176"/>
                </a:lnTo>
                <a:lnTo>
                  <a:pt x="273" y="211"/>
                </a:lnTo>
                <a:lnTo>
                  <a:pt x="281" y="245"/>
                </a:lnTo>
                <a:lnTo>
                  <a:pt x="286" y="280"/>
                </a:lnTo>
                <a:lnTo>
                  <a:pt x="292" y="313"/>
                </a:lnTo>
                <a:lnTo>
                  <a:pt x="298" y="343"/>
                </a:lnTo>
                <a:lnTo>
                  <a:pt x="302" y="374"/>
                </a:lnTo>
                <a:lnTo>
                  <a:pt x="308" y="405"/>
                </a:lnTo>
                <a:lnTo>
                  <a:pt x="311" y="434"/>
                </a:lnTo>
                <a:lnTo>
                  <a:pt x="315" y="460"/>
                </a:lnTo>
                <a:lnTo>
                  <a:pt x="319" y="489"/>
                </a:lnTo>
                <a:lnTo>
                  <a:pt x="321" y="514"/>
                </a:lnTo>
                <a:lnTo>
                  <a:pt x="325" y="539"/>
                </a:lnTo>
                <a:lnTo>
                  <a:pt x="327" y="564"/>
                </a:lnTo>
                <a:lnTo>
                  <a:pt x="329" y="585"/>
                </a:lnTo>
                <a:lnTo>
                  <a:pt x="331" y="606"/>
                </a:lnTo>
                <a:lnTo>
                  <a:pt x="331" y="625"/>
                </a:lnTo>
                <a:lnTo>
                  <a:pt x="331" y="643"/>
                </a:lnTo>
                <a:lnTo>
                  <a:pt x="331" y="658"/>
                </a:lnTo>
                <a:lnTo>
                  <a:pt x="329" y="673"/>
                </a:lnTo>
                <a:lnTo>
                  <a:pt x="329" y="685"/>
                </a:lnTo>
                <a:lnTo>
                  <a:pt x="327" y="696"/>
                </a:lnTo>
                <a:lnTo>
                  <a:pt x="325" y="706"/>
                </a:lnTo>
                <a:lnTo>
                  <a:pt x="323" y="714"/>
                </a:lnTo>
                <a:lnTo>
                  <a:pt x="321" y="721"/>
                </a:lnTo>
                <a:lnTo>
                  <a:pt x="317" y="725"/>
                </a:lnTo>
                <a:lnTo>
                  <a:pt x="315" y="729"/>
                </a:lnTo>
                <a:lnTo>
                  <a:pt x="313" y="731"/>
                </a:lnTo>
                <a:lnTo>
                  <a:pt x="309" y="733"/>
                </a:lnTo>
                <a:lnTo>
                  <a:pt x="304" y="731"/>
                </a:lnTo>
                <a:lnTo>
                  <a:pt x="300" y="731"/>
                </a:lnTo>
                <a:lnTo>
                  <a:pt x="294" y="729"/>
                </a:lnTo>
                <a:lnTo>
                  <a:pt x="288" y="727"/>
                </a:lnTo>
                <a:lnTo>
                  <a:pt x="283" y="725"/>
                </a:lnTo>
                <a:lnTo>
                  <a:pt x="277" y="723"/>
                </a:lnTo>
                <a:lnTo>
                  <a:pt x="267" y="716"/>
                </a:lnTo>
                <a:lnTo>
                  <a:pt x="256" y="708"/>
                </a:lnTo>
                <a:lnTo>
                  <a:pt x="244" y="696"/>
                </a:lnTo>
                <a:lnTo>
                  <a:pt x="235" y="685"/>
                </a:lnTo>
                <a:lnTo>
                  <a:pt x="223" y="672"/>
                </a:lnTo>
                <a:lnTo>
                  <a:pt x="217" y="664"/>
                </a:lnTo>
                <a:lnTo>
                  <a:pt x="212" y="656"/>
                </a:lnTo>
                <a:lnTo>
                  <a:pt x="208" y="645"/>
                </a:lnTo>
                <a:lnTo>
                  <a:pt x="202" y="633"/>
                </a:lnTo>
                <a:lnTo>
                  <a:pt x="196" y="622"/>
                </a:lnTo>
                <a:lnTo>
                  <a:pt x="190" y="606"/>
                </a:lnTo>
                <a:lnTo>
                  <a:pt x="185" y="593"/>
                </a:lnTo>
                <a:lnTo>
                  <a:pt x="181" y="576"/>
                </a:lnTo>
                <a:lnTo>
                  <a:pt x="175" y="558"/>
                </a:lnTo>
                <a:lnTo>
                  <a:pt x="169" y="539"/>
                </a:lnTo>
                <a:lnTo>
                  <a:pt x="164" y="520"/>
                </a:lnTo>
                <a:lnTo>
                  <a:pt x="158" y="499"/>
                </a:lnTo>
                <a:lnTo>
                  <a:pt x="152" y="478"/>
                </a:lnTo>
                <a:lnTo>
                  <a:pt x="148" y="455"/>
                </a:lnTo>
                <a:lnTo>
                  <a:pt x="142" y="432"/>
                </a:lnTo>
                <a:lnTo>
                  <a:pt x="137" y="407"/>
                </a:lnTo>
                <a:lnTo>
                  <a:pt x="131" y="382"/>
                </a:lnTo>
                <a:lnTo>
                  <a:pt x="125" y="357"/>
                </a:lnTo>
                <a:lnTo>
                  <a:pt x="121" y="332"/>
                </a:lnTo>
                <a:lnTo>
                  <a:pt x="116" y="311"/>
                </a:lnTo>
                <a:lnTo>
                  <a:pt x="110" y="290"/>
                </a:lnTo>
                <a:lnTo>
                  <a:pt x="104" y="270"/>
                </a:lnTo>
                <a:lnTo>
                  <a:pt x="98" y="251"/>
                </a:lnTo>
                <a:lnTo>
                  <a:pt x="93" y="234"/>
                </a:lnTo>
                <a:lnTo>
                  <a:pt x="89" y="219"/>
                </a:lnTo>
                <a:lnTo>
                  <a:pt x="83" y="203"/>
                </a:lnTo>
                <a:lnTo>
                  <a:pt x="77" y="192"/>
                </a:lnTo>
                <a:lnTo>
                  <a:pt x="71" y="178"/>
                </a:lnTo>
                <a:lnTo>
                  <a:pt x="66" y="169"/>
                </a:lnTo>
                <a:lnTo>
                  <a:pt x="60" y="159"/>
                </a:lnTo>
                <a:lnTo>
                  <a:pt x="56" y="149"/>
                </a:lnTo>
                <a:lnTo>
                  <a:pt x="50" y="142"/>
                </a:lnTo>
                <a:lnTo>
                  <a:pt x="43" y="136"/>
                </a:lnTo>
                <a:lnTo>
                  <a:pt x="35" y="128"/>
                </a:lnTo>
                <a:lnTo>
                  <a:pt x="29" y="123"/>
                </a:lnTo>
                <a:lnTo>
                  <a:pt x="23" y="115"/>
                </a:lnTo>
                <a:lnTo>
                  <a:pt x="18" y="109"/>
                </a:lnTo>
                <a:lnTo>
                  <a:pt x="14" y="101"/>
                </a:lnTo>
                <a:lnTo>
                  <a:pt x="10" y="96"/>
                </a:lnTo>
                <a:lnTo>
                  <a:pt x="6" y="88"/>
                </a:lnTo>
                <a:lnTo>
                  <a:pt x="4" y="82"/>
                </a:lnTo>
                <a:lnTo>
                  <a:pt x="2" y="75"/>
                </a:lnTo>
                <a:lnTo>
                  <a:pt x="2" y="67"/>
                </a:lnTo>
                <a:lnTo>
                  <a:pt x="0" y="61"/>
                </a:lnTo>
                <a:lnTo>
                  <a:pt x="2" y="53"/>
                </a:lnTo>
                <a:lnTo>
                  <a:pt x="2" y="48"/>
                </a:lnTo>
                <a:lnTo>
                  <a:pt x="4" y="40"/>
                </a:lnTo>
                <a:lnTo>
                  <a:pt x="6" y="34"/>
                </a:lnTo>
                <a:lnTo>
                  <a:pt x="8" y="27"/>
                </a:lnTo>
                <a:lnTo>
                  <a:pt x="10" y="21"/>
                </a:lnTo>
                <a:lnTo>
                  <a:pt x="14" y="17"/>
                </a:lnTo>
                <a:lnTo>
                  <a:pt x="20" y="11"/>
                </a:lnTo>
                <a:lnTo>
                  <a:pt x="29" y="7"/>
                </a:lnTo>
                <a:lnTo>
                  <a:pt x="39" y="4"/>
                </a:lnTo>
                <a:lnTo>
                  <a:pt x="50" y="2"/>
                </a:lnTo>
                <a:lnTo>
                  <a:pt x="62" y="0"/>
                </a:lnTo>
                <a:lnTo>
                  <a:pt x="77" y="0"/>
                </a:lnTo>
                <a:lnTo>
                  <a:pt x="94" y="0"/>
                </a:lnTo>
                <a:lnTo>
                  <a:pt x="104" y="0"/>
                </a:lnTo>
                <a:lnTo>
                  <a:pt x="114" y="2"/>
                </a:lnTo>
                <a:lnTo>
                  <a:pt x="123" y="2"/>
                </a:lnTo>
                <a:lnTo>
                  <a:pt x="135" y="4"/>
                </a:lnTo>
                <a:lnTo>
                  <a:pt x="146" y="4"/>
                </a:lnTo>
                <a:lnTo>
                  <a:pt x="158" y="6"/>
                </a:lnTo>
                <a:lnTo>
                  <a:pt x="169" y="7"/>
                </a:lnTo>
                <a:lnTo>
                  <a:pt x="183" y="9"/>
                </a:lnTo>
                <a:lnTo>
                  <a:pt x="196" y="13"/>
                </a:lnTo>
                <a:lnTo>
                  <a:pt x="210" y="15"/>
                </a:lnTo>
                <a:lnTo>
                  <a:pt x="223" y="19"/>
                </a:lnTo>
                <a:lnTo>
                  <a:pt x="238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117"/>
          <p:cNvSpPr/>
          <p:nvPr/>
        </p:nvSpPr>
        <p:spPr>
          <a:xfrm>
            <a:off x="6796080" y="3179880"/>
            <a:ext cx="184320" cy="944280"/>
          </a:xfrm>
          <a:custGeom>
            <a:avLst/>
            <a:gdLst/>
            <a:ahLst/>
            <a:rect l="l" t="t" r="r" b="b"/>
            <a:pathLst>
              <a:path w="232" h="1192">
                <a:moveTo>
                  <a:pt x="31" y="1192"/>
                </a:moveTo>
                <a:lnTo>
                  <a:pt x="31" y="1138"/>
                </a:lnTo>
                <a:lnTo>
                  <a:pt x="33" y="1085"/>
                </a:lnTo>
                <a:lnTo>
                  <a:pt x="33" y="1035"/>
                </a:lnTo>
                <a:lnTo>
                  <a:pt x="35" y="983"/>
                </a:lnTo>
                <a:lnTo>
                  <a:pt x="35" y="935"/>
                </a:lnTo>
                <a:lnTo>
                  <a:pt x="35" y="885"/>
                </a:lnTo>
                <a:lnTo>
                  <a:pt x="35" y="839"/>
                </a:lnTo>
                <a:lnTo>
                  <a:pt x="35" y="793"/>
                </a:lnTo>
                <a:lnTo>
                  <a:pt x="35" y="747"/>
                </a:lnTo>
                <a:lnTo>
                  <a:pt x="35" y="703"/>
                </a:lnTo>
                <a:lnTo>
                  <a:pt x="35" y="660"/>
                </a:lnTo>
                <a:lnTo>
                  <a:pt x="35" y="618"/>
                </a:lnTo>
                <a:lnTo>
                  <a:pt x="33" y="576"/>
                </a:lnTo>
                <a:lnTo>
                  <a:pt x="33" y="537"/>
                </a:lnTo>
                <a:lnTo>
                  <a:pt x="33" y="497"/>
                </a:lnTo>
                <a:lnTo>
                  <a:pt x="31" y="461"/>
                </a:lnTo>
                <a:lnTo>
                  <a:pt x="31" y="424"/>
                </a:lnTo>
                <a:lnTo>
                  <a:pt x="29" y="388"/>
                </a:lnTo>
                <a:lnTo>
                  <a:pt x="27" y="353"/>
                </a:lnTo>
                <a:lnTo>
                  <a:pt x="25" y="321"/>
                </a:lnTo>
                <a:lnTo>
                  <a:pt x="25" y="288"/>
                </a:lnTo>
                <a:lnTo>
                  <a:pt x="23" y="255"/>
                </a:lnTo>
                <a:lnTo>
                  <a:pt x="21" y="225"/>
                </a:lnTo>
                <a:lnTo>
                  <a:pt x="19" y="196"/>
                </a:lnTo>
                <a:lnTo>
                  <a:pt x="17" y="167"/>
                </a:lnTo>
                <a:lnTo>
                  <a:pt x="15" y="140"/>
                </a:lnTo>
                <a:lnTo>
                  <a:pt x="13" y="115"/>
                </a:lnTo>
                <a:lnTo>
                  <a:pt x="10" y="90"/>
                </a:lnTo>
                <a:lnTo>
                  <a:pt x="8" y="65"/>
                </a:lnTo>
                <a:lnTo>
                  <a:pt x="6" y="42"/>
                </a:lnTo>
                <a:lnTo>
                  <a:pt x="4" y="21"/>
                </a:lnTo>
                <a:lnTo>
                  <a:pt x="0" y="0"/>
                </a:lnTo>
                <a:lnTo>
                  <a:pt x="117" y="0"/>
                </a:lnTo>
                <a:lnTo>
                  <a:pt x="232" y="0"/>
                </a:lnTo>
                <a:lnTo>
                  <a:pt x="228" y="86"/>
                </a:lnTo>
                <a:lnTo>
                  <a:pt x="226" y="173"/>
                </a:lnTo>
                <a:lnTo>
                  <a:pt x="225" y="255"/>
                </a:lnTo>
                <a:lnTo>
                  <a:pt x="221" y="338"/>
                </a:lnTo>
                <a:lnTo>
                  <a:pt x="219" y="418"/>
                </a:lnTo>
                <a:lnTo>
                  <a:pt x="217" y="497"/>
                </a:lnTo>
                <a:lnTo>
                  <a:pt x="215" y="574"/>
                </a:lnTo>
                <a:lnTo>
                  <a:pt x="213" y="651"/>
                </a:lnTo>
                <a:lnTo>
                  <a:pt x="211" y="724"/>
                </a:lnTo>
                <a:lnTo>
                  <a:pt x="209" y="795"/>
                </a:lnTo>
                <a:lnTo>
                  <a:pt x="207" y="866"/>
                </a:lnTo>
                <a:lnTo>
                  <a:pt x="205" y="935"/>
                </a:lnTo>
                <a:lnTo>
                  <a:pt x="205" y="1002"/>
                </a:lnTo>
                <a:lnTo>
                  <a:pt x="203" y="1067"/>
                </a:lnTo>
                <a:lnTo>
                  <a:pt x="203" y="1131"/>
                </a:lnTo>
                <a:lnTo>
                  <a:pt x="203" y="1192"/>
                </a:lnTo>
                <a:lnTo>
                  <a:pt x="117" y="1192"/>
                </a:lnTo>
                <a:lnTo>
                  <a:pt x="31" y="11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118"/>
          <p:cNvSpPr/>
          <p:nvPr/>
        </p:nvSpPr>
        <p:spPr>
          <a:xfrm>
            <a:off x="6119640" y="3997440"/>
            <a:ext cx="1525680" cy="195120"/>
          </a:xfrm>
          <a:custGeom>
            <a:avLst/>
            <a:gdLst/>
            <a:ahLst/>
            <a:rect l="l" t="t" r="r" b="b"/>
            <a:pathLst>
              <a:path w="1921" h="245">
                <a:moveTo>
                  <a:pt x="1272" y="40"/>
                </a:moveTo>
                <a:lnTo>
                  <a:pt x="1309" y="34"/>
                </a:lnTo>
                <a:lnTo>
                  <a:pt x="1345" y="27"/>
                </a:lnTo>
                <a:lnTo>
                  <a:pt x="1380" y="23"/>
                </a:lnTo>
                <a:lnTo>
                  <a:pt x="1412" y="17"/>
                </a:lnTo>
                <a:lnTo>
                  <a:pt x="1443" y="13"/>
                </a:lnTo>
                <a:lnTo>
                  <a:pt x="1474" y="9"/>
                </a:lnTo>
                <a:lnTo>
                  <a:pt x="1503" y="6"/>
                </a:lnTo>
                <a:lnTo>
                  <a:pt x="1529" y="4"/>
                </a:lnTo>
                <a:lnTo>
                  <a:pt x="1556" y="2"/>
                </a:lnTo>
                <a:lnTo>
                  <a:pt x="1579" y="0"/>
                </a:lnTo>
                <a:lnTo>
                  <a:pt x="1602" y="0"/>
                </a:lnTo>
                <a:lnTo>
                  <a:pt x="1624" y="0"/>
                </a:lnTo>
                <a:lnTo>
                  <a:pt x="1643" y="0"/>
                </a:lnTo>
                <a:lnTo>
                  <a:pt x="1660" y="0"/>
                </a:lnTo>
                <a:lnTo>
                  <a:pt x="1675" y="2"/>
                </a:lnTo>
                <a:lnTo>
                  <a:pt x="1691" y="4"/>
                </a:lnTo>
                <a:lnTo>
                  <a:pt x="1718" y="9"/>
                </a:lnTo>
                <a:lnTo>
                  <a:pt x="1743" y="15"/>
                </a:lnTo>
                <a:lnTo>
                  <a:pt x="1766" y="23"/>
                </a:lnTo>
                <a:lnTo>
                  <a:pt x="1789" y="30"/>
                </a:lnTo>
                <a:lnTo>
                  <a:pt x="1810" y="40"/>
                </a:lnTo>
                <a:lnTo>
                  <a:pt x="1829" y="52"/>
                </a:lnTo>
                <a:lnTo>
                  <a:pt x="1846" y="63"/>
                </a:lnTo>
                <a:lnTo>
                  <a:pt x="1863" y="77"/>
                </a:lnTo>
                <a:lnTo>
                  <a:pt x="1871" y="82"/>
                </a:lnTo>
                <a:lnTo>
                  <a:pt x="1879" y="88"/>
                </a:lnTo>
                <a:lnTo>
                  <a:pt x="1885" y="94"/>
                </a:lnTo>
                <a:lnTo>
                  <a:pt x="1890" y="100"/>
                </a:lnTo>
                <a:lnTo>
                  <a:pt x="1896" y="103"/>
                </a:lnTo>
                <a:lnTo>
                  <a:pt x="1902" y="109"/>
                </a:lnTo>
                <a:lnTo>
                  <a:pt x="1906" y="113"/>
                </a:lnTo>
                <a:lnTo>
                  <a:pt x="1910" y="115"/>
                </a:lnTo>
                <a:lnTo>
                  <a:pt x="1911" y="119"/>
                </a:lnTo>
                <a:lnTo>
                  <a:pt x="1915" y="123"/>
                </a:lnTo>
                <a:lnTo>
                  <a:pt x="1919" y="126"/>
                </a:lnTo>
                <a:lnTo>
                  <a:pt x="1921" y="132"/>
                </a:lnTo>
                <a:lnTo>
                  <a:pt x="1921" y="136"/>
                </a:lnTo>
                <a:lnTo>
                  <a:pt x="1921" y="140"/>
                </a:lnTo>
                <a:lnTo>
                  <a:pt x="1921" y="144"/>
                </a:lnTo>
                <a:lnTo>
                  <a:pt x="1921" y="146"/>
                </a:lnTo>
                <a:lnTo>
                  <a:pt x="1919" y="149"/>
                </a:lnTo>
                <a:lnTo>
                  <a:pt x="1917" y="151"/>
                </a:lnTo>
                <a:lnTo>
                  <a:pt x="1915" y="153"/>
                </a:lnTo>
                <a:lnTo>
                  <a:pt x="1911" y="157"/>
                </a:lnTo>
                <a:lnTo>
                  <a:pt x="1908" y="161"/>
                </a:lnTo>
                <a:lnTo>
                  <a:pt x="1906" y="161"/>
                </a:lnTo>
                <a:lnTo>
                  <a:pt x="1904" y="163"/>
                </a:lnTo>
                <a:lnTo>
                  <a:pt x="1900" y="165"/>
                </a:lnTo>
                <a:lnTo>
                  <a:pt x="1898" y="165"/>
                </a:lnTo>
                <a:lnTo>
                  <a:pt x="1894" y="167"/>
                </a:lnTo>
                <a:lnTo>
                  <a:pt x="1890" y="167"/>
                </a:lnTo>
                <a:lnTo>
                  <a:pt x="1885" y="169"/>
                </a:lnTo>
                <a:lnTo>
                  <a:pt x="1881" y="169"/>
                </a:lnTo>
                <a:lnTo>
                  <a:pt x="1875" y="171"/>
                </a:lnTo>
                <a:lnTo>
                  <a:pt x="1867" y="171"/>
                </a:lnTo>
                <a:lnTo>
                  <a:pt x="1862" y="173"/>
                </a:lnTo>
                <a:lnTo>
                  <a:pt x="1854" y="173"/>
                </a:lnTo>
                <a:lnTo>
                  <a:pt x="1846" y="174"/>
                </a:lnTo>
                <a:lnTo>
                  <a:pt x="1839" y="174"/>
                </a:lnTo>
                <a:lnTo>
                  <a:pt x="1829" y="176"/>
                </a:lnTo>
                <a:lnTo>
                  <a:pt x="1821" y="176"/>
                </a:lnTo>
                <a:lnTo>
                  <a:pt x="1812" y="178"/>
                </a:lnTo>
                <a:lnTo>
                  <a:pt x="1800" y="178"/>
                </a:lnTo>
                <a:lnTo>
                  <a:pt x="1791" y="180"/>
                </a:lnTo>
                <a:lnTo>
                  <a:pt x="1779" y="180"/>
                </a:lnTo>
                <a:lnTo>
                  <a:pt x="1767" y="180"/>
                </a:lnTo>
                <a:lnTo>
                  <a:pt x="1754" y="182"/>
                </a:lnTo>
                <a:lnTo>
                  <a:pt x="1743" y="182"/>
                </a:lnTo>
                <a:lnTo>
                  <a:pt x="1729" y="182"/>
                </a:lnTo>
                <a:lnTo>
                  <a:pt x="1714" y="182"/>
                </a:lnTo>
                <a:lnTo>
                  <a:pt x="1700" y="184"/>
                </a:lnTo>
                <a:lnTo>
                  <a:pt x="1685" y="184"/>
                </a:lnTo>
                <a:lnTo>
                  <a:pt x="1670" y="184"/>
                </a:lnTo>
                <a:lnTo>
                  <a:pt x="1654" y="184"/>
                </a:lnTo>
                <a:lnTo>
                  <a:pt x="1639" y="184"/>
                </a:lnTo>
                <a:lnTo>
                  <a:pt x="1622" y="184"/>
                </a:lnTo>
                <a:lnTo>
                  <a:pt x="1604" y="184"/>
                </a:lnTo>
                <a:lnTo>
                  <a:pt x="1585" y="184"/>
                </a:lnTo>
                <a:lnTo>
                  <a:pt x="1568" y="184"/>
                </a:lnTo>
                <a:lnTo>
                  <a:pt x="1549" y="184"/>
                </a:lnTo>
                <a:lnTo>
                  <a:pt x="1529" y="186"/>
                </a:lnTo>
                <a:lnTo>
                  <a:pt x="1510" y="186"/>
                </a:lnTo>
                <a:lnTo>
                  <a:pt x="1489" y="186"/>
                </a:lnTo>
                <a:lnTo>
                  <a:pt x="1447" y="186"/>
                </a:lnTo>
                <a:lnTo>
                  <a:pt x="1403" y="188"/>
                </a:lnTo>
                <a:lnTo>
                  <a:pt x="1359" y="190"/>
                </a:lnTo>
                <a:lnTo>
                  <a:pt x="1311" y="190"/>
                </a:lnTo>
                <a:lnTo>
                  <a:pt x="1261" y="192"/>
                </a:lnTo>
                <a:lnTo>
                  <a:pt x="1211" y="194"/>
                </a:lnTo>
                <a:lnTo>
                  <a:pt x="1157" y="196"/>
                </a:lnTo>
                <a:lnTo>
                  <a:pt x="1103" y="197"/>
                </a:lnTo>
                <a:lnTo>
                  <a:pt x="1048" y="199"/>
                </a:lnTo>
                <a:lnTo>
                  <a:pt x="990" y="201"/>
                </a:lnTo>
                <a:lnTo>
                  <a:pt x="931" y="203"/>
                </a:lnTo>
                <a:lnTo>
                  <a:pt x="871" y="207"/>
                </a:lnTo>
                <a:lnTo>
                  <a:pt x="810" y="209"/>
                </a:lnTo>
                <a:lnTo>
                  <a:pt x="748" y="213"/>
                </a:lnTo>
                <a:lnTo>
                  <a:pt x="687" y="217"/>
                </a:lnTo>
                <a:lnTo>
                  <a:pt x="629" y="220"/>
                </a:lnTo>
                <a:lnTo>
                  <a:pt x="572" y="224"/>
                </a:lnTo>
                <a:lnTo>
                  <a:pt x="516" y="228"/>
                </a:lnTo>
                <a:lnTo>
                  <a:pt x="460" y="230"/>
                </a:lnTo>
                <a:lnTo>
                  <a:pt x="409" y="234"/>
                </a:lnTo>
                <a:lnTo>
                  <a:pt x="357" y="236"/>
                </a:lnTo>
                <a:lnTo>
                  <a:pt x="307" y="238"/>
                </a:lnTo>
                <a:lnTo>
                  <a:pt x="257" y="240"/>
                </a:lnTo>
                <a:lnTo>
                  <a:pt x="211" y="242"/>
                </a:lnTo>
                <a:lnTo>
                  <a:pt x="165" y="244"/>
                </a:lnTo>
                <a:lnTo>
                  <a:pt x="123" y="244"/>
                </a:lnTo>
                <a:lnTo>
                  <a:pt x="80" y="244"/>
                </a:lnTo>
                <a:lnTo>
                  <a:pt x="38" y="245"/>
                </a:lnTo>
                <a:lnTo>
                  <a:pt x="0" y="245"/>
                </a:lnTo>
                <a:lnTo>
                  <a:pt x="0" y="190"/>
                </a:lnTo>
                <a:lnTo>
                  <a:pt x="0" y="136"/>
                </a:lnTo>
                <a:lnTo>
                  <a:pt x="9" y="136"/>
                </a:lnTo>
                <a:lnTo>
                  <a:pt x="21" y="136"/>
                </a:lnTo>
                <a:lnTo>
                  <a:pt x="30" y="136"/>
                </a:lnTo>
                <a:lnTo>
                  <a:pt x="42" y="136"/>
                </a:lnTo>
                <a:lnTo>
                  <a:pt x="55" y="136"/>
                </a:lnTo>
                <a:lnTo>
                  <a:pt x="67" y="136"/>
                </a:lnTo>
                <a:lnTo>
                  <a:pt x="80" y="134"/>
                </a:lnTo>
                <a:lnTo>
                  <a:pt x="94" y="134"/>
                </a:lnTo>
                <a:lnTo>
                  <a:pt x="109" y="134"/>
                </a:lnTo>
                <a:lnTo>
                  <a:pt x="125" y="132"/>
                </a:lnTo>
                <a:lnTo>
                  <a:pt x="140" y="132"/>
                </a:lnTo>
                <a:lnTo>
                  <a:pt x="155" y="132"/>
                </a:lnTo>
                <a:lnTo>
                  <a:pt x="173" y="130"/>
                </a:lnTo>
                <a:lnTo>
                  <a:pt x="190" y="130"/>
                </a:lnTo>
                <a:lnTo>
                  <a:pt x="207" y="128"/>
                </a:lnTo>
                <a:lnTo>
                  <a:pt x="224" y="128"/>
                </a:lnTo>
                <a:lnTo>
                  <a:pt x="244" y="126"/>
                </a:lnTo>
                <a:lnTo>
                  <a:pt x="263" y="125"/>
                </a:lnTo>
                <a:lnTo>
                  <a:pt x="282" y="125"/>
                </a:lnTo>
                <a:lnTo>
                  <a:pt x="301" y="123"/>
                </a:lnTo>
                <a:lnTo>
                  <a:pt x="322" y="121"/>
                </a:lnTo>
                <a:lnTo>
                  <a:pt x="343" y="121"/>
                </a:lnTo>
                <a:lnTo>
                  <a:pt x="387" y="117"/>
                </a:lnTo>
                <a:lnTo>
                  <a:pt x="432" y="113"/>
                </a:lnTo>
                <a:lnTo>
                  <a:pt x="480" y="109"/>
                </a:lnTo>
                <a:lnTo>
                  <a:pt x="528" y="105"/>
                </a:lnTo>
                <a:lnTo>
                  <a:pt x="579" y="101"/>
                </a:lnTo>
                <a:lnTo>
                  <a:pt x="629" y="98"/>
                </a:lnTo>
                <a:lnTo>
                  <a:pt x="679" y="96"/>
                </a:lnTo>
                <a:lnTo>
                  <a:pt x="727" y="92"/>
                </a:lnTo>
                <a:lnTo>
                  <a:pt x="775" y="90"/>
                </a:lnTo>
                <a:lnTo>
                  <a:pt x="823" y="86"/>
                </a:lnTo>
                <a:lnTo>
                  <a:pt x="869" y="82"/>
                </a:lnTo>
                <a:lnTo>
                  <a:pt x="913" y="78"/>
                </a:lnTo>
                <a:lnTo>
                  <a:pt x="958" y="75"/>
                </a:lnTo>
                <a:lnTo>
                  <a:pt x="1000" y="71"/>
                </a:lnTo>
                <a:lnTo>
                  <a:pt x="1042" y="67"/>
                </a:lnTo>
                <a:lnTo>
                  <a:pt x="1082" y="63"/>
                </a:lnTo>
                <a:lnTo>
                  <a:pt x="1123" y="57"/>
                </a:lnTo>
                <a:lnTo>
                  <a:pt x="1161" y="54"/>
                </a:lnTo>
                <a:lnTo>
                  <a:pt x="1199" y="50"/>
                </a:lnTo>
                <a:lnTo>
                  <a:pt x="1236" y="44"/>
                </a:lnTo>
                <a:lnTo>
                  <a:pt x="1272" y="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119"/>
          <p:cNvSpPr/>
          <p:nvPr/>
        </p:nvSpPr>
        <p:spPr>
          <a:xfrm>
            <a:off x="6372360" y="3705120"/>
            <a:ext cx="1066680" cy="190440"/>
          </a:xfrm>
          <a:custGeom>
            <a:avLst/>
            <a:gdLst/>
            <a:ahLst/>
            <a:rect l="l" t="t" r="r" b="b"/>
            <a:pathLst>
              <a:path w="1344" h="240">
                <a:moveTo>
                  <a:pt x="45" y="206"/>
                </a:moveTo>
                <a:lnTo>
                  <a:pt x="33" y="196"/>
                </a:lnTo>
                <a:lnTo>
                  <a:pt x="25" y="186"/>
                </a:lnTo>
                <a:lnTo>
                  <a:pt x="18" y="179"/>
                </a:lnTo>
                <a:lnTo>
                  <a:pt x="12" y="169"/>
                </a:lnTo>
                <a:lnTo>
                  <a:pt x="6" y="161"/>
                </a:lnTo>
                <a:lnTo>
                  <a:pt x="2" y="156"/>
                </a:lnTo>
                <a:lnTo>
                  <a:pt x="0" y="150"/>
                </a:lnTo>
                <a:lnTo>
                  <a:pt x="0" y="144"/>
                </a:lnTo>
                <a:lnTo>
                  <a:pt x="0" y="142"/>
                </a:lnTo>
                <a:lnTo>
                  <a:pt x="2" y="140"/>
                </a:lnTo>
                <a:lnTo>
                  <a:pt x="4" y="138"/>
                </a:lnTo>
                <a:lnTo>
                  <a:pt x="6" y="137"/>
                </a:lnTo>
                <a:lnTo>
                  <a:pt x="8" y="137"/>
                </a:lnTo>
                <a:lnTo>
                  <a:pt x="12" y="135"/>
                </a:lnTo>
                <a:lnTo>
                  <a:pt x="18" y="135"/>
                </a:lnTo>
                <a:lnTo>
                  <a:pt x="21" y="135"/>
                </a:lnTo>
                <a:lnTo>
                  <a:pt x="27" y="133"/>
                </a:lnTo>
                <a:lnTo>
                  <a:pt x="35" y="133"/>
                </a:lnTo>
                <a:lnTo>
                  <a:pt x="41" y="133"/>
                </a:lnTo>
                <a:lnTo>
                  <a:pt x="48" y="133"/>
                </a:lnTo>
                <a:lnTo>
                  <a:pt x="58" y="133"/>
                </a:lnTo>
                <a:lnTo>
                  <a:pt x="66" y="133"/>
                </a:lnTo>
                <a:lnTo>
                  <a:pt x="77" y="133"/>
                </a:lnTo>
                <a:lnTo>
                  <a:pt x="87" y="133"/>
                </a:lnTo>
                <a:lnTo>
                  <a:pt x="91" y="133"/>
                </a:lnTo>
                <a:lnTo>
                  <a:pt x="96" y="133"/>
                </a:lnTo>
                <a:lnTo>
                  <a:pt x="104" y="131"/>
                </a:lnTo>
                <a:lnTo>
                  <a:pt x="110" y="131"/>
                </a:lnTo>
                <a:lnTo>
                  <a:pt x="119" y="131"/>
                </a:lnTo>
                <a:lnTo>
                  <a:pt x="127" y="129"/>
                </a:lnTo>
                <a:lnTo>
                  <a:pt x="139" y="129"/>
                </a:lnTo>
                <a:lnTo>
                  <a:pt x="148" y="127"/>
                </a:lnTo>
                <a:lnTo>
                  <a:pt x="160" y="127"/>
                </a:lnTo>
                <a:lnTo>
                  <a:pt x="173" y="125"/>
                </a:lnTo>
                <a:lnTo>
                  <a:pt x="187" y="123"/>
                </a:lnTo>
                <a:lnTo>
                  <a:pt x="202" y="121"/>
                </a:lnTo>
                <a:lnTo>
                  <a:pt x="215" y="119"/>
                </a:lnTo>
                <a:lnTo>
                  <a:pt x="233" y="117"/>
                </a:lnTo>
                <a:lnTo>
                  <a:pt x="250" y="115"/>
                </a:lnTo>
                <a:lnTo>
                  <a:pt x="267" y="113"/>
                </a:lnTo>
                <a:lnTo>
                  <a:pt x="286" y="110"/>
                </a:lnTo>
                <a:lnTo>
                  <a:pt x="306" y="108"/>
                </a:lnTo>
                <a:lnTo>
                  <a:pt x="327" y="104"/>
                </a:lnTo>
                <a:lnTo>
                  <a:pt x="348" y="102"/>
                </a:lnTo>
                <a:lnTo>
                  <a:pt x="369" y="98"/>
                </a:lnTo>
                <a:lnTo>
                  <a:pt x="392" y="94"/>
                </a:lnTo>
                <a:lnTo>
                  <a:pt x="415" y="90"/>
                </a:lnTo>
                <a:lnTo>
                  <a:pt x="440" y="87"/>
                </a:lnTo>
                <a:lnTo>
                  <a:pt x="465" y="83"/>
                </a:lnTo>
                <a:lnTo>
                  <a:pt x="492" y="79"/>
                </a:lnTo>
                <a:lnTo>
                  <a:pt x="519" y="73"/>
                </a:lnTo>
                <a:lnTo>
                  <a:pt x="545" y="69"/>
                </a:lnTo>
                <a:lnTo>
                  <a:pt x="574" y="64"/>
                </a:lnTo>
                <a:lnTo>
                  <a:pt x="603" y="60"/>
                </a:lnTo>
                <a:lnTo>
                  <a:pt x="634" y="54"/>
                </a:lnTo>
                <a:lnTo>
                  <a:pt x="664" y="48"/>
                </a:lnTo>
                <a:lnTo>
                  <a:pt x="695" y="42"/>
                </a:lnTo>
                <a:lnTo>
                  <a:pt x="726" y="39"/>
                </a:lnTo>
                <a:lnTo>
                  <a:pt x="755" y="35"/>
                </a:lnTo>
                <a:lnTo>
                  <a:pt x="782" y="31"/>
                </a:lnTo>
                <a:lnTo>
                  <a:pt x="810" y="27"/>
                </a:lnTo>
                <a:lnTo>
                  <a:pt x="837" y="23"/>
                </a:lnTo>
                <a:lnTo>
                  <a:pt x="862" y="21"/>
                </a:lnTo>
                <a:lnTo>
                  <a:pt x="887" y="18"/>
                </a:lnTo>
                <a:lnTo>
                  <a:pt x="912" y="16"/>
                </a:lnTo>
                <a:lnTo>
                  <a:pt x="935" y="14"/>
                </a:lnTo>
                <a:lnTo>
                  <a:pt x="956" y="10"/>
                </a:lnTo>
                <a:lnTo>
                  <a:pt x="979" y="8"/>
                </a:lnTo>
                <a:lnTo>
                  <a:pt x="1000" y="6"/>
                </a:lnTo>
                <a:lnTo>
                  <a:pt x="1020" y="4"/>
                </a:lnTo>
                <a:lnTo>
                  <a:pt x="1039" y="4"/>
                </a:lnTo>
                <a:lnTo>
                  <a:pt x="1058" y="2"/>
                </a:lnTo>
                <a:lnTo>
                  <a:pt x="1075" y="2"/>
                </a:lnTo>
                <a:lnTo>
                  <a:pt x="1092" y="0"/>
                </a:lnTo>
                <a:lnTo>
                  <a:pt x="1110" y="0"/>
                </a:lnTo>
                <a:lnTo>
                  <a:pt x="1125" y="0"/>
                </a:lnTo>
                <a:lnTo>
                  <a:pt x="1140" y="0"/>
                </a:lnTo>
                <a:lnTo>
                  <a:pt x="1154" y="0"/>
                </a:lnTo>
                <a:lnTo>
                  <a:pt x="1167" y="0"/>
                </a:lnTo>
                <a:lnTo>
                  <a:pt x="1181" y="0"/>
                </a:lnTo>
                <a:lnTo>
                  <a:pt x="1192" y="0"/>
                </a:lnTo>
                <a:lnTo>
                  <a:pt x="1204" y="2"/>
                </a:lnTo>
                <a:lnTo>
                  <a:pt x="1215" y="2"/>
                </a:lnTo>
                <a:lnTo>
                  <a:pt x="1225" y="4"/>
                </a:lnTo>
                <a:lnTo>
                  <a:pt x="1235" y="6"/>
                </a:lnTo>
                <a:lnTo>
                  <a:pt x="1242" y="8"/>
                </a:lnTo>
                <a:lnTo>
                  <a:pt x="1250" y="10"/>
                </a:lnTo>
                <a:lnTo>
                  <a:pt x="1258" y="12"/>
                </a:lnTo>
                <a:lnTo>
                  <a:pt x="1267" y="16"/>
                </a:lnTo>
                <a:lnTo>
                  <a:pt x="1277" y="21"/>
                </a:lnTo>
                <a:lnTo>
                  <a:pt x="1286" y="25"/>
                </a:lnTo>
                <a:lnTo>
                  <a:pt x="1294" y="29"/>
                </a:lnTo>
                <a:lnTo>
                  <a:pt x="1304" y="35"/>
                </a:lnTo>
                <a:lnTo>
                  <a:pt x="1309" y="39"/>
                </a:lnTo>
                <a:lnTo>
                  <a:pt x="1317" y="42"/>
                </a:lnTo>
                <a:lnTo>
                  <a:pt x="1323" y="46"/>
                </a:lnTo>
                <a:lnTo>
                  <a:pt x="1327" y="50"/>
                </a:lnTo>
                <a:lnTo>
                  <a:pt x="1330" y="54"/>
                </a:lnTo>
                <a:lnTo>
                  <a:pt x="1334" y="58"/>
                </a:lnTo>
                <a:lnTo>
                  <a:pt x="1338" y="62"/>
                </a:lnTo>
                <a:lnTo>
                  <a:pt x="1340" y="64"/>
                </a:lnTo>
                <a:lnTo>
                  <a:pt x="1342" y="67"/>
                </a:lnTo>
                <a:lnTo>
                  <a:pt x="1344" y="69"/>
                </a:lnTo>
                <a:lnTo>
                  <a:pt x="1344" y="73"/>
                </a:lnTo>
                <a:lnTo>
                  <a:pt x="1344" y="75"/>
                </a:lnTo>
                <a:lnTo>
                  <a:pt x="1342" y="77"/>
                </a:lnTo>
                <a:lnTo>
                  <a:pt x="1338" y="81"/>
                </a:lnTo>
                <a:lnTo>
                  <a:pt x="1336" y="83"/>
                </a:lnTo>
                <a:lnTo>
                  <a:pt x="1330" y="87"/>
                </a:lnTo>
                <a:lnTo>
                  <a:pt x="1325" y="89"/>
                </a:lnTo>
                <a:lnTo>
                  <a:pt x="1319" y="92"/>
                </a:lnTo>
                <a:lnTo>
                  <a:pt x="1311" y="96"/>
                </a:lnTo>
                <a:lnTo>
                  <a:pt x="1302" y="100"/>
                </a:lnTo>
                <a:lnTo>
                  <a:pt x="1292" y="102"/>
                </a:lnTo>
                <a:lnTo>
                  <a:pt x="1283" y="106"/>
                </a:lnTo>
                <a:lnTo>
                  <a:pt x="1271" y="110"/>
                </a:lnTo>
                <a:lnTo>
                  <a:pt x="1258" y="112"/>
                </a:lnTo>
                <a:lnTo>
                  <a:pt x="1244" y="115"/>
                </a:lnTo>
                <a:lnTo>
                  <a:pt x="1229" y="117"/>
                </a:lnTo>
                <a:lnTo>
                  <a:pt x="1213" y="121"/>
                </a:lnTo>
                <a:lnTo>
                  <a:pt x="1181" y="125"/>
                </a:lnTo>
                <a:lnTo>
                  <a:pt x="1152" y="129"/>
                </a:lnTo>
                <a:lnTo>
                  <a:pt x="1121" y="133"/>
                </a:lnTo>
                <a:lnTo>
                  <a:pt x="1092" y="137"/>
                </a:lnTo>
                <a:lnTo>
                  <a:pt x="1064" y="140"/>
                </a:lnTo>
                <a:lnTo>
                  <a:pt x="1037" y="142"/>
                </a:lnTo>
                <a:lnTo>
                  <a:pt x="1010" y="144"/>
                </a:lnTo>
                <a:lnTo>
                  <a:pt x="983" y="144"/>
                </a:lnTo>
                <a:lnTo>
                  <a:pt x="968" y="146"/>
                </a:lnTo>
                <a:lnTo>
                  <a:pt x="952" y="148"/>
                </a:lnTo>
                <a:lnTo>
                  <a:pt x="935" y="152"/>
                </a:lnTo>
                <a:lnTo>
                  <a:pt x="914" y="154"/>
                </a:lnTo>
                <a:lnTo>
                  <a:pt x="893" y="156"/>
                </a:lnTo>
                <a:lnTo>
                  <a:pt x="870" y="158"/>
                </a:lnTo>
                <a:lnTo>
                  <a:pt x="847" y="161"/>
                </a:lnTo>
                <a:lnTo>
                  <a:pt x="820" y="163"/>
                </a:lnTo>
                <a:lnTo>
                  <a:pt x="791" y="167"/>
                </a:lnTo>
                <a:lnTo>
                  <a:pt x="762" y="169"/>
                </a:lnTo>
                <a:lnTo>
                  <a:pt x="732" y="173"/>
                </a:lnTo>
                <a:lnTo>
                  <a:pt x="699" y="177"/>
                </a:lnTo>
                <a:lnTo>
                  <a:pt x="663" y="181"/>
                </a:lnTo>
                <a:lnTo>
                  <a:pt x="628" y="184"/>
                </a:lnTo>
                <a:lnTo>
                  <a:pt x="590" y="188"/>
                </a:lnTo>
                <a:lnTo>
                  <a:pt x="549" y="192"/>
                </a:lnTo>
                <a:lnTo>
                  <a:pt x="530" y="196"/>
                </a:lnTo>
                <a:lnTo>
                  <a:pt x="509" y="198"/>
                </a:lnTo>
                <a:lnTo>
                  <a:pt x="490" y="202"/>
                </a:lnTo>
                <a:lnTo>
                  <a:pt x="473" y="206"/>
                </a:lnTo>
                <a:lnTo>
                  <a:pt x="453" y="208"/>
                </a:lnTo>
                <a:lnTo>
                  <a:pt x="436" y="209"/>
                </a:lnTo>
                <a:lnTo>
                  <a:pt x="419" y="213"/>
                </a:lnTo>
                <a:lnTo>
                  <a:pt x="403" y="215"/>
                </a:lnTo>
                <a:lnTo>
                  <a:pt x="386" y="217"/>
                </a:lnTo>
                <a:lnTo>
                  <a:pt x="371" y="219"/>
                </a:lnTo>
                <a:lnTo>
                  <a:pt x="357" y="221"/>
                </a:lnTo>
                <a:lnTo>
                  <a:pt x="342" y="223"/>
                </a:lnTo>
                <a:lnTo>
                  <a:pt x="329" y="225"/>
                </a:lnTo>
                <a:lnTo>
                  <a:pt x="315" y="227"/>
                </a:lnTo>
                <a:lnTo>
                  <a:pt x="302" y="229"/>
                </a:lnTo>
                <a:lnTo>
                  <a:pt x="288" y="231"/>
                </a:lnTo>
                <a:lnTo>
                  <a:pt x="277" y="232"/>
                </a:lnTo>
                <a:lnTo>
                  <a:pt x="265" y="232"/>
                </a:lnTo>
                <a:lnTo>
                  <a:pt x="256" y="234"/>
                </a:lnTo>
                <a:lnTo>
                  <a:pt x="244" y="234"/>
                </a:lnTo>
                <a:lnTo>
                  <a:pt x="235" y="236"/>
                </a:lnTo>
                <a:lnTo>
                  <a:pt x="225" y="236"/>
                </a:lnTo>
                <a:lnTo>
                  <a:pt x="215" y="238"/>
                </a:lnTo>
                <a:lnTo>
                  <a:pt x="208" y="238"/>
                </a:lnTo>
                <a:lnTo>
                  <a:pt x="200" y="238"/>
                </a:lnTo>
                <a:lnTo>
                  <a:pt x="192" y="240"/>
                </a:lnTo>
                <a:lnTo>
                  <a:pt x="187" y="240"/>
                </a:lnTo>
                <a:lnTo>
                  <a:pt x="179" y="240"/>
                </a:lnTo>
                <a:lnTo>
                  <a:pt x="173" y="240"/>
                </a:lnTo>
                <a:lnTo>
                  <a:pt x="169" y="240"/>
                </a:lnTo>
                <a:lnTo>
                  <a:pt x="164" y="240"/>
                </a:lnTo>
                <a:lnTo>
                  <a:pt x="160" y="240"/>
                </a:lnTo>
                <a:lnTo>
                  <a:pt x="144" y="240"/>
                </a:lnTo>
                <a:lnTo>
                  <a:pt x="129" y="238"/>
                </a:lnTo>
                <a:lnTo>
                  <a:pt x="116" y="236"/>
                </a:lnTo>
                <a:lnTo>
                  <a:pt x="102" y="232"/>
                </a:lnTo>
                <a:lnTo>
                  <a:pt x="87" y="227"/>
                </a:lnTo>
                <a:lnTo>
                  <a:pt x="73" y="221"/>
                </a:lnTo>
                <a:lnTo>
                  <a:pt x="60" y="213"/>
                </a:lnTo>
                <a:lnTo>
                  <a:pt x="45" y="20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120"/>
          <p:cNvSpPr/>
          <p:nvPr/>
        </p:nvSpPr>
        <p:spPr>
          <a:xfrm>
            <a:off x="6396120" y="3392640"/>
            <a:ext cx="1042920" cy="187200"/>
          </a:xfrm>
          <a:custGeom>
            <a:avLst/>
            <a:gdLst/>
            <a:ahLst/>
            <a:rect l="l" t="t" r="r" b="b"/>
            <a:pathLst>
              <a:path w="1315" h="236">
                <a:moveTo>
                  <a:pt x="810" y="176"/>
                </a:moveTo>
                <a:lnTo>
                  <a:pt x="778" y="180"/>
                </a:lnTo>
                <a:lnTo>
                  <a:pt x="749" y="184"/>
                </a:lnTo>
                <a:lnTo>
                  <a:pt x="720" y="186"/>
                </a:lnTo>
                <a:lnTo>
                  <a:pt x="691" y="190"/>
                </a:lnTo>
                <a:lnTo>
                  <a:pt x="662" y="192"/>
                </a:lnTo>
                <a:lnTo>
                  <a:pt x="635" y="196"/>
                </a:lnTo>
                <a:lnTo>
                  <a:pt x="611" y="197"/>
                </a:lnTo>
                <a:lnTo>
                  <a:pt x="584" y="201"/>
                </a:lnTo>
                <a:lnTo>
                  <a:pt x="561" y="203"/>
                </a:lnTo>
                <a:lnTo>
                  <a:pt x="536" y="207"/>
                </a:lnTo>
                <a:lnTo>
                  <a:pt x="513" y="209"/>
                </a:lnTo>
                <a:lnTo>
                  <a:pt x="492" y="211"/>
                </a:lnTo>
                <a:lnTo>
                  <a:pt x="470" y="213"/>
                </a:lnTo>
                <a:lnTo>
                  <a:pt x="449" y="217"/>
                </a:lnTo>
                <a:lnTo>
                  <a:pt x="428" y="219"/>
                </a:lnTo>
                <a:lnTo>
                  <a:pt x="411" y="220"/>
                </a:lnTo>
                <a:lnTo>
                  <a:pt x="392" y="222"/>
                </a:lnTo>
                <a:lnTo>
                  <a:pt x="374" y="224"/>
                </a:lnTo>
                <a:lnTo>
                  <a:pt x="357" y="226"/>
                </a:lnTo>
                <a:lnTo>
                  <a:pt x="342" y="226"/>
                </a:lnTo>
                <a:lnTo>
                  <a:pt x="326" y="228"/>
                </a:lnTo>
                <a:lnTo>
                  <a:pt x="313" y="230"/>
                </a:lnTo>
                <a:lnTo>
                  <a:pt x="300" y="230"/>
                </a:lnTo>
                <a:lnTo>
                  <a:pt x="286" y="232"/>
                </a:lnTo>
                <a:lnTo>
                  <a:pt x="275" y="234"/>
                </a:lnTo>
                <a:lnTo>
                  <a:pt x="265" y="234"/>
                </a:lnTo>
                <a:lnTo>
                  <a:pt x="254" y="234"/>
                </a:lnTo>
                <a:lnTo>
                  <a:pt x="246" y="236"/>
                </a:lnTo>
                <a:lnTo>
                  <a:pt x="236" y="236"/>
                </a:lnTo>
                <a:lnTo>
                  <a:pt x="229" y="236"/>
                </a:lnTo>
                <a:lnTo>
                  <a:pt x="223" y="236"/>
                </a:lnTo>
                <a:lnTo>
                  <a:pt x="217" y="236"/>
                </a:lnTo>
                <a:lnTo>
                  <a:pt x="204" y="236"/>
                </a:lnTo>
                <a:lnTo>
                  <a:pt x="190" y="236"/>
                </a:lnTo>
                <a:lnTo>
                  <a:pt x="179" y="236"/>
                </a:lnTo>
                <a:lnTo>
                  <a:pt x="167" y="234"/>
                </a:lnTo>
                <a:lnTo>
                  <a:pt x="156" y="232"/>
                </a:lnTo>
                <a:lnTo>
                  <a:pt x="146" y="232"/>
                </a:lnTo>
                <a:lnTo>
                  <a:pt x="127" y="228"/>
                </a:lnTo>
                <a:lnTo>
                  <a:pt x="108" y="222"/>
                </a:lnTo>
                <a:lnTo>
                  <a:pt x="90" y="217"/>
                </a:lnTo>
                <a:lnTo>
                  <a:pt x="73" y="209"/>
                </a:lnTo>
                <a:lnTo>
                  <a:pt x="58" y="201"/>
                </a:lnTo>
                <a:lnTo>
                  <a:pt x="50" y="197"/>
                </a:lnTo>
                <a:lnTo>
                  <a:pt x="42" y="196"/>
                </a:lnTo>
                <a:lnTo>
                  <a:pt x="37" y="192"/>
                </a:lnTo>
                <a:lnTo>
                  <a:pt x="31" y="190"/>
                </a:lnTo>
                <a:lnTo>
                  <a:pt x="25" y="186"/>
                </a:lnTo>
                <a:lnTo>
                  <a:pt x="21" y="182"/>
                </a:lnTo>
                <a:lnTo>
                  <a:pt x="16" y="180"/>
                </a:lnTo>
                <a:lnTo>
                  <a:pt x="14" y="176"/>
                </a:lnTo>
                <a:lnTo>
                  <a:pt x="10" y="173"/>
                </a:lnTo>
                <a:lnTo>
                  <a:pt x="8" y="169"/>
                </a:lnTo>
                <a:lnTo>
                  <a:pt x="4" y="163"/>
                </a:lnTo>
                <a:lnTo>
                  <a:pt x="0" y="157"/>
                </a:lnTo>
                <a:lnTo>
                  <a:pt x="0" y="151"/>
                </a:lnTo>
                <a:lnTo>
                  <a:pt x="0" y="148"/>
                </a:lnTo>
                <a:lnTo>
                  <a:pt x="4" y="146"/>
                </a:lnTo>
                <a:lnTo>
                  <a:pt x="8" y="144"/>
                </a:lnTo>
                <a:lnTo>
                  <a:pt x="10" y="142"/>
                </a:lnTo>
                <a:lnTo>
                  <a:pt x="14" y="142"/>
                </a:lnTo>
                <a:lnTo>
                  <a:pt x="16" y="142"/>
                </a:lnTo>
                <a:lnTo>
                  <a:pt x="21" y="140"/>
                </a:lnTo>
                <a:lnTo>
                  <a:pt x="25" y="140"/>
                </a:lnTo>
                <a:lnTo>
                  <a:pt x="31" y="140"/>
                </a:lnTo>
                <a:lnTo>
                  <a:pt x="37" y="140"/>
                </a:lnTo>
                <a:lnTo>
                  <a:pt x="42" y="140"/>
                </a:lnTo>
                <a:lnTo>
                  <a:pt x="50" y="140"/>
                </a:lnTo>
                <a:lnTo>
                  <a:pt x="58" y="140"/>
                </a:lnTo>
                <a:lnTo>
                  <a:pt x="67" y="140"/>
                </a:lnTo>
                <a:lnTo>
                  <a:pt x="77" y="140"/>
                </a:lnTo>
                <a:lnTo>
                  <a:pt x="90" y="138"/>
                </a:lnTo>
                <a:lnTo>
                  <a:pt x="104" y="138"/>
                </a:lnTo>
                <a:lnTo>
                  <a:pt x="119" y="136"/>
                </a:lnTo>
                <a:lnTo>
                  <a:pt x="136" y="134"/>
                </a:lnTo>
                <a:lnTo>
                  <a:pt x="156" y="132"/>
                </a:lnTo>
                <a:lnTo>
                  <a:pt x="177" y="130"/>
                </a:lnTo>
                <a:lnTo>
                  <a:pt x="200" y="126"/>
                </a:lnTo>
                <a:lnTo>
                  <a:pt x="225" y="123"/>
                </a:lnTo>
                <a:lnTo>
                  <a:pt x="250" y="119"/>
                </a:lnTo>
                <a:lnTo>
                  <a:pt x="277" y="115"/>
                </a:lnTo>
                <a:lnTo>
                  <a:pt x="307" y="109"/>
                </a:lnTo>
                <a:lnTo>
                  <a:pt x="338" y="105"/>
                </a:lnTo>
                <a:lnTo>
                  <a:pt x="371" y="98"/>
                </a:lnTo>
                <a:lnTo>
                  <a:pt x="405" y="92"/>
                </a:lnTo>
                <a:lnTo>
                  <a:pt x="474" y="82"/>
                </a:lnTo>
                <a:lnTo>
                  <a:pt x="543" y="75"/>
                </a:lnTo>
                <a:lnTo>
                  <a:pt x="609" y="65"/>
                </a:lnTo>
                <a:lnTo>
                  <a:pt x="641" y="61"/>
                </a:lnTo>
                <a:lnTo>
                  <a:pt x="674" y="55"/>
                </a:lnTo>
                <a:lnTo>
                  <a:pt x="705" y="52"/>
                </a:lnTo>
                <a:lnTo>
                  <a:pt x="737" y="48"/>
                </a:lnTo>
                <a:lnTo>
                  <a:pt x="766" y="42"/>
                </a:lnTo>
                <a:lnTo>
                  <a:pt x="797" y="38"/>
                </a:lnTo>
                <a:lnTo>
                  <a:pt x="825" y="32"/>
                </a:lnTo>
                <a:lnTo>
                  <a:pt x="854" y="29"/>
                </a:lnTo>
                <a:lnTo>
                  <a:pt x="883" y="25"/>
                </a:lnTo>
                <a:lnTo>
                  <a:pt x="910" y="19"/>
                </a:lnTo>
                <a:lnTo>
                  <a:pt x="935" y="15"/>
                </a:lnTo>
                <a:lnTo>
                  <a:pt x="958" y="11"/>
                </a:lnTo>
                <a:lnTo>
                  <a:pt x="981" y="7"/>
                </a:lnTo>
                <a:lnTo>
                  <a:pt x="1002" y="6"/>
                </a:lnTo>
                <a:lnTo>
                  <a:pt x="1023" y="4"/>
                </a:lnTo>
                <a:lnTo>
                  <a:pt x="1044" y="2"/>
                </a:lnTo>
                <a:lnTo>
                  <a:pt x="1063" y="0"/>
                </a:lnTo>
                <a:lnTo>
                  <a:pt x="1083" y="0"/>
                </a:lnTo>
                <a:lnTo>
                  <a:pt x="1102" y="0"/>
                </a:lnTo>
                <a:lnTo>
                  <a:pt x="1119" y="0"/>
                </a:lnTo>
                <a:lnTo>
                  <a:pt x="1136" y="0"/>
                </a:lnTo>
                <a:lnTo>
                  <a:pt x="1154" y="2"/>
                </a:lnTo>
                <a:lnTo>
                  <a:pt x="1169" y="2"/>
                </a:lnTo>
                <a:lnTo>
                  <a:pt x="1184" y="4"/>
                </a:lnTo>
                <a:lnTo>
                  <a:pt x="1200" y="6"/>
                </a:lnTo>
                <a:lnTo>
                  <a:pt x="1213" y="7"/>
                </a:lnTo>
                <a:lnTo>
                  <a:pt x="1227" y="11"/>
                </a:lnTo>
                <a:lnTo>
                  <a:pt x="1238" y="17"/>
                </a:lnTo>
                <a:lnTo>
                  <a:pt x="1250" y="21"/>
                </a:lnTo>
                <a:lnTo>
                  <a:pt x="1259" y="25"/>
                </a:lnTo>
                <a:lnTo>
                  <a:pt x="1269" y="30"/>
                </a:lnTo>
                <a:lnTo>
                  <a:pt x="1277" y="34"/>
                </a:lnTo>
                <a:lnTo>
                  <a:pt x="1284" y="38"/>
                </a:lnTo>
                <a:lnTo>
                  <a:pt x="1292" y="42"/>
                </a:lnTo>
                <a:lnTo>
                  <a:pt x="1298" y="46"/>
                </a:lnTo>
                <a:lnTo>
                  <a:pt x="1301" y="50"/>
                </a:lnTo>
                <a:lnTo>
                  <a:pt x="1305" y="53"/>
                </a:lnTo>
                <a:lnTo>
                  <a:pt x="1309" y="57"/>
                </a:lnTo>
                <a:lnTo>
                  <a:pt x="1311" y="59"/>
                </a:lnTo>
                <a:lnTo>
                  <a:pt x="1313" y="63"/>
                </a:lnTo>
                <a:lnTo>
                  <a:pt x="1315" y="65"/>
                </a:lnTo>
                <a:lnTo>
                  <a:pt x="1315" y="69"/>
                </a:lnTo>
                <a:lnTo>
                  <a:pt x="1315" y="71"/>
                </a:lnTo>
                <a:lnTo>
                  <a:pt x="1313" y="73"/>
                </a:lnTo>
                <a:lnTo>
                  <a:pt x="1309" y="75"/>
                </a:lnTo>
                <a:lnTo>
                  <a:pt x="1307" y="77"/>
                </a:lnTo>
                <a:lnTo>
                  <a:pt x="1301" y="80"/>
                </a:lnTo>
                <a:lnTo>
                  <a:pt x="1296" y="82"/>
                </a:lnTo>
                <a:lnTo>
                  <a:pt x="1290" y="86"/>
                </a:lnTo>
                <a:lnTo>
                  <a:pt x="1282" y="88"/>
                </a:lnTo>
                <a:lnTo>
                  <a:pt x="1275" y="90"/>
                </a:lnTo>
                <a:lnTo>
                  <a:pt x="1265" y="94"/>
                </a:lnTo>
                <a:lnTo>
                  <a:pt x="1254" y="98"/>
                </a:lnTo>
                <a:lnTo>
                  <a:pt x="1242" y="100"/>
                </a:lnTo>
                <a:lnTo>
                  <a:pt x="1230" y="103"/>
                </a:lnTo>
                <a:lnTo>
                  <a:pt x="1217" y="105"/>
                </a:lnTo>
                <a:lnTo>
                  <a:pt x="1202" y="109"/>
                </a:lnTo>
                <a:lnTo>
                  <a:pt x="1186" y="113"/>
                </a:lnTo>
                <a:lnTo>
                  <a:pt x="1169" y="117"/>
                </a:lnTo>
                <a:lnTo>
                  <a:pt x="1152" y="119"/>
                </a:lnTo>
                <a:lnTo>
                  <a:pt x="1135" y="123"/>
                </a:lnTo>
                <a:lnTo>
                  <a:pt x="1115" y="126"/>
                </a:lnTo>
                <a:lnTo>
                  <a:pt x="1094" y="130"/>
                </a:lnTo>
                <a:lnTo>
                  <a:pt x="1073" y="134"/>
                </a:lnTo>
                <a:lnTo>
                  <a:pt x="1052" y="138"/>
                </a:lnTo>
                <a:lnTo>
                  <a:pt x="1029" y="142"/>
                </a:lnTo>
                <a:lnTo>
                  <a:pt x="1004" y="146"/>
                </a:lnTo>
                <a:lnTo>
                  <a:pt x="979" y="149"/>
                </a:lnTo>
                <a:lnTo>
                  <a:pt x="954" y="153"/>
                </a:lnTo>
                <a:lnTo>
                  <a:pt x="927" y="159"/>
                </a:lnTo>
                <a:lnTo>
                  <a:pt x="898" y="163"/>
                </a:lnTo>
                <a:lnTo>
                  <a:pt x="870" y="167"/>
                </a:lnTo>
                <a:lnTo>
                  <a:pt x="839" y="173"/>
                </a:lnTo>
                <a:lnTo>
                  <a:pt x="810" y="17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121"/>
          <p:cNvSpPr/>
          <p:nvPr/>
        </p:nvSpPr>
        <p:spPr>
          <a:xfrm>
            <a:off x="6281640" y="3073320"/>
            <a:ext cx="1225800" cy="211320"/>
          </a:xfrm>
          <a:custGeom>
            <a:avLst/>
            <a:gdLst/>
            <a:ahLst/>
            <a:rect l="l" t="t" r="r" b="b"/>
            <a:pathLst>
              <a:path w="1545" h="264">
                <a:moveTo>
                  <a:pt x="591" y="228"/>
                </a:moveTo>
                <a:lnTo>
                  <a:pt x="572" y="230"/>
                </a:lnTo>
                <a:lnTo>
                  <a:pt x="553" y="232"/>
                </a:lnTo>
                <a:lnTo>
                  <a:pt x="534" y="234"/>
                </a:lnTo>
                <a:lnTo>
                  <a:pt x="515" y="236"/>
                </a:lnTo>
                <a:lnTo>
                  <a:pt x="497" y="240"/>
                </a:lnTo>
                <a:lnTo>
                  <a:pt x="480" y="240"/>
                </a:lnTo>
                <a:lnTo>
                  <a:pt x="465" y="241"/>
                </a:lnTo>
                <a:lnTo>
                  <a:pt x="447" y="243"/>
                </a:lnTo>
                <a:lnTo>
                  <a:pt x="432" y="245"/>
                </a:lnTo>
                <a:lnTo>
                  <a:pt x="419" y="247"/>
                </a:lnTo>
                <a:lnTo>
                  <a:pt x="403" y="249"/>
                </a:lnTo>
                <a:lnTo>
                  <a:pt x="390" y="251"/>
                </a:lnTo>
                <a:lnTo>
                  <a:pt x="376" y="251"/>
                </a:lnTo>
                <a:lnTo>
                  <a:pt x="365" y="253"/>
                </a:lnTo>
                <a:lnTo>
                  <a:pt x="353" y="255"/>
                </a:lnTo>
                <a:lnTo>
                  <a:pt x="342" y="255"/>
                </a:lnTo>
                <a:lnTo>
                  <a:pt x="330" y="257"/>
                </a:lnTo>
                <a:lnTo>
                  <a:pt x="321" y="257"/>
                </a:lnTo>
                <a:lnTo>
                  <a:pt x="309" y="259"/>
                </a:lnTo>
                <a:lnTo>
                  <a:pt x="302" y="259"/>
                </a:lnTo>
                <a:lnTo>
                  <a:pt x="292" y="261"/>
                </a:lnTo>
                <a:lnTo>
                  <a:pt x="284" y="261"/>
                </a:lnTo>
                <a:lnTo>
                  <a:pt x="277" y="261"/>
                </a:lnTo>
                <a:lnTo>
                  <a:pt x="269" y="263"/>
                </a:lnTo>
                <a:lnTo>
                  <a:pt x="263" y="263"/>
                </a:lnTo>
                <a:lnTo>
                  <a:pt x="255" y="263"/>
                </a:lnTo>
                <a:lnTo>
                  <a:pt x="250" y="263"/>
                </a:lnTo>
                <a:lnTo>
                  <a:pt x="246" y="263"/>
                </a:lnTo>
                <a:lnTo>
                  <a:pt x="242" y="264"/>
                </a:lnTo>
                <a:lnTo>
                  <a:pt x="236" y="264"/>
                </a:lnTo>
                <a:lnTo>
                  <a:pt x="234" y="264"/>
                </a:lnTo>
                <a:lnTo>
                  <a:pt x="231" y="264"/>
                </a:lnTo>
                <a:lnTo>
                  <a:pt x="219" y="263"/>
                </a:lnTo>
                <a:lnTo>
                  <a:pt x="206" y="263"/>
                </a:lnTo>
                <a:lnTo>
                  <a:pt x="192" y="259"/>
                </a:lnTo>
                <a:lnTo>
                  <a:pt x="177" y="255"/>
                </a:lnTo>
                <a:lnTo>
                  <a:pt x="160" y="251"/>
                </a:lnTo>
                <a:lnTo>
                  <a:pt x="142" y="243"/>
                </a:lnTo>
                <a:lnTo>
                  <a:pt x="121" y="236"/>
                </a:lnTo>
                <a:lnTo>
                  <a:pt x="102" y="228"/>
                </a:lnTo>
                <a:lnTo>
                  <a:pt x="89" y="224"/>
                </a:lnTo>
                <a:lnTo>
                  <a:pt x="75" y="218"/>
                </a:lnTo>
                <a:lnTo>
                  <a:pt x="65" y="215"/>
                </a:lnTo>
                <a:lnTo>
                  <a:pt x="54" y="211"/>
                </a:lnTo>
                <a:lnTo>
                  <a:pt x="46" y="205"/>
                </a:lnTo>
                <a:lnTo>
                  <a:pt x="37" y="201"/>
                </a:lnTo>
                <a:lnTo>
                  <a:pt x="29" y="197"/>
                </a:lnTo>
                <a:lnTo>
                  <a:pt x="23" y="193"/>
                </a:lnTo>
                <a:lnTo>
                  <a:pt x="17" y="190"/>
                </a:lnTo>
                <a:lnTo>
                  <a:pt x="14" y="186"/>
                </a:lnTo>
                <a:lnTo>
                  <a:pt x="8" y="182"/>
                </a:lnTo>
                <a:lnTo>
                  <a:pt x="6" y="178"/>
                </a:lnTo>
                <a:lnTo>
                  <a:pt x="2" y="176"/>
                </a:lnTo>
                <a:lnTo>
                  <a:pt x="0" y="172"/>
                </a:lnTo>
                <a:lnTo>
                  <a:pt x="0" y="170"/>
                </a:lnTo>
                <a:lnTo>
                  <a:pt x="0" y="169"/>
                </a:lnTo>
                <a:lnTo>
                  <a:pt x="0" y="167"/>
                </a:lnTo>
                <a:lnTo>
                  <a:pt x="2" y="165"/>
                </a:lnTo>
                <a:lnTo>
                  <a:pt x="6" y="163"/>
                </a:lnTo>
                <a:lnTo>
                  <a:pt x="10" y="161"/>
                </a:lnTo>
                <a:lnTo>
                  <a:pt x="16" y="161"/>
                </a:lnTo>
                <a:lnTo>
                  <a:pt x="23" y="159"/>
                </a:lnTo>
                <a:lnTo>
                  <a:pt x="31" y="159"/>
                </a:lnTo>
                <a:lnTo>
                  <a:pt x="41" y="157"/>
                </a:lnTo>
                <a:lnTo>
                  <a:pt x="52" y="157"/>
                </a:lnTo>
                <a:lnTo>
                  <a:pt x="64" y="157"/>
                </a:lnTo>
                <a:lnTo>
                  <a:pt x="77" y="157"/>
                </a:lnTo>
                <a:lnTo>
                  <a:pt x="90" y="157"/>
                </a:lnTo>
                <a:lnTo>
                  <a:pt x="106" y="157"/>
                </a:lnTo>
                <a:lnTo>
                  <a:pt x="123" y="157"/>
                </a:lnTo>
                <a:lnTo>
                  <a:pt x="140" y="157"/>
                </a:lnTo>
                <a:lnTo>
                  <a:pt x="160" y="157"/>
                </a:lnTo>
                <a:lnTo>
                  <a:pt x="169" y="155"/>
                </a:lnTo>
                <a:lnTo>
                  <a:pt x="179" y="155"/>
                </a:lnTo>
                <a:lnTo>
                  <a:pt x="190" y="155"/>
                </a:lnTo>
                <a:lnTo>
                  <a:pt x="200" y="155"/>
                </a:lnTo>
                <a:lnTo>
                  <a:pt x="213" y="155"/>
                </a:lnTo>
                <a:lnTo>
                  <a:pt x="225" y="153"/>
                </a:lnTo>
                <a:lnTo>
                  <a:pt x="238" y="153"/>
                </a:lnTo>
                <a:lnTo>
                  <a:pt x="252" y="151"/>
                </a:lnTo>
                <a:lnTo>
                  <a:pt x="265" y="149"/>
                </a:lnTo>
                <a:lnTo>
                  <a:pt x="279" y="149"/>
                </a:lnTo>
                <a:lnTo>
                  <a:pt x="294" y="147"/>
                </a:lnTo>
                <a:lnTo>
                  <a:pt x="309" y="145"/>
                </a:lnTo>
                <a:lnTo>
                  <a:pt x="327" y="144"/>
                </a:lnTo>
                <a:lnTo>
                  <a:pt x="342" y="142"/>
                </a:lnTo>
                <a:lnTo>
                  <a:pt x="359" y="140"/>
                </a:lnTo>
                <a:lnTo>
                  <a:pt x="376" y="138"/>
                </a:lnTo>
                <a:lnTo>
                  <a:pt x="396" y="134"/>
                </a:lnTo>
                <a:lnTo>
                  <a:pt x="415" y="132"/>
                </a:lnTo>
                <a:lnTo>
                  <a:pt x="434" y="128"/>
                </a:lnTo>
                <a:lnTo>
                  <a:pt x="453" y="126"/>
                </a:lnTo>
                <a:lnTo>
                  <a:pt x="474" y="122"/>
                </a:lnTo>
                <a:lnTo>
                  <a:pt x="495" y="119"/>
                </a:lnTo>
                <a:lnTo>
                  <a:pt x="517" y="115"/>
                </a:lnTo>
                <a:lnTo>
                  <a:pt x="540" y="111"/>
                </a:lnTo>
                <a:lnTo>
                  <a:pt x="561" y="107"/>
                </a:lnTo>
                <a:lnTo>
                  <a:pt x="584" y="101"/>
                </a:lnTo>
                <a:lnTo>
                  <a:pt x="609" y="97"/>
                </a:lnTo>
                <a:lnTo>
                  <a:pt x="634" y="94"/>
                </a:lnTo>
                <a:lnTo>
                  <a:pt x="659" y="88"/>
                </a:lnTo>
                <a:lnTo>
                  <a:pt x="684" y="82"/>
                </a:lnTo>
                <a:lnTo>
                  <a:pt x="710" y="76"/>
                </a:lnTo>
                <a:lnTo>
                  <a:pt x="737" y="73"/>
                </a:lnTo>
                <a:lnTo>
                  <a:pt x="762" y="67"/>
                </a:lnTo>
                <a:lnTo>
                  <a:pt x="787" y="63"/>
                </a:lnTo>
                <a:lnTo>
                  <a:pt x="812" y="59"/>
                </a:lnTo>
                <a:lnTo>
                  <a:pt x="835" y="55"/>
                </a:lnTo>
                <a:lnTo>
                  <a:pt x="858" y="51"/>
                </a:lnTo>
                <a:lnTo>
                  <a:pt x="881" y="48"/>
                </a:lnTo>
                <a:lnTo>
                  <a:pt x="904" y="44"/>
                </a:lnTo>
                <a:lnTo>
                  <a:pt x="925" y="40"/>
                </a:lnTo>
                <a:lnTo>
                  <a:pt x="946" y="36"/>
                </a:lnTo>
                <a:lnTo>
                  <a:pt x="968" y="32"/>
                </a:lnTo>
                <a:lnTo>
                  <a:pt x="989" y="30"/>
                </a:lnTo>
                <a:lnTo>
                  <a:pt x="1008" y="26"/>
                </a:lnTo>
                <a:lnTo>
                  <a:pt x="1027" y="25"/>
                </a:lnTo>
                <a:lnTo>
                  <a:pt x="1046" y="23"/>
                </a:lnTo>
                <a:lnTo>
                  <a:pt x="1065" y="19"/>
                </a:lnTo>
                <a:lnTo>
                  <a:pt x="1083" y="17"/>
                </a:lnTo>
                <a:lnTo>
                  <a:pt x="1100" y="15"/>
                </a:lnTo>
                <a:lnTo>
                  <a:pt x="1117" y="13"/>
                </a:lnTo>
                <a:lnTo>
                  <a:pt x="1133" y="11"/>
                </a:lnTo>
                <a:lnTo>
                  <a:pt x="1150" y="9"/>
                </a:lnTo>
                <a:lnTo>
                  <a:pt x="1165" y="7"/>
                </a:lnTo>
                <a:lnTo>
                  <a:pt x="1179" y="5"/>
                </a:lnTo>
                <a:lnTo>
                  <a:pt x="1194" y="5"/>
                </a:lnTo>
                <a:lnTo>
                  <a:pt x="1207" y="3"/>
                </a:lnTo>
                <a:lnTo>
                  <a:pt x="1221" y="3"/>
                </a:lnTo>
                <a:lnTo>
                  <a:pt x="1234" y="2"/>
                </a:lnTo>
                <a:lnTo>
                  <a:pt x="1246" y="2"/>
                </a:lnTo>
                <a:lnTo>
                  <a:pt x="1257" y="0"/>
                </a:lnTo>
                <a:lnTo>
                  <a:pt x="1269" y="0"/>
                </a:lnTo>
                <a:lnTo>
                  <a:pt x="1280" y="0"/>
                </a:lnTo>
                <a:lnTo>
                  <a:pt x="1290" y="0"/>
                </a:lnTo>
                <a:lnTo>
                  <a:pt x="1300" y="0"/>
                </a:lnTo>
                <a:lnTo>
                  <a:pt x="1315" y="0"/>
                </a:lnTo>
                <a:lnTo>
                  <a:pt x="1330" y="0"/>
                </a:lnTo>
                <a:lnTo>
                  <a:pt x="1346" y="0"/>
                </a:lnTo>
                <a:lnTo>
                  <a:pt x="1359" y="0"/>
                </a:lnTo>
                <a:lnTo>
                  <a:pt x="1373" y="0"/>
                </a:lnTo>
                <a:lnTo>
                  <a:pt x="1386" y="0"/>
                </a:lnTo>
                <a:lnTo>
                  <a:pt x="1398" y="0"/>
                </a:lnTo>
                <a:lnTo>
                  <a:pt x="1409" y="2"/>
                </a:lnTo>
                <a:lnTo>
                  <a:pt x="1421" y="2"/>
                </a:lnTo>
                <a:lnTo>
                  <a:pt x="1432" y="2"/>
                </a:lnTo>
                <a:lnTo>
                  <a:pt x="1451" y="3"/>
                </a:lnTo>
                <a:lnTo>
                  <a:pt x="1470" y="7"/>
                </a:lnTo>
                <a:lnTo>
                  <a:pt x="1488" y="11"/>
                </a:lnTo>
                <a:lnTo>
                  <a:pt x="1495" y="13"/>
                </a:lnTo>
                <a:lnTo>
                  <a:pt x="1503" y="17"/>
                </a:lnTo>
                <a:lnTo>
                  <a:pt x="1509" y="19"/>
                </a:lnTo>
                <a:lnTo>
                  <a:pt x="1515" y="23"/>
                </a:lnTo>
                <a:lnTo>
                  <a:pt x="1520" y="25"/>
                </a:lnTo>
                <a:lnTo>
                  <a:pt x="1524" y="28"/>
                </a:lnTo>
                <a:lnTo>
                  <a:pt x="1530" y="32"/>
                </a:lnTo>
                <a:lnTo>
                  <a:pt x="1532" y="36"/>
                </a:lnTo>
                <a:lnTo>
                  <a:pt x="1536" y="40"/>
                </a:lnTo>
                <a:lnTo>
                  <a:pt x="1538" y="42"/>
                </a:lnTo>
                <a:lnTo>
                  <a:pt x="1541" y="49"/>
                </a:lnTo>
                <a:lnTo>
                  <a:pt x="1545" y="55"/>
                </a:lnTo>
                <a:lnTo>
                  <a:pt x="1545" y="59"/>
                </a:lnTo>
                <a:lnTo>
                  <a:pt x="1545" y="69"/>
                </a:lnTo>
                <a:lnTo>
                  <a:pt x="1541" y="76"/>
                </a:lnTo>
                <a:lnTo>
                  <a:pt x="1538" y="82"/>
                </a:lnTo>
                <a:lnTo>
                  <a:pt x="1536" y="86"/>
                </a:lnTo>
                <a:lnTo>
                  <a:pt x="1532" y="88"/>
                </a:lnTo>
                <a:lnTo>
                  <a:pt x="1530" y="92"/>
                </a:lnTo>
                <a:lnTo>
                  <a:pt x="1524" y="94"/>
                </a:lnTo>
                <a:lnTo>
                  <a:pt x="1520" y="96"/>
                </a:lnTo>
                <a:lnTo>
                  <a:pt x="1515" y="97"/>
                </a:lnTo>
                <a:lnTo>
                  <a:pt x="1509" y="101"/>
                </a:lnTo>
                <a:lnTo>
                  <a:pt x="1503" y="103"/>
                </a:lnTo>
                <a:lnTo>
                  <a:pt x="1495" y="105"/>
                </a:lnTo>
                <a:lnTo>
                  <a:pt x="1488" y="107"/>
                </a:lnTo>
                <a:lnTo>
                  <a:pt x="1472" y="113"/>
                </a:lnTo>
                <a:lnTo>
                  <a:pt x="1457" y="117"/>
                </a:lnTo>
                <a:lnTo>
                  <a:pt x="1444" y="121"/>
                </a:lnTo>
                <a:lnTo>
                  <a:pt x="1432" y="124"/>
                </a:lnTo>
                <a:lnTo>
                  <a:pt x="1421" y="128"/>
                </a:lnTo>
                <a:lnTo>
                  <a:pt x="1409" y="130"/>
                </a:lnTo>
                <a:lnTo>
                  <a:pt x="1398" y="132"/>
                </a:lnTo>
                <a:lnTo>
                  <a:pt x="1386" y="132"/>
                </a:lnTo>
                <a:lnTo>
                  <a:pt x="1378" y="134"/>
                </a:lnTo>
                <a:lnTo>
                  <a:pt x="1369" y="136"/>
                </a:lnTo>
                <a:lnTo>
                  <a:pt x="1357" y="138"/>
                </a:lnTo>
                <a:lnTo>
                  <a:pt x="1346" y="140"/>
                </a:lnTo>
                <a:lnTo>
                  <a:pt x="1334" y="140"/>
                </a:lnTo>
                <a:lnTo>
                  <a:pt x="1319" y="142"/>
                </a:lnTo>
                <a:lnTo>
                  <a:pt x="1305" y="144"/>
                </a:lnTo>
                <a:lnTo>
                  <a:pt x="1288" y="144"/>
                </a:lnTo>
                <a:lnTo>
                  <a:pt x="1273" y="145"/>
                </a:lnTo>
                <a:lnTo>
                  <a:pt x="1254" y="145"/>
                </a:lnTo>
                <a:lnTo>
                  <a:pt x="1236" y="147"/>
                </a:lnTo>
                <a:lnTo>
                  <a:pt x="1215" y="149"/>
                </a:lnTo>
                <a:lnTo>
                  <a:pt x="1196" y="149"/>
                </a:lnTo>
                <a:lnTo>
                  <a:pt x="1173" y="151"/>
                </a:lnTo>
                <a:lnTo>
                  <a:pt x="1150" y="153"/>
                </a:lnTo>
                <a:lnTo>
                  <a:pt x="1127" y="157"/>
                </a:lnTo>
                <a:lnTo>
                  <a:pt x="1102" y="159"/>
                </a:lnTo>
                <a:lnTo>
                  <a:pt x="1075" y="161"/>
                </a:lnTo>
                <a:lnTo>
                  <a:pt x="1048" y="165"/>
                </a:lnTo>
                <a:lnTo>
                  <a:pt x="1019" y="167"/>
                </a:lnTo>
                <a:lnTo>
                  <a:pt x="989" y="170"/>
                </a:lnTo>
                <a:lnTo>
                  <a:pt x="958" y="174"/>
                </a:lnTo>
                <a:lnTo>
                  <a:pt x="925" y="178"/>
                </a:lnTo>
                <a:lnTo>
                  <a:pt x="891" y="182"/>
                </a:lnTo>
                <a:lnTo>
                  <a:pt x="856" y="188"/>
                </a:lnTo>
                <a:lnTo>
                  <a:pt x="822" y="192"/>
                </a:lnTo>
                <a:lnTo>
                  <a:pt x="785" y="197"/>
                </a:lnTo>
                <a:lnTo>
                  <a:pt x="749" y="203"/>
                </a:lnTo>
                <a:lnTo>
                  <a:pt x="710" y="209"/>
                </a:lnTo>
                <a:lnTo>
                  <a:pt x="672" y="215"/>
                </a:lnTo>
                <a:lnTo>
                  <a:pt x="632" y="220"/>
                </a:lnTo>
                <a:lnTo>
                  <a:pt x="591" y="22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122"/>
          <p:cNvSpPr/>
          <p:nvPr/>
        </p:nvSpPr>
        <p:spPr>
          <a:xfrm>
            <a:off x="6738840" y="2749680"/>
            <a:ext cx="368280" cy="277560"/>
          </a:xfrm>
          <a:custGeom>
            <a:avLst/>
            <a:gdLst/>
            <a:ahLst/>
            <a:rect l="l" t="t" r="r" b="b"/>
            <a:pathLst>
              <a:path w="463" h="349">
                <a:moveTo>
                  <a:pt x="0" y="23"/>
                </a:moveTo>
                <a:lnTo>
                  <a:pt x="0" y="21"/>
                </a:lnTo>
                <a:lnTo>
                  <a:pt x="2" y="19"/>
                </a:lnTo>
                <a:lnTo>
                  <a:pt x="4" y="17"/>
                </a:lnTo>
                <a:lnTo>
                  <a:pt x="8" y="15"/>
                </a:lnTo>
                <a:lnTo>
                  <a:pt x="13" y="13"/>
                </a:lnTo>
                <a:lnTo>
                  <a:pt x="19" y="9"/>
                </a:lnTo>
                <a:lnTo>
                  <a:pt x="25" y="7"/>
                </a:lnTo>
                <a:lnTo>
                  <a:pt x="34" y="7"/>
                </a:lnTo>
                <a:lnTo>
                  <a:pt x="44" y="6"/>
                </a:lnTo>
                <a:lnTo>
                  <a:pt x="54" y="4"/>
                </a:lnTo>
                <a:lnTo>
                  <a:pt x="65" y="2"/>
                </a:lnTo>
                <a:lnTo>
                  <a:pt x="79" y="2"/>
                </a:lnTo>
                <a:lnTo>
                  <a:pt x="92" y="0"/>
                </a:lnTo>
                <a:lnTo>
                  <a:pt x="109" y="0"/>
                </a:lnTo>
                <a:lnTo>
                  <a:pt x="125" y="0"/>
                </a:lnTo>
                <a:lnTo>
                  <a:pt x="144" y="0"/>
                </a:lnTo>
                <a:lnTo>
                  <a:pt x="159" y="0"/>
                </a:lnTo>
                <a:lnTo>
                  <a:pt x="177" y="0"/>
                </a:lnTo>
                <a:lnTo>
                  <a:pt x="192" y="2"/>
                </a:lnTo>
                <a:lnTo>
                  <a:pt x="207" y="4"/>
                </a:lnTo>
                <a:lnTo>
                  <a:pt x="221" y="6"/>
                </a:lnTo>
                <a:lnTo>
                  <a:pt x="236" y="7"/>
                </a:lnTo>
                <a:lnTo>
                  <a:pt x="265" y="15"/>
                </a:lnTo>
                <a:lnTo>
                  <a:pt x="294" y="25"/>
                </a:lnTo>
                <a:lnTo>
                  <a:pt x="320" y="34"/>
                </a:lnTo>
                <a:lnTo>
                  <a:pt x="347" y="46"/>
                </a:lnTo>
                <a:lnTo>
                  <a:pt x="376" y="59"/>
                </a:lnTo>
                <a:lnTo>
                  <a:pt x="386" y="69"/>
                </a:lnTo>
                <a:lnTo>
                  <a:pt x="395" y="78"/>
                </a:lnTo>
                <a:lnTo>
                  <a:pt x="405" y="88"/>
                </a:lnTo>
                <a:lnTo>
                  <a:pt x="413" y="98"/>
                </a:lnTo>
                <a:lnTo>
                  <a:pt x="420" y="107"/>
                </a:lnTo>
                <a:lnTo>
                  <a:pt x="428" y="119"/>
                </a:lnTo>
                <a:lnTo>
                  <a:pt x="434" y="130"/>
                </a:lnTo>
                <a:lnTo>
                  <a:pt x="439" y="140"/>
                </a:lnTo>
                <a:lnTo>
                  <a:pt x="445" y="151"/>
                </a:lnTo>
                <a:lnTo>
                  <a:pt x="449" y="163"/>
                </a:lnTo>
                <a:lnTo>
                  <a:pt x="453" y="176"/>
                </a:lnTo>
                <a:lnTo>
                  <a:pt x="457" y="188"/>
                </a:lnTo>
                <a:lnTo>
                  <a:pt x="459" y="201"/>
                </a:lnTo>
                <a:lnTo>
                  <a:pt x="461" y="213"/>
                </a:lnTo>
                <a:lnTo>
                  <a:pt x="461" y="226"/>
                </a:lnTo>
                <a:lnTo>
                  <a:pt x="463" y="240"/>
                </a:lnTo>
                <a:lnTo>
                  <a:pt x="461" y="253"/>
                </a:lnTo>
                <a:lnTo>
                  <a:pt x="461" y="265"/>
                </a:lnTo>
                <a:lnTo>
                  <a:pt x="461" y="276"/>
                </a:lnTo>
                <a:lnTo>
                  <a:pt x="459" y="288"/>
                </a:lnTo>
                <a:lnTo>
                  <a:pt x="457" y="297"/>
                </a:lnTo>
                <a:lnTo>
                  <a:pt x="455" y="305"/>
                </a:lnTo>
                <a:lnTo>
                  <a:pt x="453" y="315"/>
                </a:lnTo>
                <a:lnTo>
                  <a:pt x="449" y="320"/>
                </a:lnTo>
                <a:lnTo>
                  <a:pt x="445" y="328"/>
                </a:lnTo>
                <a:lnTo>
                  <a:pt x="441" y="334"/>
                </a:lnTo>
                <a:lnTo>
                  <a:pt x="436" y="338"/>
                </a:lnTo>
                <a:lnTo>
                  <a:pt x="432" y="341"/>
                </a:lnTo>
                <a:lnTo>
                  <a:pt x="426" y="345"/>
                </a:lnTo>
                <a:lnTo>
                  <a:pt x="418" y="347"/>
                </a:lnTo>
                <a:lnTo>
                  <a:pt x="413" y="347"/>
                </a:lnTo>
                <a:lnTo>
                  <a:pt x="405" y="349"/>
                </a:lnTo>
                <a:lnTo>
                  <a:pt x="395" y="347"/>
                </a:lnTo>
                <a:lnTo>
                  <a:pt x="386" y="345"/>
                </a:lnTo>
                <a:lnTo>
                  <a:pt x="376" y="343"/>
                </a:lnTo>
                <a:lnTo>
                  <a:pt x="367" y="339"/>
                </a:lnTo>
                <a:lnTo>
                  <a:pt x="355" y="334"/>
                </a:lnTo>
                <a:lnTo>
                  <a:pt x="342" y="328"/>
                </a:lnTo>
                <a:lnTo>
                  <a:pt x="328" y="320"/>
                </a:lnTo>
                <a:lnTo>
                  <a:pt x="315" y="311"/>
                </a:lnTo>
                <a:lnTo>
                  <a:pt x="301" y="301"/>
                </a:lnTo>
                <a:lnTo>
                  <a:pt x="284" y="290"/>
                </a:lnTo>
                <a:lnTo>
                  <a:pt x="269" y="276"/>
                </a:lnTo>
                <a:lnTo>
                  <a:pt x="251" y="263"/>
                </a:lnTo>
                <a:lnTo>
                  <a:pt x="232" y="247"/>
                </a:lnTo>
                <a:lnTo>
                  <a:pt x="213" y="230"/>
                </a:lnTo>
                <a:lnTo>
                  <a:pt x="194" y="211"/>
                </a:lnTo>
                <a:lnTo>
                  <a:pt x="173" y="192"/>
                </a:lnTo>
                <a:lnTo>
                  <a:pt x="152" y="173"/>
                </a:lnTo>
                <a:lnTo>
                  <a:pt x="132" y="153"/>
                </a:lnTo>
                <a:lnTo>
                  <a:pt x="115" y="136"/>
                </a:lnTo>
                <a:lnTo>
                  <a:pt x="98" y="121"/>
                </a:lnTo>
                <a:lnTo>
                  <a:pt x="82" y="107"/>
                </a:lnTo>
                <a:lnTo>
                  <a:pt x="67" y="94"/>
                </a:lnTo>
                <a:lnTo>
                  <a:pt x="56" y="82"/>
                </a:lnTo>
                <a:lnTo>
                  <a:pt x="44" y="71"/>
                </a:lnTo>
                <a:lnTo>
                  <a:pt x="33" y="61"/>
                </a:lnTo>
                <a:lnTo>
                  <a:pt x="25" y="54"/>
                </a:lnTo>
                <a:lnTo>
                  <a:pt x="17" y="46"/>
                </a:lnTo>
                <a:lnTo>
                  <a:pt x="11" y="40"/>
                </a:lnTo>
                <a:lnTo>
                  <a:pt x="6" y="34"/>
                </a:lnTo>
                <a:lnTo>
                  <a:pt x="2" y="29"/>
                </a:lnTo>
                <a:lnTo>
                  <a:pt x="0" y="27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123"/>
          <p:cNvSpPr/>
          <p:nvPr/>
        </p:nvSpPr>
        <p:spPr>
          <a:xfrm>
            <a:off x="6021360" y="3284640"/>
            <a:ext cx="195120" cy="1068120"/>
          </a:xfrm>
          <a:custGeom>
            <a:avLst/>
            <a:gdLst/>
            <a:ahLst/>
            <a:rect l="l" t="t" r="r" b="b"/>
            <a:pathLst>
              <a:path w="248" h="1348">
                <a:moveTo>
                  <a:pt x="184" y="1108"/>
                </a:moveTo>
                <a:lnTo>
                  <a:pt x="180" y="1137"/>
                </a:lnTo>
                <a:lnTo>
                  <a:pt x="179" y="1164"/>
                </a:lnTo>
                <a:lnTo>
                  <a:pt x="175" y="1189"/>
                </a:lnTo>
                <a:lnTo>
                  <a:pt x="173" y="1212"/>
                </a:lnTo>
                <a:lnTo>
                  <a:pt x="169" y="1233"/>
                </a:lnTo>
                <a:lnTo>
                  <a:pt x="167" y="1252"/>
                </a:lnTo>
                <a:lnTo>
                  <a:pt x="165" y="1271"/>
                </a:lnTo>
                <a:lnTo>
                  <a:pt x="161" y="1286"/>
                </a:lnTo>
                <a:lnTo>
                  <a:pt x="159" y="1302"/>
                </a:lnTo>
                <a:lnTo>
                  <a:pt x="155" y="1313"/>
                </a:lnTo>
                <a:lnTo>
                  <a:pt x="154" y="1325"/>
                </a:lnTo>
                <a:lnTo>
                  <a:pt x="152" y="1333"/>
                </a:lnTo>
                <a:lnTo>
                  <a:pt x="150" y="1336"/>
                </a:lnTo>
                <a:lnTo>
                  <a:pt x="148" y="1340"/>
                </a:lnTo>
                <a:lnTo>
                  <a:pt x="146" y="1342"/>
                </a:lnTo>
                <a:lnTo>
                  <a:pt x="146" y="1344"/>
                </a:lnTo>
                <a:lnTo>
                  <a:pt x="144" y="1346"/>
                </a:lnTo>
                <a:lnTo>
                  <a:pt x="142" y="1348"/>
                </a:lnTo>
                <a:lnTo>
                  <a:pt x="140" y="1348"/>
                </a:lnTo>
                <a:lnTo>
                  <a:pt x="136" y="1348"/>
                </a:lnTo>
                <a:lnTo>
                  <a:pt x="134" y="1348"/>
                </a:lnTo>
                <a:lnTo>
                  <a:pt x="131" y="1346"/>
                </a:lnTo>
                <a:lnTo>
                  <a:pt x="127" y="1344"/>
                </a:lnTo>
                <a:lnTo>
                  <a:pt x="123" y="1342"/>
                </a:lnTo>
                <a:lnTo>
                  <a:pt x="117" y="1338"/>
                </a:lnTo>
                <a:lnTo>
                  <a:pt x="109" y="1333"/>
                </a:lnTo>
                <a:lnTo>
                  <a:pt x="100" y="1323"/>
                </a:lnTo>
                <a:lnTo>
                  <a:pt x="88" y="1313"/>
                </a:lnTo>
                <a:lnTo>
                  <a:pt x="79" y="1302"/>
                </a:lnTo>
                <a:lnTo>
                  <a:pt x="67" y="1288"/>
                </a:lnTo>
                <a:lnTo>
                  <a:pt x="58" y="1275"/>
                </a:lnTo>
                <a:lnTo>
                  <a:pt x="48" y="1260"/>
                </a:lnTo>
                <a:lnTo>
                  <a:pt x="40" y="1244"/>
                </a:lnTo>
                <a:lnTo>
                  <a:pt x="33" y="1229"/>
                </a:lnTo>
                <a:lnTo>
                  <a:pt x="27" y="1212"/>
                </a:lnTo>
                <a:lnTo>
                  <a:pt x="21" y="1196"/>
                </a:lnTo>
                <a:lnTo>
                  <a:pt x="15" y="1183"/>
                </a:lnTo>
                <a:lnTo>
                  <a:pt x="10" y="1167"/>
                </a:lnTo>
                <a:lnTo>
                  <a:pt x="8" y="1160"/>
                </a:lnTo>
                <a:lnTo>
                  <a:pt x="6" y="1152"/>
                </a:lnTo>
                <a:lnTo>
                  <a:pt x="4" y="1144"/>
                </a:lnTo>
                <a:lnTo>
                  <a:pt x="2" y="1133"/>
                </a:lnTo>
                <a:lnTo>
                  <a:pt x="2" y="1123"/>
                </a:lnTo>
                <a:lnTo>
                  <a:pt x="0" y="1110"/>
                </a:lnTo>
                <a:lnTo>
                  <a:pt x="0" y="1098"/>
                </a:lnTo>
                <a:lnTo>
                  <a:pt x="2" y="1083"/>
                </a:lnTo>
                <a:lnTo>
                  <a:pt x="2" y="1068"/>
                </a:lnTo>
                <a:lnTo>
                  <a:pt x="4" y="1052"/>
                </a:lnTo>
                <a:lnTo>
                  <a:pt x="6" y="1035"/>
                </a:lnTo>
                <a:lnTo>
                  <a:pt x="8" y="1016"/>
                </a:lnTo>
                <a:lnTo>
                  <a:pt x="12" y="995"/>
                </a:lnTo>
                <a:lnTo>
                  <a:pt x="15" y="974"/>
                </a:lnTo>
                <a:lnTo>
                  <a:pt x="19" y="951"/>
                </a:lnTo>
                <a:lnTo>
                  <a:pt x="25" y="928"/>
                </a:lnTo>
                <a:lnTo>
                  <a:pt x="25" y="914"/>
                </a:lnTo>
                <a:lnTo>
                  <a:pt x="27" y="901"/>
                </a:lnTo>
                <a:lnTo>
                  <a:pt x="29" y="885"/>
                </a:lnTo>
                <a:lnTo>
                  <a:pt x="29" y="870"/>
                </a:lnTo>
                <a:lnTo>
                  <a:pt x="31" y="853"/>
                </a:lnTo>
                <a:lnTo>
                  <a:pt x="33" y="835"/>
                </a:lnTo>
                <a:lnTo>
                  <a:pt x="35" y="816"/>
                </a:lnTo>
                <a:lnTo>
                  <a:pt x="35" y="795"/>
                </a:lnTo>
                <a:lnTo>
                  <a:pt x="36" y="774"/>
                </a:lnTo>
                <a:lnTo>
                  <a:pt x="36" y="753"/>
                </a:lnTo>
                <a:lnTo>
                  <a:pt x="38" y="730"/>
                </a:lnTo>
                <a:lnTo>
                  <a:pt x="40" y="705"/>
                </a:lnTo>
                <a:lnTo>
                  <a:pt x="40" y="680"/>
                </a:lnTo>
                <a:lnTo>
                  <a:pt x="42" y="655"/>
                </a:lnTo>
                <a:lnTo>
                  <a:pt x="42" y="628"/>
                </a:lnTo>
                <a:lnTo>
                  <a:pt x="44" y="599"/>
                </a:lnTo>
                <a:lnTo>
                  <a:pt x="46" y="571"/>
                </a:lnTo>
                <a:lnTo>
                  <a:pt x="46" y="540"/>
                </a:lnTo>
                <a:lnTo>
                  <a:pt x="46" y="507"/>
                </a:lnTo>
                <a:lnTo>
                  <a:pt x="48" y="475"/>
                </a:lnTo>
                <a:lnTo>
                  <a:pt x="48" y="442"/>
                </a:lnTo>
                <a:lnTo>
                  <a:pt x="50" y="407"/>
                </a:lnTo>
                <a:lnTo>
                  <a:pt x="50" y="371"/>
                </a:lnTo>
                <a:lnTo>
                  <a:pt x="50" y="334"/>
                </a:lnTo>
                <a:lnTo>
                  <a:pt x="52" y="296"/>
                </a:lnTo>
                <a:lnTo>
                  <a:pt x="52" y="258"/>
                </a:lnTo>
                <a:lnTo>
                  <a:pt x="52" y="217"/>
                </a:lnTo>
                <a:lnTo>
                  <a:pt x="52" y="177"/>
                </a:lnTo>
                <a:lnTo>
                  <a:pt x="54" y="133"/>
                </a:lnTo>
                <a:lnTo>
                  <a:pt x="54" y="91"/>
                </a:lnTo>
                <a:lnTo>
                  <a:pt x="54" y="47"/>
                </a:lnTo>
                <a:lnTo>
                  <a:pt x="54" y="0"/>
                </a:lnTo>
                <a:lnTo>
                  <a:pt x="71" y="20"/>
                </a:lnTo>
                <a:lnTo>
                  <a:pt x="90" y="39"/>
                </a:lnTo>
                <a:lnTo>
                  <a:pt x="106" y="58"/>
                </a:lnTo>
                <a:lnTo>
                  <a:pt x="123" y="75"/>
                </a:lnTo>
                <a:lnTo>
                  <a:pt x="138" y="91"/>
                </a:lnTo>
                <a:lnTo>
                  <a:pt x="154" y="108"/>
                </a:lnTo>
                <a:lnTo>
                  <a:pt x="167" y="121"/>
                </a:lnTo>
                <a:lnTo>
                  <a:pt x="179" y="137"/>
                </a:lnTo>
                <a:lnTo>
                  <a:pt x="192" y="148"/>
                </a:lnTo>
                <a:lnTo>
                  <a:pt x="202" y="162"/>
                </a:lnTo>
                <a:lnTo>
                  <a:pt x="211" y="173"/>
                </a:lnTo>
                <a:lnTo>
                  <a:pt x="221" y="183"/>
                </a:lnTo>
                <a:lnTo>
                  <a:pt x="226" y="192"/>
                </a:lnTo>
                <a:lnTo>
                  <a:pt x="232" y="202"/>
                </a:lnTo>
                <a:lnTo>
                  <a:pt x="238" y="210"/>
                </a:lnTo>
                <a:lnTo>
                  <a:pt x="242" y="217"/>
                </a:lnTo>
                <a:lnTo>
                  <a:pt x="244" y="227"/>
                </a:lnTo>
                <a:lnTo>
                  <a:pt x="246" y="238"/>
                </a:lnTo>
                <a:lnTo>
                  <a:pt x="246" y="252"/>
                </a:lnTo>
                <a:lnTo>
                  <a:pt x="248" y="265"/>
                </a:lnTo>
                <a:lnTo>
                  <a:pt x="248" y="283"/>
                </a:lnTo>
                <a:lnTo>
                  <a:pt x="246" y="300"/>
                </a:lnTo>
                <a:lnTo>
                  <a:pt x="246" y="321"/>
                </a:lnTo>
                <a:lnTo>
                  <a:pt x="244" y="342"/>
                </a:lnTo>
                <a:lnTo>
                  <a:pt x="244" y="365"/>
                </a:lnTo>
                <a:lnTo>
                  <a:pt x="242" y="388"/>
                </a:lnTo>
                <a:lnTo>
                  <a:pt x="240" y="415"/>
                </a:lnTo>
                <a:lnTo>
                  <a:pt x="236" y="442"/>
                </a:lnTo>
                <a:lnTo>
                  <a:pt x="234" y="471"/>
                </a:lnTo>
                <a:lnTo>
                  <a:pt x="232" y="501"/>
                </a:lnTo>
                <a:lnTo>
                  <a:pt x="228" y="532"/>
                </a:lnTo>
                <a:lnTo>
                  <a:pt x="226" y="567"/>
                </a:lnTo>
                <a:lnTo>
                  <a:pt x="221" y="638"/>
                </a:lnTo>
                <a:lnTo>
                  <a:pt x="215" y="709"/>
                </a:lnTo>
                <a:lnTo>
                  <a:pt x="211" y="778"/>
                </a:lnTo>
                <a:lnTo>
                  <a:pt x="205" y="845"/>
                </a:lnTo>
                <a:lnTo>
                  <a:pt x="200" y="912"/>
                </a:lnTo>
                <a:lnTo>
                  <a:pt x="194" y="979"/>
                </a:lnTo>
                <a:lnTo>
                  <a:pt x="188" y="1045"/>
                </a:lnTo>
                <a:lnTo>
                  <a:pt x="184" y="110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124"/>
          <p:cNvSpPr/>
          <p:nvPr/>
        </p:nvSpPr>
        <p:spPr>
          <a:xfrm>
            <a:off x="5373720" y="2832120"/>
            <a:ext cx="1014480" cy="998640"/>
          </a:xfrm>
          <a:custGeom>
            <a:avLst/>
            <a:gdLst/>
            <a:ahLst/>
            <a:rect l="l" t="t" r="r" b="b"/>
            <a:pathLst>
              <a:path w="1279" h="1260">
                <a:moveTo>
                  <a:pt x="263" y="1004"/>
                </a:moveTo>
                <a:lnTo>
                  <a:pt x="298" y="974"/>
                </a:lnTo>
                <a:lnTo>
                  <a:pt x="330" y="945"/>
                </a:lnTo>
                <a:lnTo>
                  <a:pt x="365" y="916"/>
                </a:lnTo>
                <a:lnTo>
                  <a:pt x="398" y="887"/>
                </a:lnTo>
                <a:lnTo>
                  <a:pt x="430" y="860"/>
                </a:lnTo>
                <a:lnTo>
                  <a:pt x="461" y="832"/>
                </a:lnTo>
                <a:lnTo>
                  <a:pt x="492" y="805"/>
                </a:lnTo>
                <a:lnTo>
                  <a:pt x="520" y="778"/>
                </a:lnTo>
                <a:lnTo>
                  <a:pt x="549" y="751"/>
                </a:lnTo>
                <a:lnTo>
                  <a:pt x="578" y="724"/>
                </a:lnTo>
                <a:lnTo>
                  <a:pt x="605" y="697"/>
                </a:lnTo>
                <a:lnTo>
                  <a:pt x="630" y="672"/>
                </a:lnTo>
                <a:lnTo>
                  <a:pt x="657" y="645"/>
                </a:lnTo>
                <a:lnTo>
                  <a:pt x="680" y="620"/>
                </a:lnTo>
                <a:lnTo>
                  <a:pt x="703" y="595"/>
                </a:lnTo>
                <a:lnTo>
                  <a:pt x="726" y="570"/>
                </a:lnTo>
                <a:lnTo>
                  <a:pt x="747" y="546"/>
                </a:lnTo>
                <a:lnTo>
                  <a:pt x="766" y="521"/>
                </a:lnTo>
                <a:lnTo>
                  <a:pt x="787" y="498"/>
                </a:lnTo>
                <a:lnTo>
                  <a:pt x="806" y="473"/>
                </a:lnTo>
                <a:lnTo>
                  <a:pt x="824" y="450"/>
                </a:lnTo>
                <a:lnTo>
                  <a:pt x="843" y="427"/>
                </a:lnTo>
                <a:lnTo>
                  <a:pt x="860" y="405"/>
                </a:lnTo>
                <a:lnTo>
                  <a:pt x="876" y="384"/>
                </a:lnTo>
                <a:lnTo>
                  <a:pt x="893" y="363"/>
                </a:lnTo>
                <a:lnTo>
                  <a:pt x="908" y="342"/>
                </a:lnTo>
                <a:lnTo>
                  <a:pt x="922" y="323"/>
                </a:lnTo>
                <a:lnTo>
                  <a:pt x="937" y="304"/>
                </a:lnTo>
                <a:lnTo>
                  <a:pt x="950" y="284"/>
                </a:lnTo>
                <a:lnTo>
                  <a:pt x="962" y="267"/>
                </a:lnTo>
                <a:lnTo>
                  <a:pt x="973" y="250"/>
                </a:lnTo>
                <a:lnTo>
                  <a:pt x="985" y="233"/>
                </a:lnTo>
                <a:lnTo>
                  <a:pt x="993" y="217"/>
                </a:lnTo>
                <a:lnTo>
                  <a:pt x="1000" y="202"/>
                </a:lnTo>
                <a:lnTo>
                  <a:pt x="1006" y="189"/>
                </a:lnTo>
                <a:lnTo>
                  <a:pt x="1012" y="175"/>
                </a:lnTo>
                <a:lnTo>
                  <a:pt x="1018" y="162"/>
                </a:lnTo>
                <a:lnTo>
                  <a:pt x="1021" y="148"/>
                </a:lnTo>
                <a:lnTo>
                  <a:pt x="1025" y="137"/>
                </a:lnTo>
                <a:lnTo>
                  <a:pt x="1027" y="125"/>
                </a:lnTo>
                <a:lnTo>
                  <a:pt x="1031" y="114"/>
                </a:lnTo>
                <a:lnTo>
                  <a:pt x="1031" y="104"/>
                </a:lnTo>
                <a:lnTo>
                  <a:pt x="1033" y="94"/>
                </a:lnTo>
                <a:lnTo>
                  <a:pt x="1033" y="85"/>
                </a:lnTo>
                <a:lnTo>
                  <a:pt x="1033" y="75"/>
                </a:lnTo>
                <a:lnTo>
                  <a:pt x="1033" y="68"/>
                </a:lnTo>
                <a:lnTo>
                  <a:pt x="1031" y="60"/>
                </a:lnTo>
                <a:lnTo>
                  <a:pt x="1029" y="52"/>
                </a:lnTo>
                <a:lnTo>
                  <a:pt x="1023" y="45"/>
                </a:lnTo>
                <a:lnTo>
                  <a:pt x="1021" y="41"/>
                </a:lnTo>
                <a:lnTo>
                  <a:pt x="1021" y="37"/>
                </a:lnTo>
                <a:lnTo>
                  <a:pt x="1019" y="33"/>
                </a:lnTo>
                <a:lnTo>
                  <a:pt x="1019" y="29"/>
                </a:lnTo>
                <a:lnTo>
                  <a:pt x="1019" y="27"/>
                </a:lnTo>
                <a:lnTo>
                  <a:pt x="1021" y="23"/>
                </a:lnTo>
                <a:lnTo>
                  <a:pt x="1023" y="22"/>
                </a:lnTo>
                <a:lnTo>
                  <a:pt x="1025" y="20"/>
                </a:lnTo>
                <a:lnTo>
                  <a:pt x="1029" y="16"/>
                </a:lnTo>
                <a:lnTo>
                  <a:pt x="1033" y="14"/>
                </a:lnTo>
                <a:lnTo>
                  <a:pt x="1037" y="12"/>
                </a:lnTo>
                <a:lnTo>
                  <a:pt x="1042" y="8"/>
                </a:lnTo>
                <a:lnTo>
                  <a:pt x="1050" y="6"/>
                </a:lnTo>
                <a:lnTo>
                  <a:pt x="1058" y="4"/>
                </a:lnTo>
                <a:lnTo>
                  <a:pt x="1062" y="2"/>
                </a:lnTo>
                <a:lnTo>
                  <a:pt x="1069" y="2"/>
                </a:lnTo>
                <a:lnTo>
                  <a:pt x="1075" y="0"/>
                </a:lnTo>
                <a:lnTo>
                  <a:pt x="1081" y="2"/>
                </a:lnTo>
                <a:lnTo>
                  <a:pt x="1089" y="2"/>
                </a:lnTo>
                <a:lnTo>
                  <a:pt x="1096" y="4"/>
                </a:lnTo>
                <a:lnTo>
                  <a:pt x="1104" y="6"/>
                </a:lnTo>
                <a:lnTo>
                  <a:pt x="1112" y="10"/>
                </a:lnTo>
                <a:lnTo>
                  <a:pt x="1119" y="14"/>
                </a:lnTo>
                <a:lnTo>
                  <a:pt x="1129" y="18"/>
                </a:lnTo>
                <a:lnTo>
                  <a:pt x="1137" y="23"/>
                </a:lnTo>
                <a:lnTo>
                  <a:pt x="1146" y="27"/>
                </a:lnTo>
                <a:lnTo>
                  <a:pt x="1165" y="39"/>
                </a:lnTo>
                <a:lnTo>
                  <a:pt x="1186" y="52"/>
                </a:lnTo>
                <a:lnTo>
                  <a:pt x="1202" y="70"/>
                </a:lnTo>
                <a:lnTo>
                  <a:pt x="1217" y="87"/>
                </a:lnTo>
                <a:lnTo>
                  <a:pt x="1229" y="102"/>
                </a:lnTo>
                <a:lnTo>
                  <a:pt x="1240" y="116"/>
                </a:lnTo>
                <a:lnTo>
                  <a:pt x="1252" y="129"/>
                </a:lnTo>
                <a:lnTo>
                  <a:pt x="1259" y="141"/>
                </a:lnTo>
                <a:lnTo>
                  <a:pt x="1267" y="152"/>
                </a:lnTo>
                <a:lnTo>
                  <a:pt x="1275" y="162"/>
                </a:lnTo>
                <a:lnTo>
                  <a:pt x="1277" y="167"/>
                </a:lnTo>
                <a:lnTo>
                  <a:pt x="1279" y="173"/>
                </a:lnTo>
                <a:lnTo>
                  <a:pt x="1279" y="181"/>
                </a:lnTo>
                <a:lnTo>
                  <a:pt x="1279" y="187"/>
                </a:lnTo>
                <a:lnTo>
                  <a:pt x="1279" y="192"/>
                </a:lnTo>
                <a:lnTo>
                  <a:pt x="1279" y="196"/>
                </a:lnTo>
                <a:lnTo>
                  <a:pt x="1277" y="208"/>
                </a:lnTo>
                <a:lnTo>
                  <a:pt x="1273" y="217"/>
                </a:lnTo>
                <a:lnTo>
                  <a:pt x="1269" y="227"/>
                </a:lnTo>
                <a:lnTo>
                  <a:pt x="1265" y="236"/>
                </a:lnTo>
                <a:lnTo>
                  <a:pt x="1259" y="246"/>
                </a:lnTo>
                <a:lnTo>
                  <a:pt x="1254" y="252"/>
                </a:lnTo>
                <a:lnTo>
                  <a:pt x="1246" y="261"/>
                </a:lnTo>
                <a:lnTo>
                  <a:pt x="1238" y="271"/>
                </a:lnTo>
                <a:lnTo>
                  <a:pt x="1229" y="281"/>
                </a:lnTo>
                <a:lnTo>
                  <a:pt x="1219" y="292"/>
                </a:lnTo>
                <a:lnTo>
                  <a:pt x="1208" y="306"/>
                </a:lnTo>
                <a:lnTo>
                  <a:pt x="1196" y="319"/>
                </a:lnTo>
                <a:lnTo>
                  <a:pt x="1183" y="334"/>
                </a:lnTo>
                <a:lnTo>
                  <a:pt x="1169" y="352"/>
                </a:lnTo>
                <a:lnTo>
                  <a:pt x="1154" y="369"/>
                </a:lnTo>
                <a:lnTo>
                  <a:pt x="1138" y="388"/>
                </a:lnTo>
                <a:lnTo>
                  <a:pt x="1121" y="407"/>
                </a:lnTo>
                <a:lnTo>
                  <a:pt x="1102" y="428"/>
                </a:lnTo>
                <a:lnTo>
                  <a:pt x="1083" y="450"/>
                </a:lnTo>
                <a:lnTo>
                  <a:pt x="1064" y="475"/>
                </a:lnTo>
                <a:lnTo>
                  <a:pt x="1042" y="498"/>
                </a:lnTo>
                <a:lnTo>
                  <a:pt x="1000" y="547"/>
                </a:lnTo>
                <a:lnTo>
                  <a:pt x="956" y="595"/>
                </a:lnTo>
                <a:lnTo>
                  <a:pt x="912" y="641"/>
                </a:lnTo>
                <a:lnTo>
                  <a:pt x="868" y="688"/>
                </a:lnTo>
                <a:lnTo>
                  <a:pt x="822" y="732"/>
                </a:lnTo>
                <a:lnTo>
                  <a:pt x="776" y="776"/>
                </a:lnTo>
                <a:lnTo>
                  <a:pt x="730" y="818"/>
                </a:lnTo>
                <a:lnTo>
                  <a:pt x="682" y="858"/>
                </a:lnTo>
                <a:lnTo>
                  <a:pt x="632" y="899"/>
                </a:lnTo>
                <a:lnTo>
                  <a:pt x="582" y="939"/>
                </a:lnTo>
                <a:lnTo>
                  <a:pt x="530" y="975"/>
                </a:lnTo>
                <a:lnTo>
                  <a:pt x="476" y="1012"/>
                </a:lnTo>
                <a:lnTo>
                  <a:pt x="421" y="1048"/>
                </a:lnTo>
                <a:lnTo>
                  <a:pt x="365" y="1083"/>
                </a:lnTo>
                <a:lnTo>
                  <a:pt x="307" y="1116"/>
                </a:lnTo>
                <a:lnTo>
                  <a:pt x="248" y="1148"/>
                </a:lnTo>
                <a:lnTo>
                  <a:pt x="233" y="1156"/>
                </a:lnTo>
                <a:lnTo>
                  <a:pt x="219" y="1164"/>
                </a:lnTo>
                <a:lnTo>
                  <a:pt x="206" y="1171"/>
                </a:lnTo>
                <a:lnTo>
                  <a:pt x="192" y="1177"/>
                </a:lnTo>
                <a:lnTo>
                  <a:pt x="167" y="1190"/>
                </a:lnTo>
                <a:lnTo>
                  <a:pt x="144" y="1202"/>
                </a:lnTo>
                <a:lnTo>
                  <a:pt x="123" y="1213"/>
                </a:lnTo>
                <a:lnTo>
                  <a:pt x="104" y="1223"/>
                </a:lnTo>
                <a:lnTo>
                  <a:pt x="87" y="1231"/>
                </a:lnTo>
                <a:lnTo>
                  <a:pt x="71" y="1238"/>
                </a:lnTo>
                <a:lnTo>
                  <a:pt x="58" y="1244"/>
                </a:lnTo>
                <a:lnTo>
                  <a:pt x="44" y="1250"/>
                </a:lnTo>
                <a:lnTo>
                  <a:pt x="35" y="1254"/>
                </a:lnTo>
                <a:lnTo>
                  <a:pt x="25" y="1256"/>
                </a:lnTo>
                <a:lnTo>
                  <a:pt x="18" y="1258"/>
                </a:lnTo>
                <a:lnTo>
                  <a:pt x="10" y="1260"/>
                </a:lnTo>
                <a:lnTo>
                  <a:pt x="6" y="1258"/>
                </a:lnTo>
                <a:lnTo>
                  <a:pt x="2" y="1256"/>
                </a:lnTo>
                <a:lnTo>
                  <a:pt x="0" y="1254"/>
                </a:lnTo>
                <a:lnTo>
                  <a:pt x="2" y="1252"/>
                </a:lnTo>
                <a:lnTo>
                  <a:pt x="2" y="1248"/>
                </a:lnTo>
                <a:lnTo>
                  <a:pt x="4" y="1246"/>
                </a:lnTo>
                <a:lnTo>
                  <a:pt x="6" y="1242"/>
                </a:lnTo>
                <a:lnTo>
                  <a:pt x="8" y="1238"/>
                </a:lnTo>
                <a:lnTo>
                  <a:pt x="12" y="1235"/>
                </a:lnTo>
                <a:lnTo>
                  <a:pt x="16" y="1229"/>
                </a:lnTo>
                <a:lnTo>
                  <a:pt x="19" y="1225"/>
                </a:lnTo>
                <a:lnTo>
                  <a:pt x="23" y="1219"/>
                </a:lnTo>
                <a:lnTo>
                  <a:pt x="29" y="1213"/>
                </a:lnTo>
                <a:lnTo>
                  <a:pt x="35" y="1206"/>
                </a:lnTo>
                <a:lnTo>
                  <a:pt x="43" y="1200"/>
                </a:lnTo>
                <a:lnTo>
                  <a:pt x="50" y="1192"/>
                </a:lnTo>
                <a:lnTo>
                  <a:pt x="58" y="1185"/>
                </a:lnTo>
                <a:lnTo>
                  <a:pt x="66" y="1177"/>
                </a:lnTo>
                <a:lnTo>
                  <a:pt x="75" y="1167"/>
                </a:lnTo>
                <a:lnTo>
                  <a:pt x="85" y="1160"/>
                </a:lnTo>
                <a:lnTo>
                  <a:pt x="94" y="1150"/>
                </a:lnTo>
                <a:lnTo>
                  <a:pt x="106" y="1141"/>
                </a:lnTo>
                <a:lnTo>
                  <a:pt x="117" y="1129"/>
                </a:lnTo>
                <a:lnTo>
                  <a:pt x="129" y="1119"/>
                </a:lnTo>
                <a:lnTo>
                  <a:pt x="140" y="1108"/>
                </a:lnTo>
                <a:lnTo>
                  <a:pt x="154" y="1096"/>
                </a:lnTo>
                <a:lnTo>
                  <a:pt x="167" y="1085"/>
                </a:lnTo>
                <a:lnTo>
                  <a:pt x="183" y="1071"/>
                </a:lnTo>
                <a:lnTo>
                  <a:pt x="198" y="1060"/>
                </a:lnTo>
                <a:lnTo>
                  <a:pt x="213" y="1046"/>
                </a:lnTo>
                <a:lnTo>
                  <a:pt x="229" y="1033"/>
                </a:lnTo>
                <a:lnTo>
                  <a:pt x="246" y="1018"/>
                </a:lnTo>
                <a:lnTo>
                  <a:pt x="263" y="10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0T11:48:21Z</dcterms:modified>
  <cp:revision>45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